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180-967E-4D2D-8DA9-881B44E0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203-32D4-4622-9708-C7CEFE2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930-3565-4474-9A70-C9691354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92F-3AB5-4F2A-A314-AC066232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D3F6-C37B-4C50-8FFD-7664D4AC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F58A-5588-4118-8598-20B297C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4BDE-3D7D-4D50-944F-28D22D8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6C27-A71F-4F65-9377-58E62CB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E123-47A0-4574-B09F-384228E0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E59-9904-4A06-9CD8-7E892A5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0C6-BBC3-43E4-8326-BCBAA4F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A5B-A9F3-4613-941E-0F139C1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0B9-7F32-4D78-AEDF-36281EB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BBC4-ACA9-4056-B91B-29AB30BF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1D5-13FF-4F66-A2B8-75190ABA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F6B-618E-4C2D-886E-6D0EAC4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BBC-4C4F-4877-8CE3-F0A4B943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754-3748-4D4E-8DF3-31AA5B4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68-F4D5-424F-B7E3-828E7D6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C32-81FA-4B90-80D3-6A03C8EA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C1F-AC1F-4F0C-B71E-8450A87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969-DBB1-499F-9B61-6E87156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033-478E-44C9-BDB7-F10BBCB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5DB-38E6-4E5F-9ED4-1B99251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3422-796E-4324-9193-6AC091DB3325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AB9-CD39-4EA5-8887-4E5B818FF325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5.png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5.png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5.png"/><Relationship Id="rId31" Type="http://schemas.openxmlformats.org/officeDocument/2006/relationships/image" Target="../media/image6.wmf"/><Relationship Id="rId32" Type="http://schemas.openxmlformats.org/officeDocument/2006/relationships/image" Target="../media/image6.wmf"/><Relationship Id="rId33" Type="http://schemas.openxmlformats.org/officeDocument/2006/relationships/image" Target="../media/image5.png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6.wmf"/><Relationship Id="rId39" Type="http://schemas.openxmlformats.org/officeDocument/2006/relationships/image" Target="../media/image5.png"/><Relationship Id="rId40" Type="http://schemas.openxmlformats.org/officeDocument/2006/relationships/image" Target="../media/image6.wmf"/><Relationship Id="rId41" Type="http://schemas.openxmlformats.org/officeDocument/2006/relationships/image" Target="../media/image6.wmf"/><Relationship Id="rId42" Type="http://schemas.openxmlformats.org/officeDocument/2006/relationships/image" Target="../media/image5.png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6.wmf"/><Relationship Id="rId48" Type="http://schemas.openxmlformats.org/officeDocument/2006/relationships/image" Target="../media/image5.png"/><Relationship Id="rId49" Type="http://schemas.openxmlformats.org/officeDocument/2006/relationships/image" Target="../media/image6.wmf"/><Relationship Id="rId50" Type="http://schemas.openxmlformats.org/officeDocument/2006/relationships/image" Target="../media/image6.wmf"/><Relationship Id="rId51" Type="http://schemas.openxmlformats.org/officeDocument/2006/relationships/image" Target="../media/image5.png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5.png"/><Relationship Id="rId55" Type="http://schemas.openxmlformats.org/officeDocument/2006/relationships/image" Target="../media/image6.wmf"/><Relationship Id="rId56" Type="http://schemas.openxmlformats.org/officeDocument/2006/relationships/image" Target="../media/image6.wmf"/><Relationship Id="rId57" Type="http://schemas.openxmlformats.org/officeDocument/2006/relationships/image" Target="../media/image5.png"/><Relationship Id="rId58" Type="http://schemas.openxmlformats.org/officeDocument/2006/relationships/image" Target="../media/image6.wmf"/><Relationship Id="rId59" Type="http://schemas.openxmlformats.org/officeDocument/2006/relationships/image" Target="../media/image6.wmf"/><Relationship Id="rId60" Type="http://schemas.openxmlformats.org/officeDocument/2006/relationships/image" Target="../media/image5.png"/><Relationship Id="rId61" Type="http://schemas.openxmlformats.org/officeDocument/2006/relationships/image" Target="../media/image6.wmf"/><Relationship Id="rId62" Type="http://schemas.openxmlformats.org/officeDocument/2006/relationships/image" Target="../media/image6.wmf"/><Relationship Id="rId63" Type="http://schemas.openxmlformats.org/officeDocument/2006/relationships/image" Target="../media/image5.png"/><Relationship Id="rId64" Type="http://schemas.openxmlformats.org/officeDocument/2006/relationships/image" Target="../media/image6.wmf"/><Relationship Id="rId65" Type="http://schemas.openxmlformats.org/officeDocument/2006/relationships/image" Target="../media/image6.wmf"/><Relationship Id="rId66" Type="http://schemas.openxmlformats.org/officeDocument/2006/relationships/image" Target="../media/image5.png"/><Relationship Id="rId67" Type="http://schemas.openxmlformats.org/officeDocument/2006/relationships/image" Target="../media/image6.wmf"/><Relationship Id="rId68" Type="http://schemas.openxmlformats.org/officeDocument/2006/relationships/image" Target="../media/image6.wmf"/><Relationship Id="rId69" Type="http://schemas.openxmlformats.org/officeDocument/2006/relationships/image" Target="../media/image5.png"/><Relationship Id="rId70" Type="http://schemas.openxmlformats.org/officeDocument/2006/relationships/image" Target="../media/image6.wmf"/><Relationship Id="rId71" Type="http://schemas.openxmlformats.org/officeDocument/2006/relationships/image" Target="../media/image6.wmf"/><Relationship Id="rId72" Type="http://schemas.openxmlformats.org/officeDocument/2006/relationships/image" Target="../media/image5.png"/><Relationship Id="rId73" Type="http://schemas.openxmlformats.org/officeDocument/2006/relationships/image" Target="../media/image6.wmf"/><Relationship Id="rId74" Type="http://schemas.openxmlformats.org/officeDocument/2006/relationships/image" Target="../media/image6.wmf"/><Relationship Id="rId75" Type="http://schemas.openxmlformats.org/officeDocument/2006/relationships/image" Target="../media/image5.png"/><Relationship Id="rId76" Type="http://schemas.openxmlformats.org/officeDocument/2006/relationships/image" Target="../media/image6.wmf"/><Relationship Id="rId77" Type="http://schemas.openxmlformats.org/officeDocument/2006/relationships/image" Target="../media/image6.wmf"/><Relationship Id="rId78" Type="http://schemas.openxmlformats.org/officeDocument/2006/relationships/image" Target="../media/image5.png"/><Relationship Id="rId79" Type="http://schemas.openxmlformats.org/officeDocument/2006/relationships/image" Target="../media/image6.wmf"/><Relationship Id="rId80" Type="http://schemas.openxmlformats.org/officeDocument/2006/relationships/image" Target="../media/image6.wmf"/><Relationship Id="rId81" Type="http://schemas.openxmlformats.org/officeDocument/2006/relationships/image" Target="../media/image7.gif"/><Relationship Id="rId82" Type="http://schemas.openxmlformats.org/officeDocument/2006/relationships/image" Target="../media/image7.gif"/><Relationship Id="rId83" Type="http://schemas.openxmlformats.org/officeDocument/2006/relationships/image" Target="../media/image7.gif"/><Relationship Id="rId84" Type="http://schemas.openxmlformats.org/officeDocument/2006/relationships/image" Target="../media/image7.gif"/><Relationship Id="rId85" Type="http://schemas.openxmlformats.org/officeDocument/2006/relationships/image" Target="../media/image7.gif"/><Relationship Id="rId86" Type="http://schemas.openxmlformats.org/officeDocument/2006/relationships/image" Target="../media/image7.gif"/><Relationship Id="rId87" Type="http://schemas.openxmlformats.org/officeDocument/2006/relationships/image" Target="../media/image7.gif"/><Relationship Id="rId88" Type="http://schemas.openxmlformats.org/officeDocument/2006/relationships/image" Target="../media/image7.gif"/><Relationship Id="rId89" Type="http://schemas.openxmlformats.org/officeDocument/2006/relationships/image" Target="../media/image7.gif"/><Relationship Id="rId90" Type="http://schemas.openxmlformats.org/officeDocument/2006/relationships/image" Target="../media/image7.gif"/><Relationship Id="rId91" Type="http://schemas.openxmlformats.org/officeDocument/2006/relationships/image" Target="../media/image7.gif"/><Relationship Id="rId92" Type="http://schemas.openxmlformats.org/officeDocument/2006/relationships/image" Target="../media/image7.gif"/><Relationship Id="rId93" Type="http://schemas.openxmlformats.org/officeDocument/2006/relationships/image" Target="../media/image7.gif"/><Relationship Id="rId94" Type="http://schemas.openxmlformats.org/officeDocument/2006/relationships/image" Target="../media/image7.gif"/><Relationship Id="rId95" Type="http://schemas.openxmlformats.org/officeDocument/2006/relationships/image" Target="../media/image7.gif"/><Relationship Id="rId96" Type="http://schemas.openxmlformats.org/officeDocument/2006/relationships/image" Target="../media/image7.gif"/><Relationship Id="rId97" Type="http://schemas.openxmlformats.org/officeDocument/2006/relationships/image" Target="../media/image7.gif"/><Relationship Id="rId98" Type="http://schemas.openxmlformats.org/officeDocument/2006/relationships/image" Target="../media/image7.gif"/><Relationship Id="rId99" Type="http://schemas.openxmlformats.org/officeDocument/2006/relationships/image" Target="../media/image7.gif"/><Relationship Id="rId100" Type="http://schemas.openxmlformats.org/officeDocument/2006/relationships/image" Target="../media/image7.gif"/><Relationship Id="rId101" Type="http://schemas.openxmlformats.org/officeDocument/2006/relationships/image" Target="../media/image7.gif"/><Relationship Id="rId102" Type="http://schemas.openxmlformats.org/officeDocument/2006/relationships/image" Target="../media/image7.gif"/><Relationship Id="rId103" Type="http://schemas.openxmlformats.org/officeDocument/2006/relationships/image" Target="../media/image7.gif"/><Relationship Id="rId104" Type="http://schemas.openxmlformats.org/officeDocument/2006/relationships/image" Target="../media/image7.gif"/><Relationship Id="rId105" Type="http://schemas.openxmlformats.org/officeDocument/2006/relationships/image" Target="../media/image7.gif"/><Relationship Id="rId106" Type="http://schemas.openxmlformats.org/officeDocument/2006/relationships/image" Target="../media/image7.gif"/><Relationship Id="rId107" Type="http://schemas.openxmlformats.org/officeDocument/2006/relationships/image" Target="../media/image7.gif"/><Relationship Id="rId108" Type="http://schemas.openxmlformats.org/officeDocument/2006/relationships/image" Target="../media/image7.gif"/><Relationship Id="rId109" Type="http://schemas.openxmlformats.org/officeDocument/2006/relationships/image" Target="../media/image7.gif"/><Relationship Id="rId110" Type="http://schemas.openxmlformats.org/officeDocument/2006/relationships/image" Target="../media/image7.gif"/><Relationship Id="rId111" Type="http://schemas.openxmlformats.org/officeDocument/2006/relationships/image" Target="../media/image7.gif"/><Relationship Id="rId112" Type="http://schemas.openxmlformats.org/officeDocument/2006/relationships/image" Target="../media/image7.gif"/><Relationship Id="rId113" Type="http://schemas.openxmlformats.org/officeDocument/2006/relationships/image" Target="../media/image7.gif"/><Relationship Id="rId114" Type="http://schemas.openxmlformats.org/officeDocument/2006/relationships/image" Target="../media/image7.gif"/><Relationship Id="rId115" Type="http://schemas.openxmlformats.org/officeDocument/2006/relationships/image" Target="../media/image7.gif"/><Relationship Id="rId116" Type="http://schemas.openxmlformats.org/officeDocument/2006/relationships/image" Target="../media/image7.gif"/><Relationship Id="rId117" Type="http://schemas.openxmlformats.org/officeDocument/2006/relationships/image" Target="../media/image7.gif"/><Relationship Id="rId118" Type="http://schemas.openxmlformats.org/officeDocument/2006/relationships/image" Target="../media/image7.gif"/><Relationship Id="rId119" Type="http://schemas.openxmlformats.org/officeDocument/2006/relationships/image" Target="../media/image7.gif"/><Relationship Id="rId120" Type="http://schemas.openxmlformats.org/officeDocument/2006/relationships/image" Target="../media/image7.gif"/><Relationship Id="rId121" Type="http://schemas.openxmlformats.org/officeDocument/2006/relationships/image" Target="../media/image7.gif"/><Relationship Id="rId122" Type="http://schemas.openxmlformats.org/officeDocument/2006/relationships/image" Target="../media/image7.gif"/><Relationship Id="rId123" Type="http://schemas.openxmlformats.org/officeDocument/2006/relationships/image" Target="../media/image7.gif"/><Relationship Id="rId124" Type="http://schemas.openxmlformats.org/officeDocument/2006/relationships/image" Target="../media/image7.gif"/><Relationship Id="rId125" Type="http://schemas.openxmlformats.org/officeDocument/2006/relationships/image" Target="../media/image7.gif"/><Relationship Id="rId126" Type="http://schemas.openxmlformats.org/officeDocument/2006/relationships/image" Target="../media/image7.gif"/><Relationship Id="rId127" Type="http://schemas.openxmlformats.org/officeDocument/2006/relationships/image" Target="../media/image7.gif"/><Relationship Id="rId128" Type="http://schemas.openxmlformats.org/officeDocument/2006/relationships/image" Target="../media/image7.gif"/><Relationship Id="rId129" Type="http://schemas.openxmlformats.org/officeDocument/2006/relationships/image" Target="../media/image7.gif"/><Relationship Id="rId130" Type="http://schemas.openxmlformats.org/officeDocument/2006/relationships/image" Target="../media/image7.gif"/><Relationship Id="rId131" Type="http://schemas.openxmlformats.org/officeDocument/2006/relationships/image" Target="../media/image7.gif"/><Relationship Id="rId132" Type="http://schemas.openxmlformats.org/officeDocument/2006/relationships/image" Target="../media/image7.gif"/><Relationship Id="rId133" Type="http://schemas.openxmlformats.org/officeDocument/2006/relationships/image" Target="../media/image7.gif"/><Relationship Id="rId134" Type="http://schemas.openxmlformats.org/officeDocument/2006/relationships/image" Target="../media/image6.wmf"/><Relationship Id="rId1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5.png"/><Relationship Id="rId15" Type="http://schemas.openxmlformats.org/officeDocument/2006/relationships/image" Target="../media/image6.wmf"/><Relationship Id="rId16" Type="http://schemas.openxmlformats.org/officeDocument/2006/relationships/image" Target="../media/image5.png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5.png"/><Relationship Id="rId21" Type="http://schemas.openxmlformats.org/officeDocument/2006/relationships/image" Target="../media/image6.wmf"/><Relationship Id="rId22" Type="http://schemas.openxmlformats.org/officeDocument/2006/relationships/image" Target="../media/image5.png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5.png"/><Relationship Id="rId27" Type="http://schemas.openxmlformats.org/officeDocument/2006/relationships/image" Target="../media/image6.wmf"/><Relationship Id="rId28" Type="http://schemas.openxmlformats.org/officeDocument/2006/relationships/image" Target="../media/image5.png"/><Relationship Id="rId29" Type="http://schemas.openxmlformats.org/officeDocument/2006/relationships/image" Target="../media/image6.wm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5.png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7.gif"/><Relationship Id="rId48" Type="http://schemas.openxmlformats.org/officeDocument/2006/relationships/image" Target="../media/image7.gif"/><Relationship Id="rId49" Type="http://schemas.openxmlformats.org/officeDocument/2006/relationships/image" Target="../media/image5.png"/><Relationship Id="rId50" Type="http://schemas.openxmlformats.org/officeDocument/2006/relationships/image" Target="../media/image6.wmf"/><Relationship Id="rId51" Type="http://schemas.openxmlformats.org/officeDocument/2006/relationships/image" Target="../media/image7.gif"/><Relationship Id="rId52" Type="http://schemas.openxmlformats.org/officeDocument/2006/relationships/image" Target="../media/image5.png"/><Relationship Id="rId53" Type="http://schemas.openxmlformats.org/officeDocument/2006/relationships/image" Target="../media/image6.wmf"/><Relationship Id="rId54" Type="http://schemas.openxmlformats.org/officeDocument/2006/relationships/image" Target="../media/image7.gif"/><Relationship Id="rId55" Type="http://schemas.openxmlformats.org/officeDocument/2006/relationships/image" Target="../media/image7.gif"/><Relationship Id="rId56" Type="http://schemas.openxmlformats.org/officeDocument/2006/relationships/image" Target="../media/image7.gif"/><Relationship Id="rId57" Type="http://schemas.openxmlformats.org/officeDocument/2006/relationships/image" Target="../media/image7.gif"/><Relationship Id="rId58" Type="http://schemas.openxmlformats.org/officeDocument/2006/relationships/image" Target="../media/image7.gif"/><Relationship Id="rId59" Type="http://schemas.openxmlformats.org/officeDocument/2006/relationships/image" Target="../media/image7.gif"/><Relationship Id="rId60" Type="http://schemas.openxmlformats.org/officeDocument/2006/relationships/image" Target="../media/image6.wmf"/><Relationship Id="rId61" Type="http://schemas.openxmlformats.org/officeDocument/2006/relationships/image" Target="../media/image6.wmf"/><Relationship Id="rId62" Type="http://schemas.openxmlformats.org/officeDocument/2006/relationships/image" Target="../media/image5.png"/><Relationship Id="rId63" Type="http://schemas.openxmlformats.org/officeDocument/2006/relationships/image" Target="../media/image6.wmf"/><Relationship Id="rId64" Type="http://schemas.openxmlformats.org/officeDocument/2006/relationships/image" Target="../media/image5.png"/><Relationship Id="rId65" Type="http://schemas.openxmlformats.org/officeDocument/2006/relationships/image" Target="../media/image6.wmf"/><Relationship Id="rId66" Type="http://schemas.openxmlformats.org/officeDocument/2006/relationships/image" Target="../media/image7.gif"/><Relationship Id="rId67" Type="http://schemas.openxmlformats.org/officeDocument/2006/relationships/image" Target="../media/image7.gif"/><Relationship Id="rId68" Type="http://schemas.openxmlformats.org/officeDocument/2006/relationships/image" Target="../media/image5.png"/><Relationship Id="rId69" Type="http://schemas.openxmlformats.org/officeDocument/2006/relationships/image" Target="../media/image6.wmf"/><Relationship Id="rId70" Type="http://schemas.openxmlformats.org/officeDocument/2006/relationships/image" Target="../media/image7.gif"/><Relationship Id="rId71" Type="http://schemas.openxmlformats.org/officeDocument/2006/relationships/image" Target="../media/image7.gif"/><Relationship Id="rId72" Type="http://schemas.openxmlformats.org/officeDocument/2006/relationships/image" Target="../media/image6.wmf"/><Relationship Id="rId7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379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6320" y="1447920"/>
            <a:ext cx="8915400" cy="5259600"/>
            <a:chOff x="76320" y="1447920"/>
            <a:chExt cx="8915400" cy="5259600"/>
          </a:xfrm>
        </p:grpSpPr>
        <p:pic>
          <p:nvPicPr>
            <p:cNvPr id="385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2571840" y="1447920"/>
              <a:ext cx="1085760" cy="752400"/>
              <a:chOff x="2571840" y="1447920"/>
              <a:chExt cx="1085760" cy="7524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571840" y="1447920"/>
                <a:ext cx="1085760" cy="752400"/>
                <a:chOff x="2571840" y="1447920"/>
                <a:chExt cx="1085760" cy="752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90720" y="167652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76560" y="14857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009600" y="14954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71840" y="1447920"/>
                  <a:ext cx="1085760" cy="752400"/>
                </a:xfrm>
                <a:prstGeom prst="rect">
                  <a:avLst/>
                </a:prstGeom>
                <a:noFill/>
                <a:ln w="3240">
                  <a:solidFill>
                    <a:srgbClr val="8383a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pbx" descr=""/>
                <p:cNvPicPr/>
                <p:nvPr/>
              </p:nvPicPr>
              <p:blipFill>
                <a:blip r:embed="rId3"/>
                <a:srcRect l="37594" t="74298" r="28339" b="4834"/>
                <a:stretch/>
              </p:blipFill>
              <p:spPr>
                <a:xfrm>
                  <a:off x="2952720" y="1623960"/>
                  <a:ext cx="25344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79720" y="180324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4" name=""/>
                <p:cNvGrpSpPr/>
                <p:nvPr/>
              </p:nvGrpSpPr>
              <p:grpSpPr>
                <a:xfrm>
                  <a:off x="2647800" y="1623960"/>
                  <a:ext cx="210600" cy="169920"/>
                  <a:chOff x="2647800" y="1623960"/>
                  <a:chExt cx="210600" cy="169920"/>
                </a:xfrm>
              </p:grpSpPr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687400" y="1714680"/>
                    <a:ext cx="133920" cy="52200"/>
                    <a:chOff x="2687400" y="1714680"/>
                    <a:chExt cx="133920" cy="52200"/>
                  </a:xfrm>
                </p:grpSpPr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2687400" y="1714680"/>
                      <a:ext cx="133920" cy="52200"/>
                      <a:chOff x="2687400" y="1714680"/>
                      <a:chExt cx="133920" cy="52200"/>
                    </a:xfrm>
                  </p:grpSpPr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2687400" y="1714680"/>
                        <a:ext cx="133920" cy="52200"/>
                        <a:chOff x="2687400" y="1714680"/>
                        <a:chExt cx="133920" cy="52200"/>
                      </a:xfrm>
                    </p:grpSpPr>
                    <p:grpSp>
                      <p:nvGrpSpPr>
                        <p:cNvPr id="398" name=""/>
                        <p:cNvGrpSpPr/>
                        <p:nvPr/>
                      </p:nvGrpSpPr>
                      <p:grpSpPr>
                        <a:xfrm>
                          <a:off x="2687400" y="1714680"/>
                          <a:ext cx="133920" cy="52200"/>
                          <a:chOff x="2687400" y="1714680"/>
                          <a:chExt cx="133920" cy="52200"/>
                        </a:xfrm>
                      </p:grpSpPr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2687400" y="1714680"/>
                            <a:ext cx="133920" cy="52200"/>
                            <a:chOff x="2687400" y="1714680"/>
                            <a:chExt cx="133920" cy="522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2687400" y="1725840"/>
                              <a:ext cx="13392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2688480" y="1714680"/>
                              <a:ext cx="13248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>
                            <a:off x="2689920" y="1724040"/>
                            <a:ext cx="1296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3" name=""/>
                        <p:cNvGrpSpPr/>
                        <p:nvPr/>
                      </p:nvGrpSpPr>
                      <p:grpSpPr>
                        <a:xfrm>
                          <a:off x="2693160" y="1757520"/>
                          <a:ext cx="124560" cy="7920"/>
                          <a:chOff x="2693160" y="1757520"/>
                          <a:chExt cx="124560" cy="7920"/>
                        </a:xfrm>
                      </p:grpSpPr>
                      <p:grpSp>
                        <p:nvGrpSpPr>
                          <p:cNvPr id="404" name=""/>
                          <p:cNvGrpSpPr/>
                          <p:nvPr/>
                        </p:nvGrpSpPr>
                        <p:grpSpPr>
                          <a:xfrm>
                            <a:off x="2693160" y="1757520"/>
                            <a:ext cx="61560" cy="7920"/>
                            <a:chOff x="2693160" y="1757520"/>
                            <a:chExt cx="61560" cy="7920"/>
                          </a:xfrm>
                        </p:grpSpPr>
                        <p:grpSp>
                          <p:nvGrpSpPr>
                            <p:cNvPr id="405" name=""/>
                            <p:cNvGrpSpPr/>
                            <p:nvPr/>
                          </p:nvGrpSpPr>
                          <p:grpSpPr>
                            <a:xfrm>
                              <a:off x="2693160" y="1757520"/>
                              <a:ext cx="29880" cy="7920"/>
                              <a:chOff x="2693160" y="1757520"/>
                              <a:chExt cx="29880" cy="7920"/>
                            </a:xfrm>
                          </p:grpSpPr>
                          <p:grpSp>
                            <p:nvGrpSpPr>
                              <p:cNvPr id="406" name=""/>
                              <p:cNvGrpSpPr/>
                              <p:nvPr/>
                            </p:nvGrpSpPr>
                            <p:grpSpPr>
                              <a:xfrm>
                                <a:off x="2693160" y="1757520"/>
                                <a:ext cx="14400" cy="7920"/>
                                <a:chOff x="269316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7" name=""/>
                                <p:cNvGrpSpPr/>
                                <p:nvPr/>
                              </p:nvGrpSpPr>
                              <p:grpSpPr>
                                <a:xfrm>
                                  <a:off x="2693160" y="1757520"/>
                                  <a:ext cx="6840" cy="7920"/>
                                  <a:chOff x="26931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3160" y="1757520"/>
                                    <a:ext cx="2520" cy="7920"/>
                                    <a:chOff x="2693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3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4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040" y="1757520"/>
                                    <a:ext cx="3960" cy="7920"/>
                                    <a:chOff x="26960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0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8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4" name=""/>
                                <p:cNvGrpSpPr/>
                                <p:nvPr/>
                              </p:nvGrpSpPr>
                              <p:grpSpPr>
                                <a:xfrm>
                                  <a:off x="2700720" y="1757520"/>
                                  <a:ext cx="6840" cy="7920"/>
                                  <a:chOff x="27007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0720" y="1757520"/>
                                    <a:ext cx="2520" cy="7920"/>
                                    <a:chOff x="2700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2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3600" y="1757520"/>
                                    <a:ext cx="3960" cy="7920"/>
                                    <a:chOff x="27036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3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6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21" name=""/>
                              <p:cNvGrpSpPr/>
                              <p:nvPr/>
                            </p:nvGrpSpPr>
                            <p:grpSpPr>
                              <a:xfrm>
                                <a:off x="2708640" y="1757520"/>
                                <a:ext cx="14400" cy="7920"/>
                                <a:chOff x="27086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22" name=""/>
                                <p:cNvGrpSpPr/>
                                <p:nvPr/>
                              </p:nvGrpSpPr>
                              <p:grpSpPr>
                                <a:xfrm>
                                  <a:off x="2708640" y="1757520"/>
                                  <a:ext cx="6840" cy="7920"/>
                                  <a:chOff x="27086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8640" y="1757520"/>
                                    <a:ext cx="2520" cy="7920"/>
                                    <a:chOff x="2708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8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520" y="1757520"/>
                                    <a:ext cx="3960" cy="7920"/>
                                    <a:chOff x="271152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5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29" name=""/>
                                <p:cNvGrpSpPr/>
                                <p:nvPr/>
                              </p:nvGrpSpPr>
                              <p:grpSpPr>
                                <a:xfrm>
                                  <a:off x="2716200" y="1757520"/>
                                  <a:ext cx="6840" cy="7920"/>
                                  <a:chOff x="27162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200" y="1757520"/>
                                    <a:ext cx="2520" cy="7920"/>
                                    <a:chOff x="2716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7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080" y="1757520"/>
                                    <a:ext cx="3960" cy="7920"/>
                                    <a:chOff x="27190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1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6" name=""/>
                            <p:cNvGrpSpPr/>
                            <p:nvPr/>
                          </p:nvGrpSpPr>
                          <p:grpSpPr>
                            <a:xfrm>
                              <a:off x="2724480" y="1757520"/>
                              <a:ext cx="30240" cy="7920"/>
                              <a:chOff x="2724480" y="1757520"/>
                              <a:chExt cx="30240" cy="7920"/>
                            </a:xfrm>
                          </p:grpSpPr>
                          <p:grpSp>
                            <p:nvGrpSpPr>
                              <p:cNvPr id="437" name=""/>
                              <p:cNvGrpSpPr/>
                              <p:nvPr/>
                            </p:nvGrpSpPr>
                            <p:grpSpPr>
                              <a:xfrm>
                                <a:off x="2724480" y="1757520"/>
                                <a:ext cx="14760" cy="7920"/>
                                <a:chOff x="2724480" y="1757520"/>
                                <a:chExt cx="14760" cy="7920"/>
                              </a:xfrm>
                            </p:grpSpPr>
                            <p:grpSp>
                              <p:nvGrpSpPr>
                                <p:cNvPr id="43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1757520"/>
                                  <a:ext cx="7200" cy="7920"/>
                                  <a:chOff x="2724480" y="17575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1757520"/>
                                    <a:ext cx="2520" cy="7920"/>
                                    <a:chOff x="27244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9160" y="1757520"/>
                                    <a:ext cx="2520" cy="7920"/>
                                    <a:chOff x="2729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9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5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0" y="1757520"/>
                                  <a:ext cx="6840" cy="7920"/>
                                  <a:chOff x="2732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0" y="1757520"/>
                                    <a:ext cx="2160" cy="7920"/>
                                    <a:chOff x="273240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6720" y="1757520"/>
                                    <a:ext cx="2520" cy="7920"/>
                                    <a:chOff x="2736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67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2" name=""/>
                              <p:cNvGrpSpPr/>
                              <p:nvPr/>
                            </p:nvGrpSpPr>
                            <p:grpSpPr>
                              <a:xfrm>
                                <a:off x="2740320" y="1757520"/>
                                <a:ext cx="14400" cy="7920"/>
                                <a:chOff x="2740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53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1757520"/>
                                  <a:ext cx="6840" cy="7920"/>
                                  <a:chOff x="2740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1757520"/>
                                    <a:ext cx="2160" cy="7920"/>
                                    <a:chOff x="274032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4640" y="1757520"/>
                                    <a:ext cx="2520" cy="7920"/>
                                    <a:chOff x="2744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4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0" name=""/>
                                <p:cNvGrpSpPr/>
                                <p:nvPr/>
                              </p:nvGrpSpPr>
                              <p:grpSpPr>
                                <a:xfrm>
                                  <a:off x="2747880" y="1757520"/>
                                  <a:ext cx="6840" cy="7920"/>
                                  <a:chOff x="2747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7880" y="1757520"/>
                                    <a:ext cx="2160" cy="7920"/>
                                    <a:chOff x="274788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7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0400" y="1757520"/>
                                    <a:ext cx="4320" cy="7920"/>
                                    <a:chOff x="2750400" y="17575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0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2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2756520" y="1757520"/>
                            <a:ext cx="61200" cy="7920"/>
                            <a:chOff x="2756520" y="1757520"/>
                            <a:chExt cx="61200" cy="792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2756520" y="1757520"/>
                              <a:ext cx="29880" cy="7920"/>
                              <a:chOff x="2756520" y="1757520"/>
                              <a:chExt cx="29880" cy="792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2756520" y="1757520"/>
                                <a:ext cx="14400" cy="7920"/>
                                <a:chOff x="27565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70" name=""/>
                                <p:cNvGrpSpPr/>
                                <p:nvPr/>
                              </p:nvGrpSpPr>
                              <p:grpSpPr>
                                <a:xfrm>
                                  <a:off x="2756520" y="1757520"/>
                                  <a:ext cx="6840" cy="7920"/>
                                  <a:chOff x="27565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520" y="1757520"/>
                                    <a:ext cx="2520" cy="7920"/>
                                    <a:chOff x="27565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5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9400" y="1757520"/>
                                    <a:ext cx="3960" cy="7920"/>
                                    <a:chOff x="27594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9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77" name=""/>
                                <p:cNvGrpSpPr/>
                                <p:nvPr/>
                              </p:nvGrpSpPr>
                              <p:grpSpPr>
                                <a:xfrm>
                                  <a:off x="2764080" y="1757520"/>
                                  <a:ext cx="6840" cy="7920"/>
                                  <a:chOff x="27640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4080" y="1757520"/>
                                    <a:ext cx="2520" cy="7920"/>
                                    <a:chOff x="27640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5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8400" y="1757520"/>
                                    <a:ext cx="2520" cy="7920"/>
                                    <a:chOff x="2768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8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2772000" y="1757520"/>
                                <a:ext cx="14400" cy="7920"/>
                                <a:chOff x="277200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5" name=""/>
                                <p:cNvGrpSpPr/>
                                <p:nvPr/>
                              </p:nvGrpSpPr>
                              <p:grpSpPr>
                                <a:xfrm>
                                  <a:off x="2772000" y="1757520"/>
                                  <a:ext cx="6840" cy="7920"/>
                                  <a:chOff x="27720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000" y="1757520"/>
                                    <a:ext cx="2520" cy="7920"/>
                                    <a:chOff x="27720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0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6320" y="1757520"/>
                                    <a:ext cx="2520" cy="7920"/>
                                    <a:chOff x="2776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6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2" name=""/>
                                <p:cNvGrpSpPr/>
                                <p:nvPr/>
                              </p:nvGrpSpPr>
                              <p:grpSpPr>
                                <a:xfrm>
                                  <a:off x="2779560" y="1757520"/>
                                  <a:ext cx="6840" cy="7920"/>
                                  <a:chOff x="27795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560" y="1757520"/>
                                    <a:ext cx="2520" cy="7920"/>
                                    <a:chOff x="27795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5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0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2440" y="1757520"/>
                                    <a:ext cx="3960" cy="7920"/>
                                    <a:chOff x="27824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24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9" name=""/>
                            <p:cNvGrpSpPr/>
                            <p:nvPr/>
                          </p:nvGrpSpPr>
                          <p:grpSpPr>
                            <a:xfrm>
                              <a:off x="2787840" y="1757520"/>
                              <a:ext cx="29880" cy="7920"/>
                              <a:chOff x="2787840" y="1757520"/>
                              <a:chExt cx="29880" cy="7920"/>
                            </a:xfrm>
                          </p:grpSpPr>
                          <p:grpSp>
                            <p:nvGrpSpPr>
                              <p:cNvPr id="500" name=""/>
                              <p:cNvGrpSpPr/>
                              <p:nvPr/>
                            </p:nvGrpSpPr>
                            <p:grpSpPr>
                              <a:xfrm>
                                <a:off x="2787840" y="1757520"/>
                                <a:ext cx="14400" cy="7920"/>
                                <a:chOff x="27878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0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1757520"/>
                                  <a:ext cx="6840" cy="7920"/>
                                  <a:chOff x="27878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1757520"/>
                                    <a:ext cx="2520" cy="7920"/>
                                    <a:chOff x="27878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1757520"/>
                                    <a:ext cx="2520" cy="7920"/>
                                    <a:chOff x="2792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1757520"/>
                                  <a:ext cx="6840" cy="7920"/>
                                  <a:chOff x="2795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1757520"/>
                                    <a:ext cx="2520" cy="7920"/>
                                    <a:chOff x="2795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1757520"/>
                                    <a:ext cx="3960" cy="7920"/>
                                    <a:chOff x="27982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1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5" name=""/>
                              <p:cNvGrpSpPr/>
                              <p:nvPr/>
                            </p:nvGrpSpPr>
                            <p:grpSpPr>
                              <a:xfrm>
                                <a:off x="2803320" y="1757520"/>
                                <a:ext cx="14400" cy="7920"/>
                                <a:chOff x="2803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16" name=""/>
                                <p:cNvGrpSpPr/>
                                <p:nvPr/>
                              </p:nvGrpSpPr>
                              <p:grpSpPr>
                                <a:xfrm>
                                  <a:off x="2803320" y="1757520"/>
                                  <a:ext cx="6840" cy="7920"/>
                                  <a:chOff x="2803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320" y="1757520"/>
                                    <a:ext cx="2520" cy="7920"/>
                                    <a:chOff x="2803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7640" y="1757520"/>
                                    <a:ext cx="2520" cy="7920"/>
                                    <a:chOff x="2807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7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23" name=""/>
                                <p:cNvGrpSpPr/>
                                <p:nvPr/>
                              </p:nvGrpSpPr>
                              <p:grpSpPr>
                                <a:xfrm>
                                  <a:off x="2810880" y="1757520"/>
                                  <a:ext cx="6840" cy="7920"/>
                                  <a:chOff x="2810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0880" y="1757520"/>
                                    <a:ext cx="2520" cy="7920"/>
                                    <a:chOff x="28108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0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5200" y="1757520"/>
                                    <a:ext cx="2520" cy="7920"/>
                                    <a:chOff x="2815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5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6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2689920" y="1728720"/>
                        <a:ext cx="127800" cy="22320"/>
                        <a:chOff x="2689920" y="1728720"/>
                        <a:chExt cx="127800" cy="2232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2689920" y="17287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2718360" y="17287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2757600" y="17287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2799000" y="17287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2802600" y="1731960"/>
                      <a:ext cx="11880" cy="11160"/>
                      <a:chOff x="2802600" y="1731960"/>
                      <a:chExt cx="11880" cy="1116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806920" y="17319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2808360" y="17352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2802600" y="1733760"/>
                        <a:ext cx="2520" cy="6120"/>
                        <a:chOff x="2802600" y="1733760"/>
                        <a:chExt cx="2520" cy="612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>
                          <a:off x="2802600" y="1733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2802600" y="17384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2720160" y="1731960"/>
                      <a:ext cx="36000" cy="14400"/>
                      <a:chOff x="2720160" y="1731960"/>
                      <a:chExt cx="36000" cy="1440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2721600" y="1731960"/>
                        <a:ext cx="34560" cy="7920"/>
                        <a:chOff x="2721600" y="1731960"/>
                        <a:chExt cx="34560" cy="79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2730600" y="17319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2730600" y="17352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2721600" y="17370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2720160" y="17319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2748600" y="17431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2693160" y="1744920"/>
                      <a:ext cx="21960" cy="4680"/>
                      <a:chOff x="2693160" y="1744920"/>
                      <a:chExt cx="21960" cy="4680"/>
                    </a:xfrm>
                  </p:grpSpPr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2693160" y="1744920"/>
                        <a:ext cx="11520" cy="4680"/>
                        <a:chOff x="2693160" y="1744920"/>
                        <a:chExt cx="11520" cy="4680"/>
                      </a:xfrm>
                    </p:grpSpPr>
                    <p:grpSp>
                      <p:nvGrpSpPr>
                        <p:cNvPr id="550" name=""/>
                        <p:cNvGrpSpPr/>
                        <p:nvPr/>
                      </p:nvGrpSpPr>
                      <p:grpSpPr>
                        <a:xfrm>
                          <a:off x="2693160" y="1744920"/>
                          <a:ext cx="5400" cy="4680"/>
                          <a:chOff x="2693160" y="1744920"/>
                          <a:chExt cx="5400" cy="4680"/>
                        </a:xfrm>
                      </p:grpSpPr>
                      <p:grpSp>
                        <p:nvGrpSpPr>
                          <p:cNvPr id="551" name=""/>
                          <p:cNvGrpSpPr/>
                          <p:nvPr/>
                        </p:nvGrpSpPr>
                        <p:grpSpPr>
                          <a:xfrm>
                            <a:off x="2693160" y="1744920"/>
                            <a:ext cx="2520" cy="4680"/>
                            <a:chOff x="2693160" y="1744920"/>
                            <a:chExt cx="2520" cy="4680"/>
                          </a:xfrm>
                        </p:grpSpPr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26931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3" name=""/>
                            <p:cNvSpPr/>
                            <p:nvPr/>
                          </p:nvSpPr>
                          <p:spPr>
                            <a:xfrm>
                              <a:off x="269460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4" name=""/>
                          <p:cNvGrpSpPr/>
                          <p:nvPr/>
                        </p:nvGrpSpPr>
                        <p:grpSpPr>
                          <a:xfrm>
                            <a:off x="2696040" y="1744920"/>
                            <a:ext cx="2520" cy="4680"/>
                            <a:chOff x="2696040" y="1744920"/>
                            <a:chExt cx="2520" cy="4680"/>
                          </a:xfrm>
                        </p:grpSpPr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26960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6" name=""/>
                            <p:cNvSpPr/>
                            <p:nvPr/>
                          </p:nvSpPr>
                          <p:spPr>
                            <a:xfrm>
                              <a:off x="26974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7" name=""/>
                        <p:cNvGrpSpPr/>
                        <p:nvPr/>
                      </p:nvGrpSpPr>
                      <p:grpSpPr>
                        <a:xfrm>
                          <a:off x="2699280" y="1744920"/>
                          <a:ext cx="5400" cy="4680"/>
                          <a:chOff x="2699280" y="1744920"/>
                          <a:chExt cx="5400" cy="4680"/>
                        </a:xfrm>
                      </p:grpSpPr>
                      <p:grpSp>
                        <p:nvGrpSpPr>
                          <p:cNvPr id="558" name=""/>
                          <p:cNvGrpSpPr/>
                          <p:nvPr/>
                        </p:nvGrpSpPr>
                        <p:grpSpPr>
                          <a:xfrm>
                            <a:off x="2699280" y="1744920"/>
                            <a:ext cx="2520" cy="4680"/>
                            <a:chOff x="2699280" y="1744920"/>
                            <a:chExt cx="2520" cy="4680"/>
                          </a:xfrm>
                        </p:grpSpPr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26992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27003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1" name=""/>
                          <p:cNvGrpSpPr/>
                          <p:nvPr/>
                        </p:nvGrpSpPr>
                        <p:grpSpPr>
                          <a:xfrm>
                            <a:off x="2702160" y="1744920"/>
                            <a:ext cx="2520" cy="4680"/>
                            <a:chOff x="2702160" y="1744920"/>
                            <a:chExt cx="2520" cy="4680"/>
                          </a:xfrm>
                        </p:grpSpPr>
                        <p:sp>
                          <p:nvSpPr>
                            <p:cNvPr id="562" name=""/>
                            <p:cNvSpPr/>
                            <p:nvPr/>
                          </p:nvSpPr>
                          <p:spPr>
                            <a:xfrm>
                              <a:off x="27021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7032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2705760" y="1744920"/>
                        <a:ext cx="9360" cy="4680"/>
                        <a:chOff x="2705760" y="1744920"/>
                        <a:chExt cx="9360" cy="468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2705760" y="1744920"/>
                          <a:ext cx="5040" cy="4680"/>
                          <a:chOff x="2705760" y="1744920"/>
                          <a:chExt cx="5040" cy="4680"/>
                        </a:xfrm>
                      </p:grpSpPr>
                      <p:grpSp>
                        <p:nvGrpSpPr>
                          <p:cNvPr id="566" name=""/>
                          <p:cNvGrpSpPr/>
                          <p:nvPr/>
                        </p:nvGrpSpPr>
                        <p:grpSpPr>
                          <a:xfrm>
                            <a:off x="2705760" y="1744920"/>
                            <a:ext cx="2160" cy="4680"/>
                            <a:chOff x="2705760" y="1744920"/>
                            <a:chExt cx="2160" cy="4680"/>
                          </a:xfrm>
                        </p:grpSpPr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27057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27068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2708280" y="1744920"/>
                            <a:ext cx="2520" cy="4680"/>
                            <a:chOff x="2708280" y="1744920"/>
                            <a:chExt cx="2520" cy="468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270828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270972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2" name=""/>
                        <p:cNvGrpSpPr/>
                        <p:nvPr/>
                      </p:nvGrpSpPr>
                      <p:grpSpPr>
                        <a:xfrm>
                          <a:off x="2711520" y="1744920"/>
                          <a:ext cx="3600" cy="4680"/>
                          <a:chOff x="2711520" y="1744920"/>
                          <a:chExt cx="3600" cy="4680"/>
                        </a:xfrm>
                      </p:grpSpPr>
                      <p:grpSp>
                        <p:nvGrpSpPr>
                          <p:cNvPr id="573" name=""/>
                          <p:cNvGrpSpPr/>
                          <p:nvPr/>
                        </p:nvGrpSpPr>
                        <p:grpSpPr>
                          <a:xfrm>
                            <a:off x="2711520" y="1744920"/>
                            <a:ext cx="1440" cy="4680"/>
                            <a:chOff x="2711520" y="1744920"/>
                            <a:chExt cx="1440" cy="4680"/>
                          </a:xfrm>
                        </p:grpSpPr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5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6" name=""/>
                          <p:cNvGrpSpPr/>
                          <p:nvPr/>
                        </p:nvGrpSpPr>
                        <p:grpSpPr>
                          <a:xfrm>
                            <a:off x="2712960" y="1744920"/>
                            <a:ext cx="2160" cy="4680"/>
                            <a:chOff x="2712960" y="1744920"/>
                            <a:chExt cx="2160" cy="4680"/>
                          </a:xfrm>
                        </p:grpSpPr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27129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27140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2691720" y="1741680"/>
                      <a:ext cx="1263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647800" y="1764000"/>
                    <a:ext cx="210600" cy="29880"/>
                    <a:chOff x="2647800" y="1764000"/>
                    <a:chExt cx="210600" cy="2988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2647800" y="1764000"/>
                      <a:ext cx="210600" cy="29880"/>
                      <a:chOff x="2647800" y="1764000"/>
                      <a:chExt cx="210600" cy="29880"/>
                    </a:xfrm>
                  </p:grpSpPr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2647800" y="1787760"/>
                        <a:ext cx="21060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2647800" y="1764000"/>
                        <a:ext cx="210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2653920" y="1766880"/>
                        <a:ext cx="196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2669760" y="1766880"/>
                      <a:ext cx="165600" cy="5040"/>
                      <a:chOff x="2669760" y="1766880"/>
                      <a:chExt cx="165600" cy="50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2669760" y="17668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2687040" y="17668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272016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275040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2780280" y="17668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2808720" y="17686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2663640" y="1773360"/>
                      <a:ext cx="174600" cy="11160"/>
                      <a:chOff x="2663640" y="1773360"/>
                      <a:chExt cx="174600" cy="11160"/>
                    </a:xfrm>
                  </p:grpSpPr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679120" y="1773360"/>
                        <a:ext cx="84960" cy="9360"/>
                        <a:chOff x="2679120" y="1773360"/>
                        <a:chExt cx="84960" cy="9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2679120" y="17733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2681640" y="17766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2683440" y="17780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2684880" y="17812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2663640" y="1774800"/>
                        <a:ext cx="15480" cy="6480"/>
                        <a:chOff x="2663640" y="1774800"/>
                        <a:chExt cx="15480" cy="648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2667960" y="17748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2666160" y="1776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266364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2" name=""/>
                      <p:cNvGrpSpPr/>
                      <p:nvPr/>
                    </p:nvGrpSpPr>
                    <p:grpSpPr>
                      <a:xfrm>
                        <a:off x="2698200" y="1773360"/>
                        <a:ext cx="78480" cy="9360"/>
                        <a:chOff x="2698200" y="1773360"/>
                        <a:chExt cx="78480" cy="9360"/>
                      </a:xfrm>
                    </p:grpSpPr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2698200" y="17812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2764440" y="17733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2767680" y="17766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2761200" y="17780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2748600" y="17812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2757960" y="17812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780280" y="1774800"/>
                        <a:ext cx="24480" cy="7920"/>
                        <a:chOff x="2780280" y="1774800"/>
                        <a:chExt cx="24480" cy="792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780280" y="17748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783160" y="1778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783160" y="17812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3" name=""/>
                      <p:cNvGrpSpPr/>
                      <p:nvPr/>
                    </p:nvGrpSpPr>
                    <p:grpSpPr>
                      <a:xfrm>
                        <a:off x="2808720" y="1774800"/>
                        <a:ext cx="29520" cy="9720"/>
                        <a:chOff x="2808720" y="1774800"/>
                        <a:chExt cx="29520" cy="9720"/>
                      </a:xfrm>
                    </p:grpSpPr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811600" y="17748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808720" y="17780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81160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810160" y="17827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830680" y="17780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832120" y="17812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709360" y="1704960"/>
                    <a:ext cx="91800" cy="19080"/>
                    <a:chOff x="2709360" y="1704960"/>
                    <a:chExt cx="91800" cy="19080"/>
                  </a:xfrm>
                </p:grpSpPr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709360" y="1710000"/>
                      <a:ext cx="91800" cy="14040"/>
                      <a:chOff x="2709360" y="1710000"/>
                      <a:chExt cx="91800" cy="14040"/>
                    </a:xfrm>
                  </p:grpSpPr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2709360" y="17100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"/>
                      <p:cNvSpPr/>
                      <p:nvPr/>
                    </p:nvSpPr>
                    <p:spPr>
                      <a:xfrm>
                        <a:off x="2709360" y="17161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2729880" y="17049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"/>
                  <p:cNvSpPr/>
                  <p:nvPr/>
                </p:nvSpPr>
                <p:spPr>
                  <a:xfrm>
                    <a:off x="2698560" y="1623960"/>
                    <a:ext cx="11340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711160" y="16318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715840" y="16369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793240" y="17020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57280" y="1623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0" name=""/>
              <p:cNvSpPr/>
              <p:nvPr/>
            </p:nvSpPr>
            <p:spPr>
              <a:xfrm>
                <a:off x="2619360" y="2038320"/>
                <a:ext cx="961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3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905600" y="1447920"/>
              <a:ext cx="1086120" cy="752400"/>
              <a:chOff x="7905600" y="1447920"/>
              <a:chExt cx="1086120" cy="752400"/>
            </a:xfrm>
          </p:grpSpPr>
          <p:sp>
            <p:nvSpPr>
              <p:cNvPr id="632" name=""/>
              <p:cNvSpPr/>
              <p:nvPr/>
            </p:nvSpPr>
            <p:spPr>
              <a:xfrm>
                <a:off x="79056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534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7978680" y="1503360"/>
                <a:ext cx="822600" cy="488880"/>
                <a:chOff x="7978680" y="1503360"/>
                <a:chExt cx="822600" cy="4888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1216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4074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08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38" name="pbx" descr=""/>
                <p:cNvPicPr/>
                <p:nvPr/>
              </p:nvPicPr>
              <p:blipFill>
                <a:blip r:embed="rId6"/>
                <a:srcRect l="37594" t="74298" r="28339" b="4834"/>
                <a:stretch/>
              </p:blipFill>
              <p:spPr>
                <a:xfrm>
                  <a:off x="82836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106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0" name=""/>
                <p:cNvGrpSpPr/>
                <p:nvPr/>
              </p:nvGrpSpPr>
              <p:grpSpPr>
                <a:xfrm>
                  <a:off x="7978680" y="1641600"/>
                  <a:ext cx="211320" cy="169920"/>
                  <a:chOff x="7978680" y="1641600"/>
                  <a:chExt cx="211320" cy="16992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8018640" y="1732320"/>
                    <a:ext cx="134640" cy="52200"/>
                    <a:chOff x="8018640" y="1732320"/>
                    <a:chExt cx="134640" cy="52200"/>
                  </a:xfrm>
                </p:grpSpPr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8018640" y="1732320"/>
                      <a:ext cx="134640" cy="52200"/>
                      <a:chOff x="8018640" y="1732320"/>
                      <a:chExt cx="134640" cy="52200"/>
                    </a:xfrm>
                  </p:grpSpPr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018640" y="1732320"/>
                        <a:ext cx="134640" cy="52200"/>
                        <a:chOff x="8018640" y="1732320"/>
                        <a:chExt cx="134640" cy="52200"/>
                      </a:xfrm>
                    </p:grpSpPr>
                    <p:grpSp>
                      <p:nvGrpSpPr>
                        <p:cNvPr id="644" name=""/>
                        <p:cNvGrpSpPr/>
                        <p:nvPr/>
                      </p:nvGrpSpPr>
                      <p:grpSpPr>
                        <a:xfrm>
                          <a:off x="8018640" y="1732320"/>
                          <a:ext cx="134640" cy="52200"/>
                          <a:chOff x="8018640" y="1732320"/>
                          <a:chExt cx="134640" cy="52200"/>
                        </a:xfrm>
                      </p:grpSpPr>
                      <p:grpSp>
                        <p:nvGrpSpPr>
                          <p:cNvPr id="645" name=""/>
                          <p:cNvGrpSpPr/>
                          <p:nvPr/>
                        </p:nvGrpSpPr>
                        <p:grpSpPr>
                          <a:xfrm>
                            <a:off x="8018640" y="1732320"/>
                            <a:ext cx="134640" cy="52200"/>
                            <a:chOff x="8018640" y="1732320"/>
                            <a:chExt cx="134640" cy="52200"/>
                          </a:xfrm>
                        </p:grpSpPr>
                        <p:sp>
                          <p:nvSpPr>
                            <p:cNvPr id="646" name=""/>
                            <p:cNvSpPr/>
                            <p:nvPr/>
                          </p:nvSpPr>
                          <p:spPr>
                            <a:xfrm>
                              <a:off x="80186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80200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80215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9" name=""/>
                        <p:cNvGrpSpPr/>
                        <p:nvPr/>
                      </p:nvGrpSpPr>
                      <p:grpSpPr>
                        <a:xfrm>
                          <a:off x="8024760" y="1775160"/>
                          <a:ext cx="127080" cy="7920"/>
                          <a:chOff x="8024760" y="1775160"/>
                          <a:chExt cx="127080" cy="7920"/>
                        </a:xfrm>
                      </p:grpSpPr>
                      <p:grpSp>
                        <p:nvGrpSpPr>
                          <p:cNvPr id="650" name=""/>
                          <p:cNvGrpSpPr/>
                          <p:nvPr/>
                        </p:nvGrpSpPr>
                        <p:grpSpPr>
                          <a:xfrm>
                            <a:off x="8024760" y="1775160"/>
                            <a:ext cx="63720" cy="7920"/>
                            <a:chOff x="8024760" y="1775160"/>
                            <a:chExt cx="63720" cy="7920"/>
                          </a:xfrm>
                        </p:grpSpPr>
                        <p:grpSp>
                          <p:nvGrpSpPr>
                            <p:cNvPr id="651" name=""/>
                            <p:cNvGrpSpPr/>
                            <p:nvPr/>
                          </p:nvGrpSpPr>
                          <p:grpSpPr>
                            <a:xfrm>
                              <a:off x="8024760" y="1775160"/>
                              <a:ext cx="31680" cy="7920"/>
                              <a:chOff x="8024760" y="1775160"/>
                              <a:chExt cx="31680" cy="7920"/>
                            </a:xfrm>
                          </p:grpSpPr>
                          <p:grpSp>
                            <p:nvGrpSpPr>
                              <p:cNvPr id="652" name=""/>
                              <p:cNvGrpSpPr/>
                              <p:nvPr/>
                            </p:nvGrpSpPr>
                            <p:grpSpPr>
                              <a:xfrm>
                                <a:off x="8024760" y="1775160"/>
                                <a:ext cx="15840" cy="7920"/>
                                <a:chOff x="8024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1775160"/>
                                  <a:ext cx="7920" cy="7920"/>
                                  <a:chOff x="8024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1775160"/>
                                    <a:ext cx="3240" cy="7920"/>
                                    <a:chOff x="8024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1775160"/>
                                    <a:ext cx="4680" cy="7920"/>
                                    <a:chOff x="80280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1775160"/>
                                  <a:ext cx="7920" cy="7920"/>
                                  <a:chOff x="8032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1775160"/>
                                    <a:ext cx="3240" cy="7920"/>
                                    <a:chOff x="8032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1775160"/>
                                    <a:ext cx="4680" cy="7920"/>
                                    <a:chOff x="8035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7" name=""/>
                              <p:cNvGrpSpPr/>
                              <p:nvPr/>
                            </p:nvGrpSpPr>
                            <p:grpSpPr>
                              <a:xfrm>
                                <a:off x="8040600" y="1775160"/>
                                <a:ext cx="15840" cy="7920"/>
                                <a:chOff x="8040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1775160"/>
                                  <a:ext cx="7920" cy="7920"/>
                                  <a:chOff x="8040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1775160"/>
                                    <a:ext cx="3240" cy="7920"/>
                                    <a:chOff x="8040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1775160"/>
                                    <a:ext cx="4680" cy="7920"/>
                                    <a:chOff x="80438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1775160"/>
                                  <a:ext cx="7920" cy="7920"/>
                                  <a:chOff x="8048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1775160"/>
                                    <a:ext cx="3240" cy="7920"/>
                                    <a:chOff x="8048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1775160"/>
                                    <a:ext cx="4680" cy="7920"/>
                                    <a:chOff x="80517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82" name=""/>
                            <p:cNvGrpSpPr/>
                            <p:nvPr/>
                          </p:nvGrpSpPr>
                          <p:grpSpPr>
                            <a:xfrm>
                              <a:off x="8056440" y="1775160"/>
                              <a:ext cx="32040" cy="7920"/>
                              <a:chOff x="8056440" y="1775160"/>
                              <a:chExt cx="32040" cy="7920"/>
                            </a:xfrm>
                          </p:grpSpPr>
                          <p:grpSp>
                            <p:nvGrpSpPr>
                              <p:cNvPr id="683" name=""/>
                              <p:cNvGrpSpPr/>
                              <p:nvPr/>
                            </p:nvGrpSpPr>
                            <p:grpSpPr>
                              <a:xfrm>
                                <a:off x="8056440" y="1775160"/>
                                <a:ext cx="16200" cy="7920"/>
                                <a:chOff x="80564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6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1775160"/>
                                  <a:ext cx="8280" cy="7920"/>
                                  <a:chOff x="80564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1775160"/>
                                    <a:ext cx="3240" cy="7920"/>
                                    <a:chOff x="8056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1775160"/>
                                    <a:ext cx="3240" cy="7920"/>
                                    <a:chOff x="8061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1775160"/>
                                  <a:ext cx="7920" cy="7920"/>
                                  <a:chOff x="80647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1775160"/>
                                    <a:ext cx="2880" cy="7920"/>
                                    <a:chOff x="80647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1775160"/>
                                    <a:ext cx="3240" cy="7920"/>
                                    <a:chOff x="8069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98" name=""/>
                              <p:cNvGrpSpPr/>
                              <p:nvPr/>
                            </p:nvGrpSpPr>
                            <p:grpSpPr>
                              <a:xfrm>
                                <a:off x="8072640" y="1775160"/>
                                <a:ext cx="15840" cy="7920"/>
                                <a:chOff x="80726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1775160"/>
                                  <a:ext cx="7920" cy="7920"/>
                                  <a:chOff x="80726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1775160"/>
                                    <a:ext cx="2880" cy="7920"/>
                                    <a:chOff x="80726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1775160"/>
                                    <a:ext cx="3240" cy="7920"/>
                                    <a:chOff x="8077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1775160"/>
                                  <a:ext cx="7920" cy="7920"/>
                                  <a:chOff x="80805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1775160"/>
                                    <a:ext cx="2880" cy="7920"/>
                                    <a:chOff x="80805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1775160"/>
                                    <a:ext cx="5040" cy="7920"/>
                                    <a:chOff x="80834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713" name=""/>
                          <p:cNvGrpSpPr/>
                          <p:nvPr/>
                        </p:nvGrpSpPr>
                        <p:grpSpPr>
                          <a:xfrm>
                            <a:off x="8088480" y="1775160"/>
                            <a:ext cx="63360" cy="7920"/>
                            <a:chOff x="8088480" y="1775160"/>
                            <a:chExt cx="63360" cy="7920"/>
                          </a:xfrm>
                        </p:grpSpPr>
                        <p:grpSp>
                          <p:nvGrpSpPr>
                            <p:cNvPr id="714" name=""/>
                            <p:cNvGrpSpPr/>
                            <p:nvPr/>
                          </p:nvGrpSpPr>
                          <p:grpSpPr>
                            <a:xfrm>
                              <a:off x="8088480" y="1775160"/>
                              <a:ext cx="31680" cy="7920"/>
                              <a:chOff x="8088480" y="1775160"/>
                              <a:chExt cx="31680" cy="7920"/>
                            </a:xfrm>
                          </p:grpSpPr>
                          <p:grpSp>
                            <p:nvGrpSpPr>
                              <p:cNvPr id="715" name=""/>
                              <p:cNvGrpSpPr/>
                              <p:nvPr/>
                            </p:nvGrpSpPr>
                            <p:grpSpPr>
                              <a:xfrm>
                                <a:off x="8088480" y="1775160"/>
                                <a:ext cx="15840" cy="7920"/>
                                <a:chOff x="80884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1775160"/>
                                  <a:ext cx="7920" cy="7920"/>
                                  <a:chOff x="80884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1775160"/>
                                    <a:ext cx="3240" cy="7920"/>
                                    <a:chOff x="8088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1775160"/>
                                    <a:ext cx="4680" cy="7920"/>
                                    <a:chOff x="80917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1775160"/>
                                  <a:ext cx="7920" cy="7920"/>
                                  <a:chOff x="80964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1775160"/>
                                    <a:ext cx="3240" cy="7920"/>
                                    <a:chOff x="8096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1775160"/>
                                    <a:ext cx="3240" cy="7920"/>
                                    <a:chOff x="8101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30" name=""/>
                              <p:cNvGrpSpPr/>
                              <p:nvPr/>
                            </p:nvGrpSpPr>
                            <p:grpSpPr>
                              <a:xfrm>
                                <a:off x="8104320" y="1775160"/>
                                <a:ext cx="15840" cy="7920"/>
                                <a:chOff x="81043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1775160"/>
                                  <a:ext cx="7920" cy="7920"/>
                                  <a:chOff x="8104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1775160"/>
                                    <a:ext cx="3240" cy="7920"/>
                                    <a:chOff x="8104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1775160"/>
                                    <a:ext cx="3240" cy="7920"/>
                                    <a:chOff x="8109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1775160"/>
                                  <a:ext cx="7920" cy="7920"/>
                                  <a:chOff x="8112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1775160"/>
                                    <a:ext cx="3240" cy="7920"/>
                                    <a:chOff x="81122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1775160"/>
                                    <a:ext cx="4680" cy="7920"/>
                                    <a:chOff x="81154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745" name=""/>
                            <p:cNvGrpSpPr/>
                            <p:nvPr/>
                          </p:nvGrpSpPr>
                          <p:grpSpPr>
                            <a:xfrm>
                              <a:off x="8120160" y="1775160"/>
                              <a:ext cx="31680" cy="7920"/>
                              <a:chOff x="8120160" y="1775160"/>
                              <a:chExt cx="31680" cy="7920"/>
                            </a:xfrm>
                          </p:grpSpPr>
                          <p:grpSp>
                            <p:nvGrpSpPr>
                              <p:cNvPr id="746" name=""/>
                              <p:cNvGrpSpPr/>
                              <p:nvPr/>
                            </p:nvGrpSpPr>
                            <p:grpSpPr>
                              <a:xfrm>
                                <a:off x="8120160" y="1775160"/>
                                <a:ext cx="15840" cy="7920"/>
                                <a:chOff x="81201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1775160"/>
                                  <a:ext cx="7920" cy="7920"/>
                                  <a:chOff x="8120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1775160"/>
                                    <a:ext cx="3240" cy="7920"/>
                                    <a:chOff x="81201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1775160"/>
                                    <a:ext cx="3240" cy="7920"/>
                                    <a:chOff x="8124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1775160"/>
                                  <a:ext cx="7920" cy="7920"/>
                                  <a:chOff x="8128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1775160"/>
                                    <a:ext cx="3240" cy="7920"/>
                                    <a:chOff x="8128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1775160"/>
                                    <a:ext cx="4680" cy="7920"/>
                                    <a:chOff x="8131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61" name=""/>
                              <p:cNvGrpSpPr/>
                              <p:nvPr/>
                            </p:nvGrpSpPr>
                            <p:grpSpPr>
                              <a:xfrm>
                                <a:off x="8136000" y="1775160"/>
                                <a:ext cx="15840" cy="7920"/>
                                <a:chOff x="81360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1775160"/>
                                  <a:ext cx="7920" cy="7920"/>
                                  <a:chOff x="8136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1775160"/>
                                    <a:ext cx="3240" cy="7920"/>
                                    <a:chOff x="8136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1775160"/>
                                    <a:ext cx="3240" cy="7920"/>
                                    <a:chOff x="8140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1775160"/>
                                  <a:ext cx="7920" cy="7920"/>
                                  <a:chOff x="8143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1775160"/>
                                    <a:ext cx="3240" cy="7920"/>
                                    <a:chOff x="8143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1775160"/>
                                    <a:ext cx="3240" cy="7920"/>
                                    <a:chOff x="8148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776" name=""/>
                      <p:cNvGrpSpPr/>
                      <p:nvPr/>
                    </p:nvGrpSpPr>
                    <p:grpSpPr>
                      <a:xfrm>
                        <a:off x="8021520" y="1746360"/>
                        <a:ext cx="128880" cy="22320"/>
                        <a:chOff x="8021520" y="1746360"/>
                        <a:chExt cx="128880" cy="22320"/>
                      </a:xfrm>
                    </p:grpSpPr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80215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80503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80899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81313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8134560" y="1749600"/>
                      <a:ext cx="12600" cy="11160"/>
                      <a:chOff x="8134560" y="1749600"/>
                      <a:chExt cx="12600" cy="1116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81392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81406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84" name=""/>
                      <p:cNvGrpSpPr/>
                      <p:nvPr/>
                    </p:nvGrpSpPr>
                    <p:grpSpPr>
                      <a:xfrm>
                        <a:off x="8134560" y="1751400"/>
                        <a:ext cx="2880" cy="6120"/>
                        <a:chOff x="8134560" y="1751400"/>
                        <a:chExt cx="2880" cy="6120"/>
                      </a:xfrm>
                    </p:grpSpPr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81345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81345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8051760" y="1749600"/>
                      <a:ext cx="36720" cy="14400"/>
                      <a:chOff x="8051760" y="1749600"/>
                      <a:chExt cx="36720" cy="14400"/>
                    </a:xfrm>
                  </p:grpSpPr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8053560" y="1749600"/>
                        <a:ext cx="34920" cy="7920"/>
                        <a:chOff x="8053560" y="1749600"/>
                        <a:chExt cx="34920" cy="792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80629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>
                          <a:off x="80629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80535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80517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80805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8024760" y="1762560"/>
                      <a:ext cx="23760" cy="4680"/>
                      <a:chOff x="8024760" y="1762560"/>
                      <a:chExt cx="23760" cy="4680"/>
                    </a:xfrm>
                  </p:grpSpPr>
                  <p:grpSp>
                    <p:nvGrpSpPr>
                      <p:cNvPr id="795" name=""/>
                      <p:cNvGrpSpPr/>
                      <p:nvPr/>
                    </p:nvGrpSpPr>
                    <p:grpSpPr>
                      <a:xfrm>
                        <a:off x="8024760" y="1762560"/>
                        <a:ext cx="12960" cy="4680"/>
                        <a:chOff x="8024760" y="1762560"/>
                        <a:chExt cx="12960" cy="4680"/>
                      </a:xfrm>
                    </p:grpSpPr>
                    <p:grpSp>
                      <p:nvGrpSpPr>
                        <p:cNvPr id="796" name=""/>
                        <p:cNvGrpSpPr/>
                        <p:nvPr/>
                      </p:nvGrpSpPr>
                      <p:grpSpPr>
                        <a:xfrm>
                          <a:off x="8024760" y="1762560"/>
                          <a:ext cx="6480" cy="4680"/>
                          <a:chOff x="8024760" y="1762560"/>
                          <a:chExt cx="6480" cy="4680"/>
                        </a:xfrm>
                      </p:grpSpPr>
                      <p:grpSp>
                        <p:nvGrpSpPr>
                          <p:cNvPr id="797" name=""/>
                          <p:cNvGrpSpPr/>
                          <p:nvPr/>
                        </p:nvGrpSpPr>
                        <p:grpSpPr>
                          <a:xfrm>
                            <a:off x="8024760" y="1762560"/>
                            <a:ext cx="3240" cy="4680"/>
                            <a:chOff x="8024760" y="1762560"/>
                            <a:chExt cx="3240" cy="4680"/>
                          </a:xfrm>
                        </p:grpSpPr>
                        <p:sp>
                          <p:nvSpPr>
                            <p:cNvPr id="798" name=""/>
                            <p:cNvSpPr/>
                            <p:nvPr/>
                          </p:nvSpPr>
                          <p:spPr>
                            <a:xfrm>
                              <a:off x="80247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9" name=""/>
                            <p:cNvSpPr/>
                            <p:nvPr/>
                          </p:nvSpPr>
                          <p:spPr>
                            <a:xfrm>
                              <a:off x="80265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0" name=""/>
                          <p:cNvGrpSpPr/>
                          <p:nvPr/>
                        </p:nvGrpSpPr>
                        <p:grpSpPr>
                          <a:xfrm>
                            <a:off x="8028000" y="1762560"/>
                            <a:ext cx="3240" cy="4680"/>
                            <a:chOff x="8028000" y="1762560"/>
                            <a:chExt cx="3240" cy="4680"/>
                          </a:xfrm>
                        </p:grpSpPr>
                        <p:sp>
                          <p:nvSpPr>
                            <p:cNvPr id="801" name=""/>
                            <p:cNvSpPr/>
                            <p:nvPr/>
                          </p:nvSpPr>
                          <p:spPr>
                            <a:xfrm>
                              <a:off x="80280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2" name=""/>
                            <p:cNvSpPr/>
                            <p:nvPr/>
                          </p:nvSpPr>
                          <p:spPr>
                            <a:xfrm>
                              <a:off x="8029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03" name=""/>
                        <p:cNvGrpSpPr/>
                        <p:nvPr/>
                      </p:nvGrpSpPr>
                      <p:grpSpPr>
                        <a:xfrm>
                          <a:off x="8031240" y="1762560"/>
                          <a:ext cx="6480" cy="4680"/>
                          <a:chOff x="8031240" y="1762560"/>
                          <a:chExt cx="6480" cy="4680"/>
                        </a:xfrm>
                      </p:grpSpPr>
                      <p:grpSp>
                        <p:nvGrpSpPr>
                          <p:cNvPr id="804" name=""/>
                          <p:cNvGrpSpPr/>
                          <p:nvPr/>
                        </p:nvGrpSpPr>
                        <p:grpSpPr>
                          <a:xfrm>
                            <a:off x="8031240" y="1762560"/>
                            <a:ext cx="3240" cy="4680"/>
                            <a:chOff x="8031240" y="1762560"/>
                            <a:chExt cx="3240" cy="4680"/>
                          </a:xfrm>
                        </p:grpSpPr>
                        <p:sp>
                          <p:nvSpPr>
                            <p:cNvPr id="805" name=""/>
                            <p:cNvSpPr/>
                            <p:nvPr/>
                          </p:nvSpPr>
                          <p:spPr>
                            <a:xfrm>
                              <a:off x="8031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6" name=""/>
                            <p:cNvSpPr/>
                            <p:nvPr/>
                          </p:nvSpPr>
                          <p:spPr>
                            <a:xfrm>
                              <a:off x="80326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7" name=""/>
                          <p:cNvGrpSpPr/>
                          <p:nvPr/>
                        </p:nvGrpSpPr>
                        <p:grpSpPr>
                          <a:xfrm>
                            <a:off x="8034480" y="1762560"/>
                            <a:ext cx="3240" cy="4680"/>
                            <a:chOff x="8034480" y="1762560"/>
                            <a:chExt cx="3240" cy="4680"/>
                          </a:xfrm>
                        </p:grpSpPr>
                        <p:sp>
                          <p:nvSpPr>
                            <p:cNvPr id="808" name=""/>
                            <p:cNvSpPr/>
                            <p:nvPr/>
                          </p:nvSpPr>
                          <p:spPr>
                            <a:xfrm>
                              <a:off x="8034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"/>
                            <p:cNvSpPr/>
                            <p:nvPr/>
                          </p:nvSpPr>
                          <p:spPr>
                            <a:xfrm>
                              <a:off x="80359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10" name=""/>
                      <p:cNvGrpSpPr/>
                      <p:nvPr/>
                    </p:nvGrpSpPr>
                    <p:grpSpPr>
                      <a:xfrm>
                        <a:off x="8037720" y="1762560"/>
                        <a:ext cx="10800" cy="4680"/>
                        <a:chOff x="8037720" y="1762560"/>
                        <a:chExt cx="10800" cy="4680"/>
                      </a:xfrm>
                    </p:grpSpPr>
                    <p:grpSp>
                      <p:nvGrpSpPr>
                        <p:cNvPr id="811" name=""/>
                        <p:cNvGrpSpPr/>
                        <p:nvPr/>
                      </p:nvGrpSpPr>
                      <p:grpSpPr>
                        <a:xfrm>
                          <a:off x="8037720" y="1762560"/>
                          <a:ext cx="6120" cy="4680"/>
                          <a:chOff x="8037720" y="1762560"/>
                          <a:chExt cx="6120" cy="4680"/>
                        </a:xfrm>
                      </p:grpSpPr>
                      <p:grpSp>
                        <p:nvGrpSpPr>
                          <p:cNvPr id="812" name=""/>
                          <p:cNvGrpSpPr/>
                          <p:nvPr/>
                        </p:nvGrpSpPr>
                        <p:grpSpPr>
                          <a:xfrm>
                            <a:off x="8037720" y="1762560"/>
                            <a:ext cx="2880" cy="4680"/>
                            <a:chOff x="8037720" y="1762560"/>
                            <a:chExt cx="2880" cy="4680"/>
                          </a:xfrm>
                        </p:grpSpPr>
                        <p:sp>
                          <p:nvSpPr>
                            <p:cNvPr id="813" name=""/>
                            <p:cNvSpPr/>
                            <p:nvPr/>
                          </p:nvSpPr>
                          <p:spPr>
                            <a:xfrm>
                              <a:off x="8037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4" name=""/>
                            <p:cNvSpPr/>
                            <p:nvPr/>
                          </p:nvSpPr>
                          <p:spPr>
                            <a:xfrm>
                              <a:off x="8039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5" name=""/>
                          <p:cNvGrpSpPr/>
                          <p:nvPr/>
                        </p:nvGrpSpPr>
                        <p:grpSpPr>
                          <a:xfrm>
                            <a:off x="8040600" y="1762560"/>
                            <a:ext cx="3240" cy="4680"/>
                            <a:chOff x="8040600" y="1762560"/>
                            <a:chExt cx="3240" cy="4680"/>
                          </a:xfrm>
                        </p:grpSpPr>
                        <p:sp>
                          <p:nvSpPr>
                            <p:cNvPr id="816" name=""/>
                            <p:cNvSpPr/>
                            <p:nvPr/>
                          </p:nvSpPr>
                          <p:spPr>
                            <a:xfrm>
                              <a:off x="8040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"/>
                            <p:cNvSpPr/>
                            <p:nvPr/>
                          </p:nvSpPr>
                          <p:spPr>
                            <a:xfrm>
                              <a:off x="8042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8" name=""/>
                        <p:cNvGrpSpPr/>
                        <p:nvPr/>
                      </p:nvGrpSpPr>
                      <p:grpSpPr>
                        <a:xfrm>
                          <a:off x="8043840" y="1762560"/>
                          <a:ext cx="4680" cy="4680"/>
                          <a:chOff x="8043840" y="1762560"/>
                          <a:chExt cx="4680" cy="4680"/>
                        </a:xfrm>
                      </p:grpSpPr>
                      <p:grpSp>
                        <p:nvGrpSpPr>
                          <p:cNvPr id="819" name=""/>
                          <p:cNvGrpSpPr/>
                          <p:nvPr/>
                        </p:nvGrpSpPr>
                        <p:grpSpPr>
                          <a:xfrm>
                            <a:off x="8043840" y="1762560"/>
                            <a:ext cx="1800" cy="4680"/>
                            <a:chOff x="8043840" y="1762560"/>
                            <a:chExt cx="1800" cy="4680"/>
                          </a:xfrm>
                        </p:grpSpPr>
                        <p:sp>
                          <p:nvSpPr>
                            <p:cNvPr id="820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2" name=""/>
                          <p:cNvGrpSpPr/>
                          <p:nvPr/>
                        </p:nvGrpSpPr>
                        <p:grpSpPr>
                          <a:xfrm>
                            <a:off x="8045640" y="1762560"/>
                            <a:ext cx="2880" cy="4680"/>
                            <a:chOff x="8045640" y="1762560"/>
                            <a:chExt cx="2880" cy="4680"/>
                          </a:xfrm>
                        </p:grpSpPr>
                        <p:sp>
                          <p:nvSpPr>
                            <p:cNvPr id="823" name=""/>
                            <p:cNvSpPr/>
                            <p:nvPr/>
                          </p:nvSpPr>
                          <p:spPr>
                            <a:xfrm>
                              <a:off x="80456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4" name=""/>
                            <p:cNvSpPr/>
                            <p:nvPr/>
                          </p:nvSpPr>
                          <p:spPr>
                            <a:xfrm>
                              <a:off x="8047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233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7978680" y="1781640"/>
                    <a:ext cx="211320" cy="29880"/>
                    <a:chOff x="7978680" y="1781640"/>
                    <a:chExt cx="211320" cy="29880"/>
                  </a:xfrm>
                </p:grpSpPr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7978680" y="1781640"/>
                      <a:ext cx="211320" cy="29880"/>
                      <a:chOff x="7978680" y="1781640"/>
                      <a:chExt cx="211320" cy="29880"/>
                    </a:xfrm>
                  </p:grpSpPr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79786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79786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79851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8001000" y="1784520"/>
                      <a:ext cx="166680" cy="5040"/>
                      <a:chOff x="8001000" y="1784520"/>
                      <a:chExt cx="166680" cy="5040"/>
                    </a:xfrm>
                  </p:grpSpPr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80010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80186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80517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80820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81122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81406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8" name=""/>
                    <p:cNvGrpSpPr/>
                    <p:nvPr/>
                  </p:nvGrpSpPr>
                  <p:grpSpPr>
                    <a:xfrm>
                      <a:off x="7994880" y="1791000"/>
                      <a:ext cx="176040" cy="11160"/>
                      <a:chOff x="7994880" y="1791000"/>
                      <a:chExt cx="176040" cy="11160"/>
                    </a:xfrm>
                  </p:grpSpPr>
                  <p:grpSp>
                    <p:nvGrpSpPr>
                      <p:cNvPr id="839" name=""/>
                      <p:cNvGrpSpPr/>
                      <p:nvPr/>
                    </p:nvGrpSpPr>
                    <p:grpSpPr>
                      <a:xfrm>
                        <a:off x="8010720" y="1791000"/>
                        <a:ext cx="85680" cy="9360"/>
                        <a:chOff x="8010720" y="1791000"/>
                        <a:chExt cx="85680" cy="9360"/>
                      </a:xfrm>
                    </p:grpSpPr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>
                          <a:off x="80107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80136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80154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80168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7994880" y="1792440"/>
                        <a:ext cx="15840" cy="6480"/>
                        <a:chOff x="7994880" y="1792440"/>
                        <a:chExt cx="15840" cy="6480"/>
                      </a:xfrm>
                    </p:grpSpPr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79995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79977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79948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8" name=""/>
                      <p:cNvGrpSpPr/>
                      <p:nvPr/>
                    </p:nvGrpSpPr>
                    <p:grpSpPr>
                      <a:xfrm>
                        <a:off x="8029800" y="1791000"/>
                        <a:ext cx="79200" cy="9360"/>
                        <a:chOff x="8029800" y="1791000"/>
                        <a:chExt cx="79200" cy="9360"/>
                      </a:xfrm>
                    </p:grpSpPr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80298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80964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80996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80931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>
                          <a:off x="80805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>
                          <a:off x="80899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8112240" y="1792440"/>
                        <a:ext cx="25200" cy="7920"/>
                        <a:chOff x="8112240" y="1792440"/>
                        <a:chExt cx="25200" cy="792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81122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81154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81154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8140680" y="1792440"/>
                        <a:ext cx="30240" cy="9720"/>
                        <a:chOff x="8140680" y="1792440"/>
                        <a:chExt cx="30240" cy="9720"/>
                      </a:xfrm>
                    </p:grpSpPr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81439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81406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81439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>
                          <a:off x="81424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>
                          <a:off x="81630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81644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8040600" y="1722600"/>
                    <a:ext cx="92160" cy="19080"/>
                    <a:chOff x="8040600" y="1722600"/>
                    <a:chExt cx="92160" cy="19080"/>
                  </a:xfrm>
                </p:grpSpPr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8040600" y="1727640"/>
                      <a:ext cx="92160" cy="14040"/>
                      <a:chOff x="8040600" y="1727640"/>
                      <a:chExt cx="92160" cy="140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80406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80406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80614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80298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0424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0470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81248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8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885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6" name=""/>
            <p:cNvGrpSpPr/>
            <p:nvPr/>
          </p:nvGrpSpPr>
          <p:grpSpPr>
            <a:xfrm>
              <a:off x="133200" y="5638680"/>
              <a:ext cx="1086120" cy="752400"/>
              <a:chOff x="133200" y="5638680"/>
              <a:chExt cx="1086120" cy="752400"/>
            </a:xfrm>
          </p:grpSpPr>
          <p:sp>
            <p:nvSpPr>
              <p:cNvPr id="877" name=""/>
              <p:cNvSpPr/>
              <p:nvPr/>
            </p:nvSpPr>
            <p:spPr>
              <a:xfrm>
                <a:off x="1332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10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2 Acatlán de Osori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206280" y="5694120"/>
                <a:ext cx="822600" cy="488880"/>
                <a:chOff x="206280" y="5694120"/>
                <a:chExt cx="822600" cy="4888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3492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350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84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883" name="pbx" descr=""/>
                <p:cNvPicPr/>
                <p:nvPr/>
              </p:nvPicPr>
              <p:blipFill>
                <a:blip r:embed="rId9"/>
                <a:srcRect l="37594" t="74298" r="28339" b="4834"/>
                <a:stretch/>
              </p:blipFill>
              <p:spPr>
                <a:xfrm>
                  <a:off x="5112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82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85" name=""/>
                <p:cNvGrpSpPr/>
                <p:nvPr/>
              </p:nvGrpSpPr>
              <p:grpSpPr>
                <a:xfrm>
                  <a:off x="206280" y="5832360"/>
                  <a:ext cx="211320" cy="169920"/>
                  <a:chOff x="206280" y="5832360"/>
                  <a:chExt cx="211320" cy="169920"/>
                </a:xfrm>
              </p:grpSpPr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246240" y="5923080"/>
                    <a:ext cx="134640" cy="52200"/>
                    <a:chOff x="246240" y="5923080"/>
                    <a:chExt cx="134640" cy="52200"/>
                  </a:xfrm>
                </p:grpSpPr>
                <p:grpSp>
                  <p:nvGrpSpPr>
                    <p:cNvPr id="887" name=""/>
                    <p:cNvGrpSpPr/>
                    <p:nvPr/>
                  </p:nvGrpSpPr>
                  <p:grpSpPr>
                    <a:xfrm>
                      <a:off x="246240" y="5923080"/>
                      <a:ext cx="134640" cy="52200"/>
                      <a:chOff x="246240" y="5923080"/>
                      <a:chExt cx="134640" cy="52200"/>
                    </a:xfrm>
                  </p:grpSpPr>
                  <p:grpSp>
                    <p:nvGrpSpPr>
                      <p:cNvPr id="888" name=""/>
                      <p:cNvGrpSpPr/>
                      <p:nvPr/>
                    </p:nvGrpSpPr>
                    <p:grpSpPr>
                      <a:xfrm>
                        <a:off x="246240" y="5923080"/>
                        <a:ext cx="134640" cy="52200"/>
                        <a:chOff x="246240" y="5923080"/>
                        <a:chExt cx="134640" cy="52200"/>
                      </a:xfrm>
                    </p:grpSpPr>
                    <p:grpSp>
                      <p:nvGrpSpPr>
                        <p:cNvPr id="889" name=""/>
                        <p:cNvGrpSpPr/>
                        <p:nvPr/>
                      </p:nvGrpSpPr>
                      <p:grpSpPr>
                        <a:xfrm>
                          <a:off x="246240" y="5923080"/>
                          <a:ext cx="134640" cy="52200"/>
                          <a:chOff x="246240" y="5923080"/>
                          <a:chExt cx="134640" cy="52200"/>
                        </a:xfrm>
                      </p:grpSpPr>
                      <p:grpSp>
                        <p:nvGrpSpPr>
                          <p:cNvPr id="890" name=""/>
                          <p:cNvGrpSpPr/>
                          <p:nvPr/>
                        </p:nvGrpSpPr>
                        <p:grpSpPr>
                          <a:xfrm>
                            <a:off x="246240" y="5923080"/>
                            <a:ext cx="134640" cy="52200"/>
                            <a:chOff x="246240" y="5923080"/>
                            <a:chExt cx="134640" cy="52200"/>
                          </a:xfrm>
                        </p:grpSpPr>
                        <p:sp>
                          <p:nvSpPr>
                            <p:cNvPr id="891" name=""/>
                            <p:cNvSpPr/>
                            <p:nvPr/>
                          </p:nvSpPr>
                          <p:spPr>
                            <a:xfrm>
                              <a:off x="2462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2" name=""/>
                            <p:cNvSpPr/>
                            <p:nvPr/>
                          </p:nvSpPr>
                          <p:spPr>
                            <a:xfrm>
                              <a:off x="2476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2491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252360" y="5965920"/>
                          <a:ext cx="127080" cy="7920"/>
                          <a:chOff x="252360" y="5965920"/>
                          <a:chExt cx="127080" cy="7920"/>
                        </a:xfrm>
                      </p:grpSpPr>
                      <p:grpSp>
                        <p:nvGrpSpPr>
                          <p:cNvPr id="895" name=""/>
                          <p:cNvGrpSpPr/>
                          <p:nvPr/>
                        </p:nvGrpSpPr>
                        <p:grpSpPr>
                          <a:xfrm>
                            <a:off x="252360" y="5965920"/>
                            <a:ext cx="63720" cy="7920"/>
                            <a:chOff x="252360" y="5965920"/>
                            <a:chExt cx="63720" cy="7920"/>
                          </a:xfrm>
                        </p:grpSpPr>
                        <p:grpSp>
                          <p:nvGrpSpPr>
                            <p:cNvPr id="896" name=""/>
                            <p:cNvGrpSpPr/>
                            <p:nvPr/>
                          </p:nvGrpSpPr>
                          <p:grpSpPr>
                            <a:xfrm>
                              <a:off x="252360" y="5965920"/>
                              <a:ext cx="31680" cy="7920"/>
                              <a:chOff x="252360" y="5965920"/>
                              <a:chExt cx="31680" cy="7920"/>
                            </a:xfrm>
                          </p:grpSpPr>
                          <p:grpSp>
                            <p:nvGrpSpPr>
                              <p:cNvPr id="897" name=""/>
                              <p:cNvGrpSpPr/>
                              <p:nvPr/>
                            </p:nvGrpSpPr>
                            <p:grpSpPr>
                              <a:xfrm>
                                <a:off x="252360" y="5965920"/>
                                <a:ext cx="15840" cy="7920"/>
                                <a:chOff x="2523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89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965920"/>
                                  <a:ext cx="7920" cy="7920"/>
                                  <a:chOff x="2523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8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965920"/>
                                    <a:ext cx="3240" cy="7920"/>
                                    <a:chOff x="2523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965920"/>
                                    <a:ext cx="4680" cy="7920"/>
                                    <a:chOff x="2556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0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965920"/>
                                  <a:ext cx="7920" cy="7920"/>
                                  <a:chOff x="2602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965920"/>
                                    <a:ext cx="3240" cy="7920"/>
                                    <a:chOff x="260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965920"/>
                                    <a:ext cx="4680" cy="7920"/>
                                    <a:chOff x="2635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12" name=""/>
                              <p:cNvGrpSpPr/>
                              <p:nvPr/>
                            </p:nvGrpSpPr>
                            <p:grpSpPr>
                              <a:xfrm>
                                <a:off x="268200" y="5965920"/>
                                <a:ext cx="15840" cy="7920"/>
                                <a:chOff x="2682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1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965920"/>
                                  <a:ext cx="7920" cy="7920"/>
                                  <a:chOff x="2682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965920"/>
                                    <a:ext cx="3240" cy="7920"/>
                                    <a:chOff x="268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965920"/>
                                    <a:ext cx="4680" cy="7920"/>
                                    <a:chOff x="2714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2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965920"/>
                                  <a:ext cx="7920" cy="7920"/>
                                  <a:chOff x="2761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965920"/>
                                    <a:ext cx="3240" cy="7920"/>
                                    <a:chOff x="2761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965920"/>
                                    <a:ext cx="4680" cy="7920"/>
                                    <a:chOff x="2793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27" name=""/>
                            <p:cNvGrpSpPr/>
                            <p:nvPr/>
                          </p:nvGrpSpPr>
                          <p:grpSpPr>
                            <a:xfrm>
                              <a:off x="284040" y="5965920"/>
                              <a:ext cx="32040" cy="7920"/>
                              <a:chOff x="284040" y="5965920"/>
                              <a:chExt cx="32040" cy="7920"/>
                            </a:xfrm>
                          </p:grpSpPr>
                          <p:grpSp>
                            <p:nvGrpSpPr>
                              <p:cNvPr id="928" name=""/>
                              <p:cNvGrpSpPr/>
                              <p:nvPr/>
                            </p:nvGrpSpPr>
                            <p:grpSpPr>
                              <a:xfrm>
                                <a:off x="284040" y="5965920"/>
                                <a:ext cx="16200" cy="7920"/>
                                <a:chOff x="2840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92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965920"/>
                                  <a:ext cx="8280" cy="7920"/>
                                  <a:chOff x="2840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9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965920"/>
                                    <a:ext cx="3240" cy="7920"/>
                                    <a:chOff x="2840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965920"/>
                                    <a:ext cx="3240" cy="7920"/>
                                    <a:chOff x="289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3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965920"/>
                                  <a:ext cx="7920" cy="7920"/>
                                  <a:chOff x="292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965920"/>
                                    <a:ext cx="2880" cy="7920"/>
                                    <a:chOff x="2923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965920"/>
                                    <a:ext cx="3240" cy="7920"/>
                                    <a:chOff x="297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43" name=""/>
                              <p:cNvGrpSpPr/>
                              <p:nvPr/>
                            </p:nvGrpSpPr>
                            <p:grpSpPr>
                              <a:xfrm>
                                <a:off x="300240" y="5965920"/>
                                <a:ext cx="15840" cy="7920"/>
                                <a:chOff x="3002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4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965920"/>
                                  <a:ext cx="7920" cy="7920"/>
                                  <a:chOff x="300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965920"/>
                                    <a:ext cx="2880" cy="7920"/>
                                    <a:chOff x="3002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965920"/>
                                    <a:ext cx="3240" cy="7920"/>
                                    <a:chOff x="304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5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965920"/>
                                  <a:ext cx="7920" cy="7920"/>
                                  <a:chOff x="308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965920"/>
                                    <a:ext cx="2880" cy="7920"/>
                                    <a:chOff x="3081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965920"/>
                                    <a:ext cx="5040" cy="7920"/>
                                    <a:chOff x="3110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958" name=""/>
                          <p:cNvGrpSpPr/>
                          <p:nvPr/>
                        </p:nvGrpSpPr>
                        <p:grpSpPr>
                          <a:xfrm>
                            <a:off x="316080" y="5965920"/>
                            <a:ext cx="63360" cy="7920"/>
                            <a:chOff x="316080" y="5965920"/>
                            <a:chExt cx="63360" cy="7920"/>
                          </a:xfrm>
                        </p:grpSpPr>
                        <p:grpSp>
                          <p:nvGrpSpPr>
                            <p:cNvPr id="959" name=""/>
                            <p:cNvGrpSpPr/>
                            <p:nvPr/>
                          </p:nvGrpSpPr>
                          <p:grpSpPr>
                            <a:xfrm>
                              <a:off x="316080" y="5965920"/>
                              <a:ext cx="31680" cy="7920"/>
                              <a:chOff x="316080" y="5965920"/>
                              <a:chExt cx="31680" cy="7920"/>
                            </a:xfrm>
                          </p:grpSpPr>
                          <p:grpSp>
                            <p:nvGrpSpPr>
                              <p:cNvPr id="960" name=""/>
                              <p:cNvGrpSpPr/>
                              <p:nvPr/>
                            </p:nvGrpSpPr>
                            <p:grpSpPr>
                              <a:xfrm>
                                <a:off x="316080" y="5965920"/>
                                <a:ext cx="15840" cy="7920"/>
                                <a:chOff x="3160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6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965920"/>
                                  <a:ext cx="7920" cy="7920"/>
                                  <a:chOff x="316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965920"/>
                                    <a:ext cx="3240" cy="7920"/>
                                    <a:chOff x="316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965920"/>
                                    <a:ext cx="4680" cy="7920"/>
                                    <a:chOff x="319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6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965920"/>
                                  <a:ext cx="7920" cy="7920"/>
                                  <a:chOff x="324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965920"/>
                                    <a:ext cx="3240" cy="7920"/>
                                    <a:chOff x="324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965920"/>
                                    <a:ext cx="3240" cy="7920"/>
                                    <a:chOff x="328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75" name=""/>
                              <p:cNvGrpSpPr/>
                              <p:nvPr/>
                            </p:nvGrpSpPr>
                            <p:grpSpPr>
                              <a:xfrm>
                                <a:off x="331920" y="5965920"/>
                                <a:ext cx="15840" cy="7920"/>
                                <a:chOff x="3319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7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965920"/>
                                  <a:ext cx="7920" cy="7920"/>
                                  <a:chOff x="331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965920"/>
                                    <a:ext cx="3240" cy="7920"/>
                                    <a:chOff x="331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965920"/>
                                    <a:ext cx="3240" cy="7920"/>
                                    <a:chOff x="336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8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965920"/>
                                  <a:ext cx="7920" cy="7920"/>
                                  <a:chOff x="3398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965920"/>
                                    <a:ext cx="3240" cy="7920"/>
                                    <a:chOff x="339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965920"/>
                                    <a:ext cx="4680" cy="7920"/>
                                    <a:chOff x="3430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347760" y="5965920"/>
                              <a:ext cx="31680" cy="7920"/>
                              <a:chOff x="347760" y="5965920"/>
                              <a:chExt cx="31680" cy="7920"/>
                            </a:xfrm>
                          </p:grpSpPr>
                          <p:grpSp>
                            <p:nvGrpSpPr>
                              <p:cNvPr id="991" name=""/>
                              <p:cNvGrpSpPr/>
                              <p:nvPr/>
                            </p:nvGrpSpPr>
                            <p:grpSpPr>
                              <a:xfrm>
                                <a:off x="347760" y="5965920"/>
                                <a:ext cx="15840" cy="7920"/>
                                <a:chOff x="347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9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965920"/>
                                  <a:ext cx="7920" cy="7920"/>
                                  <a:chOff x="347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965920"/>
                                    <a:ext cx="3240" cy="7920"/>
                                    <a:chOff x="347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965920"/>
                                    <a:ext cx="3240" cy="7920"/>
                                    <a:chOff x="352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9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965920"/>
                                  <a:ext cx="7920" cy="7920"/>
                                  <a:chOff x="355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965920"/>
                                    <a:ext cx="3240" cy="7920"/>
                                    <a:chOff x="355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965920"/>
                                    <a:ext cx="4680" cy="7920"/>
                                    <a:chOff x="358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0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006" name=""/>
                              <p:cNvGrpSpPr/>
                              <p:nvPr/>
                            </p:nvGrpSpPr>
                            <p:grpSpPr>
                              <a:xfrm>
                                <a:off x="363600" y="5965920"/>
                                <a:ext cx="15840" cy="7920"/>
                                <a:chOff x="363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100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965920"/>
                                  <a:ext cx="7920" cy="7920"/>
                                  <a:chOff x="363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965920"/>
                                    <a:ext cx="3240" cy="7920"/>
                                    <a:chOff x="363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965920"/>
                                    <a:ext cx="3240" cy="7920"/>
                                    <a:chOff x="368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01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965920"/>
                                  <a:ext cx="7920" cy="7920"/>
                                  <a:chOff x="371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965920"/>
                                    <a:ext cx="3240" cy="7920"/>
                                    <a:chOff x="371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965920"/>
                                    <a:ext cx="3240" cy="7920"/>
                                    <a:chOff x="376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249120" y="5937120"/>
                        <a:ext cx="128880" cy="22320"/>
                        <a:chOff x="249120" y="5937120"/>
                        <a:chExt cx="128880" cy="22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2491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2779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>
                          <a:off x="3175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5" name=""/>
                        <p:cNvSpPr/>
                        <p:nvPr/>
                      </p:nvSpPr>
                      <p:spPr>
                        <a:xfrm>
                          <a:off x="3589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62160" y="5940360"/>
                      <a:ext cx="12600" cy="11160"/>
                      <a:chOff x="362160" y="5940360"/>
                      <a:chExt cx="12600" cy="1116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3668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682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9" name=""/>
                      <p:cNvGrpSpPr/>
                      <p:nvPr/>
                    </p:nvGrpSpPr>
                    <p:grpSpPr>
                      <a:xfrm>
                        <a:off x="362160" y="5942160"/>
                        <a:ext cx="2880" cy="6120"/>
                        <a:chOff x="362160" y="5942160"/>
                        <a:chExt cx="2880" cy="6120"/>
                      </a:xfrm>
                    </p:grpSpPr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>
                          <a:off x="3621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>
                          <a:off x="3621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2" name=""/>
                    <p:cNvGrpSpPr/>
                    <p:nvPr/>
                  </p:nvGrpSpPr>
                  <p:grpSpPr>
                    <a:xfrm>
                      <a:off x="279360" y="5940360"/>
                      <a:ext cx="36720" cy="14400"/>
                      <a:chOff x="279360" y="5940360"/>
                      <a:chExt cx="36720" cy="14400"/>
                    </a:xfrm>
                  </p:grpSpPr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281160" y="5940360"/>
                        <a:ext cx="34920" cy="7920"/>
                        <a:chOff x="281160" y="5940360"/>
                        <a:chExt cx="34920" cy="792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2905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>
                          <a:off x="2905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>
                          <a:off x="2811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2793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3081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9" name=""/>
                    <p:cNvGrpSpPr/>
                    <p:nvPr/>
                  </p:nvGrpSpPr>
                  <p:grpSpPr>
                    <a:xfrm>
                      <a:off x="252360" y="5953320"/>
                      <a:ext cx="23760" cy="4680"/>
                      <a:chOff x="252360" y="5953320"/>
                      <a:chExt cx="23760" cy="4680"/>
                    </a:xfrm>
                  </p:grpSpPr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252360" y="5953320"/>
                        <a:ext cx="12960" cy="4680"/>
                        <a:chOff x="252360" y="5953320"/>
                        <a:chExt cx="12960" cy="4680"/>
                      </a:xfrm>
                    </p:grpSpPr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252360" y="5953320"/>
                          <a:ext cx="6480" cy="4680"/>
                          <a:chOff x="252360" y="5953320"/>
                          <a:chExt cx="6480" cy="468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252360" y="5953320"/>
                            <a:ext cx="3240" cy="4680"/>
                            <a:chOff x="252360" y="5953320"/>
                            <a:chExt cx="3240" cy="468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>
                              <a:off x="2523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>
                              <a:off x="254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255600" y="5953320"/>
                            <a:ext cx="3240" cy="4680"/>
                            <a:chOff x="255600" y="5953320"/>
                            <a:chExt cx="3240" cy="468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255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257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48" name=""/>
                        <p:cNvGrpSpPr/>
                        <p:nvPr/>
                      </p:nvGrpSpPr>
                      <p:grpSpPr>
                        <a:xfrm>
                          <a:off x="258840" y="5953320"/>
                          <a:ext cx="6480" cy="4680"/>
                          <a:chOff x="258840" y="5953320"/>
                          <a:chExt cx="6480" cy="4680"/>
                        </a:xfrm>
                      </p:grpSpPr>
                      <p:grpSp>
                        <p:nvGrpSpPr>
                          <p:cNvPr id="1049" name=""/>
                          <p:cNvGrpSpPr/>
                          <p:nvPr/>
                        </p:nvGrpSpPr>
                        <p:grpSpPr>
                          <a:xfrm>
                            <a:off x="258840" y="5953320"/>
                            <a:ext cx="3240" cy="4680"/>
                            <a:chOff x="258840" y="5953320"/>
                            <a:chExt cx="3240" cy="4680"/>
                          </a:xfrm>
                        </p:grpSpPr>
                        <p:sp>
                          <p:nvSpPr>
                            <p:cNvPr id="1050" name=""/>
                            <p:cNvSpPr/>
                            <p:nvPr/>
                          </p:nvSpPr>
                          <p:spPr>
                            <a:xfrm>
                              <a:off x="258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1" name=""/>
                            <p:cNvSpPr/>
                            <p:nvPr/>
                          </p:nvSpPr>
                          <p:spPr>
                            <a:xfrm>
                              <a:off x="2602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2" name=""/>
                          <p:cNvGrpSpPr/>
                          <p:nvPr/>
                        </p:nvGrpSpPr>
                        <p:grpSpPr>
                          <a:xfrm>
                            <a:off x="262080" y="5953320"/>
                            <a:ext cx="3240" cy="4680"/>
                            <a:chOff x="262080" y="5953320"/>
                            <a:chExt cx="3240" cy="4680"/>
                          </a:xfrm>
                        </p:grpSpPr>
                        <p:sp>
                          <p:nvSpPr>
                            <p:cNvPr id="1053" name=""/>
                            <p:cNvSpPr/>
                            <p:nvPr/>
                          </p:nvSpPr>
                          <p:spPr>
                            <a:xfrm>
                              <a:off x="262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4" name=""/>
                            <p:cNvSpPr/>
                            <p:nvPr/>
                          </p:nvSpPr>
                          <p:spPr>
                            <a:xfrm>
                              <a:off x="2635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265320" y="5953320"/>
                        <a:ext cx="10800" cy="4680"/>
                        <a:chOff x="265320" y="5953320"/>
                        <a:chExt cx="10800" cy="4680"/>
                      </a:xfrm>
                    </p:grpSpPr>
                    <p:grpSp>
                      <p:nvGrpSpPr>
                        <p:cNvPr id="1056" name=""/>
                        <p:cNvGrpSpPr/>
                        <p:nvPr/>
                      </p:nvGrpSpPr>
                      <p:grpSpPr>
                        <a:xfrm>
                          <a:off x="265320" y="5953320"/>
                          <a:ext cx="6120" cy="4680"/>
                          <a:chOff x="265320" y="5953320"/>
                          <a:chExt cx="6120" cy="4680"/>
                        </a:xfrm>
                      </p:grpSpPr>
                      <p:grpSp>
                        <p:nvGrpSpPr>
                          <p:cNvPr id="1057" name=""/>
                          <p:cNvGrpSpPr/>
                          <p:nvPr/>
                        </p:nvGrpSpPr>
                        <p:grpSpPr>
                          <a:xfrm>
                            <a:off x="265320" y="5953320"/>
                            <a:ext cx="2880" cy="4680"/>
                            <a:chOff x="265320" y="5953320"/>
                            <a:chExt cx="2880" cy="4680"/>
                          </a:xfrm>
                        </p:grpSpPr>
                        <p:sp>
                          <p:nvSpPr>
                            <p:cNvPr id="1058" name=""/>
                            <p:cNvSpPr/>
                            <p:nvPr/>
                          </p:nvSpPr>
                          <p:spPr>
                            <a:xfrm>
                              <a:off x="2653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9" name=""/>
                            <p:cNvSpPr/>
                            <p:nvPr/>
                          </p:nvSpPr>
                          <p:spPr>
                            <a:xfrm>
                              <a:off x="2667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0" name=""/>
                          <p:cNvGrpSpPr/>
                          <p:nvPr/>
                        </p:nvGrpSpPr>
                        <p:grpSpPr>
                          <a:xfrm>
                            <a:off x="268200" y="5953320"/>
                            <a:ext cx="3240" cy="4680"/>
                            <a:chOff x="268200" y="5953320"/>
                            <a:chExt cx="3240" cy="4680"/>
                          </a:xfrm>
                        </p:grpSpPr>
                        <p:sp>
                          <p:nvSpPr>
                            <p:cNvPr id="1061" name=""/>
                            <p:cNvSpPr/>
                            <p:nvPr/>
                          </p:nvSpPr>
                          <p:spPr>
                            <a:xfrm>
                              <a:off x="2682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2" name=""/>
                            <p:cNvSpPr/>
                            <p:nvPr/>
                          </p:nvSpPr>
                          <p:spPr>
                            <a:xfrm>
                              <a:off x="2700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63" name=""/>
                        <p:cNvGrpSpPr/>
                        <p:nvPr/>
                      </p:nvGrpSpPr>
                      <p:grpSpPr>
                        <a:xfrm>
                          <a:off x="271440" y="5953320"/>
                          <a:ext cx="4680" cy="4680"/>
                          <a:chOff x="271440" y="5953320"/>
                          <a:chExt cx="4680" cy="4680"/>
                        </a:xfrm>
                      </p:grpSpPr>
                      <p:grpSp>
                        <p:nvGrpSpPr>
                          <p:cNvPr id="1064" name=""/>
                          <p:cNvGrpSpPr/>
                          <p:nvPr/>
                        </p:nvGrpSpPr>
                        <p:grpSpPr>
                          <a:xfrm>
                            <a:off x="271440" y="5953320"/>
                            <a:ext cx="1800" cy="4680"/>
                            <a:chOff x="271440" y="5953320"/>
                            <a:chExt cx="1800" cy="4680"/>
                          </a:xfrm>
                        </p:grpSpPr>
                        <p:sp>
                          <p:nvSpPr>
                            <p:cNvPr id="1065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6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7" name=""/>
                          <p:cNvGrpSpPr/>
                          <p:nvPr/>
                        </p:nvGrpSpPr>
                        <p:grpSpPr>
                          <a:xfrm>
                            <a:off x="273240" y="5953320"/>
                            <a:ext cx="2880" cy="4680"/>
                            <a:chOff x="273240" y="5953320"/>
                            <a:chExt cx="2880" cy="4680"/>
                          </a:xfrm>
                        </p:grpSpPr>
                        <p:sp>
                          <p:nvSpPr>
                            <p:cNvPr id="1068" name=""/>
                            <p:cNvSpPr/>
                            <p:nvPr/>
                          </p:nvSpPr>
                          <p:spPr>
                            <a:xfrm>
                              <a:off x="273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9" name=""/>
                            <p:cNvSpPr/>
                            <p:nvPr/>
                          </p:nvSpPr>
                          <p:spPr>
                            <a:xfrm>
                              <a:off x="274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2509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206280" y="5972400"/>
                    <a:ext cx="211320" cy="29880"/>
                    <a:chOff x="206280" y="5972400"/>
                    <a:chExt cx="211320" cy="29880"/>
                  </a:xfrm>
                </p:grpSpPr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206280" y="5972400"/>
                      <a:ext cx="211320" cy="29880"/>
                      <a:chOff x="206280" y="5972400"/>
                      <a:chExt cx="211320" cy="2988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2062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2062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2127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228600" y="5975280"/>
                      <a:ext cx="166680" cy="5040"/>
                      <a:chOff x="228600" y="5975280"/>
                      <a:chExt cx="166680" cy="5040"/>
                    </a:xfrm>
                  </p:grpSpPr>
                  <p:sp>
                    <p:nvSpPr>
                      <p:cNvPr id="1077" name=""/>
                      <p:cNvSpPr/>
                      <p:nvPr/>
                    </p:nvSpPr>
                    <p:spPr>
                      <a:xfrm>
                        <a:off x="2286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8" name=""/>
                      <p:cNvSpPr/>
                      <p:nvPr/>
                    </p:nvSpPr>
                    <p:spPr>
                      <a:xfrm>
                        <a:off x="2462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" name=""/>
                      <p:cNvSpPr/>
                      <p:nvPr/>
                    </p:nvSpPr>
                    <p:spPr>
                      <a:xfrm>
                        <a:off x="2793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3096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3398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3682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222480" y="5981760"/>
                      <a:ext cx="176040" cy="11160"/>
                      <a:chOff x="222480" y="5981760"/>
                      <a:chExt cx="176040" cy="11160"/>
                    </a:xfrm>
                  </p:grpSpPr>
                  <p:grpSp>
                    <p:nvGrpSpPr>
                      <p:cNvPr id="1084" name=""/>
                      <p:cNvGrpSpPr/>
                      <p:nvPr/>
                    </p:nvGrpSpPr>
                    <p:grpSpPr>
                      <a:xfrm>
                        <a:off x="238320" y="5981760"/>
                        <a:ext cx="85680" cy="9360"/>
                        <a:chOff x="238320" y="5981760"/>
                        <a:chExt cx="85680" cy="9360"/>
                      </a:xfrm>
                    </p:grpSpPr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>
                          <a:off x="2383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6" name=""/>
                        <p:cNvSpPr/>
                        <p:nvPr/>
                      </p:nvSpPr>
                      <p:spPr>
                        <a:xfrm>
                          <a:off x="2412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>
                          <a:off x="2430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>
                          <a:off x="2444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9" name=""/>
                      <p:cNvGrpSpPr/>
                      <p:nvPr/>
                    </p:nvGrpSpPr>
                    <p:grpSpPr>
                      <a:xfrm>
                        <a:off x="222480" y="5983200"/>
                        <a:ext cx="15840" cy="6480"/>
                        <a:chOff x="222480" y="5983200"/>
                        <a:chExt cx="15840" cy="6480"/>
                      </a:xfrm>
                    </p:grpSpPr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>
                          <a:off x="2271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>
                          <a:off x="2253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>
                          <a:off x="2224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3" name=""/>
                      <p:cNvGrpSpPr/>
                      <p:nvPr/>
                    </p:nvGrpSpPr>
                    <p:grpSpPr>
                      <a:xfrm>
                        <a:off x="257400" y="5981760"/>
                        <a:ext cx="79200" cy="9360"/>
                        <a:chOff x="257400" y="5981760"/>
                        <a:chExt cx="79200" cy="9360"/>
                      </a:xfrm>
                    </p:grpSpPr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>
                          <a:off x="2574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>
                          <a:off x="3240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>
                          <a:off x="3272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>
                          <a:off x="3207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3081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3175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0" name=""/>
                      <p:cNvGrpSpPr/>
                      <p:nvPr/>
                    </p:nvGrpSpPr>
                    <p:grpSpPr>
                      <a:xfrm>
                        <a:off x="339840" y="5983200"/>
                        <a:ext cx="25200" cy="7920"/>
                        <a:chOff x="339840" y="5983200"/>
                        <a:chExt cx="25200" cy="7920"/>
                      </a:xfrm>
                    </p:grpSpPr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3398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>
                          <a:off x="3430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3430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4" name=""/>
                      <p:cNvGrpSpPr/>
                      <p:nvPr/>
                    </p:nvGrpSpPr>
                    <p:grpSpPr>
                      <a:xfrm>
                        <a:off x="368280" y="5983200"/>
                        <a:ext cx="30240" cy="9720"/>
                        <a:chOff x="368280" y="5983200"/>
                        <a:chExt cx="30240" cy="9720"/>
                      </a:xfrm>
                    </p:grpSpPr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>
                          <a:off x="3715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>
                          <a:off x="3682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3715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>
                          <a:off x="3700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>
                          <a:off x="3906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3920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268200" y="5913360"/>
                    <a:ext cx="92160" cy="19080"/>
                    <a:chOff x="268200" y="5913360"/>
                    <a:chExt cx="92160" cy="19080"/>
                  </a:xfrm>
                </p:grpSpPr>
                <p:grpSp>
                  <p:nvGrpSpPr>
                    <p:cNvPr id="1112" name=""/>
                    <p:cNvGrpSpPr/>
                    <p:nvPr/>
                  </p:nvGrpSpPr>
                  <p:grpSpPr>
                    <a:xfrm>
                      <a:off x="268200" y="5918400"/>
                      <a:ext cx="92160" cy="14040"/>
                      <a:chOff x="268200" y="5918400"/>
                      <a:chExt cx="92160" cy="14040"/>
                    </a:xfrm>
                  </p:grpSpPr>
                  <p:sp>
                    <p:nvSpPr>
                      <p:cNvPr id="1113" name=""/>
                      <p:cNvSpPr/>
                      <p:nvPr/>
                    </p:nvSpPr>
                    <p:spPr>
                      <a:xfrm>
                        <a:off x="2682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2682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2890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6" name=""/>
                  <p:cNvSpPr/>
                  <p:nvPr/>
                </p:nvSpPr>
                <p:spPr>
                  <a:xfrm>
                    <a:off x="2574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00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6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524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61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21" name=""/>
            <p:cNvGrpSpPr/>
            <p:nvPr/>
          </p:nvGrpSpPr>
          <p:grpSpPr>
            <a:xfrm>
              <a:off x="133200" y="1447920"/>
              <a:ext cx="1086120" cy="752400"/>
              <a:chOff x="133200" y="1447920"/>
              <a:chExt cx="1086120" cy="752400"/>
            </a:xfrm>
          </p:grpSpPr>
          <p:sp>
            <p:nvSpPr>
              <p:cNvPr id="1122" name=""/>
              <p:cNvSpPr/>
              <p:nvPr/>
            </p:nvSpPr>
            <p:spPr>
              <a:xfrm>
                <a:off x="1332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10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4" name=""/>
              <p:cNvGrpSpPr/>
              <p:nvPr/>
            </p:nvGrpSpPr>
            <p:grpSpPr>
              <a:xfrm>
                <a:off x="206280" y="1503360"/>
                <a:ext cx="822600" cy="488880"/>
                <a:chOff x="206280" y="1503360"/>
                <a:chExt cx="822600" cy="4888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492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350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684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128" name="pbx" descr=""/>
                <p:cNvPicPr/>
                <p:nvPr/>
              </p:nvPicPr>
              <p:blipFill>
                <a:blip r:embed="rId12"/>
                <a:srcRect l="37594" t="74298" r="28339" b="4834"/>
                <a:stretch/>
              </p:blipFill>
              <p:spPr>
                <a:xfrm>
                  <a:off x="5112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382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0" name=""/>
                <p:cNvGrpSpPr/>
                <p:nvPr/>
              </p:nvGrpSpPr>
              <p:grpSpPr>
                <a:xfrm>
                  <a:off x="206280" y="1641600"/>
                  <a:ext cx="211320" cy="169920"/>
                  <a:chOff x="206280" y="1641600"/>
                  <a:chExt cx="211320" cy="1699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246240" y="1732320"/>
                    <a:ext cx="134640" cy="52200"/>
                    <a:chOff x="246240" y="1732320"/>
                    <a:chExt cx="134640" cy="52200"/>
                  </a:xfrm>
                </p:grpSpPr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246240" y="1732320"/>
                      <a:ext cx="134640" cy="52200"/>
                      <a:chOff x="246240" y="1732320"/>
                      <a:chExt cx="134640" cy="52200"/>
                    </a:xfrm>
                  </p:grpSpPr>
                  <p:grpSp>
                    <p:nvGrpSpPr>
                      <p:cNvPr id="1133" name=""/>
                      <p:cNvGrpSpPr/>
                      <p:nvPr/>
                    </p:nvGrpSpPr>
                    <p:grpSpPr>
                      <a:xfrm>
                        <a:off x="246240" y="1732320"/>
                        <a:ext cx="134640" cy="52200"/>
                        <a:chOff x="246240" y="1732320"/>
                        <a:chExt cx="134640" cy="52200"/>
                      </a:xfrm>
                    </p:grpSpPr>
                    <p:grpSp>
                      <p:nvGrpSpPr>
                        <p:cNvPr id="1134" name=""/>
                        <p:cNvGrpSpPr/>
                        <p:nvPr/>
                      </p:nvGrpSpPr>
                      <p:grpSpPr>
                        <a:xfrm>
                          <a:off x="246240" y="1732320"/>
                          <a:ext cx="134640" cy="52200"/>
                          <a:chOff x="246240" y="1732320"/>
                          <a:chExt cx="134640" cy="52200"/>
                        </a:xfrm>
                      </p:grpSpPr>
                      <p:grpSp>
                        <p:nvGrpSpPr>
                          <p:cNvPr id="1135" name=""/>
                          <p:cNvGrpSpPr/>
                          <p:nvPr/>
                        </p:nvGrpSpPr>
                        <p:grpSpPr>
                          <a:xfrm>
                            <a:off x="246240" y="1732320"/>
                            <a:ext cx="134640" cy="52200"/>
                            <a:chOff x="246240" y="1732320"/>
                            <a:chExt cx="134640" cy="52200"/>
                          </a:xfrm>
                        </p:grpSpPr>
                        <p:sp>
                          <p:nvSpPr>
                            <p:cNvPr id="1136" name=""/>
                            <p:cNvSpPr/>
                            <p:nvPr/>
                          </p:nvSpPr>
                          <p:spPr>
                            <a:xfrm>
                              <a:off x="2462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2476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2491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252360" y="1775160"/>
                          <a:ext cx="127080" cy="7920"/>
                          <a:chOff x="252360" y="1775160"/>
                          <a:chExt cx="127080" cy="7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252360" y="1775160"/>
                            <a:ext cx="63720" cy="7920"/>
                            <a:chOff x="252360" y="1775160"/>
                            <a:chExt cx="63720" cy="7920"/>
                          </a:xfrm>
                        </p:grpSpPr>
                        <p:grpSp>
                          <p:nvGrpSpPr>
                            <p:cNvPr id="1141" name=""/>
                            <p:cNvGrpSpPr/>
                            <p:nvPr/>
                          </p:nvGrpSpPr>
                          <p:grpSpPr>
                            <a:xfrm>
                              <a:off x="252360" y="1775160"/>
                              <a:ext cx="31680" cy="7920"/>
                              <a:chOff x="252360" y="1775160"/>
                              <a:chExt cx="31680" cy="7920"/>
                            </a:xfrm>
                          </p:grpSpPr>
                          <p:grpSp>
                            <p:nvGrpSpPr>
                              <p:cNvPr id="1142" name=""/>
                              <p:cNvGrpSpPr/>
                              <p:nvPr/>
                            </p:nvGrpSpPr>
                            <p:grpSpPr>
                              <a:xfrm>
                                <a:off x="252360" y="1775160"/>
                                <a:ext cx="15840" cy="7920"/>
                                <a:chOff x="2523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4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1775160"/>
                                  <a:ext cx="7920" cy="7920"/>
                                  <a:chOff x="2523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1775160"/>
                                    <a:ext cx="3240" cy="7920"/>
                                    <a:chOff x="2523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1775160"/>
                                    <a:ext cx="4680" cy="7920"/>
                                    <a:chOff x="2556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5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1775160"/>
                                  <a:ext cx="7920" cy="7920"/>
                                  <a:chOff x="2602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1775160"/>
                                    <a:ext cx="3240" cy="7920"/>
                                    <a:chOff x="260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1775160"/>
                                    <a:ext cx="4680" cy="7920"/>
                                    <a:chOff x="2635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57" name=""/>
                              <p:cNvGrpSpPr/>
                              <p:nvPr/>
                            </p:nvGrpSpPr>
                            <p:grpSpPr>
                              <a:xfrm>
                                <a:off x="268200" y="1775160"/>
                                <a:ext cx="15840" cy="7920"/>
                                <a:chOff x="2682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5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1775160"/>
                                  <a:ext cx="7920" cy="7920"/>
                                  <a:chOff x="2682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1775160"/>
                                    <a:ext cx="3240" cy="7920"/>
                                    <a:chOff x="268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1775160"/>
                                    <a:ext cx="4680" cy="7920"/>
                                    <a:chOff x="2714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6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1775160"/>
                                  <a:ext cx="7920" cy="7920"/>
                                  <a:chOff x="2761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1775160"/>
                                    <a:ext cx="3240" cy="7920"/>
                                    <a:chOff x="2761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1775160"/>
                                    <a:ext cx="4680" cy="7920"/>
                                    <a:chOff x="2793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172" name=""/>
                            <p:cNvGrpSpPr/>
                            <p:nvPr/>
                          </p:nvGrpSpPr>
                          <p:grpSpPr>
                            <a:xfrm>
                              <a:off x="284040" y="1775160"/>
                              <a:ext cx="32040" cy="7920"/>
                              <a:chOff x="284040" y="1775160"/>
                              <a:chExt cx="32040" cy="7920"/>
                            </a:xfrm>
                          </p:grpSpPr>
                          <p:grpSp>
                            <p:nvGrpSpPr>
                              <p:cNvPr id="1173" name=""/>
                              <p:cNvGrpSpPr/>
                              <p:nvPr/>
                            </p:nvGrpSpPr>
                            <p:grpSpPr>
                              <a:xfrm>
                                <a:off x="284040" y="1775160"/>
                                <a:ext cx="16200" cy="7920"/>
                                <a:chOff x="2840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117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1775160"/>
                                  <a:ext cx="8280" cy="7920"/>
                                  <a:chOff x="2840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1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1775160"/>
                                    <a:ext cx="3240" cy="7920"/>
                                    <a:chOff x="2840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1775160"/>
                                    <a:ext cx="3240" cy="7920"/>
                                    <a:chOff x="289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8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1775160"/>
                                  <a:ext cx="7920" cy="7920"/>
                                  <a:chOff x="292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1775160"/>
                                    <a:ext cx="2880" cy="7920"/>
                                    <a:chOff x="2923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1775160"/>
                                    <a:ext cx="3240" cy="7920"/>
                                    <a:chOff x="297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88" name=""/>
                              <p:cNvGrpSpPr/>
                              <p:nvPr/>
                            </p:nvGrpSpPr>
                            <p:grpSpPr>
                              <a:xfrm>
                                <a:off x="300240" y="1775160"/>
                                <a:ext cx="15840" cy="7920"/>
                                <a:chOff x="3002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8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1775160"/>
                                  <a:ext cx="7920" cy="7920"/>
                                  <a:chOff x="300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1775160"/>
                                    <a:ext cx="2880" cy="7920"/>
                                    <a:chOff x="3002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1775160"/>
                                    <a:ext cx="3240" cy="7920"/>
                                    <a:chOff x="304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9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1775160"/>
                                  <a:ext cx="7920" cy="7920"/>
                                  <a:chOff x="308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1775160"/>
                                    <a:ext cx="2880" cy="7920"/>
                                    <a:chOff x="3081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1775160"/>
                                    <a:ext cx="5040" cy="7920"/>
                                    <a:chOff x="3110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203" name=""/>
                          <p:cNvGrpSpPr/>
                          <p:nvPr/>
                        </p:nvGrpSpPr>
                        <p:grpSpPr>
                          <a:xfrm>
                            <a:off x="316080" y="1775160"/>
                            <a:ext cx="63360" cy="7920"/>
                            <a:chOff x="316080" y="1775160"/>
                            <a:chExt cx="63360" cy="7920"/>
                          </a:xfrm>
                        </p:grpSpPr>
                        <p:grpSp>
                          <p:nvGrpSpPr>
                            <p:cNvPr id="1204" name=""/>
                            <p:cNvGrpSpPr/>
                            <p:nvPr/>
                          </p:nvGrpSpPr>
                          <p:grpSpPr>
                            <a:xfrm>
                              <a:off x="316080" y="1775160"/>
                              <a:ext cx="31680" cy="7920"/>
                              <a:chOff x="316080" y="1775160"/>
                              <a:chExt cx="31680" cy="7920"/>
                            </a:xfrm>
                          </p:grpSpPr>
                          <p:grpSp>
                            <p:nvGrpSpPr>
                              <p:cNvPr id="1205" name=""/>
                              <p:cNvGrpSpPr/>
                              <p:nvPr/>
                            </p:nvGrpSpPr>
                            <p:grpSpPr>
                              <a:xfrm>
                                <a:off x="316080" y="1775160"/>
                                <a:ext cx="15840" cy="7920"/>
                                <a:chOff x="3160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0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1775160"/>
                                  <a:ext cx="7920" cy="7920"/>
                                  <a:chOff x="316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1775160"/>
                                    <a:ext cx="3240" cy="7920"/>
                                    <a:chOff x="316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1775160"/>
                                    <a:ext cx="4680" cy="7920"/>
                                    <a:chOff x="319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1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1775160"/>
                                  <a:ext cx="7920" cy="7920"/>
                                  <a:chOff x="324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1775160"/>
                                    <a:ext cx="3240" cy="7920"/>
                                    <a:chOff x="324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1775160"/>
                                    <a:ext cx="3240" cy="7920"/>
                                    <a:chOff x="328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20" name=""/>
                              <p:cNvGrpSpPr/>
                              <p:nvPr/>
                            </p:nvGrpSpPr>
                            <p:grpSpPr>
                              <a:xfrm>
                                <a:off x="331920" y="1775160"/>
                                <a:ext cx="15840" cy="7920"/>
                                <a:chOff x="3319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2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1775160"/>
                                  <a:ext cx="7920" cy="7920"/>
                                  <a:chOff x="331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1775160"/>
                                    <a:ext cx="3240" cy="7920"/>
                                    <a:chOff x="331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1775160"/>
                                    <a:ext cx="3240" cy="7920"/>
                                    <a:chOff x="336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2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1775160"/>
                                  <a:ext cx="7920" cy="7920"/>
                                  <a:chOff x="3398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1775160"/>
                                    <a:ext cx="3240" cy="7920"/>
                                    <a:chOff x="339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1775160"/>
                                    <a:ext cx="4680" cy="7920"/>
                                    <a:chOff x="3430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235" name=""/>
                            <p:cNvGrpSpPr/>
                            <p:nvPr/>
                          </p:nvGrpSpPr>
                          <p:grpSpPr>
                            <a:xfrm>
                              <a:off x="347760" y="1775160"/>
                              <a:ext cx="31680" cy="7920"/>
                              <a:chOff x="347760" y="1775160"/>
                              <a:chExt cx="31680" cy="7920"/>
                            </a:xfrm>
                          </p:grpSpPr>
                          <p:grpSp>
                            <p:nvGrpSpPr>
                              <p:cNvPr id="1236" name=""/>
                              <p:cNvGrpSpPr/>
                              <p:nvPr/>
                            </p:nvGrpSpPr>
                            <p:grpSpPr>
                              <a:xfrm>
                                <a:off x="347760" y="1775160"/>
                                <a:ext cx="15840" cy="7920"/>
                                <a:chOff x="347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3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1775160"/>
                                  <a:ext cx="7920" cy="7920"/>
                                  <a:chOff x="347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1775160"/>
                                    <a:ext cx="3240" cy="7920"/>
                                    <a:chOff x="347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1775160"/>
                                    <a:ext cx="3240" cy="7920"/>
                                    <a:chOff x="352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4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1775160"/>
                                  <a:ext cx="7920" cy="7920"/>
                                  <a:chOff x="355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1775160"/>
                                    <a:ext cx="3240" cy="7920"/>
                                    <a:chOff x="355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1775160"/>
                                    <a:ext cx="4680" cy="7920"/>
                                    <a:chOff x="358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51" name=""/>
                              <p:cNvGrpSpPr/>
                              <p:nvPr/>
                            </p:nvGrpSpPr>
                            <p:grpSpPr>
                              <a:xfrm>
                                <a:off x="363600" y="1775160"/>
                                <a:ext cx="15840" cy="7920"/>
                                <a:chOff x="363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5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1775160"/>
                                  <a:ext cx="7920" cy="7920"/>
                                  <a:chOff x="363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1775160"/>
                                    <a:ext cx="3240" cy="7920"/>
                                    <a:chOff x="363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1775160"/>
                                    <a:ext cx="3240" cy="7920"/>
                                    <a:chOff x="368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5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1775160"/>
                                  <a:ext cx="7920" cy="7920"/>
                                  <a:chOff x="371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1775160"/>
                                    <a:ext cx="3240" cy="7920"/>
                                    <a:chOff x="371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1775160"/>
                                    <a:ext cx="3240" cy="7920"/>
                                    <a:chOff x="376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249120" y="1746360"/>
                        <a:ext cx="128880" cy="22320"/>
                        <a:chOff x="249120" y="1746360"/>
                        <a:chExt cx="128880" cy="22320"/>
                      </a:xfrm>
                    </p:grpSpPr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>
                          <a:off x="2491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2779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175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589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362160" y="1749600"/>
                      <a:ext cx="12600" cy="11160"/>
                      <a:chOff x="362160" y="1749600"/>
                      <a:chExt cx="12600" cy="1116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3668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3682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4" name=""/>
                      <p:cNvGrpSpPr/>
                      <p:nvPr/>
                    </p:nvGrpSpPr>
                    <p:grpSpPr>
                      <a:xfrm>
                        <a:off x="362160" y="1751400"/>
                        <a:ext cx="2880" cy="6120"/>
                        <a:chOff x="362160" y="1751400"/>
                        <a:chExt cx="2880" cy="6120"/>
                      </a:xfrm>
                    </p:grpSpPr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>
                          <a:off x="3621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3621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7" name=""/>
                    <p:cNvGrpSpPr/>
                    <p:nvPr/>
                  </p:nvGrpSpPr>
                  <p:grpSpPr>
                    <a:xfrm>
                      <a:off x="279360" y="1749600"/>
                      <a:ext cx="36720" cy="14400"/>
                      <a:chOff x="279360" y="1749600"/>
                      <a:chExt cx="36720" cy="14400"/>
                    </a:xfrm>
                  </p:grpSpPr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281160" y="1749600"/>
                        <a:ext cx="34920" cy="7920"/>
                        <a:chOff x="281160" y="1749600"/>
                        <a:chExt cx="34920" cy="792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2905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2905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>
                          <a:off x="2811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2793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3081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252360" y="1762560"/>
                      <a:ext cx="23760" cy="4680"/>
                      <a:chOff x="252360" y="1762560"/>
                      <a:chExt cx="23760" cy="468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252360" y="1762560"/>
                        <a:ext cx="12960" cy="4680"/>
                        <a:chOff x="252360" y="1762560"/>
                        <a:chExt cx="12960" cy="4680"/>
                      </a:xfrm>
                    </p:grpSpPr>
                    <p:grpSp>
                      <p:nvGrpSpPr>
                        <p:cNvPr id="1286" name=""/>
                        <p:cNvGrpSpPr/>
                        <p:nvPr/>
                      </p:nvGrpSpPr>
                      <p:grpSpPr>
                        <a:xfrm>
                          <a:off x="252360" y="1762560"/>
                          <a:ext cx="6480" cy="4680"/>
                          <a:chOff x="252360" y="1762560"/>
                          <a:chExt cx="6480" cy="4680"/>
                        </a:xfrm>
                      </p:grpSpPr>
                      <p:grpSp>
                        <p:nvGrpSpPr>
                          <p:cNvPr id="1287" name=""/>
                          <p:cNvGrpSpPr/>
                          <p:nvPr/>
                        </p:nvGrpSpPr>
                        <p:grpSpPr>
                          <a:xfrm>
                            <a:off x="252360" y="1762560"/>
                            <a:ext cx="3240" cy="4680"/>
                            <a:chOff x="252360" y="1762560"/>
                            <a:chExt cx="3240" cy="4680"/>
                          </a:xfrm>
                        </p:grpSpPr>
                        <p:sp>
                          <p:nvSpPr>
                            <p:cNvPr id="1288" name=""/>
                            <p:cNvSpPr/>
                            <p:nvPr/>
                          </p:nvSpPr>
                          <p:spPr>
                            <a:xfrm>
                              <a:off x="2523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9" name=""/>
                            <p:cNvSpPr/>
                            <p:nvPr/>
                          </p:nvSpPr>
                          <p:spPr>
                            <a:xfrm>
                              <a:off x="254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0" name=""/>
                          <p:cNvGrpSpPr/>
                          <p:nvPr/>
                        </p:nvGrpSpPr>
                        <p:grpSpPr>
                          <a:xfrm>
                            <a:off x="255600" y="1762560"/>
                            <a:ext cx="3240" cy="4680"/>
                            <a:chOff x="255600" y="1762560"/>
                            <a:chExt cx="3240" cy="4680"/>
                          </a:xfrm>
                        </p:grpSpPr>
                        <p:sp>
                          <p:nvSpPr>
                            <p:cNvPr id="1291" name=""/>
                            <p:cNvSpPr/>
                            <p:nvPr/>
                          </p:nvSpPr>
                          <p:spPr>
                            <a:xfrm>
                              <a:off x="255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2" name=""/>
                            <p:cNvSpPr/>
                            <p:nvPr/>
                          </p:nvSpPr>
                          <p:spPr>
                            <a:xfrm>
                              <a:off x="257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93" name=""/>
                        <p:cNvGrpSpPr/>
                        <p:nvPr/>
                      </p:nvGrpSpPr>
                      <p:grpSpPr>
                        <a:xfrm>
                          <a:off x="258840" y="1762560"/>
                          <a:ext cx="6480" cy="4680"/>
                          <a:chOff x="258840" y="1762560"/>
                          <a:chExt cx="6480" cy="4680"/>
                        </a:xfrm>
                      </p:grpSpPr>
                      <p:grpSp>
                        <p:nvGrpSpPr>
                          <p:cNvPr id="1294" name=""/>
                          <p:cNvGrpSpPr/>
                          <p:nvPr/>
                        </p:nvGrpSpPr>
                        <p:grpSpPr>
                          <a:xfrm>
                            <a:off x="258840" y="1762560"/>
                            <a:ext cx="3240" cy="4680"/>
                            <a:chOff x="258840" y="1762560"/>
                            <a:chExt cx="3240" cy="4680"/>
                          </a:xfrm>
                        </p:grpSpPr>
                        <p:sp>
                          <p:nvSpPr>
                            <p:cNvPr id="1295" name=""/>
                            <p:cNvSpPr/>
                            <p:nvPr/>
                          </p:nvSpPr>
                          <p:spPr>
                            <a:xfrm>
                              <a:off x="258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6" name=""/>
                            <p:cNvSpPr/>
                            <p:nvPr/>
                          </p:nvSpPr>
                          <p:spPr>
                            <a:xfrm>
                              <a:off x="2602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7" name=""/>
                          <p:cNvGrpSpPr/>
                          <p:nvPr/>
                        </p:nvGrpSpPr>
                        <p:grpSpPr>
                          <a:xfrm>
                            <a:off x="262080" y="1762560"/>
                            <a:ext cx="3240" cy="4680"/>
                            <a:chOff x="262080" y="1762560"/>
                            <a:chExt cx="3240" cy="4680"/>
                          </a:xfrm>
                        </p:grpSpPr>
                        <p:sp>
                          <p:nvSpPr>
                            <p:cNvPr id="1298" name=""/>
                            <p:cNvSpPr/>
                            <p:nvPr/>
                          </p:nvSpPr>
                          <p:spPr>
                            <a:xfrm>
                              <a:off x="262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9" name=""/>
                            <p:cNvSpPr/>
                            <p:nvPr/>
                          </p:nvSpPr>
                          <p:spPr>
                            <a:xfrm>
                              <a:off x="2635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00" name=""/>
                      <p:cNvGrpSpPr/>
                      <p:nvPr/>
                    </p:nvGrpSpPr>
                    <p:grpSpPr>
                      <a:xfrm>
                        <a:off x="265320" y="1762560"/>
                        <a:ext cx="10800" cy="4680"/>
                        <a:chOff x="265320" y="1762560"/>
                        <a:chExt cx="10800" cy="4680"/>
                      </a:xfrm>
                    </p:grpSpPr>
                    <p:grpSp>
                      <p:nvGrpSpPr>
                        <p:cNvPr id="1301" name=""/>
                        <p:cNvGrpSpPr/>
                        <p:nvPr/>
                      </p:nvGrpSpPr>
                      <p:grpSpPr>
                        <a:xfrm>
                          <a:off x="265320" y="1762560"/>
                          <a:ext cx="6120" cy="4680"/>
                          <a:chOff x="265320" y="1762560"/>
                          <a:chExt cx="6120" cy="4680"/>
                        </a:xfrm>
                      </p:grpSpPr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265320" y="1762560"/>
                            <a:ext cx="2880" cy="4680"/>
                            <a:chOff x="265320" y="1762560"/>
                            <a:chExt cx="2880" cy="4680"/>
                          </a:xfrm>
                        </p:grpSpPr>
                        <p:sp>
                          <p:nvSpPr>
                            <p:cNvPr id="1303" name=""/>
                            <p:cNvSpPr/>
                            <p:nvPr/>
                          </p:nvSpPr>
                          <p:spPr>
                            <a:xfrm>
                              <a:off x="2653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4" name=""/>
                            <p:cNvSpPr/>
                            <p:nvPr/>
                          </p:nvSpPr>
                          <p:spPr>
                            <a:xfrm>
                              <a:off x="2667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5" name=""/>
                          <p:cNvGrpSpPr/>
                          <p:nvPr/>
                        </p:nvGrpSpPr>
                        <p:grpSpPr>
                          <a:xfrm>
                            <a:off x="268200" y="1762560"/>
                            <a:ext cx="3240" cy="4680"/>
                            <a:chOff x="268200" y="1762560"/>
                            <a:chExt cx="3240" cy="4680"/>
                          </a:xfrm>
                        </p:grpSpPr>
                        <p:sp>
                          <p:nvSpPr>
                            <p:cNvPr id="1306" name=""/>
                            <p:cNvSpPr/>
                            <p:nvPr/>
                          </p:nvSpPr>
                          <p:spPr>
                            <a:xfrm>
                              <a:off x="2682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7" name=""/>
                            <p:cNvSpPr/>
                            <p:nvPr/>
                          </p:nvSpPr>
                          <p:spPr>
                            <a:xfrm>
                              <a:off x="2700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08" name=""/>
                        <p:cNvGrpSpPr/>
                        <p:nvPr/>
                      </p:nvGrpSpPr>
                      <p:grpSpPr>
                        <a:xfrm>
                          <a:off x="271440" y="1762560"/>
                          <a:ext cx="4680" cy="4680"/>
                          <a:chOff x="271440" y="1762560"/>
                          <a:chExt cx="4680" cy="4680"/>
                        </a:xfrm>
                      </p:grpSpPr>
                      <p:grpSp>
                        <p:nvGrpSpPr>
                          <p:cNvPr id="1309" name=""/>
                          <p:cNvGrpSpPr/>
                          <p:nvPr/>
                        </p:nvGrpSpPr>
                        <p:grpSpPr>
                          <a:xfrm>
                            <a:off x="271440" y="1762560"/>
                            <a:ext cx="1800" cy="4680"/>
                            <a:chOff x="271440" y="1762560"/>
                            <a:chExt cx="1800" cy="4680"/>
                          </a:xfrm>
                        </p:grpSpPr>
                        <p:sp>
                          <p:nvSpPr>
                            <p:cNvPr id="1310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1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2" name=""/>
                          <p:cNvGrpSpPr/>
                          <p:nvPr/>
                        </p:nvGrpSpPr>
                        <p:grpSpPr>
                          <a:xfrm>
                            <a:off x="273240" y="1762560"/>
                            <a:ext cx="2880" cy="4680"/>
                            <a:chOff x="273240" y="1762560"/>
                            <a:chExt cx="2880" cy="4680"/>
                          </a:xfrm>
                        </p:grpSpPr>
                        <p:sp>
                          <p:nvSpPr>
                            <p:cNvPr id="1313" name=""/>
                            <p:cNvSpPr/>
                            <p:nvPr/>
                          </p:nvSpPr>
                          <p:spPr>
                            <a:xfrm>
                              <a:off x="273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4" name=""/>
                            <p:cNvSpPr/>
                            <p:nvPr/>
                          </p:nvSpPr>
                          <p:spPr>
                            <a:xfrm>
                              <a:off x="274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2509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206280" y="1781640"/>
                    <a:ext cx="211320" cy="29880"/>
                    <a:chOff x="206280" y="1781640"/>
                    <a:chExt cx="211320" cy="29880"/>
                  </a:xfrm>
                </p:grpSpPr>
                <p:grpSp>
                  <p:nvGrpSpPr>
                    <p:cNvPr id="1317" name=""/>
                    <p:cNvGrpSpPr/>
                    <p:nvPr/>
                  </p:nvGrpSpPr>
                  <p:grpSpPr>
                    <a:xfrm>
                      <a:off x="206280" y="1781640"/>
                      <a:ext cx="211320" cy="29880"/>
                      <a:chOff x="206280" y="1781640"/>
                      <a:chExt cx="211320" cy="29880"/>
                    </a:xfrm>
                  </p:grpSpPr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2062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2062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2127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228600" y="1784520"/>
                      <a:ext cx="166680" cy="5040"/>
                      <a:chOff x="228600" y="1784520"/>
                      <a:chExt cx="166680" cy="5040"/>
                    </a:xfrm>
                  </p:grpSpPr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2286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2462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2793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3096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3398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3682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222480" y="1791000"/>
                      <a:ext cx="176040" cy="11160"/>
                      <a:chOff x="222480" y="1791000"/>
                      <a:chExt cx="176040" cy="11160"/>
                    </a:xfrm>
                  </p:grpSpPr>
                  <p:grpSp>
                    <p:nvGrpSpPr>
                      <p:cNvPr id="1329" name=""/>
                      <p:cNvGrpSpPr/>
                      <p:nvPr/>
                    </p:nvGrpSpPr>
                    <p:grpSpPr>
                      <a:xfrm>
                        <a:off x="238320" y="1791000"/>
                        <a:ext cx="85680" cy="9360"/>
                        <a:chOff x="238320" y="1791000"/>
                        <a:chExt cx="85680" cy="9360"/>
                      </a:xfrm>
                    </p:grpSpPr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>
                          <a:off x="2383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>
                          <a:off x="2412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2430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2444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222480" y="1792440"/>
                        <a:ext cx="15840" cy="6480"/>
                        <a:chOff x="222480" y="1792440"/>
                        <a:chExt cx="15840" cy="648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2271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2253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>
                          <a:off x="2224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257400" y="1791000"/>
                        <a:ext cx="79200" cy="9360"/>
                        <a:chOff x="257400" y="1791000"/>
                        <a:chExt cx="79200" cy="936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2574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3240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>
                          <a:off x="3272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3207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3081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>
                          <a:off x="3175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5" name=""/>
                      <p:cNvGrpSpPr/>
                      <p:nvPr/>
                    </p:nvGrpSpPr>
                    <p:grpSpPr>
                      <a:xfrm>
                        <a:off x="339840" y="1792440"/>
                        <a:ext cx="25200" cy="7920"/>
                        <a:chOff x="339840" y="1792440"/>
                        <a:chExt cx="25200" cy="7920"/>
                      </a:xfrm>
                    </p:grpSpPr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>
                          <a:off x="3398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3430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3430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368280" y="1792440"/>
                        <a:ext cx="30240" cy="9720"/>
                        <a:chOff x="368280" y="1792440"/>
                        <a:chExt cx="30240" cy="972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3715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3682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2" name=""/>
                        <p:cNvSpPr/>
                        <p:nvPr/>
                      </p:nvSpPr>
                      <p:spPr>
                        <a:xfrm>
                          <a:off x="3715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3" name=""/>
                        <p:cNvSpPr/>
                        <p:nvPr/>
                      </p:nvSpPr>
                      <p:spPr>
                        <a:xfrm>
                          <a:off x="3700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3906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3920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268200" y="1722600"/>
                    <a:ext cx="92160" cy="19080"/>
                    <a:chOff x="268200" y="1722600"/>
                    <a:chExt cx="92160" cy="19080"/>
                  </a:xfrm>
                </p:grpSpPr>
                <p:grpSp>
                  <p:nvGrpSpPr>
                    <p:cNvPr id="1357" name=""/>
                    <p:cNvGrpSpPr/>
                    <p:nvPr/>
                  </p:nvGrpSpPr>
                  <p:grpSpPr>
                    <a:xfrm>
                      <a:off x="268200" y="1727640"/>
                      <a:ext cx="92160" cy="14040"/>
                      <a:chOff x="268200" y="1727640"/>
                      <a:chExt cx="92160" cy="14040"/>
                    </a:xfrm>
                  </p:grpSpPr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2682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2682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2890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1" name=""/>
                  <p:cNvSpPr/>
                  <p:nvPr/>
                </p:nvSpPr>
                <p:spPr>
                  <a:xfrm>
                    <a:off x="2574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2700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2746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3524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61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66" name=""/>
            <p:cNvGrpSpPr/>
            <p:nvPr/>
          </p:nvGrpSpPr>
          <p:grpSpPr>
            <a:xfrm>
              <a:off x="133200" y="2286000"/>
              <a:ext cx="1086120" cy="752400"/>
              <a:chOff x="133200" y="2286000"/>
              <a:chExt cx="1086120" cy="752400"/>
            </a:xfrm>
          </p:grpSpPr>
          <p:sp>
            <p:nvSpPr>
              <p:cNvPr id="1367" name=""/>
              <p:cNvSpPr/>
              <p:nvPr/>
            </p:nvSpPr>
            <p:spPr>
              <a:xfrm>
                <a:off x="13320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8108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4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206280" y="2341440"/>
                <a:ext cx="822600" cy="488880"/>
                <a:chOff x="206280" y="2341440"/>
                <a:chExt cx="822600" cy="4888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4920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35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6844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373" name="pbx" descr=""/>
                <p:cNvPicPr/>
                <p:nvPr/>
              </p:nvPicPr>
              <p:blipFill>
                <a:blip r:embed="rId15"/>
                <a:srcRect l="37594" t="74298" r="28339" b="4834"/>
                <a:stretch/>
              </p:blipFill>
              <p:spPr>
                <a:xfrm>
                  <a:off x="51120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820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75" name=""/>
                <p:cNvGrpSpPr/>
                <p:nvPr/>
              </p:nvGrpSpPr>
              <p:grpSpPr>
                <a:xfrm>
                  <a:off x="206280" y="2479680"/>
                  <a:ext cx="211320" cy="169920"/>
                  <a:chOff x="206280" y="2479680"/>
                  <a:chExt cx="211320" cy="1699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246240" y="2570400"/>
                    <a:ext cx="134640" cy="52200"/>
                    <a:chOff x="246240" y="2570400"/>
                    <a:chExt cx="134640" cy="52200"/>
                  </a:xfrm>
                </p:grpSpPr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246240" y="2570400"/>
                      <a:ext cx="134640" cy="52200"/>
                      <a:chOff x="246240" y="2570400"/>
                      <a:chExt cx="134640" cy="52200"/>
                    </a:xfrm>
                  </p:grpSpPr>
                  <p:grpSp>
                    <p:nvGrpSpPr>
                      <p:cNvPr id="1378" name=""/>
                      <p:cNvGrpSpPr/>
                      <p:nvPr/>
                    </p:nvGrpSpPr>
                    <p:grpSpPr>
                      <a:xfrm>
                        <a:off x="246240" y="2570400"/>
                        <a:ext cx="134640" cy="52200"/>
                        <a:chOff x="246240" y="2570400"/>
                        <a:chExt cx="134640" cy="52200"/>
                      </a:xfrm>
                    </p:grpSpPr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246240" y="2570400"/>
                          <a:ext cx="134640" cy="52200"/>
                          <a:chOff x="246240" y="2570400"/>
                          <a:chExt cx="134640" cy="52200"/>
                        </a:xfrm>
                      </p:grpSpPr>
                      <p:grpSp>
                        <p:nvGrpSpPr>
                          <p:cNvPr id="1380" name=""/>
                          <p:cNvGrpSpPr/>
                          <p:nvPr/>
                        </p:nvGrpSpPr>
                        <p:grpSpPr>
                          <a:xfrm>
                            <a:off x="246240" y="2570400"/>
                            <a:ext cx="134640" cy="52200"/>
                            <a:chOff x="246240" y="2570400"/>
                            <a:chExt cx="134640" cy="52200"/>
                          </a:xfrm>
                        </p:grpSpPr>
                        <p:sp>
                          <p:nvSpPr>
                            <p:cNvPr id="1381" name=""/>
                            <p:cNvSpPr/>
                            <p:nvPr/>
                          </p:nvSpPr>
                          <p:spPr>
                            <a:xfrm>
                              <a:off x="24624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2" name=""/>
                            <p:cNvSpPr/>
                            <p:nvPr/>
                          </p:nvSpPr>
                          <p:spPr>
                            <a:xfrm>
                              <a:off x="24768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83" name=""/>
                          <p:cNvSpPr/>
                          <p:nvPr/>
                        </p:nvSpPr>
                        <p:spPr>
                          <a:xfrm>
                            <a:off x="24912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84" name=""/>
                        <p:cNvGrpSpPr/>
                        <p:nvPr/>
                      </p:nvGrpSpPr>
                      <p:grpSpPr>
                        <a:xfrm>
                          <a:off x="252360" y="2613240"/>
                          <a:ext cx="127080" cy="7920"/>
                          <a:chOff x="252360" y="2613240"/>
                          <a:chExt cx="127080" cy="7920"/>
                        </a:xfrm>
                      </p:grpSpPr>
                      <p:grpSp>
                        <p:nvGrpSpPr>
                          <p:cNvPr id="1385" name=""/>
                          <p:cNvGrpSpPr/>
                          <p:nvPr/>
                        </p:nvGrpSpPr>
                        <p:grpSpPr>
                          <a:xfrm>
                            <a:off x="252360" y="2613240"/>
                            <a:ext cx="63720" cy="7920"/>
                            <a:chOff x="252360" y="2613240"/>
                            <a:chExt cx="63720" cy="7920"/>
                          </a:xfrm>
                        </p:grpSpPr>
                        <p:grpSp>
                          <p:nvGrpSpPr>
                            <p:cNvPr id="1386" name=""/>
                            <p:cNvGrpSpPr/>
                            <p:nvPr/>
                          </p:nvGrpSpPr>
                          <p:grpSpPr>
                            <a:xfrm>
                              <a:off x="252360" y="2613240"/>
                              <a:ext cx="31680" cy="7920"/>
                              <a:chOff x="252360" y="2613240"/>
                              <a:chExt cx="31680" cy="7920"/>
                            </a:xfrm>
                          </p:grpSpPr>
                          <p:grpSp>
                            <p:nvGrpSpPr>
                              <p:cNvPr id="1387" name=""/>
                              <p:cNvGrpSpPr/>
                              <p:nvPr/>
                            </p:nvGrpSpPr>
                            <p:grpSpPr>
                              <a:xfrm>
                                <a:off x="252360" y="2613240"/>
                                <a:ext cx="15840" cy="7920"/>
                                <a:chOff x="2523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38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2613240"/>
                                  <a:ext cx="7920" cy="7920"/>
                                  <a:chOff x="2523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2613240"/>
                                    <a:ext cx="3240" cy="7920"/>
                                    <a:chOff x="2523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2613240"/>
                                    <a:ext cx="4680" cy="7920"/>
                                    <a:chOff x="2556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39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2613240"/>
                                  <a:ext cx="7920" cy="7920"/>
                                  <a:chOff x="2602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2613240"/>
                                    <a:ext cx="3240" cy="7920"/>
                                    <a:chOff x="260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2613240"/>
                                    <a:ext cx="4680" cy="7920"/>
                                    <a:chOff x="2635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02" name=""/>
                              <p:cNvGrpSpPr/>
                              <p:nvPr/>
                            </p:nvGrpSpPr>
                            <p:grpSpPr>
                              <a:xfrm>
                                <a:off x="268200" y="2613240"/>
                                <a:ext cx="15840" cy="7920"/>
                                <a:chOff x="2682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0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2613240"/>
                                  <a:ext cx="7920" cy="7920"/>
                                  <a:chOff x="2682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2613240"/>
                                    <a:ext cx="3240" cy="7920"/>
                                    <a:chOff x="268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2613240"/>
                                    <a:ext cx="4680" cy="7920"/>
                                    <a:chOff x="2714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1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2613240"/>
                                  <a:ext cx="7920" cy="7920"/>
                                  <a:chOff x="2761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2613240"/>
                                    <a:ext cx="3240" cy="7920"/>
                                    <a:chOff x="2761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2613240"/>
                                    <a:ext cx="4680" cy="7920"/>
                                    <a:chOff x="2793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17" name=""/>
                            <p:cNvGrpSpPr/>
                            <p:nvPr/>
                          </p:nvGrpSpPr>
                          <p:grpSpPr>
                            <a:xfrm>
                              <a:off x="284040" y="2613240"/>
                              <a:ext cx="32040" cy="7920"/>
                              <a:chOff x="284040" y="2613240"/>
                              <a:chExt cx="32040" cy="7920"/>
                            </a:xfrm>
                          </p:grpSpPr>
                          <p:grpSp>
                            <p:nvGrpSpPr>
                              <p:cNvPr id="1418" name=""/>
                              <p:cNvGrpSpPr/>
                              <p:nvPr/>
                            </p:nvGrpSpPr>
                            <p:grpSpPr>
                              <a:xfrm>
                                <a:off x="284040" y="2613240"/>
                                <a:ext cx="16200" cy="7920"/>
                                <a:chOff x="28404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141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2613240"/>
                                  <a:ext cx="8280" cy="7920"/>
                                  <a:chOff x="28404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4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2613240"/>
                                    <a:ext cx="3240" cy="7920"/>
                                    <a:chOff x="2840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2613240"/>
                                    <a:ext cx="3240" cy="7920"/>
                                    <a:chOff x="289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2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2613240"/>
                                  <a:ext cx="7920" cy="7920"/>
                                  <a:chOff x="292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2613240"/>
                                    <a:ext cx="2880" cy="7920"/>
                                    <a:chOff x="2923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2613240"/>
                                    <a:ext cx="3240" cy="7920"/>
                                    <a:chOff x="297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33" name=""/>
                              <p:cNvGrpSpPr/>
                              <p:nvPr/>
                            </p:nvGrpSpPr>
                            <p:grpSpPr>
                              <a:xfrm>
                                <a:off x="300240" y="2613240"/>
                                <a:ext cx="15840" cy="7920"/>
                                <a:chOff x="300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3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2613240"/>
                                  <a:ext cx="7920" cy="7920"/>
                                  <a:chOff x="300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2613240"/>
                                    <a:ext cx="2880" cy="7920"/>
                                    <a:chOff x="3002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2613240"/>
                                    <a:ext cx="3240" cy="7920"/>
                                    <a:chOff x="304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4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2613240"/>
                                  <a:ext cx="7920" cy="7920"/>
                                  <a:chOff x="308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2613240"/>
                                    <a:ext cx="2880" cy="7920"/>
                                    <a:chOff x="30816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2613240"/>
                                    <a:ext cx="5040" cy="7920"/>
                                    <a:chOff x="31104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448" name=""/>
                          <p:cNvGrpSpPr/>
                          <p:nvPr/>
                        </p:nvGrpSpPr>
                        <p:grpSpPr>
                          <a:xfrm>
                            <a:off x="316080" y="2613240"/>
                            <a:ext cx="63360" cy="7920"/>
                            <a:chOff x="316080" y="2613240"/>
                            <a:chExt cx="63360" cy="7920"/>
                          </a:xfrm>
                        </p:grpSpPr>
                        <p:grpSp>
                          <p:nvGrpSpPr>
                            <p:cNvPr id="1449" name=""/>
                            <p:cNvGrpSpPr/>
                            <p:nvPr/>
                          </p:nvGrpSpPr>
                          <p:grpSpPr>
                            <a:xfrm>
                              <a:off x="316080" y="2613240"/>
                              <a:ext cx="31680" cy="7920"/>
                              <a:chOff x="316080" y="2613240"/>
                              <a:chExt cx="31680" cy="7920"/>
                            </a:xfrm>
                          </p:grpSpPr>
                          <p:grpSp>
                            <p:nvGrpSpPr>
                              <p:cNvPr id="1450" name=""/>
                              <p:cNvGrpSpPr/>
                              <p:nvPr/>
                            </p:nvGrpSpPr>
                            <p:grpSpPr>
                              <a:xfrm>
                                <a:off x="316080" y="2613240"/>
                                <a:ext cx="15840" cy="7920"/>
                                <a:chOff x="316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5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2613240"/>
                                  <a:ext cx="7920" cy="7920"/>
                                  <a:chOff x="316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2613240"/>
                                    <a:ext cx="3240" cy="7920"/>
                                    <a:chOff x="316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2613240"/>
                                    <a:ext cx="4680" cy="7920"/>
                                    <a:chOff x="3193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5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2613240"/>
                                  <a:ext cx="7920" cy="7920"/>
                                  <a:chOff x="324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2613240"/>
                                    <a:ext cx="3240" cy="7920"/>
                                    <a:chOff x="324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2613240"/>
                                    <a:ext cx="3240" cy="7920"/>
                                    <a:chOff x="328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65" name=""/>
                              <p:cNvGrpSpPr/>
                              <p:nvPr/>
                            </p:nvGrpSpPr>
                            <p:grpSpPr>
                              <a:xfrm>
                                <a:off x="331920" y="2613240"/>
                                <a:ext cx="15840" cy="7920"/>
                                <a:chOff x="3319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6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2613240"/>
                                  <a:ext cx="7920" cy="7920"/>
                                  <a:chOff x="3319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2613240"/>
                                    <a:ext cx="3240" cy="7920"/>
                                    <a:chOff x="331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2613240"/>
                                    <a:ext cx="3240" cy="7920"/>
                                    <a:chOff x="336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7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2613240"/>
                                  <a:ext cx="7920" cy="7920"/>
                                  <a:chOff x="339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2613240"/>
                                    <a:ext cx="3240" cy="7920"/>
                                    <a:chOff x="339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2613240"/>
                                    <a:ext cx="4680" cy="7920"/>
                                    <a:chOff x="343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80" name=""/>
                            <p:cNvGrpSpPr/>
                            <p:nvPr/>
                          </p:nvGrpSpPr>
                          <p:grpSpPr>
                            <a:xfrm>
                              <a:off x="347760" y="2613240"/>
                              <a:ext cx="31680" cy="7920"/>
                              <a:chOff x="347760" y="2613240"/>
                              <a:chExt cx="31680" cy="7920"/>
                            </a:xfrm>
                          </p:grpSpPr>
                          <p:grpSp>
                            <p:nvGrpSpPr>
                              <p:cNvPr id="1481" name=""/>
                              <p:cNvGrpSpPr/>
                              <p:nvPr/>
                            </p:nvGrpSpPr>
                            <p:grpSpPr>
                              <a:xfrm>
                                <a:off x="347760" y="2613240"/>
                                <a:ext cx="15840" cy="7920"/>
                                <a:chOff x="3477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8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2613240"/>
                                  <a:ext cx="7920" cy="7920"/>
                                  <a:chOff x="347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2613240"/>
                                    <a:ext cx="3240" cy="7920"/>
                                    <a:chOff x="347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2613240"/>
                                    <a:ext cx="3240" cy="7920"/>
                                    <a:chOff x="3524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8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2613240"/>
                                  <a:ext cx="7920" cy="7920"/>
                                  <a:chOff x="355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2613240"/>
                                    <a:ext cx="3240" cy="7920"/>
                                    <a:chOff x="355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2613240"/>
                                    <a:ext cx="4680" cy="7920"/>
                                    <a:chOff x="358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96" name=""/>
                              <p:cNvGrpSpPr/>
                              <p:nvPr/>
                            </p:nvGrpSpPr>
                            <p:grpSpPr>
                              <a:xfrm>
                                <a:off x="363600" y="2613240"/>
                                <a:ext cx="15840" cy="7920"/>
                                <a:chOff x="3636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9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2613240"/>
                                  <a:ext cx="7920" cy="7920"/>
                                  <a:chOff x="363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2613240"/>
                                    <a:ext cx="3240" cy="7920"/>
                                    <a:chOff x="363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2613240"/>
                                    <a:ext cx="3240" cy="7920"/>
                                    <a:chOff x="368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50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2613240"/>
                                  <a:ext cx="7920" cy="7920"/>
                                  <a:chOff x="3715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2613240"/>
                                    <a:ext cx="3240" cy="7920"/>
                                    <a:chOff x="371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2613240"/>
                                    <a:ext cx="3240" cy="7920"/>
                                    <a:chOff x="376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511" name=""/>
                      <p:cNvGrpSpPr/>
                      <p:nvPr/>
                    </p:nvGrpSpPr>
                    <p:grpSpPr>
                      <a:xfrm>
                        <a:off x="249120" y="2584440"/>
                        <a:ext cx="128880" cy="22320"/>
                        <a:chOff x="249120" y="2584440"/>
                        <a:chExt cx="128880" cy="22320"/>
                      </a:xfrm>
                    </p:grpSpPr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>
                          <a:off x="24912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27792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31752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>
                          <a:off x="35892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16" name=""/>
                    <p:cNvGrpSpPr/>
                    <p:nvPr/>
                  </p:nvGrpSpPr>
                  <p:grpSpPr>
                    <a:xfrm>
                      <a:off x="362160" y="2587680"/>
                      <a:ext cx="12600" cy="11160"/>
                      <a:chOff x="362160" y="2587680"/>
                      <a:chExt cx="12600" cy="11160"/>
                    </a:xfrm>
                  </p:grpSpPr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6684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6828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19" name=""/>
                      <p:cNvGrpSpPr/>
                      <p:nvPr/>
                    </p:nvGrpSpPr>
                    <p:grpSpPr>
                      <a:xfrm>
                        <a:off x="362160" y="2589480"/>
                        <a:ext cx="2880" cy="6120"/>
                        <a:chOff x="362160" y="2589480"/>
                        <a:chExt cx="2880" cy="6120"/>
                      </a:xfrm>
                    </p:grpSpPr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6216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1" name=""/>
                        <p:cNvSpPr/>
                        <p:nvPr/>
                      </p:nvSpPr>
                      <p:spPr>
                        <a:xfrm>
                          <a:off x="36216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2" name=""/>
                    <p:cNvGrpSpPr/>
                    <p:nvPr/>
                  </p:nvGrpSpPr>
                  <p:grpSpPr>
                    <a:xfrm>
                      <a:off x="279360" y="2587680"/>
                      <a:ext cx="36720" cy="14400"/>
                      <a:chOff x="279360" y="2587680"/>
                      <a:chExt cx="36720" cy="14400"/>
                    </a:xfrm>
                  </p:grpSpPr>
                  <p:grpSp>
                    <p:nvGrpSpPr>
                      <p:cNvPr id="1523" name=""/>
                      <p:cNvGrpSpPr/>
                      <p:nvPr/>
                    </p:nvGrpSpPr>
                    <p:grpSpPr>
                      <a:xfrm>
                        <a:off x="281160" y="2587680"/>
                        <a:ext cx="34920" cy="7920"/>
                        <a:chOff x="281160" y="2587680"/>
                        <a:chExt cx="34920" cy="7920"/>
                      </a:xfrm>
                    </p:grpSpPr>
                    <p:sp>
                      <p:nvSpPr>
                        <p:cNvPr id="1524" name=""/>
                        <p:cNvSpPr/>
                        <p:nvPr/>
                      </p:nvSpPr>
                      <p:spPr>
                        <a:xfrm>
                          <a:off x="29052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5" name=""/>
                        <p:cNvSpPr/>
                        <p:nvPr/>
                      </p:nvSpPr>
                      <p:spPr>
                        <a:xfrm>
                          <a:off x="29052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28116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27" name=""/>
                      <p:cNvSpPr/>
                      <p:nvPr/>
                    </p:nvSpPr>
                    <p:spPr>
                      <a:xfrm>
                        <a:off x="27936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8" name=""/>
                      <p:cNvSpPr/>
                      <p:nvPr/>
                    </p:nvSpPr>
                    <p:spPr>
                      <a:xfrm>
                        <a:off x="30816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9" name=""/>
                    <p:cNvGrpSpPr/>
                    <p:nvPr/>
                  </p:nvGrpSpPr>
                  <p:grpSpPr>
                    <a:xfrm>
                      <a:off x="252360" y="2600640"/>
                      <a:ext cx="23760" cy="4680"/>
                      <a:chOff x="252360" y="2600640"/>
                      <a:chExt cx="23760" cy="4680"/>
                    </a:xfrm>
                  </p:grpSpPr>
                  <p:grpSp>
                    <p:nvGrpSpPr>
                      <p:cNvPr id="1530" name=""/>
                      <p:cNvGrpSpPr/>
                      <p:nvPr/>
                    </p:nvGrpSpPr>
                    <p:grpSpPr>
                      <a:xfrm>
                        <a:off x="252360" y="2600640"/>
                        <a:ext cx="12960" cy="4680"/>
                        <a:chOff x="252360" y="2600640"/>
                        <a:chExt cx="12960" cy="4680"/>
                      </a:xfrm>
                    </p:grpSpPr>
                    <p:grpSp>
                      <p:nvGrpSpPr>
                        <p:cNvPr id="1531" name=""/>
                        <p:cNvGrpSpPr/>
                        <p:nvPr/>
                      </p:nvGrpSpPr>
                      <p:grpSpPr>
                        <a:xfrm>
                          <a:off x="252360" y="2600640"/>
                          <a:ext cx="6480" cy="4680"/>
                          <a:chOff x="252360" y="2600640"/>
                          <a:chExt cx="6480" cy="4680"/>
                        </a:xfrm>
                      </p:grpSpPr>
                      <p:grpSp>
                        <p:nvGrpSpPr>
                          <p:cNvPr id="1532" name=""/>
                          <p:cNvGrpSpPr/>
                          <p:nvPr/>
                        </p:nvGrpSpPr>
                        <p:grpSpPr>
                          <a:xfrm>
                            <a:off x="252360" y="2600640"/>
                            <a:ext cx="3240" cy="4680"/>
                            <a:chOff x="252360" y="2600640"/>
                            <a:chExt cx="3240" cy="4680"/>
                          </a:xfrm>
                        </p:grpSpPr>
                        <p:sp>
                          <p:nvSpPr>
                            <p:cNvPr id="1533" name=""/>
                            <p:cNvSpPr/>
                            <p:nvPr/>
                          </p:nvSpPr>
                          <p:spPr>
                            <a:xfrm>
                              <a:off x="2523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4" name=""/>
                            <p:cNvSpPr/>
                            <p:nvPr/>
                          </p:nvSpPr>
                          <p:spPr>
                            <a:xfrm>
                              <a:off x="254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5" name=""/>
                          <p:cNvGrpSpPr/>
                          <p:nvPr/>
                        </p:nvGrpSpPr>
                        <p:grpSpPr>
                          <a:xfrm>
                            <a:off x="255600" y="2600640"/>
                            <a:ext cx="3240" cy="4680"/>
                            <a:chOff x="255600" y="2600640"/>
                            <a:chExt cx="3240" cy="4680"/>
                          </a:xfrm>
                        </p:grpSpPr>
                        <p:sp>
                          <p:nvSpPr>
                            <p:cNvPr id="1536" name=""/>
                            <p:cNvSpPr/>
                            <p:nvPr/>
                          </p:nvSpPr>
                          <p:spPr>
                            <a:xfrm>
                              <a:off x="2556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7" name=""/>
                            <p:cNvSpPr/>
                            <p:nvPr/>
                          </p:nvSpPr>
                          <p:spPr>
                            <a:xfrm>
                              <a:off x="2574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258840" y="2600640"/>
                          <a:ext cx="6480" cy="4680"/>
                          <a:chOff x="258840" y="2600640"/>
                          <a:chExt cx="6480" cy="4680"/>
                        </a:xfrm>
                      </p:grpSpPr>
                      <p:grpSp>
                        <p:nvGrpSpPr>
                          <p:cNvPr id="1539" name=""/>
                          <p:cNvGrpSpPr/>
                          <p:nvPr/>
                        </p:nvGrpSpPr>
                        <p:grpSpPr>
                          <a:xfrm>
                            <a:off x="258840" y="2600640"/>
                            <a:ext cx="3240" cy="4680"/>
                            <a:chOff x="258840" y="2600640"/>
                            <a:chExt cx="3240" cy="4680"/>
                          </a:xfrm>
                        </p:grpSpPr>
                        <p:sp>
                          <p:nvSpPr>
                            <p:cNvPr id="1540" name=""/>
                            <p:cNvSpPr/>
                            <p:nvPr/>
                          </p:nvSpPr>
                          <p:spPr>
                            <a:xfrm>
                              <a:off x="2588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1" name=""/>
                            <p:cNvSpPr/>
                            <p:nvPr/>
                          </p:nvSpPr>
                          <p:spPr>
                            <a:xfrm>
                              <a:off x="2602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2" name=""/>
                          <p:cNvGrpSpPr/>
                          <p:nvPr/>
                        </p:nvGrpSpPr>
                        <p:grpSpPr>
                          <a:xfrm>
                            <a:off x="262080" y="2600640"/>
                            <a:ext cx="3240" cy="4680"/>
                            <a:chOff x="262080" y="2600640"/>
                            <a:chExt cx="3240" cy="4680"/>
                          </a:xfrm>
                        </p:grpSpPr>
                        <p:sp>
                          <p:nvSpPr>
                            <p:cNvPr id="1543" name=""/>
                            <p:cNvSpPr/>
                            <p:nvPr/>
                          </p:nvSpPr>
                          <p:spPr>
                            <a:xfrm>
                              <a:off x="262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4" name=""/>
                            <p:cNvSpPr/>
                            <p:nvPr/>
                          </p:nvSpPr>
                          <p:spPr>
                            <a:xfrm>
                              <a:off x="2635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45" name=""/>
                      <p:cNvGrpSpPr/>
                      <p:nvPr/>
                    </p:nvGrpSpPr>
                    <p:grpSpPr>
                      <a:xfrm>
                        <a:off x="265320" y="2600640"/>
                        <a:ext cx="10800" cy="4680"/>
                        <a:chOff x="265320" y="2600640"/>
                        <a:chExt cx="10800" cy="4680"/>
                      </a:xfrm>
                    </p:grpSpPr>
                    <p:grpSp>
                      <p:nvGrpSpPr>
                        <p:cNvPr id="1546" name=""/>
                        <p:cNvGrpSpPr/>
                        <p:nvPr/>
                      </p:nvGrpSpPr>
                      <p:grpSpPr>
                        <a:xfrm>
                          <a:off x="265320" y="2600640"/>
                          <a:ext cx="6120" cy="4680"/>
                          <a:chOff x="265320" y="2600640"/>
                          <a:chExt cx="6120" cy="4680"/>
                        </a:xfrm>
                      </p:grpSpPr>
                      <p:grpSp>
                        <p:nvGrpSpPr>
                          <p:cNvPr id="1547" name=""/>
                          <p:cNvGrpSpPr/>
                          <p:nvPr/>
                        </p:nvGrpSpPr>
                        <p:grpSpPr>
                          <a:xfrm>
                            <a:off x="265320" y="2600640"/>
                            <a:ext cx="2880" cy="4680"/>
                            <a:chOff x="265320" y="2600640"/>
                            <a:chExt cx="2880" cy="4680"/>
                          </a:xfrm>
                        </p:grpSpPr>
                        <p:sp>
                          <p:nvSpPr>
                            <p:cNvPr id="1548" name=""/>
                            <p:cNvSpPr/>
                            <p:nvPr/>
                          </p:nvSpPr>
                          <p:spPr>
                            <a:xfrm>
                              <a:off x="265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9" name=""/>
                            <p:cNvSpPr/>
                            <p:nvPr/>
                          </p:nvSpPr>
                          <p:spPr>
                            <a:xfrm>
                              <a:off x="2667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0" name=""/>
                          <p:cNvGrpSpPr/>
                          <p:nvPr/>
                        </p:nvGrpSpPr>
                        <p:grpSpPr>
                          <a:xfrm>
                            <a:off x="268200" y="2600640"/>
                            <a:ext cx="3240" cy="4680"/>
                            <a:chOff x="268200" y="2600640"/>
                            <a:chExt cx="3240" cy="4680"/>
                          </a:xfrm>
                        </p:grpSpPr>
                        <p:sp>
                          <p:nvSpPr>
                            <p:cNvPr id="1551" name=""/>
                            <p:cNvSpPr/>
                            <p:nvPr/>
                          </p:nvSpPr>
                          <p:spPr>
                            <a:xfrm>
                              <a:off x="2682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2" name=""/>
                            <p:cNvSpPr/>
                            <p:nvPr/>
                          </p:nvSpPr>
                          <p:spPr>
                            <a:xfrm>
                              <a:off x="270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53" name=""/>
                        <p:cNvGrpSpPr/>
                        <p:nvPr/>
                      </p:nvGrpSpPr>
                      <p:grpSpPr>
                        <a:xfrm>
                          <a:off x="271440" y="2600640"/>
                          <a:ext cx="4680" cy="4680"/>
                          <a:chOff x="271440" y="2600640"/>
                          <a:chExt cx="4680" cy="4680"/>
                        </a:xfrm>
                      </p:grpSpPr>
                      <p:grpSp>
                        <p:nvGrpSpPr>
                          <p:cNvPr id="1554" name=""/>
                          <p:cNvGrpSpPr/>
                          <p:nvPr/>
                        </p:nvGrpSpPr>
                        <p:grpSpPr>
                          <a:xfrm>
                            <a:off x="271440" y="2600640"/>
                            <a:ext cx="1800" cy="4680"/>
                            <a:chOff x="271440" y="2600640"/>
                            <a:chExt cx="1800" cy="4680"/>
                          </a:xfrm>
                        </p:grpSpPr>
                        <p:sp>
                          <p:nvSpPr>
                            <p:cNvPr id="1555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6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7" name=""/>
                          <p:cNvGrpSpPr/>
                          <p:nvPr/>
                        </p:nvGrpSpPr>
                        <p:grpSpPr>
                          <a:xfrm>
                            <a:off x="273240" y="2600640"/>
                            <a:ext cx="2880" cy="4680"/>
                            <a:chOff x="273240" y="2600640"/>
                            <a:chExt cx="2880" cy="4680"/>
                          </a:xfrm>
                        </p:grpSpPr>
                        <p:sp>
                          <p:nvSpPr>
                            <p:cNvPr id="1558" name=""/>
                            <p:cNvSpPr/>
                            <p:nvPr/>
                          </p:nvSpPr>
                          <p:spPr>
                            <a:xfrm>
                              <a:off x="273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9" name=""/>
                            <p:cNvSpPr/>
                            <p:nvPr/>
                          </p:nvSpPr>
                          <p:spPr>
                            <a:xfrm>
                              <a:off x="274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25092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1" name=""/>
                  <p:cNvGrpSpPr/>
                  <p:nvPr/>
                </p:nvGrpSpPr>
                <p:grpSpPr>
                  <a:xfrm>
                    <a:off x="206280" y="2619720"/>
                    <a:ext cx="211320" cy="29880"/>
                    <a:chOff x="206280" y="2619720"/>
                    <a:chExt cx="211320" cy="29880"/>
                  </a:xfrm>
                </p:grpSpPr>
                <p:grpSp>
                  <p:nvGrpSpPr>
                    <p:cNvPr id="1562" name=""/>
                    <p:cNvGrpSpPr/>
                    <p:nvPr/>
                  </p:nvGrpSpPr>
                  <p:grpSpPr>
                    <a:xfrm>
                      <a:off x="206280" y="2619720"/>
                      <a:ext cx="211320" cy="29880"/>
                      <a:chOff x="206280" y="2619720"/>
                      <a:chExt cx="211320" cy="29880"/>
                    </a:xfrm>
                  </p:grpSpPr>
                  <p:sp>
                    <p:nvSpPr>
                      <p:cNvPr id="1563" name=""/>
                      <p:cNvSpPr/>
                      <p:nvPr/>
                    </p:nvSpPr>
                    <p:spPr>
                      <a:xfrm>
                        <a:off x="20628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20628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5" name=""/>
                      <p:cNvSpPr/>
                      <p:nvPr/>
                    </p:nvSpPr>
                    <p:spPr>
                      <a:xfrm>
                        <a:off x="21276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6" name=""/>
                    <p:cNvGrpSpPr/>
                    <p:nvPr/>
                  </p:nvGrpSpPr>
                  <p:grpSpPr>
                    <a:xfrm>
                      <a:off x="228600" y="2622600"/>
                      <a:ext cx="166680" cy="5040"/>
                      <a:chOff x="228600" y="2622600"/>
                      <a:chExt cx="166680" cy="5040"/>
                    </a:xfrm>
                  </p:grpSpPr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22860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8" name=""/>
                      <p:cNvSpPr/>
                      <p:nvPr/>
                    </p:nvSpPr>
                    <p:spPr>
                      <a:xfrm>
                        <a:off x="24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9" name=""/>
                      <p:cNvSpPr/>
                      <p:nvPr/>
                    </p:nvSpPr>
                    <p:spPr>
                      <a:xfrm>
                        <a:off x="27936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30960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1" name=""/>
                      <p:cNvSpPr/>
                      <p:nvPr/>
                    </p:nvSpPr>
                    <p:spPr>
                      <a:xfrm>
                        <a:off x="33984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36828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3" name=""/>
                    <p:cNvGrpSpPr/>
                    <p:nvPr/>
                  </p:nvGrpSpPr>
                  <p:grpSpPr>
                    <a:xfrm>
                      <a:off x="222480" y="2629080"/>
                      <a:ext cx="176040" cy="11160"/>
                      <a:chOff x="222480" y="2629080"/>
                      <a:chExt cx="176040" cy="11160"/>
                    </a:xfrm>
                  </p:grpSpPr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238320" y="2629080"/>
                        <a:ext cx="85680" cy="9360"/>
                        <a:chOff x="238320" y="2629080"/>
                        <a:chExt cx="85680" cy="936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23832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24120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7" name=""/>
                        <p:cNvSpPr/>
                        <p:nvPr/>
                      </p:nvSpPr>
                      <p:spPr>
                        <a:xfrm>
                          <a:off x="24300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8" name=""/>
                        <p:cNvSpPr/>
                        <p:nvPr/>
                      </p:nvSpPr>
                      <p:spPr>
                        <a:xfrm>
                          <a:off x="24444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79" name=""/>
                      <p:cNvGrpSpPr/>
                      <p:nvPr/>
                    </p:nvGrpSpPr>
                    <p:grpSpPr>
                      <a:xfrm>
                        <a:off x="222480" y="2630520"/>
                        <a:ext cx="15840" cy="6480"/>
                        <a:chOff x="222480" y="2630520"/>
                        <a:chExt cx="15840" cy="6480"/>
                      </a:xfrm>
                    </p:grpSpPr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>
                          <a:off x="22716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>
                          <a:off x="22536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22248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3" name=""/>
                      <p:cNvGrpSpPr/>
                      <p:nvPr/>
                    </p:nvGrpSpPr>
                    <p:grpSpPr>
                      <a:xfrm>
                        <a:off x="257400" y="2629080"/>
                        <a:ext cx="79200" cy="9360"/>
                        <a:chOff x="257400" y="2629080"/>
                        <a:chExt cx="79200" cy="9360"/>
                      </a:xfrm>
                    </p:grpSpPr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>
                          <a:off x="25740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32400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32724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>
                          <a:off x="32076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>
                          <a:off x="30816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31752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0" name=""/>
                      <p:cNvGrpSpPr/>
                      <p:nvPr/>
                    </p:nvGrpSpPr>
                    <p:grpSpPr>
                      <a:xfrm>
                        <a:off x="339840" y="2630520"/>
                        <a:ext cx="25200" cy="7920"/>
                        <a:chOff x="339840" y="2630520"/>
                        <a:chExt cx="25200" cy="7920"/>
                      </a:xfrm>
                    </p:grpSpPr>
                    <p:sp>
                      <p:nvSpPr>
                        <p:cNvPr id="1591" name=""/>
                        <p:cNvSpPr/>
                        <p:nvPr/>
                      </p:nvSpPr>
                      <p:spPr>
                        <a:xfrm>
                          <a:off x="33984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34308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34308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4" name=""/>
                      <p:cNvGrpSpPr/>
                      <p:nvPr/>
                    </p:nvGrpSpPr>
                    <p:grpSpPr>
                      <a:xfrm>
                        <a:off x="368280" y="2630520"/>
                        <a:ext cx="30240" cy="9720"/>
                        <a:chOff x="368280" y="2630520"/>
                        <a:chExt cx="30240" cy="9720"/>
                      </a:xfrm>
                    </p:grpSpPr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>
                          <a:off x="37152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>
                          <a:off x="36828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37152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37008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>
                          <a:off x="39060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39204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68200" y="2560680"/>
                    <a:ext cx="92160" cy="19080"/>
                    <a:chOff x="268200" y="2560680"/>
                    <a:chExt cx="92160" cy="19080"/>
                  </a:xfrm>
                </p:grpSpPr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268200" y="2565720"/>
                      <a:ext cx="92160" cy="14040"/>
                      <a:chOff x="268200" y="2565720"/>
                      <a:chExt cx="92160" cy="14040"/>
                    </a:xfrm>
                  </p:grpSpPr>
                  <p:sp>
                    <p:nvSpPr>
                      <p:cNvPr id="1603" name=""/>
                      <p:cNvSpPr/>
                      <p:nvPr/>
                    </p:nvSpPr>
                    <p:spPr>
                      <a:xfrm>
                        <a:off x="26820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"/>
                      <p:cNvSpPr/>
                      <p:nvPr/>
                    </p:nvSpPr>
                    <p:spPr>
                      <a:xfrm>
                        <a:off x="26820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28908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6" name=""/>
                  <p:cNvSpPr/>
                  <p:nvPr/>
                </p:nvSpPr>
                <p:spPr>
                  <a:xfrm>
                    <a:off x="25740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7000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27468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5244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1612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11" name=""/>
            <p:cNvGrpSpPr/>
            <p:nvPr/>
          </p:nvGrpSpPr>
          <p:grpSpPr>
            <a:xfrm>
              <a:off x="2590920" y="2286000"/>
              <a:ext cx="1085760" cy="752400"/>
              <a:chOff x="2590920" y="2286000"/>
              <a:chExt cx="1085760" cy="752400"/>
            </a:xfrm>
          </p:grpSpPr>
          <p:sp>
            <p:nvSpPr>
              <p:cNvPr id="1612" name=""/>
              <p:cNvSpPr/>
              <p:nvPr/>
            </p:nvSpPr>
            <p:spPr>
              <a:xfrm>
                <a:off x="25909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384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6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14" name=""/>
              <p:cNvGrpSpPr/>
              <p:nvPr/>
            </p:nvGrpSpPr>
            <p:grpSpPr>
              <a:xfrm>
                <a:off x="2663640" y="2341440"/>
                <a:ext cx="821880" cy="488880"/>
                <a:chOff x="2663640" y="2341440"/>
                <a:chExt cx="821880" cy="48888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28062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092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0254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618" name="pbx" descr=""/>
                <p:cNvPicPr/>
                <p:nvPr/>
              </p:nvPicPr>
              <p:blipFill>
                <a:blip r:embed="rId18"/>
                <a:srcRect l="37594" t="74298" r="28339" b="4834"/>
                <a:stretch/>
              </p:blipFill>
              <p:spPr>
                <a:xfrm>
                  <a:off x="29682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9952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0" name=""/>
                <p:cNvGrpSpPr/>
                <p:nvPr/>
              </p:nvGrpSpPr>
              <p:grpSpPr>
                <a:xfrm>
                  <a:off x="2663640" y="2479680"/>
                  <a:ext cx="210960" cy="169920"/>
                  <a:chOff x="2663640" y="2479680"/>
                  <a:chExt cx="210960" cy="169920"/>
                </a:xfrm>
              </p:grpSpPr>
              <p:grpSp>
                <p:nvGrpSpPr>
                  <p:cNvPr id="1621" name=""/>
                  <p:cNvGrpSpPr/>
                  <p:nvPr/>
                </p:nvGrpSpPr>
                <p:grpSpPr>
                  <a:xfrm>
                    <a:off x="2703240" y="2570400"/>
                    <a:ext cx="134280" cy="52200"/>
                    <a:chOff x="2703240" y="2570400"/>
                    <a:chExt cx="134280" cy="52200"/>
                  </a:xfrm>
                </p:grpSpPr>
                <p:grpSp>
                  <p:nvGrpSpPr>
                    <p:cNvPr id="1622" name=""/>
                    <p:cNvGrpSpPr/>
                    <p:nvPr/>
                  </p:nvGrpSpPr>
                  <p:grpSpPr>
                    <a:xfrm>
                      <a:off x="2703240" y="2570400"/>
                      <a:ext cx="134280" cy="52200"/>
                      <a:chOff x="2703240" y="2570400"/>
                      <a:chExt cx="134280" cy="52200"/>
                    </a:xfrm>
                  </p:grpSpPr>
                  <p:grpSp>
                    <p:nvGrpSpPr>
                      <p:cNvPr id="1623" name=""/>
                      <p:cNvGrpSpPr/>
                      <p:nvPr/>
                    </p:nvGrpSpPr>
                    <p:grpSpPr>
                      <a:xfrm>
                        <a:off x="2703240" y="2570400"/>
                        <a:ext cx="134280" cy="52200"/>
                        <a:chOff x="2703240" y="2570400"/>
                        <a:chExt cx="134280" cy="52200"/>
                      </a:xfrm>
                    </p:grpSpPr>
                    <p:grpSp>
                      <p:nvGrpSpPr>
                        <p:cNvPr id="1624" name=""/>
                        <p:cNvGrpSpPr/>
                        <p:nvPr/>
                      </p:nvGrpSpPr>
                      <p:grpSpPr>
                        <a:xfrm>
                          <a:off x="2703240" y="2570400"/>
                          <a:ext cx="134280" cy="52200"/>
                          <a:chOff x="2703240" y="2570400"/>
                          <a:chExt cx="134280" cy="52200"/>
                        </a:xfrm>
                      </p:grpSpPr>
                      <p:grpSp>
                        <p:nvGrpSpPr>
                          <p:cNvPr id="1625" name=""/>
                          <p:cNvGrpSpPr/>
                          <p:nvPr/>
                        </p:nvGrpSpPr>
                        <p:grpSpPr>
                          <a:xfrm>
                            <a:off x="2703240" y="2570400"/>
                            <a:ext cx="134280" cy="52200"/>
                            <a:chOff x="2703240" y="2570400"/>
                            <a:chExt cx="134280" cy="52200"/>
                          </a:xfrm>
                        </p:grpSpPr>
                        <p:sp>
                          <p:nvSpPr>
                            <p:cNvPr id="1626" name=""/>
                            <p:cNvSpPr/>
                            <p:nvPr/>
                          </p:nvSpPr>
                          <p:spPr>
                            <a:xfrm>
                              <a:off x="27032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/>
                            <p:nvPr/>
                          </p:nvSpPr>
                          <p:spPr>
                            <a:xfrm>
                              <a:off x="27043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28" name=""/>
                          <p:cNvSpPr/>
                          <p:nvPr/>
                        </p:nvSpPr>
                        <p:spPr>
                          <a:xfrm>
                            <a:off x="27057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9" name=""/>
                        <p:cNvGrpSpPr/>
                        <p:nvPr/>
                      </p:nvGrpSpPr>
                      <p:grpSpPr>
                        <a:xfrm>
                          <a:off x="2709000" y="2613240"/>
                          <a:ext cx="124560" cy="7920"/>
                          <a:chOff x="2709000" y="2613240"/>
                          <a:chExt cx="124560" cy="7920"/>
                        </a:xfrm>
                      </p:grpSpPr>
                      <p:grpSp>
                        <p:nvGrpSpPr>
                          <p:cNvPr id="1630" name=""/>
                          <p:cNvGrpSpPr/>
                          <p:nvPr/>
                        </p:nvGrpSpPr>
                        <p:grpSpPr>
                          <a:xfrm>
                            <a:off x="2709000" y="2613240"/>
                            <a:ext cx="61560" cy="7920"/>
                            <a:chOff x="2709000" y="2613240"/>
                            <a:chExt cx="61560" cy="7920"/>
                          </a:xfrm>
                        </p:grpSpPr>
                        <p:grpSp>
                          <p:nvGrpSpPr>
                            <p:cNvPr id="1631" name=""/>
                            <p:cNvGrpSpPr/>
                            <p:nvPr/>
                          </p:nvGrpSpPr>
                          <p:grpSpPr>
                            <a:xfrm>
                              <a:off x="2709000" y="2613240"/>
                              <a:ext cx="29880" cy="7920"/>
                              <a:chOff x="2709000" y="2613240"/>
                              <a:chExt cx="29880" cy="7920"/>
                            </a:xfrm>
                          </p:grpSpPr>
                          <p:grpSp>
                            <p:nvGrpSpPr>
                              <p:cNvPr id="1632" name=""/>
                              <p:cNvGrpSpPr/>
                              <p:nvPr/>
                            </p:nvGrpSpPr>
                            <p:grpSpPr>
                              <a:xfrm>
                                <a:off x="2709000" y="2613240"/>
                                <a:ext cx="14400" cy="7920"/>
                                <a:chOff x="27090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33" name=""/>
                                <p:cNvGrpSpPr/>
                                <p:nvPr/>
                              </p:nvGrpSpPr>
                              <p:grpSpPr>
                                <a:xfrm>
                                  <a:off x="2709000" y="2613240"/>
                                  <a:ext cx="6840" cy="7920"/>
                                  <a:chOff x="2709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9000" y="2613240"/>
                                    <a:ext cx="2520" cy="7920"/>
                                    <a:chOff x="2709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9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880" y="2613240"/>
                                    <a:ext cx="3960" cy="7920"/>
                                    <a:chOff x="2711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40" name=""/>
                                <p:cNvGrpSpPr/>
                                <p:nvPr/>
                              </p:nvGrpSpPr>
                              <p:grpSpPr>
                                <a:xfrm>
                                  <a:off x="2716560" y="2613240"/>
                                  <a:ext cx="6840" cy="7920"/>
                                  <a:chOff x="27165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560" y="2613240"/>
                                    <a:ext cx="2520" cy="7920"/>
                                    <a:chOff x="2716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8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440" y="2613240"/>
                                    <a:ext cx="3960" cy="7920"/>
                                    <a:chOff x="27194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2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47" name=""/>
                              <p:cNvGrpSpPr/>
                              <p:nvPr/>
                            </p:nvGrpSpPr>
                            <p:grpSpPr>
                              <a:xfrm>
                                <a:off x="2724480" y="2613240"/>
                                <a:ext cx="14400" cy="7920"/>
                                <a:chOff x="2724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4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2613240"/>
                                  <a:ext cx="6840" cy="7920"/>
                                  <a:chOff x="2724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2613240"/>
                                    <a:ext cx="2520" cy="7920"/>
                                    <a:chOff x="2724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7360" y="2613240"/>
                                    <a:ext cx="3960" cy="7920"/>
                                    <a:chOff x="27273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7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55" name=""/>
                                <p:cNvGrpSpPr/>
                                <p:nvPr/>
                              </p:nvGrpSpPr>
                              <p:grpSpPr>
                                <a:xfrm>
                                  <a:off x="2732040" y="2613240"/>
                                  <a:ext cx="6840" cy="7920"/>
                                  <a:chOff x="2732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040" y="2613240"/>
                                    <a:ext cx="2520" cy="7920"/>
                                    <a:chOff x="2732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4920" y="2613240"/>
                                    <a:ext cx="3960" cy="7920"/>
                                    <a:chOff x="2734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662" name=""/>
                            <p:cNvGrpSpPr/>
                            <p:nvPr/>
                          </p:nvGrpSpPr>
                          <p:grpSpPr>
                            <a:xfrm>
                              <a:off x="2740320" y="2613240"/>
                              <a:ext cx="30240" cy="7920"/>
                              <a:chOff x="2740320" y="2613240"/>
                              <a:chExt cx="30240" cy="7920"/>
                            </a:xfrm>
                          </p:grpSpPr>
                          <p:grpSp>
                            <p:nvGrpSpPr>
                              <p:cNvPr id="1663" name=""/>
                              <p:cNvGrpSpPr/>
                              <p:nvPr/>
                            </p:nvGrpSpPr>
                            <p:grpSpPr>
                              <a:xfrm>
                                <a:off x="2740320" y="2613240"/>
                                <a:ext cx="14760" cy="7920"/>
                                <a:chOff x="27403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1664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2613240"/>
                                  <a:ext cx="7200" cy="7920"/>
                                  <a:chOff x="27403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16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2613240"/>
                                    <a:ext cx="2520" cy="7920"/>
                                    <a:chOff x="2740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5000" y="2613240"/>
                                    <a:ext cx="2520" cy="7920"/>
                                    <a:chOff x="2745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71" name=""/>
                                <p:cNvGrpSpPr/>
                                <p:nvPr/>
                              </p:nvGrpSpPr>
                              <p:grpSpPr>
                                <a:xfrm>
                                  <a:off x="2748240" y="2613240"/>
                                  <a:ext cx="6840" cy="7920"/>
                                  <a:chOff x="2748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8240" y="2613240"/>
                                    <a:ext cx="2160" cy="7920"/>
                                    <a:chOff x="27482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9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2560" y="2613240"/>
                                    <a:ext cx="2520" cy="7920"/>
                                    <a:chOff x="2752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2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78" name=""/>
                              <p:cNvGrpSpPr/>
                              <p:nvPr/>
                            </p:nvGrpSpPr>
                            <p:grpSpPr>
                              <a:xfrm>
                                <a:off x="2756160" y="2613240"/>
                                <a:ext cx="14400" cy="7920"/>
                                <a:chOff x="2756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79" name=""/>
                                <p:cNvGrpSpPr/>
                                <p:nvPr/>
                              </p:nvGrpSpPr>
                              <p:grpSpPr>
                                <a:xfrm>
                                  <a:off x="2756160" y="2613240"/>
                                  <a:ext cx="6840" cy="7920"/>
                                  <a:chOff x="2756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160" y="2613240"/>
                                    <a:ext cx="2160" cy="7920"/>
                                    <a:chOff x="27561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0480" y="2613240"/>
                                    <a:ext cx="2520" cy="7920"/>
                                    <a:chOff x="2760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0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86" name=""/>
                                <p:cNvGrpSpPr/>
                                <p:nvPr/>
                              </p:nvGrpSpPr>
                              <p:grpSpPr>
                                <a:xfrm>
                                  <a:off x="2763720" y="2613240"/>
                                  <a:ext cx="6840" cy="7920"/>
                                  <a:chOff x="2763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3720" y="2613240"/>
                                    <a:ext cx="2160" cy="7920"/>
                                    <a:chOff x="27637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3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6240" y="2613240"/>
                                    <a:ext cx="4320" cy="7920"/>
                                    <a:chOff x="27662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1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693" name=""/>
                          <p:cNvGrpSpPr/>
                          <p:nvPr/>
                        </p:nvGrpSpPr>
                        <p:grpSpPr>
                          <a:xfrm>
                            <a:off x="2772360" y="2613240"/>
                            <a:ext cx="61200" cy="7920"/>
                            <a:chOff x="2772360" y="2613240"/>
                            <a:chExt cx="61200" cy="7920"/>
                          </a:xfrm>
                        </p:grpSpPr>
                        <p:grpSp>
                          <p:nvGrpSpPr>
                            <p:cNvPr id="1694" name=""/>
                            <p:cNvGrpSpPr/>
                            <p:nvPr/>
                          </p:nvGrpSpPr>
                          <p:grpSpPr>
                            <a:xfrm>
                              <a:off x="2772360" y="2613240"/>
                              <a:ext cx="29880" cy="7920"/>
                              <a:chOff x="2772360" y="2613240"/>
                              <a:chExt cx="29880" cy="7920"/>
                            </a:xfrm>
                          </p:grpSpPr>
                          <p:grpSp>
                            <p:nvGrpSpPr>
                              <p:cNvPr id="1695" name=""/>
                              <p:cNvGrpSpPr/>
                              <p:nvPr/>
                            </p:nvGrpSpPr>
                            <p:grpSpPr>
                              <a:xfrm>
                                <a:off x="2772360" y="2613240"/>
                                <a:ext cx="14400" cy="7920"/>
                                <a:chOff x="27723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96" name=""/>
                                <p:cNvGrpSpPr/>
                                <p:nvPr/>
                              </p:nvGrpSpPr>
                              <p:grpSpPr>
                                <a:xfrm>
                                  <a:off x="2772360" y="2613240"/>
                                  <a:ext cx="6840" cy="7920"/>
                                  <a:chOff x="2772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360" y="2613240"/>
                                    <a:ext cx="2520" cy="7920"/>
                                    <a:chOff x="2772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240" y="2613240"/>
                                    <a:ext cx="3960" cy="7920"/>
                                    <a:chOff x="2775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03" name=""/>
                                <p:cNvGrpSpPr/>
                                <p:nvPr/>
                              </p:nvGrpSpPr>
                              <p:grpSpPr>
                                <a:xfrm>
                                  <a:off x="2779920" y="2613240"/>
                                  <a:ext cx="6840" cy="7920"/>
                                  <a:chOff x="27799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920" y="2613240"/>
                                    <a:ext cx="2520" cy="7920"/>
                                    <a:chOff x="2779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1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4240" y="2613240"/>
                                    <a:ext cx="2520" cy="7920"/>
                                    <a:chOff x="2784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5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10" name=""/>
                              <p:cNvGrpSpPr/>
                              <p:nvPr/>
                            </p:nvGrpSpPr>
                            <p:grpSpPr>
                              <a:xfrm>
                                <a:off x="2787840" y="2613240"/>
                                <a:ext cx="14400" cy="7920"/>
                                <a:chOff x="27878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1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2613240"/>
                                  <a:ext cx="6840" cy="7920"/>
                                  <a:chOff x="2787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2613240"/>
                                    <a:ext cx="2520" cy="7920"/>
                                    <a:chOff x="2787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2613240"/>
                                    <a:ext cx="2520" cy="7920"/>
                                    <a:chOff x="2792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1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2613240"/>
                                  <a:ext cx="6840" cy="7920"/>
                                  <a:chOff x="27954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2613240"/>
                                    <a:ext cx="2520" cy="7920"/>
                                    <a:chOff x="27954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2613240"/>
                                    <a:ext cx="3960" cy="7920"/>
                                    <a:chOff x="27982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725" name=""/>
                            <p:cNvGrpSpPr/>
                            <p:nvPr/>
                          </p:nvGrpSpPr>
                          <p:grpSpPr>
                            <a:xfrm>
                              <a:off x="2803680" y="2613240"/>
                              <a:ext cx="29880" cy="7920"/>
                              <a:chOff x="2803680" y="2613240"/>
                              <a:chExt cx="29880" cy="7920"/>
                            </a:xfrm>
                          </p:grpSpPr>
                          <p:grpSp>
                            <p:nvGrpSpPr>
                              <p:cNvPr id="1726" name=""/>
                              <p:cNvGrpSpPr/>
                              <p:nvPr/>
                            </p:nvGrpSpPr>
                            <p:grpSpPr>
                              <a:xfrm>
                                <a:off x="2803680" y="2613240"/>
                                <a:ext cx="14400" cy="7920"/>
                                <a:chOff x="28036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27" name=""/>
                                <p:cNvGrpSpPr/>
                                <p:nvPr/>
                              </p:nvGrpSpPr>
                              <p:grpSpPr>
                                <a:xfrm>
                                  <a:off x="2803680" y="2613240"/>
                                  <a:ext cx="6840" cy="7920"/>
                                  <a:chOff x="28036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680" y="2613240"/>
                                    <a:ext cx="2520" cy="7920"/>
                                    <a:chOff x="28036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6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0" y="2613240"/>
                                    <a:ext cx="2520" cy="7920"/>
                                    <a:chOff x="2808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34" name=""/>
                                <p:cNvGrpSpPr/>
                                <p:nvPr/>
                              </p:nvGrpSpPr>
                              <p:grpSpPr>
                                <a:xfrm>
                                  <a:off x="2811240" y="2613240"/>
                                  <a:ext cx="6840" cy="7920"/>
                                  <a:chOff x="2811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1240" y="2613240"/>
                                    <a:ext cx="2520" cy="7920"/>
                                    <a:chOff x="2811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4120" y="2613240"/>
                                    <a:ext cx="3960" cy="7920"/>
                                    <a:chOff x="28141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41" name=""/>
                              <p:cNvGrpSpPr/>
                              <p:nvPr/>
                            </p:nvGrpSpPr>
                            <p:grpSpPr>
                              <a:xfrm>
                                <a:off x="2819160" y="2613240"/>
                                <a:ext cx="14400" cy="7920"/>
                                <a:chOff x="2819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42" name=""/>
                                <p:cNvGrpSpPr/>
                                <p:nvPr/>
                              </p:nvGrpSpPr>
                              <p:grpSpPr>
                                <a:xfrm>
                                  <a:off x="2819160" y="2613240"/>
                                  <a:ext cx="6840" cy="7920"/>
                                  <a:chOff x="2819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9160" y="2613240"/>
                                    <a:ext cx="2520" cy="7920"/>
                                    <a:chOff x="2819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3480" y="2613240"/>
                                    <a:ext cx="2520" cy="7920"/>
                                    <a:chOff x="2823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4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49" name=""/>
                                <p:cNvGrpSpPr/>
                                <p:nvPr/>
                              </p:nvGrpSpPr>
                              <p:grpSpPr>
                                <a:xfrm>
                                  <a:off x="2826720" y="2613240"/>
                                  <a:ext cx="6840" cy="7920"/>
                                  <a:chOff x="2826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6720" y="2613240"/>
                                    <a:ext cx="2520" cy="7920"/>
                                    <a:chOff x="2826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1040" y="2613240"/>
                                    <a:ext cx="2520" cy="7920"/>
                                    <a:chOff x="2831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2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756" name=""/>
                      <p:cNvGrpSpPr/>
                      <p:nvPr/>
                    </p:nvGrpSpPr>
                    <p:grpSpPr>
                      <a:xfrm>
                        <a:off x="2705760" y="2584440"/>
                        <a:ext cx="128160" cy="22320"/>
                        <a:chOff x="2705760" y="2584440"/>
                        <a:chExt cx="128160" cy="22320"/>
                      </a:xfrm>
                    </p:grpSpPr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7057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27342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9" name=""/>
                        <p:cNvSpPr/>
                        <p:nvPr/>
                      </p:nvSpPr>
                      <p:spPr>
                        <a:xfrm>
                          <a:off x="27738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>
                          <a:off x="28152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1" name=""/>
                    <p:cNvGrpSpPr/>
                    <p:nvPr/>
                  </p:nvGrpSpPr>
                  <p:grpSpPr>
                    <a:xfrm>
                      <a:off x="2818800" y="2587680"/>
                      <a:ext cx="11880" cy="11160"/>
                      <a:chOff x="2818800" y="2587680"/>
                      <a:chExt cx="11880" cy="11160"/>
                    </a:xfrm>
                  </p:grpSpPr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28231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28245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64" name=""/>
                      <p:cNvGrpSpPr/>
                      <p:nvPr/>
                    </p:nvGrpSpPr>
                    <p:grpSpPr>
                      <a:xfrm>
                        <a:off x="2818800" y="2589480"/>
                        <a:ext cx="2520" cy="6120"/>
                        <a:chOff x="2818800" y="2589480"/>
                        <a:chExt cx="2520" cy="6120"/>
                      </a:xfrm>
                    </p:grpSpPr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>
                          <a:off x="28188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>
                          <a:off x="28188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7" name=""/>
                    <p:cNvGrpSpPr/>
                    <p:nvPr/>
                  </p:nvGrpSpPr>
                  <p:grpSpPr>
                    <a:xfrm>
                      <a:off x="2736000" y="2587680"/>
                      <a:ext cx="36000" cy="14400"/>
                      <a:chOff x="2736000" y="2587680"/>
                      <a:chExt cx="36000" cy="14400"/>
                    </a:xfrm>
                  </p:grpSpPr>
                  <p:grpSp>
                    <p:nvGrpSpPr>
                      <p:cNvPr id="1768" name=""/>
                      <p:cNvGrpSpPr/>
                      <p:nvPr/>
                    </p:nvGrpSpPr>
                    <p:grpSpPr>
                      <a:xfrm>
                        <a:off x="2737440" y="2587680"/>
                        <a:ext cx="34560" cy="7920"/>
                        <a:chOff x="2737440" y="2587680"/>
                        <a:chExt cx="34560" cy="7920"/>
                      </a:xfrm>
                    </p:grpSpPr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>
                          <a:off x="27464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>
                          <a:off x="27464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>
                          <a:off x="27374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27360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27644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2709000" y="2600640"/>
                      <a:ext cx="21960" cy="4680"/>
                      <a:chOff x="2709000" y="2600640"/>
                      <a:chExt cx="21960" cy="4680"/>
                    </a:xfrm>
                  </p:grpSpPr>
                  <p:grpSp>
                    <p:nvGrpSpPr>
                      <p:cNvPr id="1775" name=""/>
                      <p:cNvGrpSpPr/>
                      <p:nvPr/>
                    </p:nvGrpSpPr>
                    <p:grpSpPr>
                      <a:xfrm>
                        <a:off x="2709000" y="2600640"/>
                        <a:ext cx="11520" cy="4680"/>
                        <a:chOff x="2709000" y="2600640"/>
                        <a:chExt cx="11520" cy="4680"/>
                      </a:xfrm>
                    </p:grpSpPr>
                    <p:grpSp>
                      <p:nvGrpSpPr>
                        <p:cNvPr id="1776" name=""/>
                        <p:cNvGrpSpPr/>
                        <p:nvPr/>
                      </p:nvGrpSpPr>
                      <p:grpSpPr>
                        <a:xfrm>
                          <a:off x="2709000" y="2600640"/>
                          <a:ext cx="5400" cy="4680"/>
                          <a:chOff x="2709000" y="2600640"/>
                          <a:chExt cx="5400" cy="4680"/>
                        </a:xfrm>
                      </p:grpSpPr>
                      <p:grpSp>
                        <p:nvGrpSpPr>
                          <p:cNvPr id="1777" name=""/>
                          <p:cNvGrpSpPr/>
                          <p:nvPr/>
                        </p:nvGrpSpPr>
                        <p:grpSpPr>
                          <a:xfrm>
                            <a:off x="2709000" y="2600640"/>
                            <a:ext cx="2520" cy="4680"/>
                            <a:chOff x="2709000" y="2600640"/>
                            <a:chExt cx="2520" cy="4680"/>
                          </a:xfrm>
                        </p:grpSpPr>
                        <p:sp>
                          <p:nvSpPr>
                            <p:cNvPr id="1778" name=""/>
                            <p:cNvSpPr/>
                            <p:nvPr/>
                          </p:nvSpPr>
                          <p:spPr>
                            <a:xfrm>
                              <a:off x="2709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79" name=""/>
                            <p:cNvSpPr/>
                            <p:nvPr/>
                          </p:nvSpPr>
                          <p:spPr>
                            <a:xfrm>
                              <a:off x="27104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0" name=""/>
                          <p:cNvGrpSpPr/>
                          <p:nvPr/>
                        </p:nvGrpSpPr>
                        <p:grpSpPr>
                          <a:xfrm>
                            <a:off x="2711880" y="2600640"/>
                            <a:ext cx="2520" cy="4680"/>
                            <a:chOff x="2711880" y="2600640"/>
                            <a:chExt cx="2520" cy="4680"/>
                          </a:xfrm>
                        </p:grpSpPr>
                        <p:sp>
                          <p:nvSpPr>
                            <p:cNvPr id="1781" name=""/>
                            <p:cNvSpPr/>
                            <p:nvPr/>
                          </p:nvSpPr>
                          <p:spPr>
                            <a:xfrm>
                              <a:off x="2711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2" name=""/>
                            <p:cNvSpPr/>
                            <p:nvPr/>
                          </p:nvSpPr>
                          <p:spPr>
                            <a:xfrm>
                              <a:off x="27133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83" name=""/>
                        <p:cNvGrpSpPr/>
                        <p:nvPr/>
                      </p:nvGrpSpPr>
                      <p:grpSpPr>
                        <a:xfrm>
                          <a:off x="2715120" y="2600640"/>
                          <a:ext cx="5400" cy="4680"/>
                          <a:chOff x="2715120" y="2600640"/>
                          <a:chExt cx="5400" cy="4680"/>
                        </a:xfrm>
                      </p:grpSpPr>
                      <p:grpSp>
                        <p:nvGrpSpPr>
                          <p:cNvPr id="1784" name=""/>
                          <p:cNvGrpSpPr/>
                          <p:nvPr/>
                        </p:nvGrpSpPr>
                        <p:grpSpPr>
                          <a:xfrm>
                            <a:off x="2715120" y="2600640"/>
                            <a:ext cx="2520" cy="4680"/>
                            <a:chOff x="2715120" y="2600640"/>
                            <a:chExt cx="2520" cy="4680"/>
                          </a:xfrm>
                        </p:grpSpPr>
                        <p:sp>
                          <p:nvSpPr>
                            <p:cNvPr id="1785" name=""/>
                            <p:cNvSpPr/>
                            <p:nvPr/>
                          </p:nvSpPr>
                          <p:spPr>
                            <a:xfrm>
                              <a:off x="271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6" name=""/>
                            <p:cNvSpPr/>
                            <p:nvPr/>
                          </p:nvSpPr>
                          <p:spPr>
                            <a:xfrm>
                              <a:off x="27162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7" name=""/>
                          <p:cNvGrpSpPr/>
                          <p:nvPr/>
                        </p:nvGrpSpPr>
                        <p:grpSpPr>
                          <a:xfrm>
                            <a:off x="2718000" y="2600640"/>
                            <a:ext cx="2520" cy="4680"/>
                            <a:chOff x="2718000" y="2600640"/>
                            <a:chExt cx="2520" cy="4680"/>
                          </a:xfrm>
                        </p:grpSpPr>
                        <p:sp>
                          <p:nvSpPr>
                            <p:cNvPr id="1788" name=""/>
                            <p:cNvSpPr/>
                            <p:nvPr/>
                          </p:nvSpPr>
                          <p:spPr>
                            <a:xfrm>
                              <a:off x="27180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9" name=""/>
                            <p:cNvSpPr/>
                            <p:nvPr/>
                          </p:nvSpPr>
                          <p:spPr>
                            <a:xfrm>
                              <a:off x="2719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90" name=""/>
                      <p:cNvGrpSpPr/>
                      <p:nvPr/>
                    </p:nvGrpSpPr>
                    <p:grpSpPr>
                      <a:xfrm>
                        <a:off x="2721600" y="2600640"/>
                        <a:ext cx="9360" cy="4680"/>
                        <a:chOff x="2721600" y="2600640"/>
                        <a:chExt cx="9360" cy="4680"/>
                      </a:xfrm>
                    </p:grpSpPr>
                    <p:grpSp>
                      <p:nvGrpSpPr>
                        <p:cNvPr id="1791" name=""/>
                        <p:cNvGrpSpPr/>
                        <p:nvPr/>
                      </p:nvGrpSpPr>
                      <p:grpSpPr>
                        <a:xfrm>
                          <a:off x="2721600" y="2600640"/>
                          <a:ext cx="5040" cy="4680"/>
                          <a:chOff x="2721600" y="2600640"/>
                          <a:chExt cx="5040" cy="4680"/>
                        </a:xfrm>
                      </p:grpSpPr>
                      <p:grpSp>
                        <p:nvGrpSpPr>
                          <p:cNvPr id="1792" name=""/>
                          <p:cNvGrpSpPr/>
                          <p:nvPr/>
                        </p:nvGrpSpPr>
                        <p:grpSpPr>
                          <a:xfrm>
                            <a:off x="2721600" y="2600640"/>
                            <a:ext cx="2160" cy="4680"/>
                            <a:chOff x="2721600" y="2600640"/>
                            <a:chExt cx="2160" cy="4680"/>
                          </a:xfrm>
                        </p:grpSpPr>
                        <p:sp>
                          <p:nvSpPr>
                            <p:cNvPr id="1793" name=""/>
                            <p:cNvSpPr/>
                            <p:nvPr/>
                          </p:nvSpPr>
                          <p:spPr>
                            <a:xfrm>
                              <a:off x="2721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4" name=""/>
                            <p:cNvSpPr/>
                            <p:nvPr/>
                          </p:nvSpPr>
                          <p:spPr>
                            <a:xfrm>
                              <a:off x="2722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5" name=""/>
                          <p:cNvGrpSpPr/>
                          <p:nvPr/>
                        </p:nvGrpSpPr>
                        <p:grpSpPr>
                          <a:xfrm>
                            <a:off x="2724120" y="2600640"/>
                            <a:ext cx="2520" cy="4680"/>
                            <a:chOff x="2724120" y="2600640"/>
                            <a:chExt cx="2520" cy="4680"/>
                          </a:xfrm>
                        </p:grpSpPr>
                        <p:sp>
                          <p:nvSpPr>
                            <p:cNvPr id="1796" name=""/>
                            <p:cNvSpPr/>
                            <p:nvPr/>
                          </p:nvSpPr>
                          <p:spPr>
                            <a:xfrm>
                              <a:off x="27241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7" name=""/>
                            <p:cNvSpPr/>
                            <p:nvPr/>
                          </p:nvSpPr>
                          <p:spPr>
                            <a:xfrm>
                              <a:off x="27255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98" name=""/>
                        <p:cNvGrpSpPr/>
                        <p:nvPr/>
                      </p:nvGrpSpPr>
                      <p:grpSpPr>
                        <a:xfrm>
                          <a:off x="2727360" y="2600640"/>
                          <a:ext cx="3600" cy="4680"/>
                          <a:chOff x="2727360" y="2600640"/>
                          <a:chExt cx="3600" cy="4680"/>
                        </a:xfrm>
                      </p:grpSpPr>
                      <p:grpSp>
                        <p:nvGrpSpPr>
                          <p:cNvPr id="1799" name=""/>
                          <p:cNvGrpSpPr/>
                          <p:nvPr/>
                        </p:nvGrpSpPr>
                        <p:grpSpPr>
                          <a:xfrm>
                            <a:off x="2727360" y="2600640"/>
                            <a:ext cx="1440" cy="4680"/>
                            <a:chOff x="2727360" y="2600640"/>
                            <a:chExt cx="1440" cy="4680"/>
                          </a:xfrm>
                        </p:grpSpPr>
                        <p:sp>
                          <p:nvSpPr>
                            <p:cNvPr id="1800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1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2" name=""/>
                          <p:cNvGrpSpPr/>
                          <p:nvPr/>
                        </p:nvGrpSpPr>
                        <p:grpSpPr>
                          <a:xfrm>
                            <a:off x="2728800" y="2600640"/>
                            <a:ext cx="2160" cy="4680"/>
                            <a:chOff x="2728800" y="2600640"/>
                            <a:chExt cx="2160" cy="4680"/>
                          </a:xfrm>
                        </p:grpSpPr>
                        <p:sp>
                          <p:nvSpPr>
                            <p:cNvPr id="1803" name=""/>
                            <p:cNvSpPr/>
                            <p:nvPr/>
                          </p:nvSpPr>
                          <p:spPr>
                            <a:xfrm>
                              <a:off x="2728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4" name=""/>
                            <p:cNvSpPr/>
                            <p:nvPr/>
                          </p:nvSpPr>
                          <p:spPr>
                            <a:xfrm>
                              <a:off x="27298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27075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2663640" y="2619720"/>
                    <a:ext cx="210960" cy="29880"/>
                    <a:chOff x="2663640" y="2619720"/>
                    <a:chExt cx="210960" cy="29880"/>
                  </a:xfrm>
                </p:grpSpPr>
                <p:grpSp>
                  <p:nvGrpSpPr>
                    <p:cNvPr id="1807" name=""/>
                    <p:cNvGrpSpPr/>
                    <p:nvPr/>
                  </p:nvGrpSpPr>
                  <p:grpSpPr>
                    <a:xfrm>
                      <a:off x="2663640" y="2619720"/>
                      <a:ext cx="210960" cy="29880"/>
                      <a:chOff x="2663640" y="2619720"/>
                      <a:chExt cx="210960" cy="29880"/>
                    </a:xfrm>
                  </p:grpSpPr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26636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26636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26697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1" name=""/>
                    <p:cNvGrpSpPr/>
                    <p:nvPr/>
                  </p:nvGrpSpPr>
                  <p:grpSpPr>
                    <a:xfrm>
                      <a:off x="2685600" y="2622600"/>
                      <a:ext cx="165960" cy="5040"/>
                      <a:chOff x="2685600" y="2622600"/>
                      <a:chExt cx="165960" cy="5040"/>
                    </a:xfrm>
                  </p:grpSpPr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26856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27028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27360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276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27964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28249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8" name=""/>
                    <p:cNvGrpSpPr/>
                    <p:nvPr/>
                  </p:nvGrpSpPr>
                  <p:grpSpPr>
                    <a:xfrm>
                      <a:off x="2679480" y="2629080"/>
                      <a:ext cx="174960" cy="11160"/>
                      <a:chOff x="2679480" y="2629080"/>
                      <a:chExt cx="174960" cy="11160"/>
                    </a:xfrm>
                  </p:grpSpPr>
                  <p:grpSp>
                    <p:nvGrpSpPr>
                      <p:cNvPr id="1819" name=""/>
                      <p:cNvGrpSpPr/>
                      <p:nvPr/>
                    </p:nvGrpSpPr>
                    <p:grpSpPr>
                      <a:xfrm>
                        <a:off x="2694960" y="2629080"/>
                        <a:ext cx="84960" cy="9360"/>
                        <a:chOff x="2694960" y="2629080"/>
                        <a:chExt cx="84960" cy="9360"/>
                      </a:xfrm>
                    </p:grpSpPr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26949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26974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26992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>
                          <a:off x="27007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2679480" y="2630520"/>
                        <a:ext cx="15480" cy="6480"/>
                        <a:chOff x="2679480" y="2630520"/>
                        <a:chExt cx="15480" cy="648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>
                          <a:off x="26838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>
                          <a:off x="26820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26794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8" name=""/>
                      <p:cNvGrpSpPr/>
                      <p:nvPr/>
                    </p:nvGrpSpPr>
                    <p:grpSpPr>
                      <a:xfrm>
                        <a:off x="2714040" y="2629080"/>
                        <a:ext cx="78480" cy="9360"/>
                        <a:chOff x="2714040" y="2629080"/>
                        <a:chExt cx="78480" cy="9360"/>
                      </a:xfrm>
                    </p:grpSpPr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>
                          <a:off x="27140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>
                          <a:off x="27802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>
                          <a:off x="27835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>
                          <a:off x="27770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>
                          <a:off x="27644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>
                          <a:off x="27738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5" name=""/>
                      <p:cNvGrpSpPr/>
                      <p:nvPr/>
                    </p:nvGrpSpPr>
                    <p:grpSpPr>
                      <a:xfrm>
                        <a:off x="2796480" y="2630520"/>
                        <a:ext cx="24480" cy="7920"/>
                        <a:chOff x="2796480" y="2630520"/>
                        <a:chExt cx="24480" cy="7920"/>
                      </a:xfrm>
                    </p:grpSpPr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>
                          <a:off x="27964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>
                          <a:off x="27993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>
                          <a:off x="27993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9" name=""/>
                      <p:cNvGrpSpPr/>
                      <p:nvPr/>
                    </p:nvGrpSpPr>
                    <p:grpSpPr>
                      <a:xfrm>
                        <a:off x="2824920" y="2630520"/>
                        <a:ext cx="29520" cy="9720"/>
                        <a:chOff x="2824920" y="2630520"/>
                        <a:chExt cx="29520" cy="9720"/>
                      </a:xfrm>
                    </p:grpSpPr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>
                          <a:off x="28278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1" name=""/>
                        <p:cNvSpPr/>
                        <p:nvPr/>
                      </p:nvSpPr>
                      <p:spPr>
                        <a:xfrm>
                          <a:off x="28249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>
                          <a:off x="28278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>
                          <a:off x="28263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>
                          <a:off x="28468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5" name=""/>
                        <p:cNvSpPr/>
                        <p:nvPr/>
                      </p:nvSpPr>
                      <p:spPr>
                        <a:xfrm>
                          <a:off x="28483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2725200" y="2560680"/>
                    <a:ext cx="91800" cy="19080"/>
                    <a:chOff x="2725200" y="2560680"/>
                    <a:chExt cx="91800" cy="19080"/>
                  </a:xfrm>
                </p:grpSpPr>
                <p:grpSp>
                  <p:nvGrpSpPr>
                    <p:cNvPr id="1847" name=""/>
                    <p:cNvGrpSpPr/>
                    <p:nvPr/>
                  </p:nvGrpSpPr>
                  <p:grpSpPr>
                    <a:xfrm>
                      <a:off x="2725200" y="2565720"/>
                      <a:ext cx="91800" cy="14040"/>
                      <a:chOff x="2725200" y="2565720"/>
                      <a:chExt cx="91800" cy="14040"/>
                    </a:xfrm>
                  </p:grpSpPr>
                  <p:sp>
                    <p:nvSpPr>
                      <p:cNvPr id="1848" name=""/>
                      <p:cNvSpPr/>
                      <p:nvPr/>
                    </p:nvSpPr>
                    <p:spPr>
                      <a:xfrm>
                        <a:off x="27252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9" name=""/>
                      <p:cNvSpPr/>
                      <p:nvPr/>
                    </p:nvSpPr>
                    <p:spPr>
                      <a:xfrm>
                        <a:off x="27252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27457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1" name=""/>
                  <p:cNvSpPr/>
                  <p:nvPr/>
                </p:nvSpPr>
                <p:spPr>
                  <a:xfrm>
                    <a:off x="27144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27270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7316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8094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85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731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56" name=""/>
            <p:cNvGrpSpPr/>
            <p:nvPr/>
          </p:nvGrpSpPr>
          <p:grpSpPr>
            <a:xfrm>
              <a:off x="133200" y="3962520"/>
              <a:ext cx="1086120" cy="752400"/>
              <a:chOff x="133200" y="3962520"/>
              <a:chExt cx="1086120" cy="752400"/>
            </a:xfrm>
          </p:grpSpPr>
          <p:sp>
            <p:nvSpPr>
              <p:cNvPr id="1857" name=""/>
              <p:cNvSpPr/>
              <p:nvPr/>
            </p:nvSpPr>
            <p:spPr>
              <a:xfrm>
                <a:off x="1332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810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8 Sn Pedro Cholu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59" name=""/>
              <p:cNvGrpSpPr/>
              <p:nvPr/>
            </p:nvGrpSpPr>
            <p:grpSpPr>
              <a:xfrm>
                <a:off x="206280" y="4017960"/>
                <a:ext cx="822600" cy="488880"/>
                <a:chOff x="206280" y="4017960"/>
                <a:chExt cx="822600" cy="4888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3492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350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684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863" name="pbx" descr=""/>
                <p:cNvPicPr/>
                <p:nvPr/>
              </p:nvPicPr>
              <p:blipFill>
                <a:blip r:embed="rId21"/>
                <a:srcRect l="37594" t="74298" r="28339" b="4834"/>
                <a:stretch/>
              </p:blipFill>
              <p:spPr>
                <a:xfrm>
                  <a:off x="5112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382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65" name=""/>
                <p:cNvGrpSpPr/>
                <p:nvPr/>
              </p:nvGrpSpPr>
              <p:grpSpPr>
                <a:xfrm>
                  <a:off x="206280" y="4156200"/>
                  <a:ext cx="211320" cy="169920"/>
                  <a:chOff x="206280" y="4156200"/>
                  <a:chExt cx="211320" cy="169920"/>
                </a:xfrm>
              </p:grpSpPr>
              <p:grpSp>
                <p:nvGrpSpPr>
                  <p:cNvPr id="1866" name=""/>
                  <p:cNvGrpSpPr/>
                  <p:nvPr/>
                </p:nvGrpSpPr>
                <p:grpSpPr>
                  <a:xfrm>
                    <a:off x="246240" y="4246920"/>
                    <a:ext cx="134640" cy="52200"/>
                    <a:chOff x="246240" y="4246920"/>
                    <a:chExt cx="134640" cy="52200"/>
                  </a:xfrm>
                </p:grpSpPr>
                <p:grpSp>
                  <p:nvGrpSpPr>
                    <p:cNvPr id="1867" name=""/>
                    <p:cNvGrpSpPr/>
                    <p:nvPr/>
                  </p:nvGrpSpPr>
                  <p:grpSpPr>
                    <a:xfrm>
                      <a:off x="246240" y="4246920"/>
                      <a:ext cx="134640" cy="52200"/>
                      <a:chOff x="246240" y="4246920"/>
                      <a:chExt cx="134640" cy="52200"/>
                    </a:xfrm>
                  </p:grpSpPr>
                  <p:grpSp>
                    <p:nvGrpSpPr>
                      <p:cNvPr id="1868" name=""/>
                      <p:cNvGrpSpPr/>
                      <p:nvPr/>
                    </p:nvGrpSpPr>
                    <p:grpSpPr>
                      <a:xfrm>
                        <a:off x="246240" y="4246920"/>
                        <a:ext cx="134640" cy="52200"/>
                        <a:chOff x="246240" y="4246920"/>
                        <a:chExt cx="134640" cy="52200"/>
                      </a:xfrm>
                    </p:grpSpPr>
                    <p:grpSp>
                      <p:nvGrpSpPr>
                        <p:cNvPr id="1869" name=""/>
                        <p:cNvGrpSpPr/>
                        <p:nvPr/>
                      </p:nvGrpSpPr>
                      <p:grpSpPr>
                        <a:xfrm>
                          <a:off x="246240" y="4246920"/>
                          <a:ext cx="134640" cy="52200"/>
                          <a:chOff x="246240" y="4246920"/>
                          <a:chExt cx="134640" cy="52200"/>
                        </a:xfrm>
                      </p:grpSpPr>
                      <p:grpSp>
                        <p:nvGrpSpPr>
                          <p:cNvPr id="1870" name=""/>
                          <p:cNvGrpSpPr/>
                          <p:nvPr/>
                        </p:nvGrpSpPr>
                        <p:grpSpPr>
                          <a:xfrm>
                            <a:off x="246240" y="4246920"/>
                            <a:ext cx="134640" cy="52200"/>
                            <a:chOff x="246240" y="4246920"/>
                            <a:chExt cx="134640" cy="52200"/>
                          </a:xfrm>
                        </p:grpSpPr>
                        <p:sp>
                          <p:nvSpPr>
                            <p:cNvPr id="1871" name=""/>
                            <p:cNvSpPr/>
                            <p:nvPr/>
                          </p:nvSpPr>
                          <p:spPr>
                            <a:xfrm>
                              <a:off x="2462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72" name=""/>
                            <p:cNvSpPr/>
                            <p:nvPr/>
                          </p:nvSpPr>
                          <p:spPr>
                            <a:xfrm>
                              <a:off x="2476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73" name=""/>
                          <p:cNvSpPr/>
                          <p:nvPr/>
                        </p:nvSpPr>
                        <p:spPr>
                          <a:xfrm>
                            <a:off x="2491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74" name=""/>
                        <p:cNvGrpSpPr/>
                        <p:nvPr/>
                      </p:nvGrpSpPr>
                      <p:grpSpPr>
                        <a:xfrm>
                          <a:off x="252360" y="4289760"/>
                          <a:ext cx="127080" cy="7920"/>
                          <a:chOff x="252360" y="4289760"/>
                          <a:chExt cx="127080" cy="7920"/>
                        </a:xfrm>
                      </p:grpSpPr>
                      <p:grpSp>
                        <p:nvGrpSpPr>
                          <p:cNvPr id="1875" name=""/>
                          <p:cNvGrpSpPr/>
                          <p:nvPr/>
                        </p:nvGrpSpPr>
                        <p:grpSpPr>
                          <a:xfrm>
                            <a:off x="252360" y="4289760"/>
                            <a:ext cx="63720" cy="7920"/>
                            <a:chOff x="252360" y="4289760"/>
                            <a:chExt cx="63720" cy="7920"/>
                          </a:xfrm>
                        </p:grpSpPr>
                        <p:grpSp>
                          <p:nvGrpSpPr>
                            <p:cNvPr id="1876" name=""/>
                            <p:cNvGrpSpPr/>
                            <p:nvPr/>
                          </p:nvGrpSpPr>
                          <p:grpSpPr>
                            <a:xfrm>
                              <a:off x="252360" y="4289760"/>
                              <a:ext cx="31680" cy="7920"/>
                              <a:chOff x="252360" y="4289760"/>
                              <a:chExt cx="31680" cy="7920"/>
                            </a:xfrm>
                          </p:grpSpPr>
                          <p:grpSp>
                            <p:nvGrpSpPr>
                              <p:cNvPr id="1877" name=""/>
                              <p:cNvGrpSpPr/>
                              <p:nvPr/>
                            </p:nvGrpSpPr>
                            <p:grpSpPr>
                              <a:xfrm>
                                <a:off x="252360" y="4289760"/>
                                <a:ext cx="15840" cy="7920"/>
                                <a:chOff x="2523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7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4289760"/>
                                  <a:ext cx="7920" cy="7920"/>
                                  <a:chOff x="2523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4289760"/>
                                    <a:ext cx="3240" cy="7920"/>
                                    <a:chOff x="2523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4289760"/>
                                    <a:ext cx="4680" cy="7920"/>
                                    <a:chOff x="2556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88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4289760"/>
                                  <a:ext cx="7920" cy="7920"/>
                                  <a:chOff x="2602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4289760"/>
                                    <a:ext cx="3240" cy="7920"/>
                                    <a:chOff x="260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4289760"/>
                                    <a:ext cx="4680" cy="7920"/>
                                    <a:chOff x="2635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892" name=""/>
                              <p:cNvGrpSpPr/>
                              <p:nvPr/>
                            </p:nvGrpSpPr>
                            <p:grpSpPr>
                              <a:xfrm>
                                <a:off x="268200" y="4289760"/>
                                <a:ext cx="15840" cy="7920"/>
                                <a:chOff x="2682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9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4289760"/>
                                  <a:ext cx="7920" cy="7920"/>
                                  <a:chOff x="2682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4289760"/>
                                    <a:ext cx="3240" cy="7920"/>
                                    <a:chOff x="268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4289760"/>
                                    <a:ext cx="4680" cy="7920"/>
                                    <a:chOff x="2714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0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4289760"/>
                                  <a:ext cx="7920" cy="7920"/>
                                  <a:chOff x="2761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4289760"/>
                                    <a:ext cx="3240" cy="7920"/>
                                    <a:chOff x="2761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4289760"/>
                                    <a:ext cx="4680" cy="7920"/>
                                    <a:chOff x="2793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07" name=""/>
                            <p:cNvGrpSpPr/>
                            <p:nvPr/>
                          </p:nvGrpSpPr>
                          <p:grpSpPr>
                            <a:xfrm>
                              <a:off x="284040" y="4289760"/>
                              <a:ext cx="32040" cy="7920"/>
                              <a:chOff x="284040" y="4289760"/>
                              <a:chExt cx="32040" cy="7920"/>
                            </a:xfrm>
                          </p:grpSpPr>
                          <p:grpSp>
                            <p:nvGrpSpPr>
                              <p:cNvPr id="1908" name=""/>
                              <p:cNvGrpSpPr/>
                              <p:nvPr/>
                            </p:nvGrpSpPr>
                            <p:grpSpPr>
                              <a:xfrm>
                                <a:off x="284040" y="4289760"/>
                                <a:ext cx="16200" cy="7920"/>
                                <a:chOff x="2840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190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4289760"/>
                                  <a:ext cx="8280" cy="7920"/>
                                  <a:chOff x="2840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9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4289760"/>
                                    <a:ext cx="3240" cy="7920"/>
                                    <a:chOff x="2840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4289760"/>
                                    <a:ext cx="3240" cy="7920"/>
                                    <a:chOff x="289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1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4289760"/>
                                  <a:ext cx="7920" cy="7920"/>
                                  <a:chOff x="292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4289760"/>
                                    <a:ext cx="2880" cy="7920"/>
                                    <a:chOff x="2923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4289760"/>
                                    <a:ext cx="3240" cy="7920"/>
                                    <a:chOff x="297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23" name=""/>
                              <p:cNvGrpSpPr/>
                              <p:nvPr/>
                            </p:nvGrpSpPr>
                            <p:grpSpPr>
                              <a:xfrm>
                                <a:off x="300240" y="4289760"/>
                                <a:ext cx="15840" cy="7920"/>
                                <a:chOff x="3002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2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4289760"/>
                                  <a:ext cx="7920" cy="7920"/>
                                  <a:chOff x="300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4289760"/>
                                    <a:ext cx="2880" cy="7920"/>
                                    <a:chOff x="3002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4289760"/>
                                    <a:ext cx="3240" cy="7920"/>
                                    <a:chOff x="304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3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4289760"/>
                                  <a:ext cx="7920" cy="7920"/>
                                  <a:chOff x="308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4289760"/>
                                    <a:ext cx="2880" cy="7920"/>
                                    <a:chOff x="3081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4289760"/>
                                    <a:ext cx="5040" cy="7920"/>
                                    <a:chOff x="3110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938" name=""/>
                          <p:cNvGrpSpPr/>
                          <p:nvPr/>
                        </p:nvGrpSpPr>
                        <p:grpSpPr>
                          <a:xfrm>
                            <a:off x="316080" y="4289760"/>
                            <a:ext cx="63360" cy="7920"/>
                            <a:chOff x="316080" y="4289760"/>
                            <a:chExt cx="63360" cy="7920"/>
                          </a:xfrm>
                        </p:grpSpPr>
                        <p:grpSp>
                          <p:nvGrpSpPr>
                            <p:cNvPr id="1939" name=""/>
                            <p:cNvGrpSpPr/>
                            <p:nvPr/>
                          </p:nvGrpSpPr>
                          <p:grpSpPr>
                            <a:xfrm>
                              <a:off x="316080" y="4289760"/>
                              <a:ext cx="31680" cy="7920"/>
                              <a:chOff x="316080" y="4289760"/>
                              <a:chExt cx="31680" cy="7920"/>
                            </a:xfrm>
                          </p:grpSpPr>
                          <p:grpSp>
                            <p:nvGrpSpPr>
                              <p:cNvPr id="1940" name=""/>
                              <p:cNvGrpSpPr/>
                              <p:nvPr/>
                            </p:nvGrpSpPr>
                            <p:grpSpPr>
                              <a:xfrm>
                                <a:off x="316080" y="4289760"/>
                                <a:ext cx="15840" cy="7920"/>
                                <a:chOff x="3160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4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4289760"/>
                                  <a:ext cx="7920" cy="7920"/>
                                  <a:chOff x="316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4289760"/>
                                    <a:ext cx="3240" cy="7920"/>
                                    <a:chOff x="316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4289760"/>
                                    <a:ext cx="4680" cy="7920"/>
                                    <a:chOff x="319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4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4289760"/>
                                  <a:ext cx="7920" cy="7920"/>
                                  <a:chOff x="324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4289760"/>
                                    <a:ext cx="3240" cy="7920"/>
                                    <a:chOff x="324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4289760"/>
                                    <a:ext cx="3240" cy="7920"/>
                                    <a:chOff x="328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55" name=""/>
                              <p:cNvGrpSpPr/>
                              <p:nvPr/>
                            </p:nvGrpSpPr>
                            <p:grpSpPr>
                              <a:xfrm>
                                <a:off x="331920" y="4289760"/>
                                <a:ext cx="15840" cy="7920"/>
                                <a:chOff x="3319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5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4289760"/>
                                  <a:ext cx="7920" cy="7920"/>
                                  <a:chOff x="331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4289760"/>
                                    <a:ext cx="3240" cy="7920"/>
                                    <a:chOff x="331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4289760"/>
                                    <a:ext cx="3240" cy="7920"/>
                                    <a:chOff x="336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6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4289760"/>
                                  <a:ext cx="7920" cy="7920"/>
                                  <a:chOff x="3398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4289760"/>
                                    <a:ext cx="3240" cy="7920"/>
                                    <a:chOff x="339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4289760"/>
                                    <a:ext cx="4680" cy="7920"/>
                                    <a:chOff x="3430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70" name=""/>
                            <p:cNvGrpSpPr/>
                            <p:nvPr/>
                          </p:nvGrpSpPr>
                          <p:grpSpPr>
                            <a:xfrm>
                              <a:off x="347760" y="4289760"/>
                              <a:ext cx="31680" cy="7920"/>
                              <a:chOff x="347760" y="4289760"/>
                              <a:chExt cx="31680" cy="7920"/>
                            </a:xfrm>
                          </p:grpSpPr>
                          <p:grpSp>
                            <p:nvGrpSpPr>
                              <p:cNvPr id="1971" name=""/>
                              <p:cNvGrpSpPr/>
                              <p:nvPr/>
                            </p:nvGrpSpPr>
                            <p:grpSpPr>
                              <a:xfrm>
                                <a:off x="347760" y="4289760"/>
                                <a:ext cx="15840" cy="7920"/>
                                <a:chOff x="347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7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4289760"/>
                                  <a:ext cx="7920" cy="7920"/>
                                  <a:chOff x="347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4289760"/>
                                    <a:ext cx="3240" cy="7920"/>
                                    <a:chOff x="347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4289760"/>
                                    <a:ext cx="3240" cy="7920"/>
                                    <a:chOff x="352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7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4289760"/>
                                  <a:ext cx="7920" cy="7920"/>
                                  <a:chOff x="355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4289760"/>
                                    <a:ext cx="3240" cy="7920"/>
                                    <a:chOff x="355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4289760"/>
                                    <a:ext cx="4680" cy="7920"/>
                                    <a:chOff x="358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86" name=""/>
                              <p:cNvGrpSpPr/>
                              <p:nvPr/>
                            </p:nvGrpSpPr>
                            <p:grpSpPr>
                              <a:xfrm>
                                <a:off x="363600" y="4289760"/>
                                <a:ext cx="15840" cy="7920"/>
                                <a:chOff x="363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8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4289760"/>
                                  <a:ext cx="7920" cy="7920"/>
                                  <a:chOff x="363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4289760"/>
                                    <a:ext cx="3240" cy="7920"/>
                                    <a:chOff x="363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4289760"/>
                                    <a:ext cx="3240" cy="7920"/>
                                    <a:chOff x="368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9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4289760"/>
                                  <a:ext cx="7920" cy="7920"/>
                                  <a:chOff x="371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4289760"/>
                                    <a:ext cx="3240" cy="7920"/>
                                    <a:chOff x="371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4289760"/>
                                    <a:ext cx="3240" cy="7920"/>
                                    <a:chOff x="376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001" name=""/>
                      <p:cNvGrpSpPr/>
                      <p:nvPr/>
                    </p:nvGrpSpPr>
                    <p:grpSpPr>
                      <a:xfrm>
                        <a:off x="249120" y="4260960"/>
                        <a:ext cx="128880" cy="22320"/>
                        <a:chOff x="249120" y="4260960"/>
                        <a:chExt cx="128880" cy="22320"/>
                      </a:xfrm>
                    </p:grpSpPr>
                    <p:sp>
                      <p:nvSpPr>
                        <p:cNvPr id="2002" name=""/>
                        <p:cNvSpPr/>
                        <p:nvPr/>
                      </p:nvSpPr>
                      <p:spPr>
                        <a:xfrm>
                          <a:off x="2491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3" name=""/>
                        <p:cNvSpPr/>
                        <p:nvPr/>
                      </p:nvSpPr>
                      <p:spPr>
                        <a:xfrm>
                          <a:off x="2779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4" name=""/>
                        <p:cNvSpPr/>
                        <p:nvPr/>
                      </p:nvSpPr>
                      <p:spPr>
                        <a:xfrm>
                          <a:off x="3175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5" name=""/>
                        <p:cNvSpPr/>
                        <p:nvPr/>
                      </p:nvSpPr>
                      <p:spPr>
                        <a:xfrm>
                          <a:off x="3589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6" name=""/>
                    <p:cNvGrpSpPr/>
                    <p:nvPr/>
                  </p:nvGrpSpPr>
                  <p:grpSpPr>
                    <a:xfrm>
                      <a:off x="362160" y="4264200"/>
                      <a:ext cx="12600" cy="11160"/>
                      <a:chOff x="362160" y="4264200"/>
                      <a:chExt cx="12600" cy="11160"/>
                    </a:xfrm>
                  </p:grpSpPr>
                  <p:sp>
                    <p:nvSpPr>
                      <p:cNvPr id="2007" name=""/>
                      <p:cNvSpPr/>
                      <p:nvPr/>
                    </p:nvSpPr>
                    <p:spPr>
                      <a:xfrm>
                        <a:off x="3668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8" name=""/>
                      <p:cNvSpPr/>
                      <p:nvPr/>
                    </p:nvSpPr>
                    <p:spPr>
                      <a:xfrm>
                        <a:off x="3682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09" name=""/>
                      <p:cNvGrpSpPr/>
                      <p:nvPr/>
                    </p:nvGrpSpPr>
                    <p:grpSpPr>
                      <a:xfrm>
                        <a:off x="362160" y="4266000"/>
                        <a:ext cx="2880" cy="6120"/>
                        <a:chOff x="362160" y="4266000"/>
                        <a:chExt cx="2880" cy="6120"/>
                      </a:xfrm>
                    </p:grpSpPr>
                    <p:sp>
                      <p:nvSpPr>
                        <p:cNvPr id="2010" name=""/>
                        <p:cNvSpPr/>
                        <p:nvPr/>
                      </p:nvSpPr>
                      <p:spPr>
                        <a:xfrm>
                          <a:off x="3621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1" name=""/>
                        <p:cNvSpPr/>
                        <p:nvPr/>
                      </p:nvSpPr>
                      <p:spPr>
                        <a:xfrm>
                          <a:off x="3621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2" name=""/>
                    <p:cNvGrpSpPr/>
                    <p:nvPr/>
                  </p:nvGrpSpPr>
                  <p:grpSpPr>
                    <a:xfrm>
                      <a:off x="279360" y="4264200"/>
                      <a:ext cx="36720" cy="14400"/>
                      <a:chOff x="279360" y="4264200"/>
                      <a:chExt cx="36720" cy="14400"/>
                    </a:xfrm>
                  </p:grpSpPr>
                  <p:grpSp>
                    <p:nvGrpSpPr>
                      <p:cNvPr id="2013" name=""/>
                      <p:cNvGrpSpPr/>
                      <p:nvPr/>
                    </p:nvGrpSpPr>
                    <p:grpSpPr>
                      <a:xfrm>
                        <a:off x="281160" y="4264200"/>
                        <a:ext cx="34920" cy="7920"/>
                        <a:chOff x="281160" y="4264200"/>
                        <a:chExt cx="34920" cy="7920"/>
                      </a:xfrm>
                    </p:grpSpPr>
                    <p:sp>
                      <p:nvSpPr>
                        <p:cNvPr id="2014" name=""/>
                        <p:cNvSpPr/>
                        <p:nvPr/>
                      </p:nvSpPr>
                      <p:spPr>
                        <a:xfrm>
                          <a:off x="2905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5" name=""/>
                        <p:cNvSpPr/>
                        <p:nvPr/>
                      </p:nvSpPr>
                      <p:spPr>
                        <a:xfrm>
                          <a:off x="2905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6" name=""/>
                        <p:cNvSpPr/>
                        <p:nvPr/>
                      </p:nvSpPr>
                      <p:spPr>
                        <a:xfrm>
                          <a:off x="2811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17" name=""/>
                      <p:cNvSpPr/>
                      <p:nvPr/>
                    </p:nvSpPr>
                    <p:spPr>
                      <a:xfrm>
                        <a:off x="2793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3081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9" name=""/>
                    <p:cNvGrpSpPr/>
                    <p:nvPr/>
                  </p:nvGrpSpPr>
                  <p:grpSpPr>
                    <a:xfrm>
                      <a:off x="252360" y="4277160"/>
                      <a:ext cx="23760" cy="4680"/>
                      <a:chOff x="252360" y="4277160"/>
                      <a:chExt cx="23760" cy="4680"/>
                    </a:xfrm>
                  </p:grpSpPr>
                  <p:grpSp>
                    <p:nvGrpSpPr>
                      <p:cNvPr id="2020" name=""/>
                      <p:cNvGrpSpPr/>
                      <p:nvPr/>
                    </p:nvGrpSpPr>
                    <p:grpSpPr>
                      <a:xfrm>
                        <a:off x="252360" y="4277160"/>
                        <a:ext cx="12960" cy="4680"/>
                        <a:chOff x="252360" y="4277160"/>
                        <a:chExt cx="12960" cy="4680"/>
                      </a:xfrm>
                    </p:grpSpPr>
                    <p:grpSp>
                      <p:nvGrpSpPr>
                        <p:cNvPr id="2021" name=""/>
                        <p:cNvGrpSpPr/>
                        <p:nvPr/>
                      </p:nvGrpSpPr>
                      <p:grpSpPr>
                        <a:xfrm>
                          <a:off x="252360" y="4277160"/>
                          <a:ext cx="6480" cy="4680"/>
                          <a:chOff x="252360" y="4277160"/>
                          <a:chExt cx="6480" cy="4680"/>
                        </a:xfrm>
                      </p:grpSpPr>
                      <p:grpSp>
                        <p:nvGrpSpPr>
                          <p:cNvPr id="2022" name=""/>
                          <p:cNvGrpSpPr/>
                          <p:nvPr/>
                        </p:nvGrpSpPr>
                        <p:grpSpPr>
                          <a:xfrm>
                            <a:off x="252360" y="4277160"/>
                            <a:ext cx="3240" cy="4680"/>
                            <a:chOff x="252360" y="4277160"/>
                            <a:chExt cx="3240" cy="4680"/>
                          </a:xfrm>
                        </p:grpSpPr>
                        <p:sp>
                          <p:nvSpPr>
                            <p:cNvPr id="2023" name=""/>
                            <p:cNvSpPr/>
                            <p:nvPr/>
                          </p:nvSpPr>
                          <p:spPr>
                            <a:xfrm>
                              <a:off x="2523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4" name=""/>
                            <p:cNvSpPr/>
                            <p:nvPr/>
                          </p:nvSpPr>
                          <p:spPr>
                            <a:xfrm>
                              <a:off x="254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5" name=""/>
                          <p:cNvGrpSpPr/>
                          <p:nvPr/>
                        </p:nvGrpSpPr>
                        <p:grpSpPr>
                          <a:xfrm>
                            <a:off x="255600" y="4277160"/>
                            <a:ext cx="3240" cy="4680"/>
                            <a:chOff x="255600" y="4277160"/>
                            <a:chExt cx="3240" cy="4680"/>
                          </a:xfrm>
                        </p:grpSpPr>
                        <p:sp>
                          <p:nvSpPr>
                            <p:cNvPr id="2026" name=""/>
                            <p:cNvSpPr/>
                            <p:nvPr/>
                          </p:nvSpPr>
                          <p:spPr>
                            <a:xfrm>
                              <a:off x="255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7" name=""/>
                            <p:cNvSpPr/>
                            <p:nvPr/>
                          </p:nvSpPr>
                          <p:spPr>
                            <a:xfrm>
                              <a:off x="257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28" name=""/>
                        <p:cNvGrpSpPr/>
                        <p:nvPr/>
                      </p:nvGrpSpPr>
                      <p:grpSpPr>
                        <a:xfrm>
                          <a:off x="258840" y="4277160"/>
                          <a:ext cx="6480" cy="4680"/>
                          <a:chOff x="258840" y="4277160"/>
                          <a:chExt cx="6480" cy="4680"/>
                        </a:xfrm>
                      </p:grpSpPr>
                      <p:grpSp>
                        <p:nvGrpSpPr>
                          <p:cNvPr id="2029" name=""/>
                          <p:cNvGrpSpPr/>
                          <p:nvPr/>
                        </p:nvGrpSpPr>
                        <p:grpSpPr>
                          <a:xfrm>
                            <a:off x="258840" y="4277160"/>
                            <a:ext cx="3240" cy="4680"/>
                            <a:chOff x="258840" y="4277160"/>
                            <a:chExt cx="3240" cy="4680"/>
                          </a:xfrm>
                        </p:grpSpPr>
                        <p:sp>
                          <p:nvSpPr>
                            <p:cNvPr id="2030" name=""/>
                            <p:cNvSpPr/>
                            <p:nvPr/>
                          </p:nvSpPr>
                          <p:spPr>
                            <a:xfrm>
                              <a:off x="258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1" name=""/>
                            <p:cNvSpPr/>
                            <p:nvPr/>
                          </p:nvSpPr>
                          <p:spPr>
                            <a:xfrm>
                              <a:off x="2602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2" name=""/>
                          <p:cNvGrpSpPr/>
                          <p:nvPr/>
                        </p:nvGrpSpPr>
                        <p:grpSpPr>
                          <a:xfrm>
                            <a:off x="262080" y="4277160"/>
                            <a:ext cx="3240" cy="4680"/>
                            <a:chOff x="262080" y="4277160"/>
                            <a:chExt cx="3240" cy="4680"/>
                          </a:xfrm>
                        </p:grpSpPr>
                        <p:sp>
                          <p:nvSpPr>
                            <p:cNvPr id="2033" name=""/>
                            <p:cNvSpPr/>
                            <p:nvPr/>
                          </p:nvSpPr>
                          <p:spPr>
                            <a:xfrm>
                              <a:off x="262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4" name=""/>
                            <p:cNvSpPr/>
                            <p:nvPr/>
                          </p:nvSpPr>
                          <p:spPr>
                            <a:xfrm>
                              <a:off x="2635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35" name=""/>
                      <p:cNvGrpSpPr/>
                      <p:nvPr/>
                    </p:nvGrpSpPr>
                    <p:grpSpPr>
                      <a:xfrm>
                        <a:off x="265320" y="4277160"/>
                        <a:ext cx="10800" cy="4680"/>
                        <a:chOff x="265320" y="4277160"/>
                        <a:chExt cx="10800" cy="4680"/>
                      </a:xfrm>
                    </p:grpSpPr>
                    <p:grpSp>
                      <p:nvGrpSpPr>
                        <p:cNvPr id="2036" name=""/>
                        <p:cNvGrpSpPr/>
                        <p:nvPr/>
                      </p:nvGrpSpPr>
                      <p:grpSpPr>
                        <a:xfrm>
                          <a:off x="265320" y="4277160"/>
                          <a:ext cx="6120" cy="4680"/>
                          <a:chOff x="265320" y="4277160"/>
                          <a:chExt cx="6120" cy="4680"/>
                        </a:xfrm>
                      </p:grpSpPr>
                      <p:grpSp>
                        <p:nvGrpSpPr>
                          <p:cNvPr id="2037" name=""/>
                          <p:cNvGrpSpPr/>
                          <p:nvPr/>
                        </p:nvGrpSpPr>
                        <p:grpSpPr>
                          <a:xfrm>
                            <a:off x="265320" y="4277160"/>
                            <a:ext cx="2880" cy="4680"/>
                            <a:chOff x="265320" y="4277160"/>
                            <a:chExt cx="2880" cy="4680"/>
                          </a:xfrm>
                        </p:grpSpPr>
                        <p:sp>
                          <p:nvSpPr>
                            <p:cNvPr id="2038" name=""/>
                            <p:cNvSpPr/>
                            <p:nvPr/>
                          </p:nvSpPr>
                          <p:spPr>
                            <a:xfrm>
                              <a:off x="2653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9" name=""/>
                            <p:cNvSpPr/>
                            <p:nvPr/>
                          </p:nvSpPr>
                          <p:spPr>
                            <a:xfrm>
                              <a:off x="2667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0" name=""/>
                          <p:cNvGrpSpPr/>
                          <p:nvPr/>
                        </p:nvGrpSpPr>
                        <p:grpSpPr>
                          <a:xfrm>
                            <a:off x="268200" y="4277160"/>
                            <a:ext cx="3240" cy="4680"/>
                            <a:chOff x="268200" y="4277160"/>
                            <a:chExt cx="3240" cy="4680"/>
                          </a:xfrm>
                        </p:grpSpPr>
                        <p:sp>
                          <p:nvSpPr>
                            <p:cNvPr id="2041" name=""/>
                            <p:cNvSpPr/>
                            <p:nvPr/>
                          </p:nvSpPr>
                          <p:spPr>
                            <a:xfrm>
                              <a:off x="2682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2" name=""/>
                            <p:cNvSpPr/>
                            <p:nvPr/>
                          </p:nvSpPr>
                          <p:spPr>
                            <a:xfrm>
                              <a:off x="2700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3" name=""/>
                        <p:cNvGrpSpPr/>
                        <p:nvPr/>
                      </p:nvGrpSpPr>
                      <p:grpSpPr>
                        <a:xfrm>
                          <a:off x="271440" y="4277160"/>
                          <a:ext cx="4680" cy="4680"/>
                          <a:chOff x="271440" y="4277160"/>
                          <a:chExt cx="4680" cy="4680"/>
                        </a:xfrm>
                      </p:grpSpPr>
                      <p:grpSp>
                        <p:nvGrpSpPr>
                          <p:cNvPr id="2044" name=""/>
                          <p:cNvGrpSpPr/>
                          <p:nvPr/>
                        </p:nvGrpSpPr>
                        <p:grpSpPr>
                          <a:xfrm>
                            <a:off x="271440" y="4277160"/>
                            <a:ext cx="1800" cy="4680"/>
                            <a:chOff x="271440" y="4277160"/>
                            <a:chExt cx="1800" cy="4680"/>
                          </a:xfrm>
                        </p:grpSpPr>
                        <p:sp>
                          <p:nvSpPr>
                            <p:cNvPr id="2045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6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7" name=""/>
                          <p:cNvGrpSpPr/>
                          <p:nvPr/>
                        </p:nvGrpSpPr>
                        <p:grpSpPr>
                          <a:xfrm>
                            <a:off x="273240" y="4277160"/>
                            <a:ext cx="2880" cy="4680"/>
                            <a:chOff x="273240" y="4277160"/>
                            <a:chExt cx="2880" cy="4680"/>
                          </a:xfrm>
                        </p:grpSpPr>
                        <p:sp>
                          <p:nvSpPr>
                            <p:cNvPr id="2048" name=""/>
                            <p:cNvSpPr/>
                            <p:nvPr/>
                          </p:nvSpPr>
                          <p:spPr>
                            <a:xfrm>
                              <a:off x="273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9" name=""/>
                            <p:cNvSpPr/>
                            <p:nvPr/>
                          </p:nvSpPr>
                          <p:spPr>
                            <a:xfrm>
                              <a:off x="274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050" name=""/>
                    <p:cNvSpPr/>
                    <p:nvPr/>
                  </p:nvSpPr>
                  <p:spPr>
                    <a:xfrm>
                      <a:off x="2509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206280" y="4296240"/>
                    <a:ext cx="211320" cy="29880"/>
                    <a:chOff x="206280" y="4296240"/>
                    <a:chExt cx="211320" cy="29880"/>
                  </a:xfrm>
                </p:grpSpPr>
                <p:grpSp>
                  <p:nvGrpSpPr>
                    <p:cNvPr id="2052" name=""/>
                    <p:cNvGrpSpPr/>
                    <p:nvPr/>
                  </p:nvGrpSpPr>
                  <p:grpSpPr>
                    <a:xfrm>
                      <a:off x="206280" y="4296240"/>
                      <a:ext cx="211320" cy="29880"/>
                      <a:chOff x="206280" y="4296240"/>
                      <a:chExt cx="211320" cy="29880"/>
                    </a:xfrm>
                  </p:grpSpPr>
                  <p:sp>
                    <p:nvSpPr>
                      <p:cNvPr id="2053" name=""/>
                      <p:cNvSpPr/>
                      <p:nvPr/>
                    </p:nvSpPr>
                    <p:spPr>
                      <a:xfrm>
                        <a:off x="2062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4" name=""/>
                      <p:cNvSpPr/>
                      <p:nvPr/>
                    </p:nvSpPr>
                    <p:spPr>
                      <a:xfrm>
                        <a:off x="2062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5" name=""/>
                      <p:cNvSpPr/>
                      <p:nvPr/>
                    </p:nvSpPr>
                    <p:spPr>
                      <a:xfrm>
                        <a:off x="2127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6" name=""/>
                    <p:cNvGrpSpPr/>
                    <p:nvPr/>
                  </p:nvGrpSpPr>
                  <p:grpSpPr>
                    <a:xfrm>
                      <a:off x="228600" y="4299120"/>
                      <a:ext cx="166680" cy="5040"/>
                      <a:chOff x="228600" y="4299120"/>
                      <a:chExt cx="166680" cy="5040"/>
                    </a:xfrm>
                  </p:grpSpPr>
                  <p:sp>
                    <p:nvSpPr>
                      <p:cNvPr id="2057" name=""/>
                      <p:cNvSpPr/>
                      <p:nvPr/>
                    </p:nvSpPr>
                    <p:spPr>
                      <a:xfrm>
                        <a:off x="2286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8" name=""/>
                      <p:cNvSpPr/>
                      <p:nvPr/>
                    </p:nvSpPr>
                    <p:spPr>
                      <a:xfrm>
                        <a:off x="2462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9" name=""/>
                      <p:cNvSpPr/>
                      <p:nvPr/>
                    </p:nvSpPr>
                    <p:spPr>
                      <a:xfrm>
                        <a:off x="2793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0" name=""/>
                      <p:cNvSpPr/>
                      <p:nvPr/>
                    </p:nvSpPr>
                    <p:spPr>
                      <a:xfrm>
                        <a:off x="3096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1" name=""/>
                      <p:cNvSpPr/>
                      <p:nvPr/>
                    </p:nvSpPr>
                    <p:spPr>
                      <a:xfrm>
                        <a:off x="3398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>
                        <a:off x="3682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3" name=""/>
                    <p:cNvGrpSpPr/>
                    <p:nvPr/>
                  </p:nvGrpSpPr>
                  <p:grpSpPr>
                    <a:xfrm>
                      <a:off x="222480" y="4305600"/>
                      <a:ext cx="176040" cy="11160"/>
                      <a:chOff x="222480" y="4305600"/>
                      <a:chExt cx="176040" cy="11160"/>
                    </a:xfrm>
                  </p:grpSpPr>
                  <p:grpSp>
                    <p:nvGrpSpPr>
                      <p:cNvPr id="2064" name=""/>
                      <p:cNvGrpSpPr/>
                      <p:nvPr/>
                    </p:nvGrpSpPr>
                    <p:grpSpPr>
                      <a:xfrm>
                        <a:off x="238320" y="4305600"/>
                        <a:ext cx="85680" cy="9360"/>
                        <a:chOff x="238320" y="4305600"/>
                        <a:chExt cx="85680" cy="9360"/>
                      </a:xfrm>
                    </p:grpSpPr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>
                          <a:off x="2383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412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430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444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9" name=""/>
                      <p:cNvGrpSpPr/>
                      <p:nvPr/>
                    </p:nvGrpSpPr>
                    <p:grpSpPr>
                      <a:xfrm>
                        <a:off x="222480" y="4307040"/>
                        <a:ext cx="15840" cy="6480"/>
                        <a:chOff x="222480" y="4307040"/>
                        <a:chExt cx="15840" cy="6480"/>
                      </a:xfrm>
                    </p:grpSpPr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271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253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224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3" name=""/>
                      <p:cNvGrpSpPr/>
                      <p:nvPr/>
                    </p:nvGrpSpPr>
                    <p:grpSpPr>
                      <a:xfrm>
                        <a:off x="257400" y="4305600"/>
                        <a:ext cx="79200" cy="9360"/>
                        <a:chOff x="257400" y="4305600"/>
                        <a:chExt cx="79200" cy="9360"/>
                      </a:xfrm>
                    </p:grpSpPr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574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3240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3272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3207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3081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3175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0" name=""/>
                      <p:cNvGrpSpPr/>
                      <p:nvPr/>
                    </p:nvGrpSpPr>
                    <p:grpSpPr>
                      <a:xfrm>
                        <a:off x="339840" y="4307040"/>
                        <a:ext cx="25200" cy="7920"/>
                        <a:chOff x="339840" y="4307040"/>
                        <a:chExt cx="25200" cy="7920"/>
                      </a:xfrm>
                    </p:grpSpPr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>
                          <a:off x="3398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>
                          <a:off x="3430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3430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4" name=""/>
                      <p:cNvGrpSpPr/>
                      <p:nvPr/>
                    </p:nvGrpSpPr>
                    <p:grpSpPr>
                      <a:xfrm>
                        <a:off x="368280" y="4307040"/>
                        <a:ext cx="30240" cy="9720"/>
                        <a:chOff x="368280" y="4307040"/>
                        <a:chExt cx="30240" cy="9720"/>
                      </a:xfrm>
                    </p:grpSpPr>
                    <p:sp>
                      <p:nvSpPr>
                        <p:cNvPr id="2085" name=""/>
                        <p:cNvSpPr/>
                        <p:nvPr/>
                      </p:nvSpPr>
                      <p:spPr>
                        <a:xfrm>
                          <a:off x="3715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>
                          <a:off x="3682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>
                          <a:off x="3715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>
                          <a:off x="3700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3906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>
                          <a:off x="3920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91" name=""/>
                  <p:cNvGrpSpPr/>
                  <p:nvPr/>
                </p:nvGrpSpPr>
                <p:grpSpPr>
                  <a:xfrm>
                    <a:off x="268200" y="4237200"/>
                    <a:ext cx="92160" cy="19080"/>
                    <a:chOff x="268200" y="4237200"/>
                    <a:chExt cx="92160" cy="19080"/>
                  </a:xfrm>
                </p:grpSpPr>
                <p:grpSp>
                  <p:nvGrpSpPr>
                    <p:cNvPr id="2092" name=""/>
                    <p:cNvGrpSpPr/>
                    <p:nvPr/>
                  </p:nvGrpSpPr>
                  <p:grpSpPr>
                    <a:xfrm>
                      <a:off x="268200" y="4242240"/>
                      <a:ext cx="92160" cy="14040"/>
                      <a:chOff x="268200" y="4242240"/>
                      <a:chExt cx="92160" cy="14040"/>
                    </a:xfrm>
                  </p:grpSpPr>
                  <p:sp>
                    <p:nvSpPr>
                      <p:cNvPr id="2093" name=""/>
                      <p:cNvSpPr/>
                      <p:nvPr/>
                    </p:nvSpPr>
                    <p:spPr>
                      <a:xfrm>
                        <a:off x="2682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2682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5" name=""/>
                    <p:cNvSpPr/>
                    <p:nvPr/>
                  </p:nvSpPr>
                  <p:spPr>
                    <a:xfrm>
                      <a:off x="2890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6" name=""/>
                  <p:cNvSpPr/>
                  <p:nvPr/>
                </p:nvSpPr>
                <p:spPr>
                  <a:xfrm>
                    <a:off x="2574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2700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2746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3524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10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161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101" name=""/>
            <p:cNvGrpSpPr/>
            <p:nvPr/>
          </p:nvGrpSpPr>
          <p:grpSpPr>
            <a:xfrm>
              <a:off x="133200" y="4800600"/>
              <a:ext cx="1086120" cy="752400"/>
              <a:chOff x="133200" y="4800600"/>
              <a:chExt cx="1086120" cy="752400"/>
            </a:xfrm>
          </p:grpSpPr>
          <p:sp>
            <p:nvSpPr>
              <p:cNvPr id="2102" name=""/>
              <p:cNvSpPr/>
              <p:nvPr/>
            </p:nvSpPr>
            <p:spPr>
              <a:xfrm>
                <a:off x="1332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810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0 I de Matamoros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4" name=""/>
              <p:cNvGrpSpPr/>
              <p:nvPr/>
            </p:nvGrpSpPr>
            <p:grpSpPr>
              <a:xfrm>
                <a:off x="206280" y="4856040"/>
                <a:ext cx="822600" cy="488880"/>
                <a:chOff x="206280" y="4856040"/>
                <a:chExt cx="822600" cy="48888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3492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350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684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108" name="pbx" descr=""/>
                <p:cNvPicPr/>
                <p:nvPr/>
              </p:nvPicPr>
              <p:blipFill>
                <a:blip r:embed="rId24"/>
                <a:srcRect l="37594" t="74298" r="28339" b="4834"/>
                <a:stretch/>
              </p:blipFill>
              <p:spPr>
                <a:xfrm>
                  <a:off x="5112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82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10" name=""/>
                <p:cNvGrpSpPr/>
                <p:nvPr/>
              </p:nvGrpSpPr>
              <p:grpSpPr>
                <a:xfrm>
                  <a:off x="206280" y="4994280"/>
                  <a:ext cx="211320" cy="169920"/>
                  <a:chOff x="206280" y="4994280"/>
                  <a:chExt cx="211320" cy="169920"/>
                </a:xfrm>
              </p:grpSpPr>
              <p:grpSp>
                <p:nvGrpSpPr>
                  <p:cNvPr id="2111" name=""/>
                  <p:cNvGrpSpPr/>
                  <p:nvPr/>
                </p:nvGrpSpPr>
                <p:grpSpPr>
                  <a:xfrm>
                    <a:off x="246240" y="5085000"/>
                    <a:ext cx="134640" cy="52200"/>
                    <a:chOff x="246240" y="5085000"/>
                    <a:chExt cx="134640" cy="52200"/>
                  </a:xfrm>
                </p:grpSpPr>
                <p:grpSp>
                  <p:nvGrpSpPr>
                    <p:cNvPr id="2112" name=""/>
                    <p:cNvGrpSpPr/>
                    <p:nvPr/>
                  </p:nvGrpSpPr>
                  <p:grpSpPr>
                    <a:xfrm>
                      <a:off x="246240" y="5085000"/>
                      <a:ext cx="134640" cy="52200"/>
                      <a:chOff x="246240" y="5085000"/>
                      <a:chExt cx="134640" cy="52200"/>
                    </a:xfrm>
                  </p:grpSpPr>
                  <p:grpSp>
                    <p:nvGrpSpPr>
                      <p:cNvPr id="2113" name=""/>
                      <p:cNvGrpSpPr/>
                      <p:nvPr/>
                    </p:nvGrpSpPr>
                    <p:grpSpPr>
                      <a:xfrm>
                        <a:off x="246240" y="5085000"/>
                        <a:ext cx="134640" cy="52200"/>
                        <a:chOff x="246240" y="5085000"/>
                        <a:chExt cx="134640" cy="52200"/>
                      </a:xfrm>
                    </p:grpSpPr>
                    <p:grpSp>
                      <p:nvGrpSpPr>
                        <p:cNvPr id="2114" name=""/>
                        <p:cNvGrpSpPr/>
                        <p:nvPr/>
                      </p:nvGrpSpPr>
                      <p:grpSpPr>
                        <a:xfrm>
                          <a:off x="246240" y="5085000"/>
                          <a:ext cx="134640" cy="52200"/>
                          <a:chOff x="246240" y="5085000"/>
                          <a:chExt cx="134640" cy="52200"/>
                        </a:xfrm>
                      </p:grpSpPr>
                      <p:grpSp>
                        <p:nvGrpSpPr>
                          <p:cNvPr id="2115" name=""/>
                          <p:cNvGrpSpPr/>
                          <p:nvPr/>
                        </p:nvGrpSpPr>
                        <p:grpSpPr>
                          <a:xfrm>
                            <a:off x="246240" y="5085000"/>
                            <a:ext cx="134640" cy="52200"/>
                            <a:chOff x="246240" y="5085000"/>
                            <a:chExt cx="134640" cy="52200"/>
                          </a:xfrm>
                        </p:grpSpPr>
                        <p:sp>
                          <p:nvSpPr>
                            <p:cNvPr id="2116" name=""/>
                            <p:cNvSpPr/>
                            <p:nvPr/>
                          </p:nvSpPr>
                          <p:spPr>
                            <a:xfrm>
                              <a:off x="2462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7" name=""/>
                            <p:cNvSpPr/>
                            <p:nvPr/>
                          </p:nvSpPr>
                          <p:spPr>
                            <a:xfrm>
                              <a:off x="2476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18" name=""/>
                          <p:cNvSpPr/>
                          <p:nvPr/>
                        </p:nvSpPr>
                        <p:spPr>
                          <a:xfrm>
                            <a:off x="2491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19" name=""/>
                        <p:cNvGrpSpPr/>
                        <p:nvPr/>
                      </p:nvGrpSpPr>
                      <p:grpSpPr>
                        <a:xfrm>
                          <a:off x="252360" y="5127840"/>
                          <a:ext cx="127080" cy="7920"/>
                          <a:chOff x="252360" y="5127840"/>
                          <a:chExt cx="127080" cy="7920"/>
                        </a:xfrm>
                      </p:grpSpPr>
                      <p:grpSp>
                        <p:nvGrpSpPr>
                          <p:cNvPr id="2120" name=""/>
                          <p:cNvGrpSpPr/>
                          <p:nvPr/>
                        </p:nvGrpSpPr>
                        <p:grpSpPr>
                          <a:xfrm>
                            <a:off x="252360" y="5127840"/>
                            <a:ext cx="63720" cy="7920"/>
                            <a:chOff x="252360" y="5127840"/>
                            <a:chExt cx="63720" cy="7920"/>
                          </a:xfrm>
                        </p:grpSpPr>
                        <p:grpSp>
                          <p:nvGrpSpPr>
                            <p:cNvPr id="2121" name=""/>
                            <p:cNvGrpSpPr/>
                            <p:nvPr/>
                          </p:nvGrpSpPr>
                          <p:grpSpPr>
                            <a:xfrm>
                              <a:off x="252360" y="5127840"/>
                              <a:ext cx="31680" cy="7920"/>
                              <a:chOff x="252360" y="5127840"/>
                              <a:chExt cx="31680" cy="7920"/>
                            </a:xfrm>
                          </p:grpSpPr>
                          <p:grpSp>
                            <p:nvGrpSpPr>
                              <p:cNvPr id="2122" name=""/>
                              <p:cNvGrpSpPr/>
                              <p:nvPr/>
                            </p:nvGrpSpPr>
                            <p:grpSpPr>
                              <a:xfrm>
                                <a:off x="252360" y="5127840"/>
                                <a:ext cx="15840" cy="7920"/>
                                <a:chOff x="2523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2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127840"/>
                                  <a:ext cx="7920" cy="7920"/>
                                  <a:chOff x="2523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127840"/>
                                    <a:ext cx="3240" cy="7920"/>
                                    <a:chOff x="2523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127840"/>
                                    <a:ext cx="4680" cy="7920"/>
                                    <a:chOff x="2556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3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127840"/>
                                  <a:ext cx="7920" cy="7920"/>
                                  <a:chOff x="2602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127840"/>
                                    <a:ext cx="3240" cy="7920"/>
                                    <a:chOff x="260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127840"/>
                                    <a:ext cx="4680" cy="7920"/>
                                    <a:chOff x="2635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37" name=""/>
                              <p:cNvGrpSpPr/>
                              <p:nvPr/>
                            </p:nvGrpSpPr>
                            <p:grpSpPr>
                              <a:xfrm>
                                <a:off x="268200" y="5127840"/>
                                <a:ext cx="15840" cy="7920"/>
                                <a:chOff x="2682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3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127840"/>
                                  <a:ext cx="7920" cy="7920"/>
                                  <a:chOff x="2682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127840"/>
                                    <a:ext cx="3240" cy="7920"/>
                                    <a:chOff x="268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127840"/>
                                    <a:ext cx="4680" cy="7920"/>
                                    <a:chOff x="2714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4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127840"/>
                                  <a:ext cx="7920" cy="7920"/>
                                  <a:chOff x="2761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127840"/>
                                    <a:ext cx="3240" cy="7920"/>
                                    <a:chOff x="2761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127840"/>
                                    <a:ext cx="4680" cy="7920"/>
                                    <a:chOff x="2793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152" name=""/>
                            <p:cNvGrpSpPr/>
                            <p:nvPr/>
                          </p:nvGrpSpPr>
                          <p:grpSpPr>
                            <a:xfrm>
                              <a:off x="284040" y="5127840"/>
                              <a:ext cx="32040" cy="7920"/>
                              <a:chOff x="284040" y="5127840"/>
                              <a:chExt cx="32040" cy="7920"/>
                            </a:xfrm>
                          </p:grpSpPr>
                          <p:grpSp>
                            <p:nvGrpSpPr>
                              <p:cNvPr id="2153" name=""/>
                              <p:cNvGrpSpPr/>
                              <p:nvPr/>
                            </p:nvGrpSpPr>
                            <p:grpSpPr>
                              <a:xfrm>
                                <a:off x="284040" y="5127840"/>
                                <a:ext cx="16200" cy="7920"/>
                                <a:chOff x="2840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215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127840"/>
                                  <a:ext cx="8280" cy="7920"/>
                                  <a:chOff x="2840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21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127840"/>
                                    <a:ext cx="3240" cy="7920"/>
                                    <a:chOff x="2840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127840"/>
                                    <a:ext cx="3240" cy="7920"/>
                                    <a:chOff x="289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6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127840"/>
                                  <a:ext cx="7920" cy="7920"/>
                                  <a:chOff x="292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127840"/>
                                    <a:ext cx="2880" cy="7920"/>
                                    <a:chOff x="2923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127840"/>
                                    <a:ext cx="3240" cy="7920"/>
                                    <a:chOff x="297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68" name=""/>
                              <p:cNvGrpSpPr/>
                              <p:nvPr/>
                            </p:nvGrpSpPr>
                            <p:grpSpPr>
                              <a:xfrm>
                                <a:off x="300240" y="5127840"/>
                                <a:ext cx="15840" cy="7920"/>
                                <a:chOff x="3002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6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127840"/>
                                  <a:ext cx="7920" cy="7920"/>
                                  <a:chOff x="300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127840"/>
                                    <a:ext cx="2880" cy="7920"/>
                                    <a:chOff x="3002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127840"/>
                                    <a:ext cx="3240" cy="7920"/>
                                    <a:chOff x="304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7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127840"/>
                                  <a:ext cx="7920" cy="7920"/>
                                  <a:chOff x="308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127840"/>
                                    <a:ext cx="2880" cy="7920"/>
                                    <a:chOff x="3081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127840"/>
                                    <a:ext cx="5040" cy="7920"/>
                                    <a:chOff x="3110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2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183" name=""/>
                          <p:cNvGrpSpPr/>
                          <p:nvPr/>
                        </p:nvGrpSpPr>
                        <p:grpSpPr>
                          <a:xfrm>
                            <a:off x="316080" y="5127840"/>
                            <a:ext cx="63360" cy="7920"/>
                            <a:chOff x="316080" y="5127840"/>
                            <a:chExt cx="63360" cy="7920"/>
                          </a:xfrm>
                        </p:grpSpPr>
                        <p:grpSp>
                          <p:nvGrpSpPr>
                            <p:cNvPr id="2184" name=""/>
                            <p:cNvGrpSpPr/>
                            <p:nvPr/>
                          </p:nvGrpSpPr>
                          <p:grpSpPr>
                            <a:xfrm>
                              <a:off x="316080" y="5127840"/>
                              <a:ext cx="31680" cy="7920"/>
                              <a:chOff x="316080" y="5127840"/>
                              <a:chExt cx="31680" cy="7920"/>
                            </a:xfrm>
                          </p:grpSpPr>
                          <p:grpSp>
                            <p:nvGrpSpPr>
                              <p:cNvPr id="2185" name=""/>
                              <p:cNvGrpSpPr/>
                              <p:nvPr/>
                            </p:nvGrpSpPr>
                            <p:grpSpPr>
                              <a:xfrm>
                                <a:off x="316080" y="5127840"/>
                                <a:ext cx="15840" cy="7920"/>
                                <a:chOff x="3160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8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127840"/>
                                  <a:ext cx="7920" cy="7920"/>
                                  <a:chOff x="316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127840"/>
                                    <a:ext cx="3240" cy="7920"/>
                                    <a:chOff x="316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127840"/>
                                    <a:ext cx="4680" cy="7920"/>
                                    <a:chOff x="319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9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127840"/>
                                  <a:ext cx="7920" cy="7920"/>
                                  <a:chOff x="324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127840"/>
                                    <a:ext cx="3240" cy="7920"/>
                                    <a:chOff x="324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127840"/>
                                    <a:ext cx="3240" cy="7920"/>
                                    <a:chOff x="328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00" name=""/>
                              <p:cNvGrpSpPr/>
                              <p:nvPr/>
                            </p:nvGrpSpPr>
                            <p:grpSpPr>
                              <a:xfrm>
                                <a:off x="331920" y="5127840"/>
                                <a:ext cx="15840" cy="7920"/>
                                <a:chOff x="3319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0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127840"/>
                                  <a:ext cx="7920" cy="7920"/>
                                  <a:chOff x="331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127840"/>
                                    <a:ext cx="3240" cy="7920"/>
                                    <a:chOff x="331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127840"/>
                                    <a:ext cx="3240" cy="7920"/>
                                    <a:chOff x="336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0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127840"/>
                                  <a:ext cx="7920" cy="7920"/>
                                  <a:chOff x="3398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127840"/>
                                    <a:ext cx="3240" cy="7920"/>
                                    <a:chOff x="339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127840"/>
                                    <a:ext cx="4680" cy="7920"/>
                                    <a:chOff x="3430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215" name=""/>
                            <p:cNvGrpSpPr/>
                            <p:nvPr/>
                          </p:nvGrpSpPr>
                          <p:grpSpPr>
                            <a:xfrm>
                              <a:off x="347760" y="5127840"/>
                              <a:ext cx="31680" cy="7920"/>
                              <a:chOff x="347760" y="5127840"/>
                              <a:chExt cx="31680" cy="7920"/>
                            </a:xfrm>
                          </p:grpSpPr>
                          <p:grpSp>
                            <p:nvGrpSpPr>
                              <p:cNvPr id="2216" name=""/>
                              <p:cNvGrpSpPr/>
                              <p:nvPr/>
                            </p:nvGrpSpPr>
                            <p:grpSpPr>
                              <a:xfrm>
                                <a:off x="347760" y="5127840"/>
                                <a:ext cx="15840" cy="7920"/>
                                <a:chOff x="347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1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127840"/>
                                  <a:ext cx="7920" cy="7920"/>
                                  <a:chOff x="347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127840"/>
                                    <a:ext cx="3240" cy="7920"/>
                                    <a:chOff x="347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127840"/>
                                    <a:ext cx="3240" cy="7920"/>
                                    <a:chOff x="352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2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127840"/>
                                  <a:ext cx="7920" cy="7920"/>
                                  <a:chOff x="355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127840"/>
                                    <a:ext cx="3240" cy="7920"/>
                                    <a:chOff x="355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127840"/>
                                    <a:ext cx="4680" cy="7920"/>
                                    <a:chOff x="358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31" name=""/>
                              <p:cNvGrpSpPr/>
                              <p:nvPr/>
                            </p:nvGrpSpPr>
                            <p:grpSpPr>
                              <a:xfrm>
                                <a:off x="363600" y="5127840"/>
                                <a:ext cx="15840" cy="7920"/>
                                <a:chOff x="363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3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127840"/>
                                  <a:ext cx="7920" cy="7920"/>
                                  <a:chOff x="363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127840"/>
                                    <a:ext cx="3240" cy="7920"/>
                                    <a:chOff x="363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127840"/>
                                    <a:ext cx="3240" cy="7920"/>
                                    <a:chOff x="368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3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127840"/>
                                  <a:ext cx="7920" cy="7920"/>
                                  <a:chOff x="371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127840"/>
                                    <a:ext cx="3240" cy="7920"/>
                                    <a:chOff x="371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127840"/>
                                    <a:ext cx="3240" cy="7920"/>
                                    <a:chOff x="376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246" name=""/>
                      <p:cNvGrpSpPr/>
                      <p:nvPr/>
                    </p:nvGrpSpPr>
                    <p:grpSpPr>
                      <a:xfrm>
                        <a:off x="249120" y="5099040"/>
                        <a:ext cx="128880" cy="22320"/>
                        <a:chOff x="249120" y="5099040"/>
                        <a:chExt cx="128880" cy="22320"/>
                      </a:xfrm>
                    </p:grpSpPr>
                    <p:sp>
                      <p:nvSpPr>
                        <p:cNvPr id="2247" name=""/>
                        <p:cNvSpPr/>
                        <p:nvPr/>
                      </p:nvSpPr>
                      <p:spPr>
                        <a:xfrm>
                          <a:off x="2491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/>
                        <p:nvPr/>
                      </p:nvSpPr>
                      <p:spPr>
                        <a:xfrm>
                          <a:off x="2779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9" name=""/>
                        <p:cNvSpPr/>
                        <p:nvPr/>
                      </p:nvSpPr>
                      <p:spPr>
                        <a:xfrm>
                          <a:off x="3175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0" name=""/>
                        <p:cNvSpPr/>
                        <p:nvPr/>
                      </p:nvSpPr>
                      <p:spPr>
                        <a:xfrm>
                          <a:off x="3589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1" name=""/>
                    <p:cNvGrpSpPr/>
                    <p:nvPr/>
                  </p:nvGrpSpPr>
                  <p:grpSpPr>
                    <a:xfrm>
                      <a:off x="362160" y="5102280"/>
                      <a:ext cx="12600" cy="11160"/>
                      <a:chOff x="362160" y="5102280"/>
                      <a:chExt cx="12600" cy="11160"/>
                    </a:xfrm>
                  </p:grpSpPr>
                  <p:sp>
                    <p:nvSpPr>
                      <p:cNvPr id="2252" name=""/>
                      <p:cNvSpPr/>
                      <p:nvPr/>
                    </p:nvSpPr>
                    <p:spPr>
                      <a:xfrm>
                        <a:off x="3668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3682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4" name=""/>
                      <p:cNvGrpSpPr/>
                      <p:nvPr/>
                    </p:nvGrpSpPr>
                    <p:grpSpPr>
                      <a:xfrm>
                        <a:off x="362160" y="5104080"/>
                        <a:ext cx="2880" cy="6120"/>
                        <a:chOff x="362160" y="5104080"/>
                        <a:chExt cx="2880" cy="6120"/>
                      </a:xfrm>
                    </p:grpSpPr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>
                          <a:off x="3621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>
                          <a:off x="3621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7" name=""/>
                    <p:cNvGrpSpPr/>
                    <p:nvPr/>
                  </p:nvGrpSpPr>
                  <p:grpSpPr>
                    <a:xfrm>
                      <a:off x="279360" y="5102280"/>
                      <a:ext cx="36720" cy="14400"/>
                      <a:chOff x="279360" y="5102280"/>
                      <a:chExt cx="36720" cy="14400"/>
                    </a:xfrm>
                  </p:grpSpPr>
                  <p:grpSp>
                    <p:nvGrpSpPr>
                      <p:cNvPr id="2258" name=""/>
                      <p:cNvGrpSpPr/>
                      <p:nvPr/>
                    </p:nvGrpSpPr>
                    <p:grpSpPr>
                      <a:xfrm>
                        <a:off x="281160" y="5102280"/>
                        <a:ext cx="34920" cy="7920"/>
                        <a:chOff x="281160" y="5102280"/>
                        <a:chExt cx="34920" cy="7920"/>
                      </a:xfrm>
                    </p:grpSpPr>
                    <p:sp>
                      <p:nvSpPr>
                        <p:cNvPr id="2259" name=""/>
                        <p:cNvSpPr/>
                        <p:nvPr/>
                      </p:nvSpPr>
                      <p:spPr>
                        <a:xfrm>
                          <a:off x="2905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0" name=""/>
                        <p:cNvSpPr/>
                        <p:nvPr/>
                      </p:nvSpPr>
                      <p:spPr>
                        <a:xfrm>
                          <a:off x="2905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1" name=""/>
                        <p:cNvSpPr/>
                        <p:nvPr/>
                      </p:nvSpPr>
                      <p:spPr>
                        <a:xfrm>
                          <a:off x="2811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2793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3081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252360" y="5115240"/>
                      <a:ext cx="23760" cy="4680"/>
                      <a:chOff x="252360" y="5115240"/>
                      <a:chExt cx="23760" cy="4680"/>
                    </a:xfrm>
                  </p:grpSpPr>
                  <p:grpSp>
                    <p:nvGrpSpPr>
                      <p:cNvPr id="2265" name=""/>
                      <p:cNvGrpSpPr/>
                      <p:nvPr/>
                    </p:nvGrpSpPr>
                    <p:grpSpPr>
                      <a:xfrm>
                        <a:off x="252360" y="5115240"/>
                        <a:ext cx="12960" cy="4680"/>
                        <a:chOff x="252360" y="5115240"/>
                        <a:chExt cx="12960" cy="4680"/>
                      </a:xfrm>
                    </p:grpSpPr>
                    <p:grpSp>
                      <p:nvGrpSpPr>
                        <p:cNvPr id="2266" name=""/>
                        <p:cNvGrpSpPr/>
                        <p:nvPr/>
                      </p:nvGrpSpPr>
                      <p:grpSpPr>
                        <a:xfrm>
                          <a:off x="252360" y="5115240"/>
                          <a:ext cx="6480" cy="4680"/>
                          <a:chOff x="252360" y="5115240"/>
                          <a:chExt cx="6480" cy="4680"/>
                        </a:xfrm>
                      </p:grpSpPr>
                      <p:grpSp>
                        <p:nvGrpSpPr>
                          <p:cNvPr id="2267" name=""/>
                          <p:cNvGrpSpPr/>
                          <p:nvPr/>
                        </p:nvGrpSpPr>
                        <p:grpSpPr>
                          <a:xfrm>
                            <a:off x="252360" y="5115240"/>
                            <a:ext cx="3240" cy="4680"/>
                            <a:chOff x="252360" y="5115240"/>
                            <a:chExt cx="3240" cy="4680"/>
                          </a:xfrm>
                        </p:grpSpPr>
                        <p:sp>
                          <p:nvSpPr>
                            <p:cNvPr id="2268" name=""/>
                            <p:cNvSpPr/>
                            <p:nvPr/>
                          </p:nvSpPr>
                          <p:spPr>
                            <a:xfrm>
                              <a:off x="2523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69" name=""/>
                            <p:cNvSpPr/>
                            <p:nvPr/>
                          </p:nvSpPr>
                          <p:spPr>
                            <a:xfrm>
                              <a:off x="254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0" name=""/>
                          <p:cNvGrpSpPr/>
                          <p:nvPr/>
                        </p:nvGrpSpPr>
                        <p:grpSpPr>
                          <a:xfrm>
                            <a:off x="255600" y="5115240"/>
                            <a:ext cx="3240" cy="4680"/>
                            <a:chOff x="255600" y="5115240"/>
                            <a:chExt cx="3240" cy="4680"/>
                          </a:xfrm>
                        </p:grpSpPr>
                        <p:sp>
                          <p:nvSpPr>
                            <p:cNvPr id="2271" name=""/>
                            <p:cNvSpPr/>
                            <p:nvPr/>
                          </p:nvSpPr>
                          <p:spPr>
                            <a:xfrm>
                              <a:off x="255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2" name=""/>
                            <p:cNvSpPr/>
                            <p:nvPr/>
                          </p:nvSpPr>
                          <p:spPr>
                            <a:xfrm>
                              <a:off x="257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73" name=""/>
                        <p:cNvGrpSpPr/>
                        <p:nvPr/>
                      </p:nvGrpSpPr>
                      <p:grpSpPr>
                        <a:xfrm>
                          <a:off x="258840" y="5115240"/>
                          <a:ext cx="6480" cy="4680"/>
                          <a:chOff x="258840" y="5115240"/>
                          <a:chExt cx="6480" cy="4680"/>
                        </a:xfrm>
                      </p:grpSpPr>
                      <p:grpSp>
                        <p:nvGrpSpPr>
                          <p:cNvPr id="2274" name=""/>
                          <p:cNvGrpSpPr/>
                          <p:nvPr/>
                        </p:nvGrpSpPr>
                        <p:grpSpPr>
                          <a:xfrm>
                            <a:off x="258840" y="5115240"/>
                            <a:ext cx="3240" cy="4680"/>
                            <a:chOff x="258840" y="5115240"/>
                            <a:chExt cx="3240" cy="4680"/>
                          </a:xfrm>
                        </p:grpSpPr>
                        <p:sp>
                          <p:nvSpPr>
                            <p:cNvPr id="2275" name=""/>
                            <p:cNvSpPr/>
                            <p:nvPr/>
                          </p:nvSpPr>
                          <p:spPr>
                            <a:xfrm>
                              <a:off x="258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6" name=""/>
                            <p:cNvSpPr/>
                            <p:nvPr/>
                          </p:nvSpPr>
                          <p:spPr>
                            <a:xfrm>
                              <a:off x="2602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7" name=""/>
                          <p:cNvGrpSpPr/>
                          <p:nvPr/>
                        </p:nvGrpSpPr>
                        <p:grpSpPr>
                          <a:xfrm>
                            <a:off x="262080" y="5115240"/>
                            <a:ext cx="3240" cy="4680"/>
                            <a:chOff x="262080" y="5115240"/>
                            <a:chExt cx="3240" cy="4680"/>
                          </a:xfrm>
                        </p:grpSpPr>
                        <p:sp>
                          <p:nvSpPr>
                            <p:cNvPr id="2278" name=""/>
                            <p:cNvSpPr/>
                            <p:nvPr/>
                          </p:nvSpPr>
                          <p:spPr>
                            <a:xfrm>
                              <a:off x="262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9" name=""/>
                            <p:cNvSpPr/>
                            <p:nvPr/>
                          </p:nvSpPr>
                          <p:spPr>
                            <a:xfrm>
                              <a:off x="2635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80" name=""/>
                      <p:cNvGrpSpPr/>
                      <p:nvPr/>
                    </p:nvGrpSpPr>
                    <p:grpSpPr>
                      <a:xfrm>
                        <a:off x="265320" y="5115240"/>
                        <a:ext cx="10800" cy="4680"/>
                        <a:chOff x="265320" y="5115240"/>
                        <a:chExt cx="10800" cy="4680"/>
                      </a:xfrm>
                    </p:grpSpPr>
                    <p:grpSp>
                      <p:nvGrpSpPr>
                        <p:cNvPr id="2281" name=""/>
                        <p:cNvGrpSpPr/>
                        <p:nvPr/>
                      </p:nvGrpSpPr>
                      <p:grpSpPr>
                        <a:xfrm>
                          <a:off x="265320" y="5115240"/>
                          <a:ext cx="6120" cy="4680"/>
                          <a:chOff x="265320" y="5115240"/>
                          <a:chExt cx="6120" cy="4680"/>
                        </a:xfrm>
                      </p:grpSpPr>
                      <p:grpSp>
                        <p:nvGrpSpPr>
                          <p:cNvPr id="2282" name=""/>
                          <p:cNvGrpSpPr/>
                          <p:nvPr/>
                        </p:nvGrpSpPr>
                        <p:grpSpPr>
                          <a:xfrm>
                            <a:off x="265320" y="5115240"/>
                            <a:ext cx="2880" cy="4680"/>
                            <a:chOff x="265320" y="5115240"/>
                            <a:chExt cx="2880" cy="4680"/>
                          </a:xfrm>
                        </p:grpSpPr>
                        <p:sp>
                          <p:nvSpPr>
                            <p:cNvPr id="2283" name=""/>
                            <p:cNvSpPr/>
                            <p:nvPr/>
                          </p:nvSpPr>
                          <p:spPr>
                            <a:xfrm>
                              <a:off x="2653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4" name=""/>
                            <p:cNvSpPr/>
                            <p:nvPr/>
                          </p:nvSpPr>
                          <p:spPr>
                            <a:xfrm>
                              <a:off x="2667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5" name=""/>
                          <p:cNvGrpSpPr/>
                          <p:nvPr/>
                        </p:nvGrpSpPr>
                        <p:grpSpPr>
                          <a:xfrm>
                            <a:off x="268200" y="5115240"/>
                            <a:ext cx="3240" cy="4680"/>
                            <a:chOff x="268200" y="5115240"/>
                            <a:chExt cx="3240" cy="4680"/>
                          </a:xfrm>
                        </p:grpSpPr>
                        <p:sp>
                          <p:nvSpPr>
                            <p:cNvPr id="2286" name=""/>
                            <p:cNvSpPr/>
                            <p:nvPr/>
                          </p:nvSpPr>
                          <p:spPr>
                            <a:xfrm>
                              <a:off x="2682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7" name=""/>
                            <p:cNvSpPr/>
                            <p:nvPr/>
                          </p:nvSpPr>
                          <p:spPr>
                            <a:xfrm>
                              <a:off x="2700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88" name=""/>
                        <p:cNvGrpSpPr/>
                        <p:nvPr/>
                      </p:nvGrpSpPr>
                      <p:grpSpPr>
                        <a:xfrm>
                          <a:off x="271440" y="5115240"/>
                          <a:ext cx="4680" cy="4680"/>
                          <a:chOff x="271440" y="5115240"/>
                          <a:chExt cx="4680" cy="4680"/>
                        </a:xfrm>
                      </p:grpSpPr>
                      <p:grpSp>
                        <p:nvGrpSpPr>
                          <p:cNvPr id="2289" name=""/>
                          <p:cNvGrpSpPr/>
                          <p:nvPr/>
                        </p:nvGrpSpPr>
                        <p:grpSpPr>
                          <a:xfrm>
                            <a:off x="271440" y="5115240"/>
                            <a:ext cx="1800" cy="4680"/>
                            <a:chOff x="271440" y="5115240"/>
                            <a:chExt cx="1800" cy="4680"/>
                          </a:xfrm>
                        </p:grpSpPr>
                        <p:sp>
                          <p:nvSpPr>
                            <p:cNvPr id="2290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1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2" name=""/>
                          <p:cNvGrpSpPr/>
                          <p:nvPr/>
                        </p:nvGrpSpPr>
                        <p:grpSpPr>
                          <a:xfrm>
                            <a:off x="273240" y="5115240"/>
                            <a:ext cx="2880" cy="4680"/>
                            <a:chOff x="273240" y="5115240"/>
                            <a:chExt cx="2880" cy="4680"/>
                          </a:xfrm>
                        </p:grpSpPr>
                        <p:sp>
                          <p:nvSpPr>
                            <p:cNvPr id="2293" name=""/>
                            <p:cNvSpPr/>
                            <p:nvPr/>
                          </p:nvSpPr>
                          <p:spPr>
                            <a:xfrm>
                              <a:off x="273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4" name=""/>
                            <p:cNvSpPr/>
                            <p:nvPr/>
                          </p:nvSpPr>
                          <p:spPr>
                            <a:xfrm>
                              <a:off x="274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95" name=""/>
                    <p:cNvSpPr/>
                    <p:nvPr/>
                  </p:nvSpPr>
                  <p:spPr>
                    <a:xfrm>
                      <a:off x="2509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6" name=""/>
                  <p:cNvGrpSpPr/>
                  <p:nvPr/>
                </p:nvGrpSpPr>
                <p:grpSpPr>
                  <a:xfrm>
                    <a:off x="206280" y="5134320"/>
                    <a:ext cx="211320" cy="29880"/>
                    <a:chOff x="206280" y="5134320"/>
                    <a:chExt cx="211320" cy="29880"/>
                  </a:xfrm>
                </p:grpSpPr>
                <p:grpSp>
                  <p:nvGrpSpPr>
                    <p:cNvPr id="2297" name=""/>
                    <p:cNvGrpSpPr/>
                    <p:nvPr/>
                  </p:nvGrpSpPr>
                  <p:grpSpPr>
                    <a:xfrm>
                      <a:off x="206280" y="5134320"/>
                      <a:ext cx="211320" cy="29880"/>
                      <a:chOff x="206280" y="5134320"/>
                      <a:chExt cx="211320" cy="29880"/>
                    </a:xfrm>
                  </p:grpSpPr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2062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2062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0" name=""/>
                      <p:cNvSpPr/>
                      <p:nvPr/>
                    </p:nvSpPr>
                    <p:spPr>
                      <a:xfrm>
                        <a:off x="2127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1" name=""/>
                    <p:cNvGrpSpPr/>
                    <p:nvPr/>
                  </p:nvGrpSpPr>
                  <p:grpSpPr>
                    <a:xfrm>
                      <a:off x="228600" y="5137200"/>
                      <a:ext cx="166680" cy="5040"/>
                      <a:chOff x="228600" y="5137200"/>
                      <a:chExt cx="166680" cy="5040"/>
                    </a:xfrm>
                  </p:grpSpPr>
                  <p:sp>
                    <p:nvSpPr>
                      <p:cNvPr id="2302" name=""/>
                      <p:cNvSpPr/>
                      <p:nvPr/>
                    </p:nvSpPr>
                    <p:spPr>
                      <a:xfrm>
                        <a:off x="2286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2462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2793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3096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3398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3682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8" name=""/>
                    <p:cNvGrpSpPr/>
                    <p:nvPr/>
                  </p:nvGrpSpPr>
                  <p:grpSpPr>
                    <a:xfrm>
                      <a:off x="222480" y="5143680"/>
                      <a:ext cx="176040" cy="11160"/>
                      <a:chOff x="222480" y="5143680"/>
                      <a:chExt cx="176040" cy="11160"/>
                    </a:xfrm>
                  </p:grpSpPr>
                  <p:grpSp>
                    <p:nvGrpSpPr>
                      <p:cNvPr id="2309" name=""/>
                      <p:cNvGrpSpPr/>
                      <p:nvPr/>
                    </p:nvGrpSpPr>
                    <p:grpSpPr>
                      <a:xfrm>
                        <a:off x="238320" y="5143680"/>
                        <a:ext cx="85680" cy="9360"/>
                        <a:chOff x="238320" y="5143680"/>
                        <a:chExt cx="85680" cy="9360"/>
                      </a:xfrm>
                    </p:grpSpPr>
                    <p:sp>
                      <p:nvSpPr>
                        <p:cNvPr id="2310" name=""/>
                        <p:cNvSpPr/>
                        <p:nvPr/>
                      </p:nvSpPr>
                      <p:spPr>
                        <a:xfrm>
                          <a:off x="2383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1" name=""/>
                        <p:cNvSpPr/>
                        <p:nvPr/>
                      </p:nvSpPr>
                      <p:spPr>
                        <a:xfrm>
                          <a:off x="2412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2" name=""/>
                        <p:cNvSpPr/>
                        <p:nvPr/>
                      </p:nvSpPr>
                      <p:spPr>
                        <a:xfrm>
                          <a:off x="2430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3" name=""/>
                        <p:cNvSpPr/>
                        <p:nvPr/>
                      </p:nvSpPr>
                      <p:spPr>
                        <a:xfrm>
                          <a:off x="2444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4" name=""/>
                      <p:cNvGrpSpPr/>
                      <p:nvPr/>
                    </p:nvGrpSpPr>
                    <p:grpSpPr>
                      <a:xfrm>
                        <a:off x="222480" y="5145120"/>
                        <a:ext cx="15840" cy="6480"/>
                        <a:chOff x="222480" y="5145120"/>
                        <a:chExt cx="15840" cy="6480"/>
                      </a:xfrm>
                    </p:grpSpPr>
                    <p:sp>
                      <p:nvSpPr>
                        <p:cNvPr id="2315" name=""/>
                        <p:cNvSpPr/>
                        <p:nvPr/>
                      </p:nvSpPr>
                      <p:spPr>
                        <a:xfrm>
                          <a:off x="2271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6" name=""/>
                        <p:cNvSpPr/>
                        <p:nvPr/>
                      </p:nvSpPr>
                      <p:spPr>
                        <a:xfrm>
                          <a:off x="2253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7" name=""/>
                        <p:cNvSpPr/>
                        <p:nvPr/>
                      </p:nvSpPr>
                      <p:spPr>
                        <a:xfrm>
                          <a:off x="2224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8" name=""/>
                      <p:cNvGrpSpPr/>
                      <p:nvPr/>
                    </p:nvGrpSpPr>
                    <p:grpSpPr>
                      <a:xfrm>
                        <a:off x="257400" y="5143680"/>
                        <a:ext cx="79200" cy="9360"/>
                        <a:chOff x="257400" y="5143680"/>
                        <a:chExt cx="79200" cy="9360"/>
                      </a:xfrm>
                    </p:grpSpPr>
                    <p:sp>
                      <p:nvSpPr>
                        <p:cNvPr id="2319" name=""/>
                        <p:cNvSpPr/>
                        <p:nvPr/>
                      </p:nvSpPr>
                      <p:spPr>
                        <a:xfrm>
                          <a:off x="2574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0" name=""/>
                        <p:cNvSpPr/>
                        <p:nvPr/>
                      </p:nvSpPr>
                      <p:spPr>
                        <a:xfrm>
                          <a:off x="3240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1" name=""/>
                        <p:cNvSpPr/>
                        <p:nvPr/>
                      </p:nvSpPr>
                      <p:spPr>
                        <a:xfrm>
                          <a:off x="3272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2" name=""/>
                        <p:cNvSpPr/>
                        <p:nvPr/>
                      </p:nvSpPr>
                      <p:spPr>
                        <a:xfrm>
                          <a:off x="3207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3" name=""/>
                        <p:cNvSpPr/>
                        <p:nvPr/>
                      </p:nvSpPr>
                      <p:spPr>
                        <a:xfrm>
                          <a:off x="3081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4" name=""/>
                        <p:cNvSpPr/>
                        <p:nvPr/>
                      </p:nvSpPr>
                      <p:spPr>
                        <a:xfrm>
                          <a:off x="3175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5" name=""/>
                      <p:cNvGrpSpPr/>
                      <p:nvPr/>
                    </p:nvGrpSpPr>
                    <p:grpSpPr>
                      <a:xfrm>
                        <a:off x="339840" y="5145120"/>
                        <a:ext cx="25200" cy="7920"/>
                        <a:chOff x="339840" y="5145120"/>
                        <a:chExt cx="25200" cy="7920"/>
                      </a:xfrm>
                    </p:grpSpPr>
                    <p:sp>
                      <p:nvSpPr>
                        <p:cNvPr id="2326" name=""/>
                        <p:cNvSpPr/>
                        <p:nvPr/>
                      </p:nvSpPr>
                      <p:spPr>
                        <a:xfrm>
                          <a:off x="3398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7" name=""/>
                        <p:cNvSpPr/>
                        <p:nvPr/>
                      </p:nvSpPr>
                      <p:spPr>
                        <a:xfrm>
                          <a:off x="3430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8" name=""/>
                        <p:cNvSpPr/>
                        <p:nvPr/>
                      </p:nvSpPr>
                      <p:spPr>
                        <a:xfrm>
                          <a:off x="3430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9" name=""/>
                      <p:cNvGrpSpPr/>
                      <p:nvPr/>
                    </p:nvGrpSpPr>
                    <p:grpSpPr>
                      <a:xfrm>
                        <a:off x="368280" y="5145120"/>
                        <a:ext cx="30240" cy="9720"/>
                        <a:chOff x="368280" y="5145120"/>
                        <a:chExt cx="30240" cy="9720"/>
                      </a:xfrm>
                    </p:grpSpPr>
                    <p:sp>
                      <p:nvSpPr>
                        <p:cNvPr id="2330" name=""/>
                        <p:cNvSpPr/>
                        <p:nvPr/>
                      </p:nvSpPr>
                      <p:spPr>
                        <a:xfrm>
                          <a:off x="3715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1" name=""/>
                        <p:cNvSpPr/>
                        <p:nvPr/>
                      </p:nvSpPr>
                      <p:spPr>
                        <a:xfrm>
                          <a:off x="3682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2" name=""/>
                        <p:cNvSpPr/>
                        <p:nvPr/>
                      </p:nvSpPr>
                      <p:spPr>
                        <a:xfrm>
                          <a:off x="3715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3" name=""/>
                        <p:cNvSpPr/>
                        <p:nvPr/>
                      </p:nvSpPr>
                      <p:spPr>
                        <a:xfrm>
                          <a:off x="3700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4" name=""/>
                        <p:cNvSpPr/>
                        <p:nvPr/>
                      </p:nvSpPr>
                      <p:spPr>
                        <a:xfrm>
                          <a:off x="3906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5" name=""/>
                        <p:cNvSpPr/>
                        <p:nvPr/>
                      </p:nvSpPr>
                      <p:spPr>
                        <a:xfrm>
                          <a:off x="3920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336" name=""/>
                  <p:cNvGrpSpPr/>
                  <p:nvPr/>
                </p:nvGrpSpPr>
                <p:grpSpPr>
                  <a:xfrm>
                    <a:off x="268200" y="5075280"/>
                    <a:ext cx="92160" cy="19080"/>
                    <a:chOff x="268200" y="5075280"/>
                    <a:chExt cx="92160" cy="19080"/>
                  </a:xfrm>
                </p:grpSpPr>
                <p:grpSp>
                  <p:nvGrpSpPr>
                    <p:cNvPr id="2337" name=""/>
                    <p:cNvGrpSpPr/>
                    <p:nvPr/>
                  </p:nvGrpSpPr>
                  <p:grpSpPr>
                    <a:xfrm>
                      <a:off x="268200" y="5080320"/>
                      <a:ext cx="92160" cy="14040"/>
                      <a:chOff x="268200" y="5080320"/>
                      <a:chExt cx="92160" cy="14040"/>
                    </a:xfrm>
                  </p:grpSpPr>
                  <p:sp>
                    <p:nvSpPr>
                      <p:cNvPr id="2338" name=""/>
                      <p:cNvSpPr/>
                      <p:nvPr/>
                    </p:nvSpPr>
                    <p:spPr>
                      <a:xfrm>
                        <a:off x="2682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9" name=""/>
                      <p:cNvSpPr/>
                      <p:nvPr/>
                    </p:nvSpPr>
                    <p:spPr>
                      <a:xfrm>
                        <a:off x="2682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2890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1" name=""/>
                  <p:cNvSpPr/>
                  <p:nvPr/>
                </p:nvSpPr>
                <p:spPr>
                  <a:xfrm>
                    <a:off x="2574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2700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746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3524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3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161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346" name=""/>
            <p:cNvGrpSpPr/>
            <p:nvPr/>
          </p:nvGrpSpPr>
          <p:grpSpPr>
            <a:xfrm>
              <a:off x="1352520" y="1447920"/>
              <a:ext cx="1085760" cy="752400"/>
              <a:chOff x="1352520" y="1447920"/>
              <a:chExt cx="1085760" cy="752400"/>
            </a:xfrm>
          </p:grpSpPr>
          <p:sp>
            <p:nvSpPr>
              <p:cNvPr id="2347" name=""/>
              <p:cNvSpPr/>
              <p:nvPr/>
            </p:nvSpPr>
            <p:spPr>
              <a:xfrm>
                <a:off x="135252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40004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1425240" y="1503360"/>
                <a:ext cx="821880" cy="488880"/>
                <a:chOff x="1425240" y="1503360"/>
                <a:chExt cx="821880" cy="48888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156780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18536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178704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353" name="pbx" descr=""/>
                <p:cNvPicPr/>
                <p:nvPr/>
              </p:nvPicPr>
              <p:blipFill>
                <a:blip r:embed="rId27"/>
                <a:srcRect l="37594" t="74298" r="28339" b="4834"/>
                <a:stretch/>
              </p:blipFill>
              <p:spPr>
                <a:xfrm>
                  <a:off x="172980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75680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55" name=""/>
                <p:cNvGrpSpPr/>
                <p:nvPr/>
              </p:nvGrpSpPr>
              <p:grpSpPr>
                <a:xfrm>
                  <a:off x="1425240" y="1641600"/>
                  <a:ext cx="210960" cy="169920"/>
                  <a:chOff x="1425240" y="1641600"/>
                  <a:chExt cx="210960" cy="169920"/>
                </a:xfrm>
              </p:grpSpPr>
              <p:grpSp>
                <p:nvGrpSpPr>
                  <p:cNvPr id="2356" name=""/>
                  <p:cNvGrpSpPr/>
                  <p:nvPr/>
                </p:nvGrpSpPr>
                <p:grpSpPr>
                  <a:xfrm>
                    <a:off x="1464840" y="1732320"/>
                    <a:ext cx="134280" cy="52200"/>
                    <a:chOff x="1464840" y="1732320"/>
                    <a:chExt cx="134280" cy="52200"/>
                  </a:xfrm>
                </p:grpSpPr>
                <p:grpSp>
                  <p:nvGrpSpPr>
                    <p:cNvPr id="2357" name=""/>
                    <p:cNvGrpSpPr/>
                    <p:nvPr/>
                  </p:nvGrpSpPr>
                  <p:grpSpPr>
                    <a:xfrm>
                      <a:off x="1464840" y="1732320"/>
                      <a:ext cx="134280" cy="52200"/>
                      <a:chOff x="1464840" y="1732320"/>
                      <a:chExt cx="134280" cy="52200"/>
                    </a:xfrm>
                  </p:grpSpPr>
                  <p:grpSp>
                    <p:nvGrpSpPr>
                      <p:cNvPr id="2358" name=""/>
                      <p:cNvGrpSpPr/>
                      <p:nvPr/>
                    </p:nvGrpSpPr>
                    <p:grpSpPr>
                      <a:xfrm>
                        <a:off x="1464840" y="1732320"/>
                        <a:ext cx="134280" cy="52200"/>
                        <a:chOff x="1464840" y="1732320"/>
                        <a:chExt cx="134280" cy="52200"/>
                      </a:xfrm>
                    </p:grpSpPr>
                    <p:grpSp>
                      <p:nvGrpSpPr>
                        <p:cNvPr id="2359" name=""/>
                        <p:cNvGrpSpPr/>
                        <p:nvPr/>
                      </p:nvGrpSpPr>
                      <p:grpSpPr>
                        <a:xfrm>
                          <a:off x="1464840" y="1732320"/>
                          <a:ext cx="134280" cy="52200"/>
                          <a:chOff x="1464840" y="1732320"/>
                          <a:chExt cx="134280" cy="52200"/>
                        </a:xfrm>
                      </p:grpSpPr>
                      <p:grpSp>
                        <p:nvGrpSpPr>
                          <p:cNvPr id="2360" name=""/>
                          <p:cNvGrpSpPr/>
                          <p:nvPr/>
                        </p:nvGrpSpPr>
                        <p:grpSpPr>
                          <a:xfrm>
                            <a:off x="1464840" y="1732320"/>
                            <a:ext cx="134280" cy="52200"/>
                            <a:chOff x="1464840" y="1732320"/>
                            <a:chExt cx="134280" cy="52200"/>
                          </a:xfrm>
                        </p:grpSpPr>
                        <p:sp>
                          <p:nvSpPr>
                            <p:cNvPr id="2361" name=""/>
                            <p:cNvSpPr/>
                            <p:nvPr/>
                          </p:nvSpPr>
                          <p:spPr>
                            <a:xfrm>
                              <a:off x="146484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62" name=""/>
                            <p:cNvSpPr/>
                            <p:nvPr/>
                          </p:nvSpPr>
                          <p:spPr>
                            <a:xfrm>
                              <a:off x="146592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63" name=""/>
                          <p:cNvSpPr/>
                          <p:nvPr/>
                        </p:nvSpPr>
                        <p:spPr>
                          <a:xfrm>
                            <a:off x="146736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64" name=""/>
                        <p:cNvGrpSpPr/>
                        <p:nvPr/>
                      </p:nvGrpSpPr>
                      <p:grpSpPr>
                        <a:xfrm>
                          <a:off x="1470600" y="1775160"/>
                          <a:ext cx="124560" cy="7920"/>
                          <a:chOff x="1470600" y="1775160"/>
                          <a:chExt cx="124560" cy="7920"/>
                        </a:xfrm>
                      </p:grpSpPr>
                      <p:grpSp>
                        <p:nvGrpSpPr>
                          <p:cNvPr id="2365" name=""/>
                          <p:cNvGrpSpPr/>
                          <p:nvPr/>
                        </p:nvGrpSpPr>
                        <p:grpSpPr>
                          <a:xfrm>
                            <a:off x="1470600" y="1775160"/>
                            <a:ext cx="61560" cy="7920"/>
                            <a:chOff x="1470600" y="1775160"/>
                            <a:chExt cx="61560" cy="7920"/>
                          </a:xfrm>
                        </p:grpSpPr>
                        <p:grpSp>
                          <p:nvGrpSpPr>
                            <p:cNvPr id="2366" name=""/>
                            <p:cNvGrpSpPr/>
                            <p:nvPr/>
                          </p:nvGrpSpPr>
                          <p:grpSpPr>
                            <a:xfrm>
                              <a:off x="1470600" y="1775160"/>
                              <a:ext cx="29880" cy="7920"/>
                              <a:chOff x="1470600" y="1775160"/>
                              <a:chExt cx="29880" cy="7920"/>
                            </a:xfrm>
                          </p:grpSpPr>
                          <p:grpSp>
                            <p:nvGrpSpPr>
                              <p:cNvPr id="2367" name=""/>
                              <p:cNvGrpSpPr/>
                              <p:nvPr/>
                            </p:nvGrpSpPr>
                            <p:grpSpPr>
                              <a:xfrm>
                                <a:off x="1470600" y="1775160"/>
                                <a:ext cx="14400" cy="7920"/>
                                <a:chOff x="14706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6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1775160"/>
                                  <a:ext cx="6840" cy="7920"/>
                                  <a:chOff x="14706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1775160"/>
                                    <a:ext cx="2520" cy="7920"/>
                                    <a:chOff x="1470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1775160"/>
                                    <a:ext cx="3960" cy="7920"/>
                                    <a:chOff x="14734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7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1775160"/>
                                  <a:ext cx="6840" cy="7920"/>
                                  <a:chOff x="14781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1775160"/>
                                    <a:ext cx="2520" cy="7920"/>
                                    <a:chOff x="1478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1775160"/>
                                    <a:ext cx="3960" cy="7920"/>
                                    <a:chOff x="14810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382" name=""/>
                              <p:cNvGrpSpPr/>
                              <p:nvPr/>
                            </p:nvGrpSpPr>
                            <p:grpSpPr>
                              <a:xfrm>
                                <a:off x="1486080" y="1775160"/>
                                <a:ext cx="14400" cy="7920"/>
                                <a:chOff x="1486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8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1775160"/>
                                  <a:ext cx="6840" cy="7920"/>
                                  <a:chOff x="1486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1775160"/>
                                    <a:ext cx="2520" cy="7920"/>
                                    <a:chOff x="1486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1775160"/>
                                    <a:ext cx="3960" cy="7920"/>
                                    <a:chOff x="1488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9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1775160"/>
                                  <a:ext cx="6840" cy="7920"/>
                                  <a:chOff x="1493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1775160"/>
                                    <a:ext cx="2520" cy="7920"/>
                                    <a:chOff x="1493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1775160"/>
                                    <a:ext cx="3960" cy="7920"/>
                                    <a:chOff x="14965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397" name=""/>
                            <p:cNvGrpSpPr/>
                            <p:nvPr/>
                          </p:nvGrpSpPr>
                          <p:grpSpPr>
                            <a:xfrm>
                              <a:off x="1501920" y="1775160"/>
                              <a:ext cx="30240" cy="7920"/>
                              <a:chOff x="1501920" y="1775160"/>
                              <a:chExt cx="30240" cy="7920"/>
                            </a:xfrm>
                          </p:grpSpPr>
                          <p:grpSp>
                            <p:nvGrpSpPr>
                              <p:cNvPr id="2398" name=""/>
                              <p:cNvGrpSpPr/>
                              <p:nvPr/>
                            </p:nvGrpSpPr>
                            <p:grpSpPr>
                              <a:xfrm>
                                <a:off x="1501920" y="1775160"/>
                                <a:ext cx="14760" cy="7920"/>
                                <a:chOff x="150192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239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1775160"/>
                                  <a:ext cx="7200" cy="7920"/>
                                  <a:chOff x="150192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4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1775160"/>
                                    <a:ext cx="2520" cy="7920"/>
                                    <a:chOff x="15019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1775160"/>
                                    <a:ext cx="2520" cy="7920"/>
                                    <a:chOff x="1506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0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1775160"/>
                                  <a:ext cx="6840" cy="7920"/>
                                  <a:chOff x="1509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1775160"/>
                                    <a:ext cx="2160" cy="7920"/>
                                    <a:chOff x="15098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1775160"/>
                                    <a:ext cx="2520" cy="7920"/>
                                    <a:chOff x="1514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13" name=""/>
                              <p:cNvGrpSpPr/>
                              <p:nvPr/>
                            </p:nvGrpSpPr>
                            <p:grpSpPr>
                              <a:xfrm>
                                <a:off x="1517760" y="1775160"/>
                                <a:ext cx="14400" cy="7920"/>
                                <a:chOff x="1517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1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1775160"/>
                                  <a:ext cx="6840" cy="7920"/>
                                  <a:chOff x="151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1775160"/>
                                    <a:ext cx="2160" cy="7920"/>
                                    <a:chOff x="15177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1775160"/>
                                    <a:ext cx="2520" cy="7920"/>
                                    <a:chOff x="1522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2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1775160"/>
                                  <a:ext cx="6840" cy="7920"/>
                                  <a:chOff x="1525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1775160"/>
                                    <a:ext cx="2160" cy="7920"/>
                                    <a:chOff x="152532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1775160"/>
                                    <a:ext cx="4320" cy="7920"/>
                                    <a:chOff x="152784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428" name=""/>
                          <p:cNvGrpSpPr/>
                          <p:nvPr/>
                        </p:nvGrpSpPr>
                        <p:grpSpPr>
                          <a:xfrm>
                            <a:off x="1533960" y="1775160"/>
                            <a:ext cx="61200" cy="7920"/>
                            <a:chOff x="1533960" y="1775160"/>
                            <a:chExt cx="61200" cy="7920"/>
                          </a:xfrm>
                        </p:grpSpPr>
                        <p:grpSp>
                          <p:nvGrpSpPr>
                            <p:cNvPr id="2429" name=""/>
                            <p:cNvGrpSpPr/>
                            <p:nvPr/>
                          </p:nvGrpSpPr>
                          <p:grpSpPr>
                            <a:xfrm>
                              <a:off x="1533960" y="1775160"/>
                              <a:ext cx="29880" cy="7920"/>
                              <a:chOff x="1533960" y="1775160"/>
                              <a:chExt cx="29880" cy="7920"/>
                            </a:xfrm>
                          </p:grpSpPr>
                          <p:grpSp>
                            <p:nvGrpSpPr>
                              <p:cNvPr id="2430" name=""/>
                              <p:cNvGrpSpPr/>
                              <p:nvPr/>
                            </p:nvGrpSpPr>
                            <p:grpSpPr>
                              <a:xfrm>
                                <a:off x="1533960" y="1775160"/>
                                <a:ext cx="14400" cy="7920"/>
                                <a:chOff x="15339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3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1775160"/>
                                  <a:ext cx="6840" cy="7920"/>
                                  <a:chOff x="153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1775160"/>
                                    <a:ext cx="2520" cy="7920"/>
                                    <a:chOff x="153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1775160"/>
                                    <a:ext cx="3960" cy="7920"/>
                                    <a:chOff x="153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3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1775160"/>
                                  <a:ext cx="6840" cy="7920"/>
                                  <a:chOff x="15415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1775160"/>
                                    <a:ext cx="2520" cy="7920"/>
                                    <a:chOff x="15415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1775160"/>
                                    <a:ext cx="2520" cy="7920"/>
                                    <a:chOff x="1545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45" name=""/>
                              <p:cNvGrpSpPr/>
                              <p:nvPr/>
                            </p:nvGrpSpPr>
                            <p:grpSpPr>
                              <a:xfrm>
                                <a:off x="1549440" y="1775160"/>
                                <a:ext cx="14400" cy="7920"/>
                                <a:chOff x="154944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4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1775160"/>
                                  <a:ext cx="6840" cy="7920"/>
                                  <a:chOff x="154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1775160"/>
                                    <a:ext cx="2520" cy="7920"/>
                                    <a:chOff x="154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1775160"/>
                                    <a:ext cx="2520" cy="7920"/>
                                    <a:chOff x="155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5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1775160"/>
                                  <a:ext cx="6840" cy="7920"/>
                                  <a:chOff x="15570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1775160"/>
                                    <a:ext cx="2520" cy="7920"/>
                                    <a:chOff x="15570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1775160"/>
                                    <a:ext cx="3960" cy="7920"/>
                                    <a:chOff x="15598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460" name=""/>
                            <p:cNvGrpSpPr/>
                            <p:nvPr/>
                          </p:nvGrpSpPr>
                          <p:grpSpPr>
                            <a:xfrm>
                              <a:off x="1565280" y="1775160"/>
                              <a:ext cx="29880" cy="7920"/>
                              <a:chOff x="1565280" y="1775160"/>
                              <a:chExt cx="29880" cy="7920"/>
                            </a:xfrm>
                          </p:grpSpPr>
                          <p:grpSp>
                            <p:nvGrpSpPr>
                              <p:cNvPr id="2461" name=""/>
                              <p:cNvGrpSpPr/>
                              <p:nvPr/>
                            </p:nvGrpSpPr>
                            <p:grpSpPr>
                              <a:xfrm>
                                <a:off x="1565280" y="1775160"/>
                                <a:ext cx="14400" cy="7920"/>
                                <a:chOff x="15652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6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1775160"/>
                                  <a:ext cx="6840" cy="7920"/>
                                  <a:chOff x="1565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1775160"/>
                                    <a:ext cx="2520" cy="7920"/>
                                    <a:chOff x="156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1775160"/>
                                    <a:ext cx="2520" cy="7920"/>
                                    <a:chOff x="1569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6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1775160"/>
                                  <a:ext cx="6840" cy="7920"/>
                                  <a:chOff x="1572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1775160"/>
                                    <a:ext cx="2520" cy="7920"/>
                                    <a:chOff x="1572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1775160"/>
                                    <a:ext cx="3960" cy="7920"/>
                                    <a:chOff x="15757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76" name=""/>
                              <p:cNvGrpSpPr/>
                              <p:nvPr/>
                            </p:nvGrpSpPr>
                            <p:grpSpPr>
                              <a:xfrm>
                                <a:off x="1580760" y="1775160"/>
                                <a:ext cx="14400" cy="7920"/>
                                <a:chOff x="1580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7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1775160"/>
                                  <a:ext cx="6840" cy="7920"/>
                                  <a:chOff x="1580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1775160"/>
                                    <a:ext cx="2520" cy="7920"/>
                                    <a:chOff x="1580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1775160"/>
                                    <a:ext cx="2520" cy="7920"/>
                                    <a:chOff x="158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8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1775160"/>
                                  <a:ext cx="6840" cy="7920"/>
                                  <a:chOff x="1588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1775160"/>
                                    <a:ext cx="2520" cy="7920"/>
                                    <a:chOff x="15883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1775160"/>
                                    <a:ext cx="2520" cy="7920"/>
                                    <a:chOff x="159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491" name=""/>
                      <p:cNvGrpSpPr/>
                      <p:nvPr/>
                    </p:nvGrpSpPr>
                    <p:grpSpPr>
                      <a:xfrm>
                        <a:off x="1467360" y="1746360"/>
                        <a:ext cx="128160" cy="22320"/>
                        <a:chOff x="1467360" y="1746360"/>
                        <a:chExt cx="128160" cy="22320"/>
                      </a:xfrm>
                    </p:grpSpPr>
                    <p:sp>
                      <p:nvSpPr>
                        <p:cNvPr id="2492" name=""/>
                        <p:cNvSpPr/>
                        <p:nvPr/>
                      </p:nvSpPr>
                      <p:spPr>
                        <a:xfrm>
                          <a:off x="146736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3" name=""/>
                        <p:cNvSpPr/>
                        <p:nvPr/>
                      </p:nvSpPr>
                      <p:spPr>
                        <a:xfrm>
                          <a:off x="149580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4" name=""/>
                        <p:cNvSpPr/>
                        <p:nvPr/>
                      </p:nvSpPr>
                      <p:spPr>
                        <a:xfrm>
                          <a:off x="153540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5" name=""/>
                        <p:cNvSpPr/>
                        <p:nvPr/>
                      </p:nvSpPr>
                      <p:spPr>
                        <a:xfrm>
                          <a:off x="157680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96" name=""/>
                    <p:cNvGrpSpPr/>
                    <p:nvPr/>
                  </p:nvGrpSpPr>
                  <p:grpSpPr>
                    <a:xfrm>
                      <a:off x="1580400" y="1749600"/>
                      <a:ext cx="11880" cy="11160"/>
                      <a:chOff x="1580400" y="1749600"/>
                      <a:chExt cx="11880" cy="11160"/>
                    </a:xfrm>
                  </p:grpSpPr>
                  <p:sp>
                    <p:nvSpPr>
                      <p:cNvPr id="2497" name=""/>
                      <p:cNvSpPr/>
                      <p:nvPr/>
                    </p:nvSpPr>
                    <p:spPr>
                      <a:xfrm>
                        <a:off x="158472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8" name=""/>
                      <p:cNvSpPr/>
                      <p:nvPr/>
                    </p:nvSpPr>
                    <p:spPr>
                      <a:xfrm>
                        <a:off x="158616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99" name=""/>
                      <p:cNvGrpSpPr/>
                      <p:nvPr/>
                    </p:nvGrpSpPr>
                    <p:grpSpPr>
                      <a:xfrm>
                        <a:off x="1580400" y="1751400"/>
                        <a:ext cx="2520" cy="6120"/>
                        <a:chOff x="1580400" y="1751400"/>
                        <a:chExt cx="2520" cy="6120"/>
                      </a:xfrm>
                    </p:grpSpPr>
                    <p:sp>
                      <p:nvSpPr>
                        <p:cNvPr id="2500" name=""/>
                        <p:cNvSpPr/>
                        <p:nvPr/>
                      </p:nvSpPr>
                      <p:spPr>
                        <a:xfrm>
                          <a:off x="158040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1" name=""/>
                        <p:cNvSpPr/>
                        <p:nvPr/>
                      </p:nvSpPr>
                      <p:spPr>
                        <a:xfrm>
                          <a:off x="158040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02" name=""/>
                    <p:cNvGrpSpPr/>
                    <p:nvPr/>
                  </p:nvGrpSpPr>
                  <p:grpSpPr>
                    <a:xfrm>
                      <a:off x="1497600" y="1749600"/>
                      <a:ext cx="36000" cy="14400"/>
                      <a:chOff x="1497600" y="1749600"/>
                      <a:chExt cx="36000" cy="14400"/>
                    </a:xfrm>
                  </p:grpSpPr>
                  <p:grpSp>
                    <p:nvGrpSpPr>
                      <p:cNvPr id="2503" name=""/>
                      <p:cNvGrpSpPr/>
                      <p:nvPr/>
                    </p:nvGrpSpPr>
                    <p:grpSpPr>
                      <a:xfrm>
                        <a:off x="1499040" y="1749600"/>
                        <a:ext cx="34560" cy="7920"/>
                        <a:chOff x="1499040" y="1749600"/>
                        <a:chExt cx="34560" cy="7920"/>
                      </a:xfrm>
                    </p:grpSpPr>
                    <p:sp>
                      <p:nvSpPr>
                        <p:cNvPr id="2504" name=""/>
                        <p:cNvSpPr/>
                        <p:nvPr/>
                      </p:nvSpPr>
                      <p:spPr>
                        <a:xfrm>
                          <a:off x="150804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5" name=""/>
                        <p:cNvSpPr/>
                        <p:nvPr/>
                      </p:nvSpPr>
                      <p:spPr>
                        <a:xfrm>
                          <a:off x="150804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6" name=""/>
                        <p:cNvSpPr/>
                        <p:nvPr/>
                      </p:nvSpPr>
                      <p:spPr>
                        <a:xfrm>
                          <a:off x="149904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07" name=""/>
                      <p:cNvSpPr/>
                      <p:nvPr/>
                    </p:nvSpPr>
                    <p:spPr>
                      <a:xfrm>
                        <a:off x="149760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8" name=""/>
                      <p:cNvSpPr/>
                      <p:nvPr/>
                    </p:nvSpPr>
                    <p:spPr>
                      <a:xfrm>
                        <a:off x="152604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9" name=""/>
                    <p:cNvGrpSpPr/>
                    <p:nvPr/>
                  </p:nvGrpSpPr>
                  <p:grpSpPr>
                    <a:xfrm>
                      <a:off x="1470600" y="1762560"/>
                      <a:ext cx="21960" cy="4680"/>
                      <a:chOff x="1470600" y="1762560"/>
                      <a:chExt cx="21960" cy="4680"/>
                    </a:xfrm>
                  </p:grpSpPr>
                  <p:grpSp>
                    <p:nvGrpSpPr>
                      <p:cNvPr id="2510" name=""/>
                      <p:cNvGrpSpPr/>
                      <p:nvPr/>
                    </p:nvGrpSpPr>
                    <p:grpSpPr>
                      <a:xfrm>
                        <a:off x="1470600" y="1762560"/>
                        <a:ext cx="11520" cy="4680"/>
                        <a:chOff x="1470600" y="1762560"/>
                        <a:chExt cx="11520" cy="4680"/>
                      </a:xfrm>
                    </p:grpSpPr>
                    <p:grpSp>
                      <p:nvGrpSpPr>
                        <p:cNvPr id="2511" name=""/>
                        <p:cNvGrpSpPr/>
                        <p:nvPr/>
                      </p:nvGrpSpPr>
                      <p:grpSpPr>
                        <a:xfrm>
                          <a:off x="1470600" y="1762560"/>
                          <a:ext cx="5400" cy="4680"/>
                          <a:chOff x="1470600" y="1762560"/>
                          <a:chExt cx="5400" cy="4680"/>
                        </a:xfrm>
                      </p:grpSpPr>
                      <p:grpSp>
                        <p:nvGrpSpPr>
                          <p:cNvPr id="2512" name=""/>
                          <p:cNvGrpSpPr/>
                          <p:nvPr/>
                        </p:nvGrpSpPr>
                        <p:grpSpPr>
                          <a:xfrm>
                            <a:off x="1470600" y="1762560"/>
                            <a:ext cx="2520" cy="4680"/>
                            <a:chOff x="1470600" y="1762560"/>
                            <a:chExt cx="2520" cy="4680"/>
                          </a:xfrm>
                        </p:grpSpPr>
                        <p:sp>
                          <p:nvSpPr>
                            <p:cNvPr id="2513" name=""/>
                            <p:cNvSpPr/>
                            <p:nvPr/>
                          </p:nvSpPr>
                          <p:spPr>
                            <a:xfrm>
                              <a:off x="1470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4" name=""/>
                            <p:cNvSpPr/>
                            <p:nvPr/>
                          </p:nvSpPr>
                          <p:spPr>
                            <a:xfrm>
                              <a:off x="1472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15" name=""/>
                          <p:cNvGrpSpPr/>
                          <p:nvPr/>
                        </p:nvGrpSpPr>
                        <p:grpSpPr>
                          <a:xfrm>
                            <a:off x="1473480" y="1762560"/>
                            <a:ext cx="2520" cy="4680"/>
                            <a:chOff x="1473480" y="1762560"/>
                            <a:chExt cx="2520" cy="4680"/>
                          </a:xfrm>
                        </p:grpSpPr>
                        <p:sp>
                          <p:nvSpPr>
                            <p:cNvPr id="2516" name=""/>
                            <p:cNvSpPr/>
                            <p:nvPr/>
                          </p:nvSpPr>
                          <p:spPr>
                            <a:xfrm>
                              <a:off x="1473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7" name=""/>
                            <p:cNvSpPr/>
                            <p:nvPr/>
                          </p:nvSpPr>
                          <p:spPr>
                            <a:xfrm>
                              <a:off x="14749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18" name=""/>
                        <p:cNvGrpSpPr/>
                        <p:nvPr/>
                      </p:nvGrpSpPr>
                      <p:grpSpPr>
                        <a:xfrm>
                          <a:off x="1476720" y="1762560"/>
                          <a:ext cx="5400" cy="4680"/>
                          <a:chOff x="1476720" y="1762560"/>
                          <a:chExt cx="5400" cy="4680"/>
                        </a:xfrm>
                      </p:grpSpPr>
                      <p:grpSp>
                        <p:nvGrpSpPr>
                          <p:cNvPr id="2519" name=""/>
                          <p:cNvGrpSpPr/>
                          <p:nvPr/>
                        </p:nvGrpSpPr>
                        <p:grpSpPr>
                          <a:xfrm>
                            <a:off x="1476720" y="1762560"/>
                            <a:ext cx="2520" cy="4680"/>
                            <a:chOff x="1476720" y="1762560"/>
                            <a:chExt cx="2520" cy="4680"/>
                          </a:xfrm>
                        </p:grpSpPr>
                        <p:sp>
                          <p:nvSpPr>
                            <p:cNvPr id="2520" name=""/>
                            <p:cNvSpPr/>
                            <p:nvPr/>
                          </p:nvSpPr>
                          <p:spPr>
                            <a:xfrm>
                              <a:off x="1476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1" name=""/>
                            <p:cNvSpPr/>
                            <p:nvPr/>
                          </p:nvSpPr>
                          <p:spPr>
                            <a:xfrm>
                              <a:off x="1477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2" name=""/>
                          <p:cNvGrpSpPr/>
                          <p:nvPr/>
                        </p:nvGrpSpPr>
                        <p:grpSpPr>
                          <a:xfrm>
                            <a:off x="1479600" y="1762560"/>
                            <a:ext cx="2520" cy="4680"/>
                            <a:chOff x="1479600" y="1762560"/>
                            <a:chExt cx="2520" cy="4680"/>
                          </a:xfrm>
                        </p:grpSpPr>
                        <p:sp>
                          <p:nvSpPr>
                            <p:cNvPr id="2523" name=""/>
                            <p:cNvSpPr/>
                            <p:nvPr/>
                          </p:nvSpPr>
                          <p:spPr>
                            <a:xfrm>
                              <a:off x="1479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4" name=""/>
                            <p:cNvSpPr/>
                            <p:nvPr/>
                          </p:nvSpPr>
                          <p:spPr>
                            <a:xfrm>
                              <a:off x="1480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25" name=""/>
                      <p:cNvGrpSpPr/>
                      <p:nvPr/>
                    </p:nvGrpSpPr>
                    <p:grpSpPr>
                      <a:xfrm>
                        <a:off x="1483200" y="1762560"/>
                        <a:ext cx="9360" cy="4680"/>
                        <a:chOff x="1483200" y="1762560"/>
                        <a:chExt cx="9360" cy="4680"/>
                      </a:xfrm>
                    </p:grpSpPr>
                    <p:grpSp>
                      <p:nvGrpSpPr>
                        <p:cNvPr id="2526" name=""/>
                        <p:cNvGrpSpPr/>
                        <p:nvPr/>
                      </p:nvGrpSpPr>
                      <p:grpSpPr>
                        <a:xfrm>
                          <a:off x="1483200" y="1762560"/>
                          <a:ext cx="5040" cy="4680"/>
                          <a:chOff x="1483200" y="1762560"/>
                          <a:chExt cx="5040" cy="4680"/>
                        </a:xfrm>
                      </p:grpSpPr>
                      <p:grpSp>
                        <p:nvGrpSpPr>
                          <p:cNvPr id="2527" name=""/>
                          <p:cNvGrpSpPr/>
                          <p:nvPr/>
                        </p:nvGrpSpPr>
                        <p:grpSpPr>
                          <a:xfrm>
                            <a:off x="1483200" y="1762560"/>
                            <a:ext cx="2160" cy="4680"/>
                            <a:chOff x="1483200" y="1762560"/>
                            <a:chExt cx="2160" cy="4680"/>
                          </a:xfrm>
                        </p:grpSpPr>
                        <p:sp>
                          <p:nvSpPr>
                            <p:cNvPr id="2528" name=""/>
                            <p:cNvSpPr/>
                            <p:nvPr/>
                          </p:nvSpPr>
                          <p:spPr>
                            <a:xfrm>
                              <a:off x="14832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9" name=""/>
                            <p:cNvSpPr/>
                            <p:nvPr/>
                          </p:nvSpPr>
                          <p:spPr>
                            <a:xfrm>
                              <a:off x="1484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0" name=""/>
                          <p:cNvGrpSpPr/>
                          <p:nvPr/>
                        </p:nvGrpSpPr>
                        <p:grpSpPr>
                          <a:xfrm>
                            <a:off x="1485720" y="1762560"/>
                            <a:ext cx="2520" cy="4680"/>
                            <a:chOff x="1485720" y="1762560"/>
                            <a:chExt cx="2520" cy="4680"/>
                          </a:xfrm>
                        </p:grpSpPr>
                        <p:sp>
                          <p:nvSpPr>
                            <p:cNvPr id="2531" name=""/>
                            <p:cNvSpPr/>
                            <p:nvPr/>
                          </p:nvSpPr>
                          <p:spPr>
                            <a:xfrm>
                              <a:off x="1485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2" name=""/>
                            <p:cNvSpPr/>
                            <p:nvPr/>
                          </p:nvSpPr>
                          <p:spPr>
                            <a:xfrm>
                              <a:off x="1487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33" name=""/>
                        <p:cNvGrpSpPr/>
                        <p:nvPr/>
                      </p:nvGrpSpPr>
                      <p:grpSpPr>
                        <a:xfrm>
                          <a:off x="1488960" y="1762560"/>
                          <a:ext cx="3600" cy="4680"/>
                          <a:chOff x="1488960" y="1762560"/>
                          <a:chExt cx="3600" cy="4680"/>
                        </a:xfrm>
                      </p:grpSpPr>
                      <p:grpSp>
                        <p:nvGrpSpPr>
                          <p:cNvPr id="2534" name=""/>
                          <p:cNvGrpSpPr/>
                          <p:nvPr/>
                        </p:nvGrpSpPr>
                        <p:grpSpPr>
                          <a:xfrm>
                            <a:off x="1488960" y="1762560"/>
                            <a:ext cx="1440" cy="4680"/>
                            <a:chOff x="1488960" y="1762560"/>
                            <a:chExt cx="1440" cy="4680"/>
                          </a:xfrm>
                        </p:grpSpPr>
                        <p:sp>
                          <p:nvSpPr>
                            <p:cNvPr id="2535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6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7" name=""/>
                          <p:cNvGrpSpPr/>
                          <p:nvPr/>
                        </p:nvGrpSpPr>
                        <p:grpSpPr>
                          <a:xfrm>
                            <a:off x="1490400" y="1762560"/>
                            <a:ext cx="2160" cy="4680"/>
                            <a:chOff x="1490400" y="1762560"/>
                            <a:chExt cx="2160" cy="4680"/>
                          </a:xfrm>
                        </p:grpSpPr>
                        <p:sp>
                          <p:nvSpPr>
                            <p:cNvPr id="2538" name=""/>
                            <p:cNvSpPr/>
                            <p:nvPr/>
                          </p:nvSpPr>
                          <p:spPr>
                            <a:xfrm>
                              <a:off x="1490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9" name=""/>
                            <p:cNvSpPr/>
                            <p:nvPr/>
                          </p:nvSpPr>
                          <p:spPr>
                            <a:xfrm>
                              <a:off x="14914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146916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1" name=""/>
                  <p:cNvGrpSpPr/>
                  <p:nvPr/>
                </p:nvGrpSpPr>
                <p:grpSpPr>
                  <a:xfrm>
                    <a:off x="1425240" y="1781640"/>
                    <a:ext cx="210960" cy="29880"/>
                    <a:chOff x="1425240" y="1781640"/>
                    <a:chExt cx="210960" cy="29880"/>
                  </a:xfrm>
                </p:grpSpPr>
                <p:grpSp>
                  <p:nvGrpSpPr>
                    <p:cNvPr id="2542" name=""/>
                    <p:cNvGrpSpPr/>
                    <p:nvPr/>
                  </p:nvGrpSpPr>
                  <p:grpSpPr>
                    <a:xfrm>
                      <a:off x="1425240" y="1781640"/>
                      <a:ext cx="210960" cy="29880"/>
                      <a:chOff x="1425240" y="1781640"/>
                      <a:chExt cx="210960" cy="29880"/>
                    </a:xfrm>
                  </p:grpSpPr>
                  <p:sp>
                    <p:nvSpPr>
                      <p:cNvPr id="2543" name=""/>
                      <p:cNvSpPr/>
                      <p:nvPr/>
                    </p:nvSpPr>
                    <p:spPr>
                      <a:xfrm>
                        <a:off x="142524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4" name=""/>
                      <p:cNvSpPr/>
                      <p:nvPr/>
                    </p:nvSpPr>
                    <p:spPr>
                      <a:xfrm>
                        <a:off x="142524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5" name=""/>
                      <p:cNvSpPr/>
                      <p:nvPr/>
                    </p:nvSpPr>
                    <p:spPr>
                      <a:xfrm>
                        <a:off x="143136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6" name=""/>
                    <p:cNvGrpSpPr/>
                    <p:nvPr/>
                  </p:nvGrpSpPr>
                  <p:grpSpPr>
                    <a:xfrm>
                      <a:off x="1447200" y="1784520"/>
                      <a:ext cx="165960" cy="5040"/>
                      <a:chOff x="1447200" y="1784520"/>
                      <a:chExt cx="165960" cy="5040"/>
                    </a:xfrm>
                  </p:grpSpPr>
                  <p:sp>
                    <p:nvSpPr>
                      <p:cNvPr id="2547" name=""/>
                      <p:cNvSpPr/>
                      <p:nvPr/>
                    </p:nvSpPr>
                    <p:spPr>
                      <a:xfrm>
                        <a:off x="144720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8" name=""/>
                      <p:cNvSpPr/>
                      <p:nvPr/>
                    </p:nvSpPr>
                    <p:spPr>
                      <a:xfrm>
                        <a:off x="146448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>
                        <a:off x="149760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>
                        <a:off x="15278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>
                        <a:off x="155808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>
                        <a:off x="158652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3" name=""/>
                    <p:cNvGrpSpPr/>
                    <p:nvPr/>
                  </p:nvGrpSpPr>
                  <p:grpSpPr>
                    <a:xfrm>
                      <a:off x="1441080" y="1791000"/>
                      <a:ext cx="174960" cy="11160"/>
                      <a:chOff x="1441080" y="1791000"/>
                      <a:chExt cx="174960" cy="11160"/>
                    </a:xfrm>
                  </p:grpSpPr>
                  <p:grpSp>
                    <p:nvGrpSpPr>
                      <p:cNvPr id="2554" name=""/>
                      <p:cNvGrpSpPr/>
                      <p:nvPr/>
                    </p:nvGrpSpPr>
                    <p:grpSpPr>
                      <a:xfrm>
                        <a:off x="1456560" y="1791000"/>
                        <a:ext cx="84960" cy="9360"/>
                        <a:chOff x="1456560" y="1791000"/>
                        <a:chExt cx="84960" cy="9360"/>
                      </a:xfrm>
                    </p:grpSpPr>
                    <p:sp>
                      <p:nvSpPr>
                        <p:cNvPr id="2555" name=""/>
                        <p:cNvSpPr/>
                        <p:nvPr/>
                      </p:nvSpPr>
                      <p:spPr>
                        <a:xfrm>
                          <a:off x="145656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6" name=""/>
                        <p:cNvSpPr/>
                        <p:nvPr/>
                      </p:nvSpPr>
                      <p:spPr>
                        <a:xfrm>
                          <a:off x="145908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7" name=""/>
                        <p:cNvSpPr/>
                        <p:nvPr/>
                      </p:nvSpPr>
                      <p:spPr>
                        <a:xfrm>
                          <a:off x="146088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8" name=""/>
                        <p:cNvSpPr/>
                        <p:nvPr/>
                      </p:nvSpPr>
                      <p:spPr>
                        <a:xfrm>
                          <a:off x="146232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59" name=""/>
                      <p:cNvGrpSpPr/>
                      <p:nvPr/>
                    </p:nvGrpSpPr>
                    <p:grpSpPr>
                      <a:xfrm>
                        <a:off x="1441080" y="1792440"/>
                        <a:ext cx="15480" cy="6480"/>
                        <a:chOff x="1441080" y="1792440"/>
                        <a:chExt cx="15480" cy="6480"/>
                      </a:xfrm>
                    </p:grpSpPr>
                    <p:sp>
                      <p:nvSpPr>
                        <p:cNvPr id="2560" name=""/>
                        <p:cNvSpPr/>
                        <p:nvPr/>
                      </p:nvSpPr>
                      <p:spPr>
                        <a:xfrm>
                          <a:off x="144540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1" name=""/>
                        <p:cNvSpPr/>
                        <p:nvPr/>
                      </p:nvSpPr>
                      <p:spPr>
                        <a:xfrm>
                          <a:off x="144360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2" name=""/>
                        <p:cNvSpPr/>
                        <p:nvPr/>
                      </p:nvSpPr>
                      <p:spPr>
                        <a:xfrm>
                          <a:off x="144108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63" name=""/>
                      <p:cNvGrpSpPr/>
                      <p:nvPr/>
                    </p:nvGrpSpPr>
                    <p:grpSpPr>
                      <a:xfrm>
                        <a:off x="1475640" y="1791000"/>
                        <a:ext cx="78480" cy="9360"/>
                        <a:chOff x="1475640" y="1791000"/>
                        <a:chExt cx="78480" cy="9360"/>
                      </a:xfrm>
                    </p:grpSpPr>
                    <p:sp>
                      <p:nvSpPr>
                        <p:cNvPr id="2564" name=""/>
                        <p:cNvSpPr/>
                        <p:nvPr/>
                      </p:nvSpPr>
                      <p:spPr>
                        <a:xfrm>
                          <a:off x="147564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5" name=""/>
                        <p:cNvSpPr/>
                        <p:nvPr/>
                      </p:nvSpPr>
                      <p:spPr>
                        <a:xfrm>
                          <a:off x="154188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6" name=""/>
                        <p:cNvSpPr/>
                        <p:nvPr/>
                      </p:nvSpPr>
                      <p:spPr>
                        <a:xfrm>
                          <a:off x="154512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7" name=""/>
                        <p:cNvSpPr/>
                        <p:nvPr/>
                      </p:nvSpPr>
                      <p:spPr>
                        <a:xfrm>
                          <a:off x="153864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8" name=""/>
                        <p:cNvSpPr/>
                        <p:nvPr/>
                      </p:nvSpPr>
                      <p:spPr>
                        <a:xfrm>
                          <a:off x="152604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9" name=""/>
                        <p:cNvSpPr/>
                        <p:nvPr/>
                      </p:nvSpPr>
                      <p:spPr>
                        <a:xfrm>
                          <a:off x="153540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0" name=""/>
                      <p:cNvGrpSpPr/>
                      <p:nvPr/>
                    </p:nvGrpSpPr>
                    <p:grpSpPr>
                      <a:xfrm>
                        <a:off x="1558080" y="1792440"/>
                        <a:ext cx="24480" cy="7920"/>
                        <a:chOff x="1558080" y="1792440"/>
                        <a:chExt cx="24480" cy="7920"/>
                      </a:xfrm>
                    </p:grpSpPr>
                    <p:sp>
                      <p:nvSpPr>
                        <p:cNvPr id="2571" name=""/>
                        <p:cNvSpPr/>
                        <p:nvPr/>
                      </p:nvSpPr>
                      <p:spPr>
                        <a:xfrm>
                          <a:off x="155808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2" name=""/>
                        <p:cNvSpPr/>
                        <p:nvPr/>
                      </p:nvSpPr>
                      <p:spPr>
                        <a:xfrm>
                          <a:off x="156096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3" name=""/>
                        <p:cNvSpPr/>
                        <p:nvPr/>
                      </p:nvSpPr>
                      <p:spPr>
                        <a:xfrm>
                          <a:off x="156096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4" name=""/>
                      <p:cNvGrpSpPr/>
                      <p:nvPr/>
                    </p:nvGrpSpPr>
                    <p:grpSpPr>
                      <a:xfrm>
                        <a:off x="1586520" y="1792440"/>
                        <a:ext cx="29520" cy="9720"/>
                        <a:chOff x="1586520" y="1792440"/>
                        <a:chExt cx="29520" cy="9720"/>
                      </a:xfrm>
                    </p:grpSpPr>
                    <p:sp>
                      <p:nvSpPr>
                        <p:cNvPr id="2575" name=""/>
                        <p:cNvSpPr/>
                        <p:nvPr/>
                      </p:nvSpPr>
                      <p:spPr>
                        <a:xfrm>
                          <a:off x="158940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6" name=""/>
                        <p:cNvSpPr/>
                        <p:nvPr/>
                      </p:nvSpPr>
                      <p:spPr>
                        <a:xfrm>
                          <a:off x="158652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7" name=""/>
                        <p:cNvSpPr/>
                        <p:nvPr/>
                      </p:nvSpPr>
                      <p:spPr>
                        <a:xfrm>
                          <a:off x="15894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8" name=""/>
                        <p:cNvSpPr/>
                        <p:nvPr/>
                      </p:nvSpPr>
                      <p:spPr>
                        <a:xfrm>
                          <a:off x="158796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9" name=""/>
                        <p:cNvSpPr/>
                        <p:nvPr/>
                      </p:nvSpPr>
                      <p:spPr>
                        <a:xfrm>
                          <a:off x="160848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0" name=""/>
                        <p:cNvSpPr/>
                        <p:nvPr/>
                      </p:nvSpPr>
                      <p:spPr>
                        <a:xfrm>
                          <a:off x="160992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81" name=""/>
                  <p:cNvGrpSpPr/>
                  <p:nvPr/>
                </p:nvGrpSpPr>
                <p:grpSpPr>
                  <a:xfrm>
                    <a:off x="1486800" y="1722600"/>
                    <a:ext cx="91800" cy="19080"/>
                    <a:chOff x="1486800" y="1722600"/>
                    <a:chExt cx="91800" cy="19080"/>
                  </a:xfrm>
                </p:grpSpPr>
                <p:grpSp>
                  <p:nvGrpSpPr>
                    <p:cNvPr id="2582" name=""/>
                    <p:cNvGrpSpPr/>
                    <p:nvPr/>
                  </p:nvGrpSpPr>
                  <p:grpSpPr>
                    <a:xfrm>
                      <a:off x="1486800" y="1727640"/>
                      <a:ext cx="91800" cy="14040"/>
                      <a:chOff x="1486800" y="1727640"/>
                      <a:chExt cx="91800" cy="14040"/>
                    </a:xfrm>
                  </p:grpSpPr>
                  <p:sp>
                    <p:nvSpPr>
                      <p:cNvPr id="2583" name=""/>
                      <p:cNvSpPr/>
                      <p:nvPr/>
                    </p:nvSpPr>
                    <p:spPr>
                      <a:xfrm>
                        <a:off x="148680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4" name=""/>
                      <p:cNvSpPr/>
                      <p:nvPr/>
                    </p:nvSpPr>
                    <p:spPr>
                      <a:xfrm>
                        <a:off x="148680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150732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86" name=""/>
                  <p:cNvSpPr/>
                  <p:nvPr/>
                </p:nvSpPr>
                <p:spPr>
                  <a:xfrm>
                    <a:off x="147600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148860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149328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157104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590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3472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1" name=""/>
            <p:cNvGrpSpPr/>
            <p:nvPr/>
          </p:nvGrpSpPr>
          <p:grpSpPr>
            <a:xfrm>
              <a:off x="1352520" y="2286000"/>
              <a:ext cx="1085760" cy="752400"/>
              <a:chOff x="1352520" y="2286000"/>
              <a:chExt cx="1085760" cy="752400"/>
            </a:xfrm>
          </p:grpSpPr>
          <p:sp>
            <p:nvSpPr>
              <p:cNvPr id="2592" name=""/>
              <p:cNvSpPr/>
              <p:nvPr/>
            </p:nvSpPr>
            <p:spPr>
              <a:xfrm>
                <a:off x="13525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4000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5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1425240" y="2341440"/>
                <a:ext cx="821880" cy="488880"/>
                <a:chOff x="1425240" y="2341440"/>
                <a:chExt cx="821880" cy="48888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15678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18536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17870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598" name="pbx" descr=""/>
                <p:cNvPicPr/>
                <p:nvPr/>
              </p:nvPicPr>
              <p:blipFill>
                <a:blip r:embed="rId30"/>
                <a:srcRect l="37594" t="74298" r="28339" b="4834"/>
                <a:stretch/>
              </p:blipFill>
              <p:spPr>
                <a:xfrm>
                  <a:off x="17298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9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7568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00" name=""/>
                <p:cNvGrpSpPr/>
                <p:nvPr/>
              </p:nvGrpSpPr>
              <p:grpSpPr>
                <a:xfrm>
                  <a:off x="1425240" y="2479680"/>
                  <a:ext cx="210960" cy="169920"/>
                  <a:chOff x="1425240" y="2479680"/>
                  <a:chExt cx="210960" cy="169920"/>
                </a:xfrm>
              </p:grpSpPr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1464840" y="2570400"/>
                    <a:ext cx="134280" cy="52200"/>
                    <a:chOff x="1464840" y="2570400"/>
                    <a:chExt cx="134280" cy="52200"/>
                  </a:xfrm>
                </p:grpSpPr>
                <p:grpSp>
                  <p:nvGrpSpPr>
                    <p:cNvPr id="2602" name=""/>
                    <p:cNvGrpSpPr/>
                    <p:nvPr/>
                  </p:nvGrpSpPr>
                  <p:grpSpPr>
                    <a:xfrm>
                      <a:off x="1464840" y="2570400"/>
                      <a:ext cx="134280" cy="52200"/>
                      <a:chOff x="1464840" y="2570400"/>
                      <a:chExt cx="134280" cy="52200"/>
                    </a:xfrm>
                  </p:grpSpPr>
                  <p:grpSp>
                    <p:nvGrpSpPr>
                      <p:cNvPr id="2603" name=""/>
                      <p:cNvGrpSpPr/>
                      <p:nvPr/>
                    </p:nvGrpSpPr>
                    <p:grpSpPr>
                      <a:xfrm>
                        <a:off x="1464840" y="2570400"/>
                        <a:ext cx="134280" cy="52200"/>
                        <a:chOff x="1464840" y="2570400"/>
                        <a:chExt cx="134280" cy="52200"/>
                      </a:xfrm>
                    </p:grpSpPr>
                    <p:grpSp>
                      <p:nvGrpSpPr>
                        <p:cNvPr id="2604" name=""/>
                        <p:cNvGrpSpPr/>
                        <p:nvPr/>
                      </p:nvGrpSpPr>
                      <p:grpSpPr>
                        <a:xfrm>
                          <a:off x="1464840" y="2570400"/>
                          <a:ext cx="134280" cy="52200"/>
                          <a:chOff x="1464840" y="2570400"/>
                          <a:chExt cx="134280" cy="52200"/>
                        </a:xfrm>
                      </p:grpSpPr>
                      <p:grpSp>
                        <p:nvGrpSpPr>
                          <p:cNvPr id="2605" name=""/>
                          <p:cNvGrpSpPr/>
                          <p:nvPr/>
                        </p:nvGrpSpPr>
                        <p:grpSpPr>
                          <a:xfrm>
                            <a:off x="1464840" y="2570400"/>
                            <a:ext cx="134280" cy="52200"/>
                            <a:chOff x="1464840" y="2570400"/>
                            <a:chExt cx="134280" cy="52200"/>
                          </a:xfrm>
                        </p:grpSpPr>
                        <p:sp>
                          <p:nvSpPr>
                            <p:cNvPr id="2606" name=""/>
                            <p:cNvSpPr/>
                            <p:nvPr/>
                          </p:nvSpPr>
                          <p:spPr>
                            <a:xfrm>
                              <a:off x="14648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07" name=""/>
                            <p:cNvSpPr/>
                            <p:nvPr/>
                          </p:nvSpPr>
                          <p:spPr>
                            <a:xfrm>
                              <a:off x="14659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08" name=""/>
                          <p:cNvSpPr/>
                          <p:nvPr/>
                        </p:nvSpPr>
                        <p:spPr>
                          <a:xfrm>
                            <a:off x="14673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09" name=""/>
                        <p:cNvGrpSpPr/>
                        <p:nvPr/>
                      </p:nvGrpSpPr>
                      <p:grpSpPr>
                        <a:xfrm>
                          <a:off x="1470600" y="2613240"/>
                          <a:ext cx="124560" cy="7920"/>
                          <a:chOff x="1470600" y="2613240"/>
                          <a:chExt cx="124560" cy="7920"/>
                        </a:xfrm>
                      </p:grpSpPr>
                      <p:grpSp>
                        <p:nvGrpSpPr>
                          <p:cNvPr id="2610" name=""/>
                          <p:cNvGrpSpPr/>
                          <p:nvPr/>
                        </p:nvGrpSpPr>
                        <p:grpSpPr>
                          <a:xfrm>
                            <a:off x="1470600" y="2613240"/>
                            <a:ext cx="61560" cy="7920"/>
                            <a:chOff x="1470600" y="2613240"/>
                            <a:chExt cx="61560" cy="7920"/>
                          </a:xfrm>
                        </p:grpSpPr>
                        <p:grpSp>
                          <p:nvGrpSpPr>
                            <p:cNvPr id="2611" name=""/>
                            <p:cNvGrpSpPr/>
                            <p:nvPr/>
                          </p:nvGrpSpPr>
                          <p:grpSpPr>
                            <a:xfrm>
                              <a:off x="1470600" y="2613240"/>
                              <a:ext cx="29880" cy="7920"/>
                              <a:chOff x="1470600" y="2613240"/>
                              <a:chExt cx="29880" cy="7920"/>
                            </a:xfrm>
                          </p:grpSpPr>
                          <p:grpSp>
                            <p:nvGrpSpPr>
                              <p:cNvPr id="2612" name=""/>
                              <p:cNvGrpSpPr/>
                              <p:nvPr/>
                            </p:nvGrpSpPr>
                            <p:grpSpPr>
                              <a:xfrm>
                                <a:off x="1470600" y="2613240"/>
                                <a:ext cx="14400" cy="7920"/>
                                <a:chOff x="14706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1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2613240"/>
                                  <a:ext cx="6840" cy="7920"/>
                                  <a:chOff x="14706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2613240"/>
                                    <a:ext cx="2520" cy="7920"/>
                                    <a:chOff x="1470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2613240"/>
                                    <a:ext cx="3960" cy="7920"/>
                                    <a:chOff x="14734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2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2613240"/>
                                  <a:ext cx="6840" cy="7920"/>
                                  <a:chOff x="1478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2613240"/>
                                    <a:ext cx="2520" cy="7920"/>
                                    <a:chOff x="1478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2613240"/>
                                    <a:ext cx="3960" cy="7920"/>
                                    <a:chOff x="1481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27" name=""/>
                              <p:cNvGrpSpPr/>
                              <p:nvPr/>
                            </p:nvGrpSpPr>
                            <p:grpSpPr>
                              <a:xfrm>
                                <a:off x="1486080" y="2613240"/>
                                <a:ext cx="14400" cy="7920"/>
                                <a:chOff x="14860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2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2613240"/>
                                  <a:ext cx="6840" cy="7920"/>
                                  <a:chOff x="14860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2613240"/>
                                    <a:ext cx="2520" cy="7920"/>
                                    <a:chOff x="1486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2613240"/>
                                    <a:ext cx="3960" cy="7920"/>
                                    <a:chOff x="14889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3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2613240"/>
                                  <a:ext cx="6840" cy="7920"/>
                                  <a:chOff x="1493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2613240"/>
                                    <a:ext cx="2520" cy="7920"/>
                                    <a:chOff x="1493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2613240"/>
                                    <a:ext cx="3960" cy="7920"/>
                                    <a:chOff x="14965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642" name=""/>
                            <p:cNvGrpSpPr/>
                            <p:nvPr/>
                          </p:nvGrpSpPr>
                          <p:grpSpPr>
                            <a:xfrm>
                              <a:off x="1501920" y="2613240"/>
                              <a:ext cx="30240" cy="7920"/>
                              <a:chOff x="1501920" y="2613240"/>
                              <a:chExt cx="30240" cy="7920"/>
                            </a:xfrm>
                          </p:grpSpPr>
                          <p:grpSp>
                            <p:nvGrpSpPr>
                              <p:cNvPr id="2643" name=""/>
                              <p:cNvGrpSpPr/>
                              <p:nvPr/>
                            </p:nvGrpSpPr>
                            <p:grpSpPr>
                              <a:xfrm>
                                <a:off x="1501920" y="2613240"/>
                                <a:ext cx="14760" cy="7920"/>
                                <a:chOff x="15019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264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2613240"/>
                                  <a:ext cx="7200" cy="7920"/>
                                  <a:chOff x="15019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6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2613240"/>
                                    <a:ext cx="2520" cy="7920"/>
                                    <a:chOff x="1501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2613240"/>
                                    <a:ext cx="2520" cy="7920"/>
                                    <a:chOff x="1506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5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2613240"/>
                                  <a:ext cx="6840" cy="7920"/>
                                  <a:chOff x="1509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2613240"/>
                                    <a:ext cx="2160" cy="7920"/>
                                    <a:chOff x="15098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2613240"/>
                                    <a:ext cx="2520" cy="7920"/>
                                    <a:chOff x="151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58" name=""/>
                              <p:cNvGrpSpPr/>
                              <p:nvPr/>
                            </p:nvGrpSpPr>
                            <p:grpSpPr>
                              <a:xfrm>
                                <a:off x="1517760" y="2613240"/>
                                <a:ext cx="14400" cy="7920"/>
                                <a:chOff x="1517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5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2613240"/>
                                  <a:ext cx="6840" cy="7920"/>
                                  <a:chOff x="1517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2613240"/>
                                    <a:ext cx="2160" cy="7920"/>
                                    <a:chOff x="15177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2613240"/>
                                    <a:ext cx="2520" cy="7920"/>
                                    <a:chOff x="1522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6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2613240"/>
                                  <a:ext cx="6840" cy="7920"/>
                                  <a:chOff x="1525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2613240"/>
                                    <a:ext cx="2160" cy="7920"/>
                                    <a:chOff x="15253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2613240"/>
                                    <a:ext cx="4320" cy="7920"/>
                                    <a:chOff x="15278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673" name=""/>
                          <p:cNvGrpSpPr/>
                          <p:nvPr/>
                        </p:nvGrpSpPr>
                        <p:grpSpPr>
                          <a:xfrm>
                            <a:off x="1533960" y="2613240"/>
                            <a:ext cx="61200" cy="7920"/>
                            <a:chOff x="1533960" y="2613240"/>
                            <a:chExt cx="61200" cy="7920"/>
                          </a:xfrm>
                        </p:grpSpPr>
                        <p:grpSp>
                          <p:nvGrpSpPr>
                            <p:cNvPr id="2674" name=""/>
                            <p:cNvGrpSpPr/>
                            <p:nvPr/>
                          </p:nvGrpSpPr>
                          <p:grpSpPr>
                            <a:xfrm>
                              <a:off x="1533960" y="2613240"/>
                              <a:ext cx="29880" cy="7920"/>
                              <a:chOff x="1533960" y="2613240"/>
                              <a:chExt cx="29880" cy="7920"/>
                            </a:xfrm>
                          </p:grpSpPr>
                          <p:grpSp>
                            <p:nvGrpSpPr>
                              <p:cNvPr id="2675" name=""/>
                              <p:cNvGrpSpPr/>
                              <p:nvPr/>
                            </p:nvGrpSpPr>
                            <p:grpSpPr>
                              <a:xfrm>
                                <a:off x="1533960" y="2613240"/>
                                <a:ext cx="14400" cy="7920"/>
                                <a:chOff x="1533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7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2613240"/>
                                  <a:ext cx="6840" cy="7920"/>
                                  <a:chOff x="1533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2613240"/>
                                    <a:ext cx="2520" cy="7920"/>
                                    <a:chOff x="153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2613240"/>
                                    <a:ext cx="3960" cy="7920"/>
                                    <a:chOff x="15368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8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2613240"/>
                                  <a:ext cx="6840" cy="7920"/>
                                  <a:chOff x="1541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2613240"/>
                                    <a:ext cx="2520" cy="7920"/>
                                    <a:chOff x="1541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2613240"/>
                                    <a:ext cx="2520" cy="7920"/>
                                    <a:chOff x="1545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90" name=""/>
                              <p:cNvGrpSpPr/>
                              <p:nvPr/>
                            </p:nvGrpSpPr>
                            <p:grpSpPr>
                              <a:xfrm>
                                <a:off x="1549440" y="2613240"/>
                                <a:ext cx="14400" cy="7920"/>
                                <a:chOff x="15494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9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2613240"/>
                                  <a:ext cx="6840" cy="7920"/>
                                  <a:chOff x="15494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2613240"/>
                                    <a:ext cx="2520" cy="7920"/>
                                    <a:chOff x="15494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2613240"/>
                                    <a:ext cx="2520" cy="7920"/>
                                    <a:chOff x="1553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9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2613240"/>
                                  <a:ext cx="6840" cy="7920"/>
                                  <a:chOff x="1557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2613240"/>
                                    <a:ext cx="2520" cy="7920"/>
                                    <a:chOff x="1557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2613240"/>
                                    <a:ext cx="3960" cy="7920"/>
                                    <a:chOff x="1559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705" name=""/>
                            <p:cNvGrpSpPr/>
                            <p:nvPr/>
                          </p:nvGrpSpPr>
                          <p:grpSpPr>
                            <a:xfrm>
                              <a:off x="1565280" y="2613240"/>
                              <a:ext cx="29880" cy="7920"/>
                              <a:chOff x="1565280" y="2613240"/>
                              <a:chExt cx="29880" cy="7920"/>
                            </a:xfrm>
                          </p:grpSpPr>
                          <p:grpSp>
                            <p:nvGrpSpPr>
                              <p:cNvPr id="2706" name=""/>
                              <p:cNvGrpSpPr/>
                              <p:nvPr/>
                            </p:nvGrpSpPr>
                            <p:grpSpPr>
                              <a:xfrm>
                                <a:off x="1565280" y="2613240"/>
                                <a:ext cx="14400" cy="7920"/>
                                <a:chOff x="1565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0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2613240"/>
                                  <a:ext cx="6840" cy="7920"/>
                                  <a:chOff x="1565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2613240"/>
                                    <a:ext cx="2520" cy="7920"/>
                                    <a:chOff x="156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2613240"/>
                                    <a:ext cx="2520" cy="7920"/>
                                    <a:chOff x="1569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1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2613240"/>
                                  <a:ext cx="6840" cy="7920"/>
                                  <a:chOff x="1572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2613240"/>
                                    <a:ext cx="2520" cy="7920"/>
                                    <a:chOff x="157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2613240"/>
                                    <a:ext cx="3960" cy="7920"/>
                                    <a:chOff x="1575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721" name=""/>
                              <p:cNvGrpSpPr/>
                              <p:nvPr/>
                            </p:nvGrpSpPr>
                            <p:grpSpPr>
                              <a:xfrm>
                                <a:off x="1580760" y="2613240"/>
                                <a:ext cx="14400" cy="7920"/>
                                <a:chOff x="1580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2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2613240"/>
                                  <a:ext cx="6840" cy="7920"/>
                                  <a:chOff x="1580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2613240"/>
                                    <a:ext cx="2520" cy="7920"/>
                                    <a:chOff x="1580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2613240"/>
                                    <a:ext cx="2520" cy="7920"/>
                                    <a:chOff x="1585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2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2613240"/>
                                  <a:ext cx="6840" cy="7920"/>
                                  <a:chOff x="1588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2613240"/>
                                    <a:ext cx="2520" cy="7920"/>
                                    <a:chOff x="1588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2613240"/>
                                    <a:ext cx="2520" cy="7920"/>
                                    <a:chOff x="1592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736" name=""/>
                      <p:cNvGrpSpPr/>
                      <p:nvPr/>
                    </p:nvGrpSpPr>
                    <p:grpSpPr>
                      <a:xfrm>
                        <a:off x="1467360" y="2584440"/>
                        <a:ext cx="128160" cy="22320"/>
                        <a:chOff x="1467360" y="2584440"/>
                        <a:chExt cx="128160" cy="22320"/>
                      </a:xfrm>
                    </p:grpSpPr>
                    <p:sp>
                      <p:nvSpPr>
                        <p:cNvPr id="2737" name=""/>
                        <p:cNvSpPr/>
                        <p:nvPr/>
                      </p:nvSpPr>
                      <p:spPr>
                        <a:xfrm>
                          <a:off x="14673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8" name=""/>
                        <p:cNvSpPr/>
                        <p:nvPr/>
                      </p:nvSpPr>
                      <p:spPr>
                        <a:xfrm>
                          <a:off x="14958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9" name=""/>
                        <p:cNvSpPr/>
                        <p:nvPr/>
                      </p:nvSpPr>
                      <p:spPr>
                        <a:xfrm>
                          <a:off x="15354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0" name=""/>
                        <p:cNvSpPr/>
                        <p:nvPr/>
                      </p:nvSpPr>
                      <p:spPr>
                        <a:xfrm>
                          <a:off x="15768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1" name=""/>
                    <p:cNvGrpSpPr/>
                    <p:nvPr/>
                  </p:nvGrpSpPr>
                  <p:grpSpPr>
                    <a:xfrm>
                      <a:off x="1580400" y="2587680"/>
                      <a:ext cx="11880" cy="11160"/>
                      <a:chOff x="1580400" y="2587680"/>
                      <a:chExt cx="11880" cy="11160"/>
                    </a:xfrm>
                  </p:grpSpPr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15847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>
                        <a:off x="15861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44" name=""/>
                      <p:cNvGrpSpPr/>
                      <p:nvPr/>
                    </p:nvGrpSpPr>
                    <p:grpSpPr>
                      <a:xfrm>
                        <a:off x="1580400" y="2589480"/>
                        <a:ext cx="2520" cy="6120"/>
                        <a:chOff x="1580400" y="2589480"/>
                        <a:chExt cx="2520" cy="6120"/>
                      </a:xfrm>
                    </p:grpSpPr>
                    <p:sp>
                      <p:nvSpPr>
                        <p:cNvPr id="2745" name=""/>
                        <p:cNvSpPr/>
                        <p:nvPr/>
                      </p:nvSpPr>
                      <p:spPr>
                        <a:xfrm>
                          <a:off x="15804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6" name=""/>
                        <p:cNvSpPr/>
                        <p:nvPr/>
                      </p:nvSpPr>
                      <p:spPr>
                        <a:xfrm>
                          <a:off x="15804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7" name=""/>
                    <p:cNvGrpSpPr/>
                    <p:nvPr/>
                  </p:nvGrpSpPr>
                  <p:grpSpPr>
                    <a:xfrm>
                      <a:off x="1497600" y="2587680"/>
                      <a:ext cx="36000" cy="14400"/>
                      <a:chOff x="1497600" y="2587680"/>
                      <a:chExt cx="36000" cy="14400"/>
                    </a:xfrm>
                  </p:grpSpPr>
                  <p:grpSp>
                    <p:nvGrpSpPr>
                      <p:cNvPr id="2748" name=""/>
                      <p:cNvGrpSpPr/>
                      <p:nvPr/>
                    </p:nvGrpSpPr>
                    <p:grpSpPr>
                      <a:xfrm>
                        <a:off x="1499040" y="2587680"/>
                        <a:ext cx="34560" cy="7920"/>
                        <a:chOff x="1499040" y="2587680"/>
                        <a:chExt cx="34560" cy="7920"/>
                      </a:xfrm>
                    </p:grpSpPr>
                    <p:sp>
                      <p:nvSpPr>
                        <p:cNvPr id="2749" name=""/>
                        <p:cNvSpPr/>
                        <p:nvPr/>
                      </p:nvSpPr>
                      <p:spPr>
                        <a:xfrm>
                          <a:off x="15080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0" name=""/>
                        <p:cNvSpPr/>
                        <p:nvPr/>
                      </p:nvSpPr>
                      <p:spPr>
                        <a:xfrm>
                          <a:off x="15080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1" name=""/>
                        <p:cNvSpPr/>
                        <p:nvPr/>
                      </p:nvSpPr>
                      <p:spPr>
                        <a:xfrm>
                          <a:off x="14990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52" name=""/>
                      <p:cNvSpPr/>
                      <p:nvPr/>
                    </p:nvSpPr>
                    <p:spPr>
                      <a:xfrm>
                        <a:off x="14976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15260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4" name=""/>
                    <p:cNvGrpSpPr/>
                    <p:nvPr/>
                  </p:nvGrpSpPr>
                  <p:grpSpPr>
                    <a:xfrm>
                      <a:off x="1470600" y="2600640"/>
                      <a:ext cx="21960" cy="4680"/>
                      <a:chOff x="1470600" y="2600640"/>
                      <a:chExt cx="21960" cy="4680"/>
                    </a:xfrm>
                  </p:grpSpPr>
                  <p:grpSp>
                    <p:nvGrpSpPr>
                      <p:cNvPr id="2755" name=""/>
                      <p:cNvGrpSpPr/>
                      <p:nvPr/>
                    </p:nvGrpSpPr>
                    <p:grpSpPr>
                      <a:xfrm>
                        <a:off x="1470600" y="2600640"/>
                        <a:ext cx="11520" cy="4680"/>
                        <a:chOff x="1470600" y="2600640"/>
                        <a:chExt cx="11520" cy="4680"/>
                      </a:xfrm>
                    </p:grpSpPr>
                    <p:grpSp>
                      <p:nvGrpSpPr>
                        <p:cNvPr id="2756" name=""/>
                        <p:cNvGrpSpPr/>
                        <p:nvPr/>
                      </p:nvGrpSpPr>
                      <p:grpSpPr>
                        <a:xfrm>
                          <a:off x="1470600" y="2600640"/>
                          <a:ext cx="5400" cy="4680"/>
                          <a:chOff x="1470600" y="2600640"/>
                          <a:chExt cx="5400" cy="4680"/>
                        </a:xfrm>
                      </p:grpSpPr>
                      <p:grpSp>
                        <p:nvGrpSpPr>
                          <p:cNvPr id="2757" name=""/>
                          <p:cNvGrpSpPr/>
                          <p:nvPr/>
                        </p:nvGrpSpPr>
                        <p:grpSpPr>
                          <a:xfrm>
                            <a:off x="1470600" y="2600640"/>
                            <a:ext cx="2520" cy="4680"/>
                            <a:chOff x="1470600" y="2600640"/>
                            <a:chExt cx="2520" cy="4680"/>
                          </a:xfrm>
                        </p:grpSpPr>
                        <p:sp>
                          <p:nvSpPr>
                            <p:cNvPr id="2758" name=""/>
                            <p:cNvSpPr/>
                            <p:nvPr/>
                          </p:nvSpPr>
                          <p:spPr>
                            <a:xfrm>
                              <a:off x="14706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59" name=""/>
                            <p:cNvSpPr/>
                            <p:nvPr/>
                          </p:nvSpPr>
                          <p:spPr>
                            <a:xfrm>
                              <a:off x="14720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0" name=""/>
                          <p:cNvGrpSpPr/>
                          <p:nvPr/>
                        </p:nvGrpSpPr>
                        <p:grpSpPr>
                          <a:xfrm>
                            <a:off x="1473480" y="2600640"/>
                            <a:ext cx="2520" cy="4680"/>
                            <a:chOff x="1473480" y="2600640"/>
                            <a:chExt cx="2520" cy="4680"/>
                          </a:xfrm>
                        </p:grpSpPr>
                        <p:sp>
                          <p:nvSpPr>
                            <p:cNvPr id="2761" name=""/>
                            <p:cNvSpPr/>
                            <p:nvPr/>
                          </p:nvSpPr>
                          <p:spPr>
                            <a:xfrm>
                              <a:off x="1473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2" name=""/>
                            <p:cNvSpPr/>
                            <p:nvPr/>
                          </p:nvSpPr>
                          <p:spPr>
                            <a:xfrm>
                              <a:off x="1474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63" name=""/>
                        <p:cNvGrpSpPr/>
                        <p:nvPr/>
                      </p:nvGrpSpPr>
                      <p:grpSpPr>
                        <a:xfrm>
                          <a:off x="1476720" y="2600640"/>
                          <a:ext cx="5400" cy="4680"/>
                          <a:chOff x="1476720" y="2600640"/>
                          <a:chExt cx="5400" cy="4680"/>
                        </a:xfrm>
                      </p:grpSpPr>
                      <p:grpSp>
                        <p:nvGrpSpPr>
                          <p:cNvPr id="2764" name=""/>
                          <p:cNvGrpSpPr/>
                          <p:nvPr/>
                        </p:nvGrpSpPr>
                        <p:grpSpPr>
                          <a:xfrm>
                            <a:off x="1476720" y="2600640"/>
                            <a:ext cx="2520" cy="4680"/>
                            <a:chOff x="1476720" y="2600640"/>
                            <a:chExt cx="2520" cy="4680"/>
                          </a:xfrm>
                        </p:grpSpPr>
                        <p:sp>
                          <p:nvSpPr>
                            <p:cNvPr id="2765" name=""/>
                            <p:cNvSpPr/>
                            <p:nvPr/>
                          </p:nvSpPr>
                          <p:spPr>
                            <a:xfrm>
                              <a:off x="14767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6" name=""/>
                            <p:cNvSpPr/>
                            <p:nvPr/>
                          </p:nvSpPr>
                          <p:spPr>
                            <a:xfrm>
                              <a:off x="1477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7" name=""/>
                          <p:cNvGrpSpPr/>
                          <p:nvPr/>
                        </p:nvGrpSpPr>
                        <p:grpSpPr>
                          <a:xfrm>
                            <a:off x="1479600" y="2600640"/>
                            <a:ext cx="2520" cy="4680"/>
                            <a:chOff x="1479600" y="2600640"/>
                            <a:chExt cx="2520" cy="4680"/>
                          </a:xfrm>
                        </p:grpSpPr>
                        <p:sp>
                          <p:nvSpPr>
                            <p:cNvPr id="2768" name=""/>
                            <p:cNvSpPr/>
                            <p:nvPr/>
                          </p:nvSpPr>
                          <p:spPr>
                            <a:xfrm>
                              <a:off x="1479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9" name=""/>
                            <p:cNvSpPr/>
                            <p:nvPr/>
                          </p:nvSpPr>
                          <p:spPr>
                            <a:xfrm>
                              <a:off x="1480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770" name=""/>
                      <p:cNvGrpSpPr/>
                      <p:nvPr/>
                    </p:nvGrpSpPr>
                    <p:grpSpPr>
                      <a:xfrm>
                        <a:off x="1483200" y="2600640"/>
                        <a:ext cx="9360" cy="4680"/>
                        <a:chOff x="1483200" y="2600640"/>
                        <a:chExt cx="9360" cy="4680"/>
                      </a:xfrm>
                    </p:grpSpPr>
                    <p:grpSp>
                      <p:nvGrpSpPr>
                        <p:cNvPr id="2771" name=""/>
                        <p:cNvGrpSpPr/>
                        <p:nvPr/>
                      </p:nvGrpSpPr>
                      <p:grpSpPr>
                        <a:xfrm>
                          <a:off x="1483200" y="2600640"/>
                          <a:ext cx="5040" cy="4680"/>
                          <a:chOff x="1483200" y="2600640"/>
                          <a:chExt cx="5040" cy="4680"/>
                        </a:xfrm>
                      </p:grpSpPr>
                      <p:grpSp>
                        <p:nvGrpSpPr>
                          <p:cNvPr id="2772" name=""/>
                          <p:cNvGrpSpPr/>
                          <p:nvPr/>
                        </p:nvGrpSpPr>
                        <p:grpSpPr>
                          <a:xfrm>
                            <a:off x="1483200" y="2600640"/>
                            <a:ext cx="2160" cy="4680"/>
                            <a:chOff x="1483200" y="2600640"/>
                            <a:chExt cx="2160" cy="4680"/>
                          </a:xfrm>
                        </p:grpSpPr>
                        <p:sp>
                          <p:nvSpPr>
                            <p:cNvPr id="2773" name=""/>
                            <p:cNvSpPr/>
                            <p:nvPr/>
                          </p:nvSpPr>
                          <p:spPr>
                            <a:xfrm>
                              <a:off x="14832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4" name=""/>
                            <p:cNvSpPr/>
                            <p:nvPr/>
                          </p:nvSpPr>
                          <p:spPr>
                            <a:xfrm>
                              <a:off x="14842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75" name=""/>
                          <p:cNvGrpSpPr/>
                          <p:nvPr/>
                        </p:nvGrpSpPr>
                        <p:grpSpPr>
                          <a:xfrm>
                            <a:off x="1485720" y="2600640"/>
                            <a:ext cx="2520" cy="4680"/>
                            <a:chOff x="1485720" y="2600640"/>
                            <a:chExt cx="2520" cy="4680"/>
                          </a:xfrm>
                        </p:grpSpPr>
                        <p:sp>
                          <p:nvSpPr>
                            <p:cNvPr id="2776" name=""/>
                            <p:cNvSpPr/>
                            <p:nvPr/>
                          </p:nvSpPr>
                          <p:spPr>
                            <a:xfrm>
                              <a:off x="1485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7" name=""/>
                            <p:cNvSpPr/>
                            <p:nvPr/>
                          </p:nvSpPr>
                          <p:spPr>
                            <a:xfrm>
                              <a:off x="14871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78" name=""/>
                        <p:cNvGrpSpPr/>
                        <p:nvPr/>
                      </p:nvGrpSpPr>
                      <p:grpSpPr>
                        <a:xfrm>
                          <a:off x="1488960" y="2600640"/>
                          <a:ext cx="3600" cy="4680"/>
                          <a:chOff x="1488960" y="2600640"/>
                          <a:chExt cx="3600" cy="4680"/>
                        </a:xfrm>
                      </p:grpSpPr>
                      <p:grpSp>
                        <p:nvGrpSpPr>
                          <p:cNvPr id="2779" name=""/>
                          <p:cNvGrpSpPr/>
                          <p:nvPr/>
                        </p:nvGrpSpPr>
                        <p:grpSpPr>
                          <a:xfrm>
                            <a:off x="1488960" y="2600640"/>
                            <a:ext cx="1440" cy="4680"/>
                            <a:chOff x="1488960" y="2600640"/>
                            <a:chExt cx="1440" cy="4680"/>
                          </a:xfrm>
                        </p:grpSpPr>
                        <p:sp>
                          <p:nvSpPr>
                            <p:cNvPr id="2780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1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82" name=""/>
                          <p:cNvGrpSpPr/>
                          <p:nvPr/>
                        </p:nvGrpSpPr>
                        <p:grpSpPr>
                          <a:xfrm>
                            <a:off x="1490400" y="2600640"/>
                            <a:ext cx="2160" cy="4680"/>
                            <a:chOff x="1490400" y="2600640"/>
                            <a:chExt cx="2160" cy="4680"/>
                          </a:xfrm>
                        </p:grpSpPr>
                        <p:sp>
                          <p:nvSpPr>
                            <p:cNvPr id="2783" name=""/>
                            <p:cNvSpPr/>
                            <p:nvPr/>
                          </p:nvSpPr>
                          <p:spPr>
                            <a:xfrm>
                              <a:off x="1490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4" name=""/>
                            <p:cNvSpPr/>
                            <p:nvPr/>
                          </p:nvSpPr>
                          <p:spPr>
                            <a:xfrm>
                              <a:off x="1491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14691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6" name=""/>
                  <p:cNvGrpSpPr/>
                  <p:nvPr/>
                </p:nvGrpSpPr>
                <p:grpSpPr>
                  <a:xfrm>
                    <a:off x="1425240" y="2619720"/>
                    <a:ext cx="210960" cy="29880"/>
                    <a:chOff x="1425240" y="2619720"/>
                    <a:chExt cx="210960" cy="29880"/>
                  </a:xfrm>
                </p:grpSpPr>
                <p:grpSp>
                  <p:nvGrpSpPr>
                    <p:cNvPr id="2787" name=""/>
                    <p:cNvGrpSpPr/>
                    <p:nvPr/>
                  </p:nvGrpSpPr>
                  <p:grpSpPr>
                    <a:xfrm>
                      <a:off x="1425240" y="2619720"/>
                      <a:ext cx="210960" cy="29880"/>
                      <a:chOff x="1425240" y="2619720"/>
                      <a:chExt cx="210960" cy="29880"/>
                    </a:xfrm>
                  </p:grpSpPr>
                  <p:sp>
                    <p:nvSpPr>
                      <p:cNvPr id="2788" name=""/>
                      <p:cNvSpPr/>
                      <p:nvPr/>
                    </p:nvSpPr>
                    <p:spPr>
                      <a:xfrm>
                        <a:off x="14252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9" name=""/>
                      <p:cNvSpPr/>
                      <p:nvPr/>
                    </p:nvSpPr>
                    <p:spPr>
                      <a:xfrm>
                        <a:off x="14252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0" name=""/>
                      <p:cNvSpPr/>
                      <p:nvPr/>
                    </p:nvSpPr>
                    <p:spPr>
                      <a:xfrm>
                        <a:off x="14313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1" name=""/>
                    <p:cNvGrpSpPr/>
                    <p:nvPr/>
                  </p:nvGrpSpPr>
                  <p:grpSpPr>
                    <a:xfrm>
                      <a:off x="1447200" y="2622600"/>
                      <a:ext cx="165960" cy="5040"/>
                      <a:chOff x="1447200" y="2622600"/>
                      <a:chExt cx="165960" cy="5040"/>
                    </a:xfrm>
                  </p:grpSpPr>
                  <p:sp>
                    <p:nvSpPr>
                      <p:cNvPr id="2792" name=""/>
                      <p:cNvSpPr/>
                      <p:nvPr/>
                    </p:nvSpPr>
                    <p:spPr>
                      <a:xfrm>
                        <a:off x="14472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3" name=""/>
                      <p:cNvSpPr/>
                      <p:nvPr/>
                    </p:nvSpPr>
                    <p:spPr>
                      <a:xfrm>
                        <a:off x="14644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4" name=""/>
                      <p:cNvSpPr/>
                      <p:nvPr/>
                    </p:nvSpPr>
                    <p:spPr>
                      <a:xfrm>
                        <a:off x="14976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5" name=""/>
                      <p:cNvSpPr/>
                      <p:nvPr/>
                    </p:nvSpPr>
                    <p:spPr>
                      <a:xfrm>
                        <a:off x="15278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6" name=""/>
                      <p:cNvSpPr/>
                      <p:nvPr/>
                    </p:nvSpPr>
                    <p:spPr>
                      <a:xfrm>
                        <a:off x="15580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7" name=""/>
                      <p:cNvSpPr/>
                      <p:nvPr/>
                    </p:nvSpPr>
                    <p:spPr>
                      <a:xfrm>
                        <a:off x="15865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8" name=""/>
                    <p:cNvGrpSpPr/>
                    <p:nvPr/>
                  </p:nvGrpSpPr>
                  <p:grpSpPr>
                    <a:xfrm>
                      <a:off x="1441080" y="2629080"/>
                      <a:ext cx="174960" cy="11160"/>
                      <a:chOff x="1441080" y="2629080"/>
                      <a:chExt cx="174960" cy="11160"/>
                    </a:xfrm>
                  </p:grpSpPr>
                  <p:grpSp>
                    <p:nvGrpSpPr>
                      <p:cNvPr id="2799" name=""/>
                      <p:cNvGrpSpPr/>
                      <p:nvPr/>
                    </p:nvGrpSpPr>
                    <p:grpSpPr>
                      <a:xfrm>
                        <a:off x="1456560" y="2629080"/>
                        <a:ext cx="84960" cy="9360"/>
                        <a:chOff x="1456560" y="2629080"/>
                        <a:chExt cx="84960" cy="9360"/>
                      </a:xfrm>
                    </p:grpSpPr>
                    <p:sp>
                      <p:nvSpPr>
                        <p:cNvPr id="2800" name=""/>
                        <p:cNvSpPr/>
                        <p:nvPr/>
                      </p:nvSpPr>
                      <p:spPr>
                        <a:xfrm>
                          <a:off x="14565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1" name=""/>
                        <p:cNvSpPr/>
                        <p:nvPr/>
                      </p:nvSpPr>
                      <p:spPr>
                        <a:xfrm>
                          <a:off x="14590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2" name=""/>
                        <p:cNvSpPr/>
                        <p:nvPr/>
                      </p:nvSpPr>
                      <p:spPr>
                        <a:xfrm>
                          <a:off x="14608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3" name=""/>
                        <p:cNvSpPr/>
                        <p:nvPr/>
                      </p:nvSpPr>
                      <p:spPr>
                        <a:xfrm>
                          <a:off x="14623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4" name=""/>
                      <p:cNvGrpSpPr/>
                      <p:nvPr/>
                    </p:nvGrpSpPr>
                    <p:grpSpPr>
                      <a:xfrm>
                        <a:off x="1441080" y="2630520"/>
                        <a:ext cx="15480" cy="6480"/>
                        <a:chOff x="1441080" y="2630520"/>
                        <a:chExt cx="15480" cy="6480"/>
                      </a:xfrm>
                    </p:grpSpPr>
                    <p:sp>
                      <p:nvSpPr>
                        <p:cNvPr id="2805" name=""/>
                        <p:cNvSpPr/>
                        <p:nvPr/>
                      </p:nvSpPr>
                      <p:spPr>
                        <a:xfrm>
                          <a:off x="14454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6" name=""/>
                        <p:cNvSpPr/>
                        <p:nvPr/>
                      </p:nvSpPr>
                      <p:spPr>
                        <a:xfrm>
                          <a:off x="14436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7" name=""/>
                        <p:cNvSpPr/>
                        <p:nvPr/>
                      </p:nvSpPr>
                      <p:spPr>
                        <a:xfrm>
                          <a:off x="14410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8" name=""/>
                      <p:cNvGrpSpPr/>
                      <p:nvPr/>
                    </p:nvGrpSpPr>
                    <p:grpSpPr>
                      <a:xfrm>
                        <a:off x="1475640" y="2629080"/>
                        <a:ext cx="78480" cy="9360"/>
                        <a:chOff x="1475640" y="2629080"/>
                        <a:chExt cx="78480" cy="9360"/>
                      </a:xfrm>
                    </p:grpSpPr>
                    <p:sp>
                      <p:nvSpPr>
                        <p:cNvPr id="2809" name=""/>
                        <p:cNvSpPr/>
                        <p:nvPr/>
                      </p:nvSpPr>
                      <p:spPr>
                        <a:xfrm>
                          <a:off x="14756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0" name=""/>
                        <p:cNvSpPr/>
                        <p:nvPr/>
                      </p:nvSpPr>
                      <p:spPr>
                        <a:xfrm>
                          <a:off x="15418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1" name=""/>
                        <p:cNvSpPr/>
                        <p:nvPr/>
                      </p:nvSpPr>
                      <p:spPr>
                        <a:xfrm>
                          <a:off x="15451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2" name=""/>
                        <p:cNvSpPr/>
                        <p:nvPr/>
                      </p:nvSpPr>
                      <p:spPr>
                        <a:xfrm>
                          <a:off x="15386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3" name=""/>
                        <p:cNvSpPr/>
                        <p:nvPr/>
                      </p:nvSpPr>
                      <p:spPr>
                        <a:xfrm>
                          <a:off x="15260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4" name=""/>
                        <p:cNvSpPr/>
                        <p:nvPr/>
                      </p:nvSpPr>
                      <p:spPr>
                        <a:xfrm>
                          <a:off x="15354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5" name=""/>
                      <p:cNvGrpSpPr/>
                      <p:nvPr/>
                    </p:nvGrpSpPr>
                    <p:grpSpPr>
                      <a:xfrm>
                        <a:off x="1558080" y="2630520"/>
                        <a:ext cx="24480" cy="7920"/>
                        <a:chOff x="1558080" y="2630520"/>
                        <a:chExt cx="24480" cy="7920"/>
                      </a:xfrm>
                    </p:grpSpPr>
                    <p:sp>
                      <p:nvSpPr>
                        <p:cNvPr id="2816" name=""/>
                        <p:cNvSpPr/>
                        <p:nvPr/>
                      </p:nvSpPr>
                      <p:spPr>
                        <a:xfrm>
                          <a:off x="15580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7" name=""/>
                        <p:cNvSpPr/>
                        <p:nvPr/>
                      </p:nvSpPr>
                      <p:spPr>
                        <a:xfrm>
                          <a:off x="15609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8" name=""/>
                        <p:cNvSpPr/>
                        <p:nvPr/>
                      </p:nvSpPr>
                      <p:spPr>
                        <a:xfrm>
                          <a:off x="15609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9" name=""/>
                      <p:cNvGrpSpPr/>
                      <p:nvPr/>
                    </p:nvGrpSpPr>
                    <p:grpSpPr>
                      <a:xfrm>
                        <a:off x="1586520" y="2630520"/>
                        <a:ext cx="29520" cy="9720"/>
                        <a:chOff x="1586520" y="2630520"/>
                        <a:chExt cx="29520" cy="9720"/>
                      </a:xfrm>
                    </p:grpSpPr>
                    <p:sp>
                      <p:nvSpPr>
                        <p:cNvPr id="2820" name=""/>
                        <p:cNvSpPr/>
                        <p:nvPr/>
                      </p:nvSpPr>
                      <p:spPr>
                        <a:xfrm>
                          <a:off x="15894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1" name=""/>
                        <p:cNvSpPr/>
                        <p:nvPr/>
                      </p:nvSpPr>
                      <p:spPr>
                        <a:xfrm>
                          <a:off x="15865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2" name=""/>
                        <p:cNvSpPr/>
                        <p:nvPr/>
                      </p:nvSpPr>
                      <p:spPr>
                        <a:xfrm>
                          <a:off x="15894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3" name=""/>
                        <p:cNvSpPr/>
                        <p:nvPr/>
                      </p:nvSpPr>
                      <p:spPr>
                        <a:xfrm>
                          <a:off x="15879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4" name=""/>
                        <p:cNvSpPr/>
                        <p:nvPr/>
                      </p:nvSpPr>
                      <p:spPr>
                        <a:xfrm>
                          <a:off x="16084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5" name=""/>
                        <p:cNvSpPr/>
                        <p:nvPr/>
                      </p:nvSpPr>
                      <p:spPr>
                        <a:xfrm>
                          <a:off x="16099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26" name=""/>
                  <p:cNvGrpSpPr/>
                  <p:nvPr/>
                </p:nvGrpSpPr>
                <p:grpSpPr>
                  <a:xfrm>
                    <a:off x="1486800" y="2560680"/>
                    <a:ext cx="91800" cy="19080"/>
                    <a:chOff x="1486800" y="2560680"/>
                    <a:chExt cx="91800" cy="19080"/>
                  </a:xfrm>
                </p:grpSpPr>
                <p:grpSp>
                  <p:nvGrpSpPr>
                    <p:cNvPr id="2827" name=""/>
                    <p:cNvGrpSpPr/>
                    <p:nvPr/>
                  </p:nvGrpSpPr>
                  <p:grpSpPr>
                    <a:xfrm>
                      <a:off x="1486800" y="2565720"/>
                      <a:ext cx="91800" cy="14040"/>
                      <a:chOff x="1486800" y="2565720"/>
                      <a:chExt cx="91800" cy="14040"/>
                    </a:xfrm>
                  </p:grpSpPr>
                  <p:sp>
                    <p:nvSpPr>
                      <p:cNvPr id="2828" name=""/>
                      <p:cNvSpPr/>
                      <p:nvPr/>
                    </p:nvSpPr>
                    <p:spPr>
                      <a:xfrm>
                        <a:off x="14868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9" name=""/>
                      <p:cNvSpPr/>
                      <p:nvPr/>
                    </p:nvSpPr>
                    <p:spPr>
                      <a:xfrm>
                        <a:off x="14868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15073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1" name=""/>
                  <p:cNvSpPr/>
                  <p:nvPr/>
                </p:nvSpPr>
                <p:spPr>
                  <a:xfrm>
                    <a:off x="14760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14886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14932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15710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3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0347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36" name=""/>
            <p:cNvGrpSpPr/>
            <p:nvPr/>
          </p:nvGrpSpPr>
          <p:grpSpPr>
            <a:xfrm>
              <a:off x="76320" y="3124080"/>
              <a:ext cx="1085760" cy="752400"/>
              <a:chOff x="76320" y="3124080"/>
              <a:chExt cx="1085760" cy="752400"/>
            </a:xfrm>
          </p:grpSpPr>
          <p:sp>
            <p:nvSpPr>
              <p:cNvPr id="2837" name=""/>
              <p:cNvSpPr/>
              <p:nvPr/>
            </p:nvSpPr>
            <p:spPr>
              <a:xfrm>
                <a:off x="7632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2384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7 Sn M. Texmeluc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839" name=""/>
              <p:cNvGrpSpPr/>
              <p:nvPr/>
            </p:nvGrpSpPr>
            <p:grpSpPr>
              <a:xfrm>
                <a:off x="149040" y="3179520"/>
                <a:ext cx="821880" cy="488880"/>
                <a:chOff x="149040" y="3179520"/>
                <a:chExt cx="821880" cy="488880"/>
              </a:xfrm>
            </p:grpSpPr>
            <p:sp>
              <p:nvSpPr>
                <p:cNvPr id="2840" name=""/>
                <p:cNvSpPr/>
                <p:nvPr/>
              </p:nvSpPr>
              <p:spPr>
                <a:xfrm>
                  <a:off x="29160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57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51084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843" name="pbx" descr=""/>
                <p:cNvPicPr/>
                <p:nvPr/>
              </p:nvPicPr>
              <p:blipFill>
                <a:blip r:embed="rId33"/>
                <a:srcRect l="37594" t="74298" r="28339" b="4834"/>
                <a:stretch/>
              </p:blipFill>
              <p:spPr>
                <a:xfrm>
                  <a:off x="45360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8060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45" name=""/>
                <p:cNvGrpSpPr/>
                <p:nvPr/>
              </p:nvGrpSpPr>
              <p:grpSpPr>
                <a:xfrm>
                  <a:off x="149040" y="3317760"/>
                  <a:ext cx="210960" cy="169920"/>
                  <a:chOff x="149040" y="3317760"/>
                  <a:chExt cx="210960" cy="169920"/>
                </a:xfrm>
              </p:grpSpPr>
              <p:grpSp>
                <p:nvGrpSpPr>
                  <p:cNvPr id="2846" name=""/>
                  <p:cNvGrpSpPr/>
                  <p:nvPr/>
                </p:nvGrpSpPr>
                <p:grpSpPr>
                  <a:xfrm>
                    <a:off x="188640" y="3408480"/>
                    <a:ext cx="134280" cy="52200"/>
                    <a:chOff x="188640" y="3408480"/>
                    <a:chExt cx="134280" cy="52200"/>
                  </a:xfrm>
                </p:grpSpPr>
                <p:grpSp>
                  <p:nvGrpSpPr>
                    <p:cNvPr id="2847" name=""/>
                    <p:cNvGrpSpPr/>
                    <p:nvPr/>
                  </p:nvGrpSpPr>
                  <p:grpSpPr>
                    <a:xfrm>
                      <a:off x="188640" y="3408480"/>
                      <a:ext cx="134280" cy="52200"/>
                      <a:chOff x="188640" y="3408480"/>
                      <a:chExt cx="134280" cy="52200"/>
                    </a:xfrm>
                  </p:grpSpPr>
                  <p:grpSp>
                    <p:nvGrpSpPr>
                      <p:cNvPr id="2848" name=""/>
                      <p:cNvGrpSpPr/>
                      <p:nvPr/>
                    </p:nvGrpSpPr>
                    <p:grpSpPr>
                      <a:xfrm>
                        <a:off x="188640" y="3408480"/>
                        <a:ext cx="134280" cy="52200"/>
                        <a:chOff x="188640" y="3408480"/>
                        <a:chExt cx="134280" cy="52200"/>
                      </a:xfrm>
                    </p:grpSpPr>
                    <p:grpSp>
                      <p:nvGrpSpPr>
                        <p:cNvPr id="2849" name=""/>
                        <p:cNvGrpSpPr/>
                        <p:nvPr/>
                      </p:nvGrpSpPr>
                      <p:grpSpPr>
                        <a:xfrm>
                          <a:off x="188640" y="3408480"/>
                          <a:ext cx="134280" cy="52200"/>
                          <a:chOff x="188640" y="3408480"/>
                          <a:chExt cx="134280" cy="52200"/>
                        </a:xfrm>
                      </p:grpSpPr>
                      <p:grpSp>
                        <p:nvGrpSpPr>
                          <p:cNvPr id="2850" name=""/>
                          <p:cNvGrpSpPr/>
                          <p:nvPr/>
                        </p:nvGrpSpPr>
                        <p:grpSpPr>
                          <a:xfrm>
                            <a:off x="188640" y="3408480"/>
                            <a:ext cx="134280" cy="52200"/>
                            <a:chOff x="188640" y="3408480"/>
                            <a:chExt cx="134280" cy="52200"/>
                          </a:xfrm>
                        </p:grpSpPr>
                        <p:sp>
                          <p:nvSpPr>
                            <p:cNvPr id="2851" name=""/>
                            <p:cNvSpPr/>
                            <p:nvPr/>
                          </p:nvSpPr>
                          <p:spPr>
                            <a:xfrm>
                              <a:off x="18864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52" name=""/>
                            <p:cNvSpPr/>
                            <p:nvPr/>
                          </p:nvSpPr>
                          <p:spPr>
                            <a:xfrm>
                              <a:off x="18972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853" name=""/>
                          <p:cNvSpPr/>
                          <p:nvPr/>
                        </p:nvSpPr>
                        <p:spPr>
                          <a:xfrm>
                            <a:off x="19116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54" name=""/>
                        <p:cNvGrpSpPr/>
                        <p:nvPr/>
                      </p:nvGrpSpPr>
                      <p:grpSpPr>
                        <a:xfrm>
                          <a:off x="194400" y="3451320"/>
                          <a:ext cx="124560" cy="7920"/>
                          <a:chOff x="194400" y="3451320"/>
                          <a:chExt cx="124560" cy="7920"/>
                        </a:xfrm>
                      </p:grpSpPr>
                      <p:grpSp>
                        <p:nvGrpSpPr>
                          <p:cNvPr id="2855" name=""/>
                          <p:cNvGrpSpPr/>
                          <p:nvPr/>
                        </p:nvGrpSpPr>
                        <p:grpSpPr>
                          <a:xfrm>
                            <a:off x="194400" y="3451320"/>
                            <a:ext cx="61560" cy="7920"/>
                            <a:chOff x="194400" y="3451320"/>
                            <a:chExt cx="61560" cy="7920"/>
                          </a:xfrm>
                        </p:grpSpPr>
                        <p:grpSp>
                          <p:nvGrpSpPr>
                            <p:cNvPr id="2856" name=""/>
                            <p:cNvGrpSpPr/>
                            <p:nvPr/>
                          </p:nvGrpSpPr>
                          <p:grpSpPr>
                            <a:xfrm>
                              <a:off x="194400" y="3451320"/>
                              <a:ext cx="29880" cy="7920"/>
                              <a:chOff x="194400" y="3451320"/>
                              <a:chExt cx="29880" cy="7920"/>
                            </a:xfrm>
                          </p:grpSpPr>
                          <p:grpSp>
                            <p:nvGrpSpPr>
                              <p:cNvPr id="2857" name=""/>
                              <p:cNvGrpSpPr/>
                              <p:nvPr/>
                            </p:nvGrpSpPr>
                            <p:grpSpPr>
                              <a:xfrm>
                                <a:off x="194400" y="3451320"/>
                                <a:ext cx="14400" cy="7920"/>
                                <a:chOff x="194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58" name=""/>
                                <p:cNvGrpSpPr/>
                                <p:nvPr/>
                              </p:nvGrpSpPr>
                              <p:grpSpPr>
                                <a:xfrm>
                                  <a:off x="194400" y="3451320"/>
                                  <a:ext cx="6840" cy="7920"/>
                                  <a:chOff x="194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4400" y="3451320"/>
                                    <a:ext cx="2520" cy="7920"/>
                                    <a:chOff x="194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5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7280" y="3451320"/>
                                    <a:ext cx="3960" cy="7920"/>
                                    <a:chOff x="1972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0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65" name=""/>
                                <p:cNvGrpSpPr/>
                                <p:nvPr/>
                              </p:nvGrpSpPr>
                              <p:grpSpPr>
                                <a:xfrm>
                                  <a:off x="201960" y="3451320"/>
                                  <a:ext cx="6840" cy="7920"/>
                                  <a:chOff x="201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1960" y="3451320"/>
                                    <a:ext cx="2520" cy="7920"/>
                                    <a:chOff x="201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3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4840" y="3451320"/>
                                    <a:ext cx="3960" cy="7920"/>
                                    <a:chOff x="204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7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872" name=""/>
                              <p:cNvGrpSpPr/>
                              <p:nvPr/>
                            </p:nvGrpSpPr>
                            <p:grpSpPr>
                              <a:xfrm>
                                <a:off x="209880" y="3451320"/>
                                <a:ext cx="14400" cy="7920"/>
                                <a:chOff x="209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73" name=""/>
                                <p:cNvGrpSpPr/>
                                <p:nvPr/>
                              </p:nvGrpSpPr>
                              <p:grpSpPr>
                                <a:xfrm>
                                  <a:off x="209880" y="3451320"/>
                                  <a:ext cx="6840" cy="7920"/>
                                  <a:chOff x="209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9880" y="3451320"/>
                                    <a:ext cx="2520" cy="7920"/>
                                    <a:chOff x="209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9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1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2760" y="3451320"/>
                                    <a:ext cx="3960" cy="7920"/>
                                    <a:chOff x="2127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2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80" name=""/>
                                <p:cNvGrpSpPr/>
                                <p:nvPr/>
                              </p:nvGrpSpPr>
                              <p:grpSpPr>
                                <a:xfrm>
                                  <a:off x="217440" y="3451320"/>
                                  <a:ext cx="6840" cy="7920"/>
                                  <a:chOff x="217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7440" y="3451320"/>
                                    <a:ext cx="2520" cy="7920"/>
                                    <a:chOff x="217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7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8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0320" y="3451320"/>
                                    <a:ext cx="3960" cy="7920"/>
                                    <a:chOff x="2203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3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887" name=""/>
                            <p:cNvGrpSpPr/>
                            <p:nvPr/>
                          </p:nvGrpSpPr>
                          <p:grpSpPr>
                            <a:xfrm>
                              <a:off x="225720" y="3451320"/>
                              <a:ext cx="30240" cy="7920"/>
                              <a:chOff x="225720" y="3451320"/>
                              <a:chExt cx="30240" cy="7920"/>
                            </a:xfrm>
                          </p:grpSpPr>
                          <p:grpSp>
                            <p:nvGrpSpPr>
                              <p:cNvPr id="2888" name=""/>
                              <p:cNvGrpSpPr/>
                              <p:nvPr/>
                            </p:nvGrpSpPr>
                            <p:grpSpPr>
                              <a:xfrm>
                                <a:off x="225720" y="3451320"/>
                                <a:ext cx="14760" cy="7920"/>
                                <a:chOff x="22572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2889" name=""/>
                                <p:cNvGrpSpPr/>
                                <p:nvPr/>
                              </p:nvGrpSpPr>
                              <p:grpSpPr>
                                <a:xfrm>
                                  <a:off x="225720" y="3451320"/>
                                  <a:ext cx="7200" cy="7920"/>
                                  <a:chOff x="22572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8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5720" y="3451320"/>
                                    <a:ext cx="2520" cy="7920"/>
                                    <a:chOff x="225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5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7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0400" y="3451320"/>
                                    <a:ext cx="2520" cy="7920"/>
                                    <a:chOff x="230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0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96" name=""/>
                                <p:cNvGrpSpPr/>
                                <p:nvPr/>
                              </p:nvGrpSpPr>
                              <p:grpSpPr>
                                <a:xfrm>
                                  <a:off x="233640" y="3451320"/>
                                  <a:ext cx="6840" cy="7920"/>
                                  <a:chOff x="233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3640" y="3451320"/>
                                    <a:ext cx="2160" cy="7920"/>
                                    <a:chOff x="2336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3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4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7960" y="3451320"/>
                                    <a:ext cx="2520" cy="7920"/>
                                    <a:chOff x="237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7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9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03" name=""/>
                              <p:cNvGrpSpPr/>
                              <p:nvPr/>
                            </p:nvGrpSpPr>
                            <p:grpSpPr>
                              <a:xfrm>
                                <a:off x="241560" y="3451320"/>
                                <a:ext cx="14400" cy="7920"/>
                                <a:chOff x="241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04" name=""/>
                                <p:cNvGrpSpPr/>
                                <p:nvPr/>
                              </p:nvGrpSpPr>
                              <p:grpSpPr>
                                <a:xfrm>
                                  <a:off x="241560" y="3451320"/>
                                  <a:ext cx="6840" cy="7920"/>
                                  <a:chOff x="241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1560" y="3451320"/>
                                    <a:ext cx="2160" cy="7920"/>
                                    <a:chOff x="2415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1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2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5880" y="3451320"/>
                                    <a:ext cx="2520" cy="7920"/>
                                    <a:chOff x="245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5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6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11" name=""/>
                                <p:cNvGrpSpPr/>
                                <p:nvPr/>
                              </p:nvGrpSpPr>
                              <p:grpSpPr>
                                <a:xfrm>
                                  <a:off x="249120" y="3451320"/>
                                  <a:ext cx="6840" cy="7920"/>
                                  <a:chOff x="249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9120" y="3451320"/>
                                    <a:ext cx="2160" cy="7920"/>
                                    <a:chOff x="24912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9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0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1640" y="3451320"/>
                                    <a:ext cx="4320" cy="7920"/>
                                    <a:chOff x="25164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1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918" name=""/>
                          <p:cNvGrpSpPr/>
                          <p:nvPr/>
                        </p:nvGrpSpPr>
                        <p:grpSpPr>
                          <a:xfrm>
                            <a:off x="257760" y="3451320"/>
                            <a:ext cx="61200" cy="7920"/>
                            <a:chOff x="257760" y="3451320"/>
                            <a:chExt cx="61200" cy="7920"/>
                          </a:xfrm>
                        </p:grpSpPr>
                        <p:grpSp>
                          <p:nvGrpSpPr>
                            <p:cNvPr id="2919" name=""/>
                            <p:cNvGrpSpPr/>
                            <p:nvPr/>
                          </p:nvGrpSpPr>
                          <p:grpSpPr>
                            <a:xfrm>
                              <a:off x="257760" y="3451320"/>
                              <a:ext cx="29880" cy="7920"/>
                              <a:chOff x="257760" y="3451320"/>
                              <a:chExt cx="29880" cy="7920"/>
                            </a:xfrm>
                          </p:grpSpPr>
                          <p:grpSp>
                            <p:nvGrpSpPr>
                              <p:cNvPr id="2920" name=""/>
                              <p:cNvGrpSpPr/>
                              <p:nvPr/>
                            </p:nvGrpSpPr>
                            <p:grpSpPr>
                              <a:xfrm>
                                <a:off x="257760" y="3451320"/>
                                <a:ext cx="14400" cy="7920"/>
                                <a:chOff x="2577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21" name=""/>
                                <p:cNvGrpSpPr/>
                                <p:nvPr/>
                              </p:nvGrpSpPr>
                              <p:grpSpPr>
                                <a:xfrm>
                                  <a:off x="257760" y="3451320"/>
                                  <a:ext cx="6840" cy="7920"/>
                                  <a:chOff x="25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7760" y="3451320"/>
                                    <a:ext cx="2520" cy="7920"/>
                                    <a:chOff x="25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77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640" y="3451320"/>
                                    <a:ext cx="3960" cy="7920"/>
                                    <a:chOff x="26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28" name=""/>
                                <p:cNvGrpSpPr/>
                                <p:nvPr/>
                              </p:nvGrpSpPr>
                              <p:grpSpPr>
                                <a:xfrm>
                                  <a:off x="265320" y="3451320"/>
                                  <a:ext cx="6840" cy="7920"/>
                                  <a:chOff x="2653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5320" y="3451320"/>
                                    <a:ext cx="2520" cy="7920"/>
                                    <a:chOff x="2653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5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40" y="3451320"/>
                                    <a:ext cx="2520" cy="7920"/>
                                    <a:chOff x="269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35" name=""/>
                              <p:cNvGrpSpPr/>
                              <p:nvPr/>
                            </p:nvGrpSpPr>
                            <p:grpSpPr>
                              <a:xfrm>
                                <a:off x="273240" y="3451320"/>
                                <a:ext cx="14400" cy="7920"/>
                                <a:chOff x="27324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36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" y="3451320"/>
                                  <a:ext cx="6840" cy="7920"/>
                                  <a:chOff x="2732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" y="3451320"/>
                                    <a:ext cx="2520" cy="7920"/>
                                    <a:chOff x="2732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60" y="3451320"/>
                                    <a:ext cx="2520" cy="7920"/>
                                    <a:chOff x="277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43" name=""/>
                                <p:cNvGrpSpPr/>
                                <p:nvPr/>
                              </p:nvGrpSpPr>
                              <p:grpSpPr>
                                <a:xfrm>
                                  <a:off x="280800" y="3451320"/>
                                  <a:ext cx="6840" cy="7920"/>
                                  <a:chOff x="2808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" y="3451320"/>
                                    <a:ext cx="2520" cy="7920"/>
                                    <a:chOff x="2808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680" y="3451320"/>
                                    <a:ext cx="3960" cy="7920"/>
                                    <a:chOff x="2836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6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6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950" name=""/>
                            <p:cNvGrpSpPr/>
                            <p:nvPr/>
                          </p:nvGrpSpPr>
                          <p:grpSpPr>
                            <a:xfrm>
                              <a:off x="289080" y="3451320"/>
                              <a:ext cx="29880" cy="7920"/>
                              <a:chOff x="289080" y="3451320"/>
                              <a:chExt cx="29880" cy="7920"/>
                            </a:xfrm>
                          </p:grpSpPr>
                          <p:grpSp>
                            <p:nvGrpSpPr>
                              <p:cNvPr id="2951" name=""/>
                              <p:cNvGrpSpPr/>
                              <p:nvPr/>
                            </p:nvGrpSpPr>
                            <p:grpSpPr>
                              <a:xfrm>
                                <a:off x="289080" y="3451320"/>
                                <a:ext cx="14400" cy="7920"/>
                                <a:chOff x="289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52" name=""/>
                                <p:cNvGrpSpPr/>
                                <p:nvPr/>
                              </p:nvGrpSpPr>
                              <p:grpSpPr>
                                <a:xfrm>
                                  <a:off x="289080" y="3451320"/>
                                  <a:ext cx="6840" cy="7920"/>
                                  <a:chOff x="289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3451320"/>
                                    <a:ext cx="2520" cy="7920"/>
                                    <a:chOff x="289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3400" y="3451320"/>
                                    <a:ext cx="2520" cy="7920"/>
                                    <a:chOff x="293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4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59" name=""/>
                                <p:cNvGrpSpPr/>
                                <p:nvPr/>
                              </p:nvGrpSpPr>
                              <p:grpSpPr>
                                <a:xfrm>
                                  <a:off x="296640" y="3451320"/>
                                  <a:ext cx="6840" cy="7920"/>
                                  <a:chOff x="296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6640" y="3451320"/>
                                    <a:ext cx="2520" cy="7920"/>
                                    <a:chOff x="296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6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9520" y="3451320"/>
                                    <a:ext cx="3960" cy="7920"/>
                                    <a:chOff x="2995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9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2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66" name=""/>
                              <p:cNvGrpSpPr/>
                              <p:nvPr/>
                            </p:nvGrpSpPr>
                            <p:grpSpPr>
                              <a:xfrm>
                                <a:off x="304560" y="3451320"/>
                                <a:ext cx="14400" cy="7920"/>
                                <a:chOff x="304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67" name=""/>
                                <p:cNvGrpSpPr/>
                                <p:nvPr/>
                              </p:nvGrpSpPr>
                              <p:grpSpPr>
                                <a:xfrm>
                                  <a:off x="304560" y="3451320"/>
                                  <a:ext cx="6840" cy="7920"/>
                                  <a:chOff x="304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560" y="3451320"/>
                                    <a:ext cx="2520" cy="7920"/>
                                    <a:chOff x="304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5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880" y="3451320"/>
                                    <a:ext cx="2520" cy="7920"/>
                                    <a:chOff x="308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0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74" name=""/>
                                <p:cNvGrpSpPr/>
                                <p:nvPr/>
                              </p:nvGrpSpPr>
                              <p:grpSpPr>
                                <a:xfrm>
                                  <a:off x="312120" y="3451320"/>
                                  <a:ext cx="6840" cy="7920"/>
                                  <a:chOff x="312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2120" y="3451320"/>
                                    <a:ext cx="2520" cy="7920"/>
                                    <a:chOff x="312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2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3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440" y="3451320"/>
                                    <a:ext cx="2520" cy="7920"/>
                                    <a:chOff x="316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981" name=""/>
                      <p:cNvGrpSpPr/>
                      <p:nvPr/>
                    </p:nvGrpSpPr>
                    <p:grpSpPr>
                      <a:xfrm>
                        <a:off x="191160" y="3422520"/>
                        <a:ext cx="128160" cy="22320"/>
                        <a:chOff x="191160" y="3422520"/>
                        <a:chExt cx="128160" cy="22320"/>
                      </a:xfrm>
                    </p:grpSpPr>
                    <p:sp>
                      <p:nvSpPr>
                        <p:cNvPr id="2982" name=""/>
                        <p:cNvSpPr/>
                        <p:nvPr/>
                      </p:nvSpPr>
                      <p:spPr>
                        <a:xfrm>
                          <a:off x="19116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3" name=""/>
                        <p:cNvSpPr/>
                        <p:nvPr/>
                      </p:nvSpPr>
                      <p:spPr>
                        <a:xfrm>
                          <a:off x="21960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4" name=""/>
                        <p:cNvSpPr/>
                        <p:nvPr/>
                      </p:nvSpPr>
                      <p:spPr>
                        <a:xfrm>
                          <a:off x="25920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5" name=""/>
                        <p:cNvSpPr/>
                        <p:nvPr/>
                      </p:nvSpPr>
                      <p:spPr>
                        <a:xfrm>
                          <a:off x="30060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86" name=""/>
                    <p:cNvGrpSpPr/>
                    <p:nvPr/>
                  </p:nvGrpSpPr>
                  <p:grpSpPr>
                    <a:xfrm>
                      <a:off x="304200" y="3425760"/>
                      <a:ext cx="11880" cy="11160"/>
                      <a:chOff x="304200" y="3425760"/>
                      <a:chExt cx="11880" cy="11160"/>
                    </a:xfrm>
                  </p:grpSpPr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30852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8" name=""/>
                      <p:cNvSpPr/>
                      <p:nvPr/>
                    </p:nvSpPr>
                    <p:spPr>
                      <a:xfrm>
                        <a:off x="30996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89" name=""/>
                      <p:cNvGrpSpPr/>
                      <p:nvPr/>
                    </p:nvGrpSpPr>
                    <p:grpSpPr>
                      <a:xfrm>
                        <a:off x="304200" y="3427560"/>
                        <a:ext cx="2520" cy="6120"/>
                        <a:chOff x="304200" y="3427560"/>
                        <a:chExt cx="2520" cy="6120"/>
                      </a:xfrm>
                    </p:grpSpPr>
                    <p:sp>
                      <p:nvSpPr>
                        <p:cNvPr id="2990" name=""/>
                        <p:cNvSpPr/>
                        <p:nvPr/>
                      </p:nvSpPr>
                      <p:spPr>
                        <a:xfrm>
                          <a:off x="30420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1" name=""/>
                        <p:cNvSpPr/>
                        <p:nvPr/>
                      </p:nvSpPr>
                      <p:spPr>
                        <a:xfrm>
                          <a:off x="30420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92" name=""/>
                    <p:cNvGrpSpPr/>
                    <p:nvPr/>
                  </p:nvGrpSpPr>
                  <p:grpSpPr>
                    <a:xfrm>
                      <a:off x="221400" y="3425760"/>
                      <a:ext cx="36000" cy="14400"/>
                      <a:chOff x="221400" y="3425760"/>
                      <a:chExt cx="36000" cy="14400"/>
                    </a:xfrm>
                  </p:grpSpPr>
                  <p:grpSp>
                    <p:nvGrpSpPr>
                      <p:cNvPr id="2993" name=""/>
                      <p:cNvGrpSpPr/>
                      <p:nvPr/>
                    </p:nvGrpSpPr>
                    <p:grpSpPr>
                      <a:xfrm>
                        <a:off x="222840" y="3425760"/>
                        <a:ext cx="34560" cy="7920"/>
                        <a:chOff x="222840" y="3425760"/>
                        <a:chExt cx="34560" cy="7920"/>
                      </a:xfrm>
                    </p:grpSpPr>
                    <p:sp>
                      <p:nvSpPr>
                        <p:cNvPr id="2994" name=""/>
                        <p:cNvSpPr/>
                        <p:nvPr/>
                      </p:nvSpPr>
                      <p:spPr>
                        <a:xfrm>
                          <a:off x="23184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5" name=""/>
                        <p:cNvSpPr/>
                        <p:nvPr/>
                      </p:nvSpPr>
                      <p:spPr>
                        <a:xfrm>
                          <a:off x="23184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6" name=""/>
                        <p:cNvSpPr/>
                        <p:nvPr/>
                      </p:nvSpPr>
                      <p:spPr>
                        <a:xfrm>
                          <a:off x="22284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97" name=""/>
                      <p:cNvSpPr/>
                      <p:nvPr/>
                    </p:nvSpPr>
                    <p:spPr>
                      <a:xfrm>
                        <a:off x="22140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8" name=""/>
                      <p:cNvSpPr/>
                      <p:nvPr/>
                    </p:nvSpPr>
                    <p:spPr>
                      <a:xfrm>
                        <a:off x="24984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9" name=""/>
                    <p:cNvGrpSpPr/>
                    <p:nvPr/>
                  </p:nvGrpSpPr>
                  <p:grpSpPr>
                    <a:xfrm>
                      <a:off x="194400" y="3438720"/>
                      <a:ext cx="21960" cy="4680"/>
                      <a:chOff x="194400" y="3438720"/>
                      <a:chExt cx="21960" cy="4680"/>
                    </a:xfrm>
                  </p:grpSpPr>
                  <p:grpSp>
                    <p:nvGrpSpPr>
                      <p:cNvPr id="3000" name=""/>
                      <p:cNvGrpSpPr/>
                      <p:nvPr/>
                    </p:nvGrpSpPr>
                    <p:grpSpPr>
                      <a:xfrm>
                        <a:off x="194400" y="3438720"/>
                        <a:ext cx="11520" cy="4680"/>
                        <a:chOff x="194400" y="3438720"/>
                        <a:chExt cx="11520" cy="4680"/>
                      </a:xfrm>
                    </p:grpSpPr>
                    <p:grpSp>
                      <p:nvGrpSpPr>
                        <p:cNvPr id="3001" name=""/>
                        <p:cNvGrpSpPr/>
                        <p:nvPr/>
                      </p:nvGrpSpPr>
                      <p:grpSpPr>
                        <a:xfrm>
                          <a:off x="194400" y="3438720"/>
                          <a:ext cx="5400" cy="4680"/>
                          <a:chOff x="194400" y="3438720"/>
                          <a:chExt cx="5400" cy="4680"/>
                        </a:xfrm>
                      </p:grpSpPr>
                      <p:grpSp>
                        <p:nvGrpSpPr>
                          <p:cNvPr id="3002" name=""/>
                          <p:cNvGrpSpPr/>
                          <p:nvPr/>
                        </p:nvGrpSpPr>
                        <p:grpSpPr>
                          <a:xfrm>
                            <a:off x="194400" y="3438720"/>
                            <a:ext cx="2520" cy="4680"/>
                            <a:chOff x="194400" y="3438720"/>
                            <a:chExt cx="2520" cy="4680"/>
                          </a:xfrm>
                        </p:grpSpPr>
                        <p:sp>
                          <p:nvSpPr>
                            <p:cNvPr id="3003" name=""/>
                            <p:cNvSpPr/>
                            <p:nvPr/>
                          </p:nvSpPr>
                          <p:spPr>
                            <a:xfrm>
                              <a:off x="194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4" name=""/>
                            <p:cNvSpPr/>
                            <p:nvPr/>
                          </p:nvSpPr>
                          <p:spPr>
                            <a:xfrm>
                              <a:off x="195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05" name=""/>
                          <p:cNvGrpSpPr/>
                          <p:nvPr/>
                        </p:nvGrpSpPr>
                        <p:grpSpPr>
                          <a:xfrm>
                            <a:off x="197280" y="3438720"/>
                            <a:ext cx="2520" cy="4680"/>
                            <a:chOff x="197280" y="3438720"/>
                            <a:chExt cx="2520" cy="4680"/>
                          </a:xfrm>
                        </p:grpSpPr>
                        <p:sp>
                          <p:nvSpPr>
                            <p:cNvPr id="3006" name=""/>
                            <p:cNvSpPr/>
                            <p:nvPr/>
                          </p:nvSpPr>
                          <p:spPr>
                            <a:xfrm>
                              <a:off x="1972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7" name=""/>
                            <p:cNvSpPr/>
                            <p:nvPr/>
                          </p:nvSpPr>
                          <p:spPr>
                            <a:xfrm>
                              <a:off x="198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08" name=""/>
                        <p:cNvGrpSpPr/>
                        <p:nvPr/>
                      </p:nvGrpSpPr>
                      <p:grpSpPr>
                        <a:xfrm>
                          <a:off x="200520" y="3438720"/>
                          <a:ext cx="5400" cy="4680"/>
                          <a:chOff x="200520" y="3438720"/>
                          <a:chExt cx="5400" cy="4680"/>
                        </a:xfrm>
                      </p:grpSpPr>
                      <p:grpSp>
                        <p:nvGrpSpPr>
                          <p:cNvPr id="3009" name=""/>
                          <p:cNvGrpSpPr/>
                          <p:nvPr/>
                        </p:nvGrpSpPr>
                        <p:grpSpPr>
                          <a:xfrm>
                            <a:off x="200520" y="3438720"/>
                            <a:ext cx="2520" cy="4680"/>
                            <a:chOff x="200520" y="3438720"/>
                            <a:chExt cx="2520" cy="4680"/>
                          </a:xfrm>
                        </p:grpSpPr>
                        <p:sp>
                          <p:nvSpPr>
                            <p:cNvPr id="3010" name=""/>
                            <p:cNvSpPr/>
                            <p:nvPr/>
                          </p:nvSpPr>
                          <p:spPr>
                            <a:xfrm>
                              <a:off x="200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1" name=""/>
                            <p:cNvSpPr/>
                            <p:nvPr/>
                          </p:nvSpPr>
                          <p:spPr>
                            <a:xfrm>
                              <a:off x="201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12" name=""/>
                          <p:cNvGrpSpPr/>
                          <p:nvPr/>
                        </p:nvGrpSpPr>
                        <p:grpSpPr>
                          <a:xfrm>
                            <a:off x="203400" y="3438720"/>
                            <a:ext cx="2520" cy="4680"/>
                            <a:chOff x="203400" y="3438720"/>
                            <a:chExt cx="2520" cy="4680"/>
                          </a:xfrm>
                        </p:grpSpPr>
                        <p:sp>
                          <p:nvSpPr>
                            <p:cNvPr id="3013" name=""/>
                            <p:cNvSpPr/>
                            <p:nvPr/>
                          </p:nvSpPr>
                          <p:spPr>
                            <a:xfrm>
                              <a:off x="203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4" name=""/>
                            <p:cNvSpPr/>
                            <p:nvPr/>
                          </p:nvSpPr>
                          <p:spPr>
                            <a:xfrm>
                              <a:off x="20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015" name=""/>
                      <p:cNvGrpSpPr/>
                      <p:nvPr/>
                    </p:nvGrpSpPr>
                    <p:grpSpPr>
                      <a:xfrm>
                        <a:off x="207000" y="3438720"/>
                        <a:ext cx="9360" cy="4680"/>
                        <a:chOff x="207000" y="3438720"/>
                        <a:chExt cx="9360" cy="4680"/>
                      </a:xfrm>
                    </p:grpSpPr>
                    <p:grpSp>
                      <p:nvGrpSpPr>
                        <p:cNvPr id="3016" name=""/>
                        <p:cNvGrpSpPr/>
                        <p:nvPr/>
                      </p:nvGrpSpPr>
                      <p:grpSpPr>
                        <a:xfrm>
                          <a:off x="207000" y="3438720"/>
                          <a:ext cx="5040" cy="4680"/>
                          <a:chOff x="207000" y="3438720"/>
                          <a:chExt cx="5040" cy="4680"/>
                        </a:xfrm>
                      </p:grpSpPr>
                      <p:grpSp>
                        <p:nvGrpSpPr>
                          <p:cNvPr id="3017" name=""/>
                          <p:cNvGrpSpPr/>
                          <p:nvPr/>
                        </p:nvGrpSpPr>
                        <p:grpSpPr>
                          <a:xfrm>
                            <a:off x="207000" y="3438720"/>
                            <a:ext cx="2160" cy="4680"/>
                            <a:chOff x="207000" y="3438720"/>
                            <a:chExt cx="2160" cy="4680"/>
                          </a:xfrm>
                        </p:grpSpPr>
                        <p:sp>
                          <p:nvSpPr>
                            <p:cNvPr id="3018" name=""/>
                            <p:cNvSpPr/>
                            <p:nvPr/>
                          </p:nvSpPr>
                          <p:spPr>
                            <a:xfrm>
                              <a:off x="2070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9" name=""/>
                            <p:cNvSpPr/>
                            <p:nvPr/>
                          </p:nvSpPr>
                          <p:spPr>
                            <a:xfrm>
                              <a:off x="2080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0" name=""/>
                          <p:cNvGrpSpPr/>
                          <p:nvPr/>
                        </p:nvGrpSpPr>
                        <p:grpSpPr>
                          <a:xfrm>
                            <a:off x="209520" y="3438720"/>
                            <a:ext cx="2520" cy="4680"/>
                            <a:chOff x="209520" y="3438720"/>
                            <a:chExt cx="2520" cy="4680"/>
                          </a:xfrm>
                        </p:grpSpPr>
                        <p:sp>
                          <p:nvSpPr>
                            <p:cNvPr id="3021" name=""/>
                            <p:cNvSpPr/>
                            <p:nvPr/>
                          </p:nvSpPr>
                          <p:spPr>
                            <a:xfrm>
                              <a:off x="2095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2" name=""/>
                            <p:cNvSpPr/>
                            <p:nvPr/>
                          </p:nvSpPr>
                          <p:spPr>
                            <a:xfrm>
                              <a:off x="2109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3" name=""/>
                        <p:cNvGrpSpPr/>
                        <p:nvPr/>
                      </p:nvGrpSpPr>
                      <p:grpSpPr>
                        <a:xfrm>
                          <a:off x="212760" y="3438720"/>
                          <a:ext cx="3600" cy="4680"/>
                          <a:chOff x="212760" y="3438720"/>
                          <a:chExt cx="3600" cy="4680"/>
                        </a:xfrm>
                      </p:grpSpPr>
                      <p:grpSp>
                        <p:nvGrpSpPr>
                          <p:cNvPr id="3024" name=""/>
                          <p:cNvGrpSpPr/>
                          <p:nvPr/>
                        </p:nvGrpSpPr>
                        <p:grpSpPr>
                          <a:xfrm>
                            <a:off x="212760" y="3438720"/>
                            <a:ext cx="1440" cy="4680"/>
                            <a:chOff x="212760" y="3438720"/>
                            <a:chExt cx="1440" cy="4680"/>
                          </a:xfrm>
                        </p:grpSpPr>
                        <p:sp>
                          <p:nvSpPr>
                            <p:cNvPr id="3025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6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7" name=""/>
                          <p:cNvGrpSpPr/>
                          <p:nvPr/>
                        </p:nvGrpSpPr>
                        <p:grpSpPr>
                          <a:xfrm>
                            <a:off x="214200" y="3438720"/>
                            <a:ext cx="2160" cy="4680"/>
                            <a:chOff x="214200" y="3438720"/>
                            <a:chExt cx="2160" cy="4680"/>
                          </a:xfrm>
                        </p:grpSpPr>
                        <p:sp>
                          <p:nvSpPr>
                            <p:cNvPr id="3028" name=""/>
                            <p:cNvSpPr/>
                            <p:nvPr/>
                          </p:nvSpPr>
                          <p:spPr>
                            <a:xfrm>
                              <a:off x="2142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9" name=""/>
                            <p:cNvSpPr/>
                            <p:nvPr/>
                          </p:nvSpPr>
                          <p:spPr>
                            <a:xfrm>
                              <a:off x="215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030" name=""/>
                    <p:cNvSpPr/>
                    <p:nvPr/>
                  </p:nvSpPr>
                  <p:spPr>
                    <a:xfrm>
                      <a:off x="19296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1" name=""/>
                  <p:cNvGrpSpPr/>
                  <p:nvPr/>
                </p:nvGrpSpPr>
                <p:grpSpPr>
                  <a:xfrm>
                    <a:off x="149040" y="3457800"/>
                    <a:ext cx="210960" cy="29880"/>
                    <a:chOff x="149040" y="3457800"/>
                    <a:chExt cx="210960" cy="29880"/>
                  </a:xfrm>
                </p:grpSpPr>
                <p:grpSp>
                  <p:nvGrpSpPr>
                    <p:cNvPr id="3032" name=""/>
                    <p:cNvGrpSpPr/>
                    <p:nvPr/>
                  </p:nvGrpSpPr>
                  <p:grpSpPr>
                    <a:xfrm>
                      <a:off x="149040" y="3457800"/>
                      <a:ext cx="210960" cy="29880"/>
                      <a:chOff x="149040" y="3457800"/>
                      <a:chExt cx="210960" cy="29880"/>
                    </a:xfrm>
                  </p:grpSpPr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14904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14904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15516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6" name=""/>
                    <p:cNvGrpSpPr/>
                    <p:nvPr/>
                  </p:nvGrpSpPr>
                  <p:grpSpPr>
                    <a:xfrm>
                      <a:off x="171000" y="3460680"/>
                      <a:ext cx="165960" cy="5040"/>
                      <a:chOff x="171000" y="3460680"/>
                      <a:chExt cx="165960" cy="5040"/>
                    </a:xfrm>
                  </p:grpSpPr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17100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18828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9" name=""/>
                      <p:cNvSpPr/>
                      <p:nvPr/>
                    </p:nvSpPr>
                    <p:spPr>
                      <a:xfrm>
                        <a:off x="22140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0" name=""/>
                      <p:cNvSpPr/>
                      <p:nvPr/>
                    </p:nvSpPr>
                    <p:spPr>
                      <a:xfrm>
                        <a:off x="251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1" name=""/>
                      <p:cNvSpPr/>
                      <p:nvPr/>
                    </p:nvSpPr>
                    <p:spPr>
                      <a:xfrm>
                        <a:off x="28188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2" name=""/>
                      <p:cNvSpPr/>
                      <p:nvPr/>
                    </p:nvSpPr>
                    <p:spPr>
                      <a:xfrm>
                        <a:off x="31032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3" name=""/>
                    <p:cNvGrpSpPr/>
                    <p:nvPr/>
                  </p:nvGrpSpPr>
                  <p:grpSpPr>
                    <a:xfrm>
                      <a:off x="164880" y="3467160"/>
                      <a:ext cx="174960" cy="11160"/>
                      <a:chOff x="164880" y="3467160"/>
                      <a:chExt cx="174960" cy="11160"/>
                    </a:xfrm>
                  </p:grpSpPr>
                  <p:grpSp>
                    <p:nvGrpSpPr>
                      <p:cNvPr id="3044" name=""/>
                      <p:cNvGrpSpPr/>
                      <p:nvPr/>
                    </p:nvGrpSpPr>
                    <p:grpSpPr>
                      <a:xfrm>
                        <a:off x="180360" y="3467160"/>
                        <a:ext cx="84960" cy="9360"/>
                        <a:chOff x="180360" y="3467160"/>
                        <a:chExt cx="84960" cy="9360"/>
                      </a:xfrm>
                    </p:grpSpPr>
                    <p:sp>
                      <p:nvSpPr>
                        <p:cNvPr id="3045" name=""/>
                        <p:cNvSpPr/>
                        <p:nvPr/>
                      </p:nvSpPr>
                      <p:spPr>
                        <a:xfrm>
                          <a:off x="18036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6" name=""/>
                        <p:cNvSpPr/>
                        <p:nvPr/>
                      </p:nvSpPr>
                      <p:spPr>
                        <a:xfrm>
                          <a:off x="18288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7" name=""/>
                        <p:cNvSpPr/>
                        <p:nvPr/>
                      </p:nvSpPr>
                      <p:spPr>
                        <a:xfrm>
                          <a:off x="18468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8" name=""/>
                        <p:cNvSpPr/>
                        <p:nvPr/>
                      </p:nvSpPr>
                      <p:spPr>
                        <a:xfrm>
                          <a:off x="18612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49" name=""/>
                      <p:cNvGrpSpPr/>
                      <p:nvPr/>
                    </p:nvGrpSpPr>
                    <p:grpSpPr>
                      <a:xfrm>
                        <a:off x="164880" y="3468600"/>
                        <a:ext cx="15480" cy="6480"/>
                        <a:chOff x="164880" y="3468600"/>
                        <a:chExt cx="15480" cy="6480"/>
                      </a:xfrm>
                    </p:grpSpPr>
                    <p:sp>
                      <p:nvSpPr>
                        <p:cNvPr id="3050" name=""/>
                        <p:cNvSpPr/>
                        <p:nvPr/>
                      </p:nvSpPr>
                      <p:spPr>
                        <a:xfrm>
                          <a:off x="16920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1" name=""/>
                        <p:cNvSpPr/>
                        <p:nvPr/>
                      </p:nvSpPr>
                      <p:spPr>
                        <a:xfrm>
                          <a:off x="16740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2" name=""/>
                        <p:cNvSpPr/>
                        <p:nvPr/>
                      </p:nvSpPr>
                      <p:spPr>
                        <a:xfrm>
                          <a:off x="16488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3" name=""/>
                      <p:cNvGrpSpPr/>
                      <p:nvPr/>
                    </p:nvGrpSpPr>
                    <p:grpSpPr>
                      <a:xfrm>
                        <a:off x="199440" y="3467160"/>
                        <a:ext cx="78480" cy="9360"/>
                        <a:chOff x="199440" y="3467160"/>
                        <a:chExt cx="78480" cy="9360"/>
                      </a:xfrm>
                    </p:grpSpPr>
                    <p:sp>
                      <p:nvSpPr>
                        <p:cNvPr id="3054" name=""/>
                        <p:cNvSpPr/>
                        <p:nvPr/>
                      </p:nvSpPr>
                      <p:spPr>
                        <a:xfrm>
                          <a:off x="19944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5" name=""/>
                        <p:cNvSpPr/>
                        <p:nvPr/>
                      </p:nvSpPr>
                      <p:spPr>
                        <a:xfrm>
                          <a:off x="26568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6" name=""/>
                        <p:cNvSpPr/>
                        <p:nvPr/>
                      </p:nvSpPr>
                      <p:spPr>
                        <a:xfrm>
                          <a:off x="26892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7" name=""/>
                        <p:cNvSpPr/>
                        <p:nvPr/>
                      </p:nvSpPr>
                      <p:spPr>
                        <a:xfrm>
                          <a:off x="26244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8" name=""/>
                        <p:cNvSpPr/>
                        <p:nvPr/>
                      </p:nvSpPr>
                      <p:spPr>
                        <a:xfrm>
                          <a:off x="24984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9" name=""/>
                        <p:cNvSpPr/>
                        <p:nvPr/>
                      </p:nvSpPr>
                      <p:spPr>
                        <a:xfrm>
                          <a:off x="25920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0" name=""/>
                      <p:cNvGrpSpPr/>
                      <p:nvPr/>
                    </p:nvGrpSpPr>
                    <p:grpSpPr>
                      <a:xfrm>
                        <a:off x="281880" y="3468600"/>
                        <a:ext cx="24480" cy="7920"/>
                        <a:chOff x="281880" y="3468600"/>
                        <a:chExt cx="24480" cy="7920"/>
                      </a:xfrm>
                    </p:grpSpPr>
                    <p:sp>
                      <p:nvSpPr>
                        <p:cNvPr id="3061" name=""/>
                        <p:cNvSpPr/>
                        <p:nvPr/>
                      </p:nvSpPr>
                      <p:spPr>
                        <a:xfrm>
                          <a:off x="28188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2" name=""/>
                        <p:cNvSpPr/>
                        <p:nvPr/>
                      </p:nvSpPr>
                      <p:spPr>
                        <a:xfrm>
                          <a:off x="28476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3" name=""/>
                        <p:cNvSpPr/>
                        <p:nvPr/>
                      </p:nvSpPr>
                      <p:spPr>
                        <a:xfrm>
                          <a:off x="28476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4" name=""/>
                      <p:cNvGrpSpPr/>
                      <p:nvPr/>
                    </p:nvGrpSpPr>
                    <p:grpSpPr>
                      <a:xfrm>
                        <a:off x="310320" y="3468600"/>
                        <a:ext cx="29520" cy="9720"/>
                        <a:chOff x="310320" y="3468600"/>
                        <a:chExt cx="29520" cy="9720"/>
                      </a:xfrm>
                    </p:grpSpPr>
                    <p:sp>
                      <p:nvSpPr>
                        <p:cNvPr id="3065" name=""/>
                        <p:cNvSpPr/>
                        <p:nvPr/>
                      </p:nvSpPr>
                      <p:spPr>
                        <a:xfrm>
                          <a:off x="31320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6" name=""/>
                        <p:cNvSpPr/>
                        <p:nvPr/>
                      </p:nvSpPr>
                      <p:spPr>
                        <a:xfrm>
                          <a:off x="31032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7" name=""/>
                        <p:cNvSpPr/>
                        <p:nvPr/>
                      </p:nvSpPr>
                      <p:spPr>
                        <a:xfrm>
                          <a:off x="313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8" name=""/>
                        <p:cNvSpPr/>
                        <p:nvPr/>
                      </p:nvSpPr>
                      <p:spPr>
                        <a:xfrm>
                          <a:off x="31176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9" name=""/>
                        <p:cNvSpPr/>
                        <p:nvPr/>
                      </p:nvSpPr>
                      <p:spPr>
                        <a:xfrm>
                          <a:off x="33228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0" name=""/>
                        <p:cNvSpPr/>
                        <p:nvPr/>
                      </p:nvSpPr>
                      <p:spPr>
                        <a:xfrm>
                          <a:off x="33372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210600" y="3398760"/>
                    <a:ext cx="91800" cy="19080"/>
                    <a:chOff x="210600" y="3398760"/>
                    <a:chExt cx="91800" cy="19080"/>
                  </a:xfrm>
                </p:grpSpPr>
                <p:grpSp>
                  <p:nvGrpSpPr>
                    <p:cNvPr id="3072" name=""/>
                    <p:cNvGrpSpPr/>
                    <p:nvPr/>
                  </p:nvGrpSpPr>
                  <p:grpSpPr>
                    <a:xfrm>
                      <a:off x="210600" y="3403800"/>
                      <a:ext cx="91800" cy="14040"/>
                      <a:chOff x="210600" y="3403800"/>
                      <a:chExt cx="91800" cy="14040"/>
                    </a:xfrm>
                  </p:grpSpPr>
                  <p:sp>
                    <p:nvSpPr>
                      <p:cNvPr id="3073" name=""/>
                      <p:cNvSpPr/>
                      <p:nvPr/>
                    </p:nvSpPr>
                    <p:spPr>
                      <a:xfrm>
                        <a:off x="21060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21060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23112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6" name=""/>
                  <p:cNvSpPr/>
                  <p:nvPr/>
                </p:nvSpPr>
                <p:spPr>
                  <a:xfrm>
                    <a:off x="19980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21240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21708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29484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080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5852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81" name=""/>
            <p:cNvGrpSpPr/>
            <p:nvPr/>
          </p:nvGrpSpPr>
          <p:grpSpPr>
            <a:xfrm>
              <a:off x="1352520" y="3962520"/>
              <a:ext cx="1085760" cy="752400"/>
              <a:chOff x="1352520" y="3962520"/>
              <a:chExt cx="1085760" cy="752400"/>
            </a:xfrm>
          </p:grpSpPr>
          <p:sp>
            <p:nvSpPr>
              <p:cNvPr id="3082" name=""/>
              <p:cNvSpPr/>
              <p:nvPr/>
            </p:nvSpPr>
            <p:spPr>
              <a:xfrm>
                <a:off x="135252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40004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9 Atlix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084" name=""/>
              <p:cNvGrpSpPr/>
              <p:nvPr/>
            </p:nvGrpSpPr>
            <p:grpSpPr>
              <a:xfrm>
                <a:off x="1425240" y="4017960"/>
                <a:ext cx="821880" cy="488880"/>
                <a:chOff x="1425240" y="4017960"/>
                <a:chExt cx="821880" cy="48888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156780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8536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78704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088" name="pbx" descr=""/>
                <p:cNvPicPr/>
                <p:nvPr/>
              </p:nvPicPr>
              <p:blipFill>
                <a:blip r:embed="rId36"/>
                <a:srcRect l="37594" t="74298" r="28339" b="4834"/>
                <a:stretch/>
              </p:blipFill>
              <p:spPr>
                <a:xfrm>
                  <a:off x="172980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9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175680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90" name=""/>
                <p:cNvGrpSpPr/>
                <p:nvPr/>
              </p:nvGrpSpPr>
              <p:grpSpPr>
                <a:xfrm>
                  <a:off x="1425240" y="4156200"/>
                  <a:ext cx="210960" cy="169920"/>
                  <a:chOff x="1425240" y="4156200"/>
                  <a:chExt cx="210960" cy="169920"/>
                </a:xfrm>
              </p:grpSpPr>
              <p:grpSp>
                <p:nvGrpSpPr>
                  <p:cNvPr id="3091" name=""/>
                  <p:cNvGrpSpPr/>
                  <p:nvPr/>
                </p:nvGrpSpPr>
                <p:grpSpPr>
                  <a:xfrm>
                    <a:off x="1464840" y="4246920"/>
                    <a:ext cx="134280" cy="52200"/>
                    <a:chOff x="1464840" y="4246920"/>
                    <a:chExt cx="134280" cy="52200"/>
                  </a:xfrm>
                </p:grpSpPr>
                <p:grpSp>
                  <p:nvGrpSpPr>
                    <p:cNvPr id="3092" name=""/>
                    <p:cNvGrpSpPr/>
                    <p:nvPr/>
                  </p:nvGrpSpPr>
                  <p:grpSpPr>
                    <a:xfrm>
                      <a:off x="1464840" y="4246920"/>
                      <a:ext cx="134280" cy="52200"/>
                      <a:chOff x="1464840" y="4246920"/>
                      <a:chExt cx="134280" cy="52200"/>
                    </a:xfrm>
                  </p:grpSpPr>
                  <p:grpSp>
                    <p:nvGrpSpPr>
                      <p:cNvPr id="3093" name=""/>
                      <p:cNvGrpSpPr/>
                      <p:nvPr/>
                    </p:nvGrpSpPr>
                    <p:grpSpPr>
                      <a:xfrm>
                        <a:off x="1464840" y="4246920"/>
                        <a:ext cx="134280" cy="52200"/>
                        <a:chOff x="1464840" y="4246920"/>
                        <a:chExt cx="134280" cy="52200"/>
                      </a:xfrm>
                    </p:grpSpPr>
                    <p:grpSp>
                      <p:nvGrpSpPr>
                        <p:cNvPr id="3094" name=""/>
                        <p:cNvGrpSpPr/>
                        <p:nvPr/>
                      </p:nvGrpSpPr>
                      <p:grpSpPr>
                        <a:xfrm>
                          <a:off x="1464840" y="4246920"/>
                          <a:ext cx="134280" cy="52200"/>
                          <a:chOff x="1464840" y="4246920"/>
                          <a:chExt cx="134280" cy="52200"/>
                        </a:xfrm>
                      </p:grpSpPr>
                      <p:grpSp>
                        <p:nvGrpSpPr>
                          <p:cNvPr id="3095" name=""/>
                          <p:cNvGrpSpPr/>
                          <p:nvPr/>
                        </p:nvGrpSpPr>
                        <p:grpSpPr>
                          <a:xfrm>
                            <a:off x="1464840" y="4246920"/>
                            <a:ext cx="134280" cy="52200"/>
                            <a:chOff x="1464840" y="4246920"/>
                            <a:chExt cx="134280" cy="52200"/>
                          </a:xfrm>
                        </p:grpSpPr>
                        <p:sp>
                          <p:nvSpPr>
                            <p:cNvPr id="3096" name=""/>
                            <p:cNvSpPr/>
                            <p:nvPr/>
                          </p:nvSpPr>
                          <p:spPr>
                            <a:xfrm>
                              <a:off x="146484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7" name=""/>
                            <p:cNvSpPr/>
                            <p:nvPr/>
                          </p:nvSpPr>
                          <p:spPr>
                            <a:xfrm>
                              <a:off x="146592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98" name=""/>
                          <p:cNvSpPr/>
                          <p:nvPr/>
                        </p:nvSpPr>
                        <p:spPr>
                          <a:xfrm>
                            <a:off x="146736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99" name=""/>
                        <p:cNvGrpSpPr/>
                        <p:nvPr/>
                      </p:nvGrpSpPr>
                      <p:grpSpPr>
                        <a:xfrm>
                          <a:off x="1470600" y="4289760"/>
                          <a:ext cx="124560" cy="7920"/>
                          <a:chOff x="1470600" y="4289760"/>
                          <a:chExt cx="124560" cy="7920"/>
                        </a:xfrm>
                      </p:grpSpPr>
                      <p:grpSp>
                        <p:nvGrpSpPr>
                          <p:cNvPr id="3100" name=""/>
                          <p:cNvGrpSpPr/>
                          <p:nvPr/>
                        </p:nvGrpSpPr>
                        <p:grpSpPr>
                          <a:xfrm>
                            <a:off x="1470600" y="4289760"/>
                            <a:ext cx="61560" cy="7920"/>
                            <a:chOff x="1470600" y="4289760"/>
                            <a:chExt cx="61560" cy="7920"/>
                          </a:xfrm>
                        </p:grpSpPr>
                        <p:grpSp>
                          <p:nvGrpSpPr>
                            <p:cNvPr id="3101" name=""/>
                            <p:cNvGrpSpPr/>
                            <p:nvPr/>
                          </p:nvGrpSpPr>
                          <p:grpSpPr>
                            <a:xfrm>
                              <a:off x="1470600" y="4289760"/>
                              <a:ext cx="29880" cy="7920"/>
                              <a:chOff x="1470600" y="4289760"/>
                              <a:chExt cx="29880" cy="7920"/>
                            </a:xfrm>
                          </p:grpSpPr>
                          <p:grpSp>
                            <p:nvGrpSpPr>
                              <p:cNvPr id="3102" name=""/>
                              <p:cNvGrpSpPr/>
                              <p:nvPr/>
                            </p:nvGrpSpPr>
                            <p:grpSpPr>
                              <a:xfrm>
                                <a:off x="1470600" y="4289760"/>
                                <a:ext cx="14400" cy="7920"/>
                                <a:chOff x="14706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0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4289760"/>
                                  <a:ext cx="6840" cy="7920"/>
                                  <a:chOff x="14706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4289760"/>
                                    <a:ext cx="2520" cy="7920"/>
                                    <a:chOff x="1470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4289760"/>
                                    <a:ext cx="3960" cy="7920"/>
                                    <a:chOff x="14734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1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4289760"/>
                                  <a:ext cx="6840" cy="7920"/>
                                  <a:chOff x="14781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4289760"/>
                                    <a:ext cx="2520" cy="7920"/>
                                    <a:chOff x="1478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4289760"/>
                                    <a:ext cx="3960" cy="7920"/>
                                    <a:chOff x="14810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17" name=""/>
                              <p:cNvGrpSpPr/>
                              <p:nvPr/>
                            </p:nvGrpSpPr>
                            <p:grpSpPr>
                              <a:xfrm>
                                <a:off x="1486080" y="4289760"/>
                                <a:ext cx="14400" cy="7920"/>
                                <a:chOff x="1486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1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4289760"/>
                                  <a:ext cx="6840" cy="7920"/>
                                  <a:chOff x="1486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4289760"/>
                                    <a:ext cx="2520" cy="7920"/>
                                    <a:chOff x="1486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4289760"/>
                                    <a:ext cx="3960" cy="7920"/>
                                    <a:chOff x="1488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2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4289760"/>
                                  <a:ext cx="6840" cy="7920"/>
                                  <a:chOff x="1493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4289760"/>
                                    <a:ext cx="2520" cy="7920"/>
                                    <a:chOff x="1493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4289760"/>
                                    <a:ext cx="3960" cy="7920"/>
                                    <a:chOff x="14965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32" name=""/>
                            <p:cNvGrpSpPr/>
                            <p:nvPr/>
                          </p:nvGrpSpPr>
                          <p:grpSpPr>
                            <a:xfrm>
                              <a:off x="1501920" y="4289760"/>
                              <a:ext cx="30240" cy="7920"/>
                              <a:chOff x="1501920" y="4289760"/>
                              <a:chExt cx="30240" cy="7920"/>
                            </a:xfrm>
                          </p:grpSpPr>
                          <p:grpSp>
                            <p:nvGrpSpPr>
                              <p:cNvPr id="3133" name=""/>
                              <p:cNvGrpSpPr/>
                              <p:nvPr/>
                            </p:nvGrpSpPr>
                            <p:grpSpPr>
                              <a:xfrm>
                                <a:off x="1501920" y="4289760"/>
                                <a:ext cx="14760" cy="7920"/>
                                <a:chOff x="150192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313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4289760"/>
                                  <a:ext cx="7200" cy="7920"/>
                                  <a:chOff x="150192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1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4289760"/>
                                    <a:ext cx="2520" cy="7920"/>
                                    <a:chOff x="15019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4289760"/>
                                    <a:ext cx="2520" cy="7920"/>
                                    <a:chOff x="1506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4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4289760"/>
                                  <a:ext cx="6840" cy="7920"/>
                                  <a:chOff x="1509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4289760"/>
                                    <a:ext cx="2160" cy="7920"/>
                                    <a:chOff x="15098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4289760"/>
                                    <a:ext cx="2520" cy="7920"/>
                                    <a:chOff x="1514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48" name=""/>
                              <p:cNvGrpSpPr/>
                              <p:nvPr/>
                            </p:nvGrpSpPr>
                            <p:grpSpPr>
                              <a:xfrm>
                                <a:off x="1517760" y="4289760"/>
                                <a:ext cx="14400" cy="7920"/>
                                <a:chOff x="1517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4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4289760"/>
                                  <a:ext cx="6840" cy="7920"/>
                                  <a:chOff x="151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4289760"/>
                                    <a:ext cx="2160" cy="7920"/>
                                    <a:chOff x="15177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4289760"/>
                                    <a:ext cx="2520" cy="7920"/>
                                    <a:chOff x="1522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5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4289760"/>
                                  <a:ext cx="6840" cy="7920"/>
                                  <a:chOff x="1525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4289760"/>
                                    <a:ext cx="2160" cy="7920"/>
                                    <a:chOff x="152532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4289760"/>
                                    <a:ext cx="4320" cy="7920"/>
                                    <a:chOff x="152784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163" name=""/>
                          <p:cNvGrpSpPr/>
                          <p:nvPr/>
                        </p:nvGrpSpPr>
                        <p:grpSpPr>
                          <a:xfrm>
                            <a:off x="1533960" y="4289760"/>
                            <a:ext cx="61200" cy="7920"/>
                            <a:chOff x="1533960" y="4289760"/>
                            <a:chExt cx="61200" cy="7920"/>
                          </a:xfrm>
                        </p:grpSpPr>
                        <p:grpSp>
                          <p:nvGrpSpPr>
                            <p:cNvPr id="3164" name=""/>
                            <p:cNvGrpSpPr/>
                            <p:nvPr/>
                          </p:nvGrpSpPr>
                          <p:grpSpPr>
                            <a:xfrm>
                              <a:off x="1533960" y="4289760"/>
                              <a:ext cx="29880" cy="7920"/>
                              <a:chOff x="1533960" y="4289760"/>
                              <a:chExt cx="29880" cy="7920"/>
                            </a:xfrm>
                          </p:grpSpPr>
                          <p:grpSp>
                            <p:nvGrpSpPr>
                              <p:cNvPr id="3165" name=""/>
                              <p:cNvGrpSpPr/>
                              <p:nvPr/>
                            </p:nvGrpSpPr>
                            <p:grpSpPr>
                              <a:xfrm>
                                <a:off x="1533960" y="4289760"/>
                                <a:ext cx="14400" cy="7920"/>
                                <a:chOff x="15339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6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4289760"/>
                                  <a:ext cx="6840" cy="7920"/>
                                  <a:chOff x="153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4289760"/>
                                    <a:ext cx="2520" cy="7920"/>
                                    <a:chOff x="1533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4289760"/>
                                    <a:ext cx="3960" cy="7920"/>
                                    <a:chOff x="1536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7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4289760"/>
                                  <a:ext cx="6840" cy="7920"/>
                                  <a:chOff x="15415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4289760"/>
                                    <a:ext cx="2520" cy="7920"/>
                                    <a:chOff x="15415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4289760"/>
                                    <a:ext cx="2520" cy="7920"/>
                                    <a:chOff x="1545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80" name=""/>
                              <p:cNvGrpSpPr/>
                              <p:nvPr/>
                            </p:nvGrpSpPr>
                            <p:grpSpPr>
                              <a:xfrm>
                                <a:off x="1549440" y="4289760"/>
                                <a:ext cx="14400" cy="7920"/>
                                <a:chOff x="154944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8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4289760"/>
                                  <a:ext cx="6840" cy="7920"/>
                                  <a:chOff x="154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4289760"/>
                                    <a:ext cx="2520" cy="7920"/>
                                    <a:chOff x="1549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4289760"/>
                                    <a:ext cx="2520" cy="7920"/>
                                    <a:chOff x="1553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8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4289760"/>
                                  <a:ext cx="6840" cy="7920"/>
                                  <a:chOff x="15570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4289760"/>
                                    <a:ext cx="2520" cy="7920"/>
                                    <a:chOff x="15570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4289760"/>
                                    <a:ext cx="3960" cy="7920"/>
                                    <a:chOff x="15598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95" name=""/>
                            <p:cNvGrpSpPr/>
                            <p:nvPr/>
                          </p:nvGrpSpPr>
                          <p:grpSpPr>
                            <a:xfrm>
                              <a:off x="1565280" y="4289760"/>
                              <a:ext cx="29880" cy="7920"/>
                              <a:chOff x="1565280" y="4289760"/>
                              <a:chExt cx="29880" cy="7920"/>
                            </a:xfrm>
                          </p:grpSpPr>
                          <p:grpSp>
                            <p:nvGrpSpPr>
                              <p:cNvPr id="3196" name=""/>
                              <p:cNvGrpSpPr/>
                              <p:nvPr/>
                            </p:nvGrpSpPr>
                            <p:grpSpPr>
                              <a:xfrm>
                                <a:off x="1565280" y="4289760"/>
                                <a:ext cx="14400" cy="7920"/>
                                <a:chOff x="15652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9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4289760"/>
                                  <a:ext cx="6840" cy="7920"/>
                                  <a:chOff x="1565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4289760"/>
                                    <a:ext cx="2520" cy="7920"/>
                                    <a:chOff x="1565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4289760"/>
                                    <a:ext cx="2520" cy="7920"/>
                                    <a:chOff x="1569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0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4289760"/>
                                  <a:ext cx="6840" cy="7920"/>
                                  <a:chOff x="1572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4289760"/>
                                    <a:ext cx="2520" cy="7920"/>
                                    <a:chOff x="1572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4289760"/>
                                    <a:ext cx="3960" cy="7920"/>
                                    <a:chOff x="15757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211" name=""/>
                              <p:cNvGrpSpPr/>
                              <p:nvPr/>
                            </p:nvGrpSpPr>
                            <p:grpSpPr>
                              <a:xfrm>
                                <a:off x="1580760" y="4289760"/>
                                <a:ext cx="14400" cy="7920"/>
                                <a:chOff x="1580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21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4289760"/>
                                  <a:ext cx="6840" cy="7920"/>
                                  <a:chOff x="1580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4289760"/>
                                    <a:ext cx="2520" cy="7920"/>
                                    <a:chOff x="1580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4289760"/>
                                    <a:ext cx="2520" cy="7920"/>
                                    <a:chOff x="1585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1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4289760"/>
                                  <a:ext cx="6840" cy="7920"/>
                                  <a:chOff x="1588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4289760"/>
                                    <a:ext cx="2520" cy="7920"/>
                                    <a:chOff x="15883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4289760"/>
                                    <a:ext cx="2520" cy="7920"/>
                                    <a:chOff x="1592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226" name=""/>
                      <p:cNvGrpSpPr/>
                      <p:nvPr/>
                    </p:nvGrpSpPr>
                    <p:grpSpPr>
                      <a:xfrm>
                        <a:off x="1467360" y="4260960"/>
                        <a:ext cx="128160" cy="22320"/>
                        <a:chOff x="1467360" y="4260960"/>
                        <a:chExt cx="128160" cy="22320"/>
                      </a:xfrm>
                    </p:grpSpPr>
                    <p:sp>
                      <p:nvSpPr>
                        <p:cNvPr id="3227" name=""/>
                        <p:cNvSpPr/>
                        <p:nvPr/>
                      </p:nvSpPr>
                      <p:spPr>
                        <a:xfrm>
                          <a:off x="146736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8" name=""/>
                        <p:cNvSpPr/>
                        <p:nvPr/>
                      </p:nvSpPr>
                      <p:spPr>
                        <a:xfrm>
                          <a:off x="149580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9" name=""/>
                        <p:cNvSpPr/>
                        <p:nvPr/>
                      </p:nvSpPr>
                      <p:spPr>
                        <a:xfrm>
                          <a:off x="153540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0" name=""/>
                        <p:cNvSpPr/>
                        <p:nvPr/>
                      </p:nvSpPr>
                      <p:spPr>
                        <a:xfrm>
                          <a:off x="157680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1580400" y="4264200"/>
                      <a:ext cx="11880" cy="11160"/>
                      <a:chOff x="1580400" y="4264200"/>
                      <a:chExt cx="11880" cy="11160"/>
                    </a:xfrm>
                  </p:grpSpPr>
                  <p:sp>
                    <p:nvSpPr>
                      <p:cNvPr id="3232" name=""/>
                      <p:cNvSpPr/>
                      <p:nvPr/>
                    </p:nvSpPr>
                    <p:spPr>
                      <a:xfrm>
                        <a:off x="158472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3" name=""/>
                      <p:cNvSpPr/>
                      <p:nvPr/>
                    </p:nvSpPr>
                    <p:spPr>
                      <a:xfrm>
                        <a:off x="158616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34" name=""/>
                      <p:cNvGrpSpPr/>
                      <p:nvPr/>
                    </p:nvGrpSpPr>
                    <p:grpSpPr>
                      <a:xfrm>
                        <a:off x="1580400" y="4266000"/>
                        <a:ext cx="2520" cy="6120"/>
                        <a:chOff x="1580400" y="4266000"/>
                        <a:chExt cx="2520" cy="6120"/>
                      </a:xfrm>
                    </p:grpSpPr>
                    <p:sp>
                      <p:nvSpPr>
                        <p:cNvPr id="3235" name=""/>
                        <p:cNvSpPr/>
                        <p:nvPr/>
                      </p:nvSpPr>
                      <p:spPr>
                        <a:xfrm>
                          <a:off x="158040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6" name=""/>
                        <p:cNvSpPr/>
                        <p:nvPr/>
                      </p:nvSpPr>
                      <p:spPr>
                        <a:xfrm>
                          <a:off x="158040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7" name=""/>
                    <p:cNvGrpSpPr/>
                    <p:nvPr/>
                  </p:nvGrpSpPr>
                  <p:grpSpPr>
                    <a:xfrm>
                      <a:off x="1497600" y="4264200"/>
                      <a:ext cx="36000" cy="14400"/>
                      <a:chOff x="1497600" y="4264200"/>
                      <a:chExt cx="36000" cy="14400"/>
                    </a:xfrm>
                  </p:grpSpPr>
                  <p:grpSp>
                    <p:nvGrpSpPr>
                      <p:cNvPr id="3238" name=""/>
                      <p:cNvGrpSpPr/>
                      <p:nvPr/>
                    </p:nvGrpSpPr>
                    <p:grpSpPr>
                      <a:xfrm>
                        <a:off x="1499040" y="4264200"/>
                        <a:ext cx="34560" cy="7920"/>
                        <a:chOff x="1499040" y="4264200"/>
                        <a:chExt cx="34560" cy="7920"/>
                      </a:xfrm>
                    </p:grpSpPr>
                    <p:sp>
                      <p:nvSpPr>
                        <p:cNvPr id="3239" name=""/>
                        <p:cNvSpPr/>
                        <p:nvPr/>
                      </p:nvSpPr>
                      <p:spPr>
                        <a:xfrm>
                          <a:off x="150804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0" name=""/>
                        <p:cNvSpPr/>
                        <p:nvPr/>
                      </p:nvSpPr>
                      <p:spPr>
                        <a:xfrm>
                          <a:off x="150804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1" name=""/>
                        <p:cNvSpPr/>
                        <p:nvPr/>
                      </p:nvSpPr>
                      <p:spPr>
                        <a:xfrm>
                          <a:off x="149904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42" name=""/>
                      <p:cNvSpPr/>
                      <p:nvPr/>
                    </p:nvSpPr>
                    <p:spPr>
                      <a:xfrm>
                        <a:off x="149760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>
                        <a:off x="152604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4" name=""/>
                    <p:cNvGrpSpPr/>
                    <p:nvPr/>
                  </p:nvGrpSpPr>
                  <p:grpSpPr>
                    <a:xfrm>
                      <a:off x="1470600" y="4277160"/>
                      <a:ext cx="21960" cy="4680"/>
                      <a:chOff x="1470600" y="4277160"/>
                      <a:chExt cx="21960" cy="4680"/>
                    </a:xfrm>
                  </p:grpSpPr>
                  <p:grpSp>
                    <p:nvGrpSpPr>
                      <p:cNvPr id="3245" name=""/>
                      <p:cNvGrpSpPr/>
                      <p:nvPr/>
                    </p:nvGrpSpPr>
                    <p:grpSpPr>
                      <a:xfrm>
                        <a:off x="1470600" y="4277160"/>
                        <a:ext cx="11520" cy="4680"/>
                        <a:chOff x="1470600" y="4277160"/>
                        <a:chExt cx="11520" cy="4680"/>
                      </a:xfrm>
                    </p:grpSpPr>
                    <p:grpSp>
                      <p:nvGrpSpPr>
                        <p:cNvPr id="3246" name=""/>
                        <p:cNvGrpSpPr/>
                        <p:nvPr/>
                      </p:nvGrpSpPr>
                      <p:grpSpPr>
                        <a:xfrm>
                          <a:off x="1470600" y="4277160"/>
                          <a:ext cx="5400" cy="4680"/>
                          <a:chOff x="1470600" y="4277160"/>
                          <a:chExt cx="5400" cy="4680"/>
                        </a:xfrm>
                      </p:grpSpPr>
                      <p:grpSp>
                        <p:nvGrpSpPr>
                          <p:cNvPr id="3247" name=""/>
                          <p:cNvGrpSpPr/>
                          <p:nvPr/>
                        </p:nvGrpSpPr>
                        <p:grpSpPr>
                          <a:xfrm>
                            <a:off x="1470600" y="4277160"/>
                            <a:ext cx="2520" cy="4680"/>
                            <a:chOff x="1470600" y="4277160"/>
                            <a:chExt cx="2520" cy="4680"/>
                          </a:xfrm>
                        </p:grpSpPr>
                        <p:sp>
                          <p:nvSpPr>
                            <p:cNvPr id="3248" name=""/>
                            <p:cNvSpPr/>
                            <p:nvPr/>
                          </p:nvSpPr>
                          <p:spPr>
                            <a:xfrm>
                              <a:off x="1470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9" name=""/>
                            <p:cNvSpPr/>
                            <p:nvPr/>
                          </p:nvSpPr>
                          <p:spPr>
                            <a:xfrm>
                              <a:off x="1472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0" name=""/>
                          <p:cNvGrpSpPr/>
                          <p:nvPr/>
                        </p:nvGrpSpPr>
                        <p:grpSpPr>
                          <a:xfrm>
                            <a:off x="1473480" y="4277160"/>
                            <a:ext cx="2520" cy="4680"/>
                            <a:chOff x="1473480" y="4277160"/>
                            <a:chExt cx="2520" cy="4680"/>
                          </a:xfrm>
                        </p:grpSpPr>
                        <p:sp>
                          <p:nvSpPr>
                            <p:cNvPr id="3251" name=""/>
                            <p:cNvSpPr/>
                            <p:nvPr/>
                          </p:nvSpPr>
                          <p:spPr>
                            <a:xfrm>
                              <a:off x="1473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2" name=""/>
                            <p:cNvSpPr/>
                            <p:nvPr/>
                          </p:nvSpPr>
                          <p:spPr>
                            <a:xfrm>
                              <a:off x="14749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53" name=""/>
                        <p:cNvGrpSpPr/>
                        <p:nvPr/>
                      </p:nvGrpSpPr>
                      <p:grpSpPr>
                        <a:xfrm>
                          <a:off x="1476720" y="4277160"/>
                          <a:ext cx="5400" cy="4680"/>
                          <a:chOff x="1476720" y="4277160"/>
                          <a:chExt cx="5400" cy="4680"/>
                        </a:xfrm>
                      </p:grpSpPr>
                      <p:grpSp>
                        <p:nvGrpSpPr>
                          <p:cNvPr id="3254" name=""/>
                          <p:cNvGrpSpPr/>
                          <p:nvPr/>
                        </p:nvGrpSpPr>
                        <p:grpSpPr>
                          <a:xfrm>
                            <a:off x="1476720" y="4277160"/>
                            <a:ext cx="2520" cy="4680"/>
                            <a:chOff x="1476720" y="4277160"/>
                            <a:chExt cx="2520" cy="4680"/>
                          </a:xfrm>
                        </p:grpSpPr>
                        <p:sp>
                          <p:nvSpPr>
                            <p:cNvPr id="3255" name=""/>
                            <p:cNvSpPr/>
                            <p:nvPr/>
                          </p:nvSpPr>
                          <p:spPr>
                            <a:xfrm>
                              <a:off x="1476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6" name=""/>
                            <p:cNvSpPr/>
                            <p:nvPr/>
                          </p:nvSpPr>
                          <p:spPr>
                            <a:xfrm>
                              <a:off x="1477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7" name=""/>
                          <p:cNvGrpSpPr/>
                          <p:nvPr/>
                        </p:nvGrpSpPr>
                        <p:grpSpPr>
                          <a:xfrm>
                            <a:off x="1479600" y="4277160"/>
                            <a:ext cx="2520" cy="4680"/>
                            <a:chOff x="1479600" y="4277160"/>
                            <a:chExt cx="2520" cy="4680"/>
                          </a:xfrm>
                        </p:grpSpPr>
                        <p:sp>
                          <p:nvSpPr>
                            <p:cNvPr id="3258" name=""/>
                            <p:cNvSpPr/>
                            <p:nvPr/>
                          </p:nvSpPr>
                          <p:spPr>
                            <a:xfrm>
                              <a:off x="1479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9" name=""/>
                            <p:cNvSpPr/>
                            <p:nvPr/>
                          </p:nvSpPr>
                          <p:spPr>
                            <a:xfrm>
                              <a:off x="1480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60" name=""/>
                      <p:cNvGrpSpPr/>
                      <p:nvPr/>
                    </p:nvGrpSpPr>
                    <p:grpSpPr>
                      <a:xfrm>
                        <a:off x="1483200" y="4277160"/>
                        <a:ext cx="9360" cy="4680"/>
                        <a:chOff x="1483200" y="4277160"/>
                        <a:chExt cx="9360" cy="4680"/>
                      </a:xfrm>
                    </p:grpSpPr>
                    <p:grpSp>
                      <p:nvGrpSpPr>
                        <p:cNvPr id="3261" name=""/>
                        <p:cNvGrpSpPr/>
                        <p:nvPr/>
                      </p:nvGrpSpPr>
                      <p:grpSpPr>
                        <a:xfrm>
                          <a:off x="1483200" y="4277160"/>
                          <a:ext cx="5040" cy="4680"/>
                          <a:chOff x="1483200" y="4277160"/>
                          <a:chExt cx="5040" cy="4680"/>
                        </a:xfrm>
                      </p:grpSpPr>
                      <p:grpSp>
                        <p:nvGrpSpPr>
                          <p:cNvPr id="3262" name=""/>
                          <p:cNvGrpSpPr/>
                          <p:nvPr/>
                        </p:nvGrpSpPr>
                        <p:grpSpPr>
                          <a:xfrm>
                            <a:off x="1483200" y="4277160"/>
                            <a:ext cx="2160" cy="4680"/>
                            <a:chOff x="1483200" y="4277160"/>
                            <a:chExt cx="2160" cy="4680"/>
                          </a:xfrm>
                        </p:grpSpPr>
                        <p:sp>
                          <p:nvSpPr>
                            <p:cNvPr id="3263" name=""/>
                            <p:cNvSpPr/>
                            <p:nvPr/>
                          </p:nvSpPr>
                          <p:spPr>
                            <a:xfrm>
                              <a:off x="14832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4" name=""/>
                            <p:cNvSpPr/>
                            <p:nvPr/>
                          </p:nvSpPr>
                          <p:spPr>
                            <a:xfrm>
                              <a:off x="1484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65" name=""/>
                          <p:cNvGrpSpPr/>
                          <p:nvPr/>
                        </p:nvGrpSpPr>
                        <p:grpSpPr>
                          <a:xfrm>
                            <a:off x="1485720" y="4277160"/>
                            <a:ext cx="2520" cy="4680"/>
                            <a:chOff x="1485720" y="4277160"/>
                            <a:chExt cx="2520" cy="4680"/>
                          </a:xfrm>
                        </p:grpSpPr>
                        <p:sp>
                          <p:nvSpPr>
                            <p:cNvPr id="3266" name=""/>
                            <p:cNvSpPr/>
                            <p:nvPr/>
                          </p:nvSpPr>
                          <p:spPr>
                            <a:xfrm>
                              <a:off x="1485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7" name=""/>
                            <p:cNvSpPr/>
                            <p:nvPr/>
                          </p:nvSpPr>
                          <p:spPr>
                            <a:xfrm>
                              <a:off x="1487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68" name=""/>
                        <p:cNvGrpSpPr/>
                        <p:nvPr/>
                      </p:nvGrpSpPr>
                      <p:grpSpPr>
                        <a:xfrm>
                          <a:off x="1488960" y="4277160"/>
                          <a:ext cx="3600" cy="4680"/>
                          <a:chOff x="1488960" y="4277160"/>
                          <a:chExt cx="3600" cy="4680"/>
                        </a:xfrm>
                      </p:grpSpPr>
                      <p:grpSp>
                        <p:nvGrpSpPr>
                          <p:cNvPr id="3269" name=""/>
                          <p:cNvGrpSpPr/>
                          <p:nvPr/>
                        </p:nvGrpSpPr>
                        <p:grpSpPr>
                          <a:xfrm>
                            <a:off x="1488960" y="4277160"/>
                            <a:ext cx="1440" cy="4680"/>
                            <a:chOff x="1488960" y="4277160"/>
                            <a:chExt cx="1440" cy="4680"/>
                          </a:xfrm>
                        </p:grpSpPr>
                        <p:sp>
                          <p:nvSpPr>
                            <p:cNvPr id="3270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1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2" name=""/>
                          <p:cNvGrpSpPr/>
                          <p:nvPr/>
                        </p:nvGrpSpPr>
                        <p:grpSpPr>
                          <a:xfrm>
                            <a:off x="1490400" y="4277160"/>
                            <a:ext cx="2160" cy="4680"/>
                            <a:chOff x="1490400" y="4277160"/>
                            <a:chExt cx="2160" cy="4680"/>
                          </a:xfrm>
                        </p:grpSpPr>
                        <p:sp>
                          <p:nvSpPr>
                            <p:cNvPr id="3273" name=""/>
                            <p:cNvSpPr/>
                            <p:nvPr/>
                          </p:nvSpPr>
                          <p:spPr>
                            <a:xfrm>
                              <a:off x="1490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4" name=""/>
                            <p:cNvSpPr/>
                            <p:nvPr/>
                          </p:nvSpPr>
                          <p:spPr>
                            <a:xfrm>
                              <a:off x="14914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146916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6" name=""/>
                  <p:cNvGrpSpPr/>
                  <p:nvPr/>
                </p:nvGrpSpPr>
                <p:grpSpPr>
                  <a:xfrm>
                    <a:off x="1425240" y="4296240"/>
                    <a:ext cx="210960" cy="29880"/>
                    <a:chOff x="1425240" y="4296240"/>
                    <a:chExt cx="210960" cy="29880"/>
                  </a:xfrm>
                </p:grpSpPr>
                <p:grpSp>
                  <p:nvGrpSpPr>
                    <p:cNvPr id="3277" name=""/>
                    <p:cNvGrpSpPr/>
                    <p:nvPr/>
                  </p:nvGrpSpPr>
                  <p:grpSpPr>
                    <a:xfrm>
                      <a:off x="1425240" y="4296240"/>
                      <a:ext cx="210960" cy="29880"/>
                      <a:chOff x="1425240" y="4296240"/>
                      <a:chExt cx="210960" cy="29880"/>
                    </a:xfrm>
                  </p:grpSpPr>
                  <p:sp>
                    <p:nvSpPr>
                      <p:cNvPr id="3278" name=""/>
                      <p:cNvSpPr/>
                      <p:nvPr/>
                    </p:nvSpPr>
                    <p:spPr>
                      <a:xfrm>
                        <a:off x="142524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9" name=""/>
                      <p:cNvSpPr/>
                      <p:nvPr/>
                    </p:nvSpPr>
                    <p:spPr>
                      <a:xfrm>
                        <a:off x="142524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0" name=""/>
                      <p:cNvSpPr/>
                      <p:nvPr/>
                    </p:nvSpPr>
                    <p:spPr>
                      <a:xfrm>
                        <a:off x="143136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1" name=""/>
                    <p:cNvGrpSpPr/>
                    <p:nvPr/>
                  </p:nvGrpSpPr>
                  <p:grpSpPr>
                    <a:xfrm>
                      <a:off x="1447200" y="4299120"/>
                      <a:ext cx="165960" cy="5040"/>
                      <a:chOff x="1447200" y="4299120"/>
                      <a:chExt cx="165960" cy="5040"/>
                    </a:xfrm>
                  </p:grpSpPr>
                  <p:sp>
                    <p:nvSpPr>
                      <p:cNvPr id="3282" name=""/>
                      <p:cNvSpPr/>
                      <p:nvPr/>
                    </p:nvSpPr>
                    <p:spPr>
                      <a:xfrm>
                        <a:off x="144720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3" name=""/>
                      <p:cNvSpPr/>
                      <p:nvPr/>
                    </p:nvSpPr>
                    <p:spPr>
                      <a:xfrm>
                        <a:off x="146448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4" name=""/>
                      <p:cNvSpPr/>
                      <p:nvPr/>
                    </p:nvSpPr>
                    <p:spPr>
                      <a:xfrm>
                        <a:off x="149760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5" name=""/>
                      <p:cNvSpPr/>
                      <p:nvPr/>
                    </p:nvSpPr>
                    <p:spPr>
                      <a:xfrm>
                        <a:off x="15278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6" name=""/>
                      <p:cNvSpPr/>
                      <p:nvPr/>
                    </p:nvSpPr>
                    <p:spPr>
                      <a:xfrm>
                        <a:off x="155808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7" name=""/>
                      <p:cNvSpPr/>
                      <p:nvPr/>
                    </p:nvSpPr>
                    <p:spPr>
                      <a:xfrm>
                        <a:off x="158652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8" name=""/>
                    <p:cNvGrpSpPr/>
                    <p:nvPr/>
                  </p:nvGrpSpPr>
                  <p:grpSpPr>
                    <a:xfrm>
                      <a:off x="1441080" y="4305600"/>
                      <a:ext cx="174960" cy="11160"/>
                      <a:chOff x="1441080" y="4305600"/>
                      <a:chExt cx="174960" cy="11160"/>
                    </a:xfrm>
                  </p:grpSpPr>
                  <p:grpSp>
                    <p:nvGrpSpPr>
                      <p:cNvPr id="3289" name=""/>
                      <p:cNvGrpSpPr/>
                      <p:nvPr/>
                    </p:nvGrpSpPr>
                    <p:grpSpPr>
                      <a:xfrm>
                        <a:off x="1456560" y="4305600"/>
                        <a:ext cx="84960" cy="9360"/>
                        <a:chOff x="1456560" y="4305600"/>
                        <a:chExt cx="84960" cy="9360"/>
                      </a:xfrm>
                    </p:grpSpPr>
                    <p:sp>
                      <p:nvSpPr>
                        <p:cNvPr id="3290" name=""/>
                        <p:cNvSpPr/>
                        <p:nvPr/>
                      </p:nvSpPr>
                      <p:spPr>
                        <a:xfrm>
                          <a:off x="145656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1" name=""/>
                        <p:cNvSpPr/>
                        <p:nvPr/>
                      </p:nvSpPr>
                      <p:spPr>
                        <a:xfrm>
                          <a:off x="145908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2" name=""/>
                        <p:cNvSpPr/>
                        <p:nvPr/>
                      </p:nvSpPr>
                      <p:spPr>
                        <a:xfrm>
                          <a:off x="146088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3" name=""/>
                        <p:cNvSpPr/>
                        <p:nvPr/>
                      </p:nvSpPr>
                      <p:spPr>
                        <a:xfrm>
                          <a:off x="146232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4" name=""/>
                      <p:cNvGrpSpPr/>
                      <p:nvPr/>
                    </p:nvGrpSpPr>
                    <p:grpSpPr>
                      <a:xfrm>
                        <a:off x="1441080" y="4307040"/>
                        <a:ext cx="15480" cy="6480"/>
                        <a:chOff x="1441080" y="4307040"/>
                        <a:chExt cx="15480" cy="6480"/>
                      </a:xfrm>
                    </p:grpSpPr>
                    <p:sp>
                      <p:nvSpPr>
                        <p:cNvPr id="3295" name=""/>
                        <p:cNvSpPr/>
                        <p:nvPr/>
                      </p:nvSpPr>
                      <p:spPr>
                        <a:xfrm>
                          <a:off x="144540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6" name=""/>
                        <p:cNvSpPr/>
                        <p:nvPr/>
                      </p:nvSpPr>
                      <p:spPr>
                        <a:xfrm>
                          <a:off x="144360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7" name=""/>
                        <p:cNvSpPr/>
                        <p:nvPr/>
                      </p:nvSpPr>
                      <p:spPr>
                        <a:xfrm>
                          <a:off x="144108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8" name=""/>
                      <p:cNvGrpSpPr/>
                      <p:nvPr/>
                    </p:nvGrpSpPr>
                    <p:grpSpPr>
                      <a:xfrm>
                        <a:off x="1475640" y="4305600"/>
                        <a:ext cx="78480" cy="9360"/>
                        <a:chOff x="1475640" y="4305600"/>
                        <a:chExt cx="78480" cy="9360"/>
                      </a:xfrm>
                    </p:grpSpPr>
                    <p:sp>
                      <p:nvSpPr>
                        <p:cNvPr id="3299" name=""/>
                        <p:cNvSpPr/>
                        <p:nvPr/>
                      </p:nvSpPr>
                      <p:spPr>
                        <a:xfrm>
                          <a:off x="147564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0" name=""/>
                        <p:cNvSpPr/>
                        <p:nvPr/>
                      </p:nvSpPr>
                      <p:spPr>
                        <a:xfrm>
                          <a:off x="154188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1" name=""/>
                        <p:cNvSpPr/>
                        <p:nvPr/>
                      </p:nvSpPr>
                      <p:spPr>
                        <a:xfrm>
                          <a:off x="154512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2" name=""/>
                        <p:cNvSpPr/>
                        <p:nvPr/>
                      </p:nvSpPr>
                      <p:spPr>
                        <a:xfrm>
                          <a:off x="153864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3" name=""/>
                        <p:cNvSpPr/>
                        <p:nvPr/>
                      </p:nvSpPr>
                      <p:spPr>
                        <a:xfrm>
                          <a:off x="152604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4" name=""/>
                        <p:cNvSpPr/>
                        <p:nvPr/>
                      </p:nvSpPr>
                      <p:spPr>
                        <a:xfrm>
                          <a:off x="153540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5" name=""/>
                      <p:cNvGrpSpPr/>
                      <p:nvPr/>
                    </p:nvGrpSpPr>
                    <p:grpSpPr>
                      <a:xfrm>
                        <a:off x="1558080" y="4307040"/>
                        <a:ext cx="24480" cy="7920"/>
                        <a:chOff x="1558080" y="4307040"/>
                        <a:chExt cx="24480" cy="7920"/>
                      </a:xfrm>
                    </p:grpSpPr>
                    <p:sp>
                      <p:nvSpPr>
                        <p:cNvPr id="3306" name=""/>
                        <p:cNvSpPr/>
                        <p:nvPr/>
                      </p:nvSpPr>
                      <p:spPr>
                        <a:xfrm>
                          <a:off x="155808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7" name=""/>
                        <p:cNvSpPr/>
                        <p:nvPr/>
                      </p:nvSpPr>
                      <p:spPr>
                        <a:xfrm>
                          <a:off x="156096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8" name=""/>
                        <p:cNvSpPr/>
                        <p:nvPr/>
                      </p:nvSpPr>
                      <p:spPr>
                        <a:xfrm>
                          <a:off x="156096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9" name=""/>
                      <p:cNvGrpSpPr/>
                      <p:nvPr/>
                    </p:nvGrpSpPr>
                    <p:grpSpPr>
                      <a:xfrm>
                        <a:off x="1586520" y="4307040"/>
                        <a:ext cx="29520" cy="9720"/>
                        <a:chOff x="1586520" y="4307040"/>
                        <a:chExt cx="29520" cy="9720"/>
                      </a:xfrm>
                    </p:grpSpPr>
                    <p:sp>
                      <p:nvSpPr>
                        <p:cNvPr id="3310" name=""/>
                        <p:cNvSpPr/>
                        <p:nvPr/>
                      </p:nvSpPr>
                      <p:spPr>
                        <a:xfrm>
                          <a:off x="158940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1" name=""/>
                        <p:cNvSpPr/>
                        <p:nvPr/>
                      </p:nvSpPr>
                      <p:spPr>
                        <a:xfrm>
                          <a:off x="158652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2" name=""/>
                        <p:cNvSpPr/>
                        <p:nvPr/>
                      </p:nvSpPr>
                      <p:spPr>
                        <a:xfrm>
                          <a:off x="15894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3" name=""/>
                        <p:cNvSpPr/>
                        <p:nvPr/>
                      </p:nvSpPr>
                      <p:spPr>
                        <a:xfrm>
                          <a:off x="158796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4" name=""/>
                        <p:cNvSpPr/>
                        <p:nvPr/>
                      </p:nvSpPr>
                      <p:spPr>
                        <a:xfrm>
                          <a:off x="160848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5" name=""/>
                        <p:cNvSpPr/>
                        <p:nvPr/>
                      </p:nvSpPr>
                      <p:spPr>
                        <a:xfrm>
                          <a:off x="160992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16" name=""/>
                  <p:cNvGrpSpPr/>
                  <p:nvPr/>
                </p:nvGrpSpPr>
                <p:grpSpPr>
                  <a:xfrm>
                    <a:off x="1486800" y="4237200"/>
                    <a:ext cx="91800" cy="19080"/>
                    <a:chOff x="1486800" y="4237200"/>
                    <a:chExt cx="91800" cy="19080"/>
                  </a:xfrm>
                </p:grpSpPr>
                <p:grpSp>
                  <p:nvGrpSpPr>
                    <p:cNvPr id="3317" name=""/>
                    <p:cNvGrpSpPr/>
                    <p:nvPr/>
                  </p:nvGrpSpPr>
                  <p:grpSpPr>
                    <a:xfrm>
                      <a:off x="1486800" y="4242240"/>
                      <a:ext cx="91800" cy="14040"/>
                      <a:chOff x="1486800" y="4242240"/>
                      <a:chExt cx="91800" cy="14040"/>
                    </a:xfrm>
                  </p:grpSpPr>
                  <p:sp>
                    <p:nvSpPr>
                      <p:cNvPr id="3318" name=""/>
                      <p:cNvSpPr/>
                      <p:nvPr/>
                    </p:nvSpPr>
                    <p:spPr>
                      <a:xfrm>
                        <a:off x="148680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9" name=""/>
                      <p:cNvSpPr/>
                      <p:nvPr/>
                    </p:nvSpPr>
                    <p:spPr>
                      <a:xfrm>
                        <a:off x="148680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150732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1" name=""/>
                  <p:cNvSpPr/>
                  <p:nvPr/>
                </p:nvSpPr>
                <p:spPr>
                  <a:xfrm>
                    <a:off x="147600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148860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149328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157104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325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3472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326" name=""/>
            <p:cNvGrpSpPr/>
            <p:nvPr/>
          </p:nvGrpSpPr>
          <p:grpSpPr>
            <a:xfrm>
              <a:off x="1352520" y="4800600"/>
              <a:ext cx="1085760" cy="752400"/>
              <a:chOff x="1352520" y="4800600"/>
              <a:chExt cx="1085760" cy="752400"/>
            </a:xfrm>
          </p:grpSpPr>
          <p:sp>
            <p:nvSpPr>
              <p:cNvPr id="3327" name=""/>
              <p:cNvSpPr/>
              <p:nvPr/>
            </p:nvSpPr>
            <p:spPr>
              <a:xfrm>
                <a:off x="135252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40004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1 Chiau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329" name=""/>
              <p:cNvGrpSpPr/>
              <p:nvPr/>
            </p:nvGrpSpPr>
            <p:grpSpPr>
              <a:xfrm>
                <a:off x="1425240" y="4856040"/>
                <a:ext cx="821880" cy="488880"/>
                <a:chOff x="1425240" y="4856040"/>
                <a:chExt cx="821880" cy="488880"/>
              </a:xfrm>
            </p:grpSpPr>
            <p:sp>
              <p:nvSpPr>
                <p:cNvPr id="3330" name=""/>
                <p:cNvSpPr/>
                <p:nvPr/>
              </p:nvSpPr>
              <p:spPr>
                <a:xfrm>
                  <a:off x="156780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18536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178704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333" name="pbx" descr=""/>
                <p:cNvPicPr/>
                <p:nvPr/>
              </p:nvPicPr>
              <p:blipFill>
                <a:blip r:embed="rId39"/>
                <a:srcRect l="37594" t="74298" r="28339" b="4834"/>
                <a:stretch/>
              </p:blipFill>
              <p:spPr>
                <a:xfrm>
                  <a:off x="172980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4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75680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335" name=""/>
                <p:cNvGrpSpPr/>
                <p:nvPr/>
              </p:nvGrpSpPr>
              <p:grpSpPr>
                <a:xfrm>
                  <a:off x="1425240" y="4994280"/>
                  <a:ext cx="210960" cy="169920"/>
                  <a:chOff x="1425240" y="4994280"/>
                  <a:chExt cx="210960" cy="169920"/>
                </a:xfrm>
              </p:grpSpPr>
              <p:grpSp>
                <p:nvGrpSpPr>
                  <p:cNvPr id="3336" name=""/>
                  <p:cNvGrpSpPr/>
                  <p:nvPr/>
                </p:nvGrpSpPr>
                <p:grpSpPr>
                  <a:xfrm>
                    <a:off x="1464840" y="5085000"/>
                    <a:ext cx="134280" cy="52200"/>
                    <a:chOff x="1464840" y="5085000"/>
                    <a:chExt cx="134280" cy="52200"/>
                  </a:xfrm>
                </p:grpSpPr>
                <p:grpSp>
                  <p:nvGrpSpPr>
                    <p:cNvPr id="3337" name=""/>
                    <p:cNvGrpSpPr/>
                    <p:nvPr/>
                  </p:nvGrpSpPr>
                  <p:grpSpPr>
                    <a:xfrm>
                      <a:off x="1464840" y="5085000"/>
                      <a:ext cx="134280" cy="52200"/>
                      <a:chOff x="1464840" y="5085000"/>
                      <a:chExt cx="134280" cy="52200"/>
                    </a:xfrm>
                  </p:grpSpPr>
                  <p:grpSp>
                    <p:nvGrpSpPr>
                      <p:cNvPr id="3338" name=""/>
                      <p:cNvGrpSpPr/>
                      <p:nvPr/>
                    </p:nvGrpSpPr>
                    <p:grpSpPr>
                      <a:xfrm>
                        <a:off x="1464840" y="5085000"/>
                        <a:ext cx="134280" cy="52200"/>
                        <a:chOff x="1464840" y="5085000"/>
                        <a:chExt cx="134280" cy="52200"/>
                      </a:xfrm>
                    </p:grpSpPr>
                    <p:grpSp>
                      <p:nvGrpSpPr>
                        <p:cNvPr id="3339" name=""/>
                        <p:cNvGrpSpPr/>
                        <p:nvPr/>
                      </p:nvGrpSpPr>
                      <p:grpSpPr>
                        <a:xfrm>
                          <a:off x="1464840" y="5085000"/>
                          <a:ext cx="134280" cy="52200"/>
                          <a:chOff x="1464840" y="5085000"/>
                          <a:chExt cx="134280" cy="52200"/>
                        </a:xfrm>
                      </p:grpSpPr>
                      <p:grpSp>
                        <p:nvGrpSpPr>
                          <p:cNvPr id="3340" name=""/>
                          <p:cNvGrpSpPr/>
                          <p:nvPr/>
                        </p:nvGrpSpPr>
                        <p:grpSpPr>
                          <a:xfrm>
                            <a:off x="1464840" y="5085000"/>
                            <a:ext cx="134280" cy="52200"/>
                            <a:chOff x="1464840" y="5085000"/>
                            <a:chExt cx="134280" cy="52200"/>
                          </a:xfrm>
                        </p:grpSpPr>
                        <p:sp>
                          <p:nvSpPr>
                            <p:cNvPr id="3341" name=""/>
                            <p:cNvSpPr/>
                            <p:nvPr/>
                          </p:nvSpPr>
                          <p:spPr>
                            <a:xfrm>
                              <a:off x="146484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42" name=""/>
                            <p:cNvSpPr/>
                            <p:nvPr/>
                          </p:nvSpPr>
                          <p:spPr>
                            <a:xfrm>
                              <a:off x="146592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43" name=""/>
                          <p:cNvSpPr/>
                          <p:nvPr/>
                        </p:nvSpPr>
                        <p:spPr>
                          <a:xfrm>
                            <a:off x="146736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4" name=""/>
                        <p:cNvGrpSpPr/>
                        <p:nvPr/>
                      </p:nvGrpSpPr>
                      <p:grpSpPr>
                        <a:xfrm>
                          <a:off x="1470600" y="5127840"/>
                          <a:ext cx="124560" cy="7920"/>
                          <a:chOff x="1470600" y="5127840"/>
                          <a:chExt cx="124560" cy="7920"/>
                        </a:xfrm>
                      </p:grpSpPr>
                      <p:grpSp>
                        <p:nvGrpSpPr>
                          <p:cNvPr id="3345" name=""/>
                          <p:cNvGrpSpPr/>
                          <p:nvPr/>
                        </p:nvGrpSpPr>
                        <p:grpSpPr>
                          <a:xfrm>
                            <a:off x="1470600" y="5127840"/>
                            <a:ext cx="61560" cy="7920"/>
                            <a:chOff x="1470600" y="5127840"/>
                            <a:chExt cx="61560" cy="7920"/>
                          </a:xfrm>
                        </p:grpSpPr>
                        <p:grpSp>
                          <p:nvGrpSpPr>
                            <p:cNvPr id="3346" name=""/>
                            <p:cNvGrpSpPr/>
                            <p:nvPr/>
                          </p:nvGrpSpPr>
                          <p:grpSpPr>
                            <a:xfrm>
                              <a:off x="1470600" y="5127840"/>
                              <a:ext cx="29880" cy="7920"/>
                              <a:chOff x="1470600" y="5127840"/>
                              <a:chExt cx="29880" cy="7920"/>
                            </a:xfrm>
                          </p:grpSpPr>
                          <p:grpSp>
                            <p:nvGrpSpPr>
                              <p:cNvPr id="3347" name=""/>
                              <p:cNvGrpSpPr/>
                              <p:nvPr/>
                            </p:nvGrpSpPr>
                            <p:grpSpPr>
                              <a:xfrm>
                                <a:off x="1470600" y="5127840"/>
                                <a:ext cx="14400" cy="7920"/>
                                <a:chOff x="14706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4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127840"/>
                                  <a:ext cx="6840" cy="7920"/>
                                  <a:chOff x="14706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127840"/>
                                    <a:ext cx="2520" cy="7920"/>
                                    <a:chOff x="1470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127840"/>
                                    <a:ext cx="3960" cy="7920"/>
                                    <a:chOff x="14734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5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127840"/>
                                  <a:ext cx="6840" cy="7920"/>
                                  <a:chOff x="14781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127840"/>
                                    <a:ext cx="2520" cy="7920"/>
                                    <a:chOff x="1478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127840"/>
                                    <a:ext cx="3960" cy="7920"/>
                                    <a:chOff x="14810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62" name=""/>
                              <p:cNvGrpSpPr/>
                              <p:nvPr/>
                            </p:nvGrpSpPr>
                            <p:grpSpPr>
                              <a:xfrm>
                                <a:off x="1486080" y="5127840"/>
                                <a:ext cx="14400" cy="7920"/>
                                <a:chOff x="1486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6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127840"/>
                                  <a:ext cx="6840" cy="7920"/>
                                  <a:chOff x="1486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127840"/>
                                    <a:ext cx="2520" cy="7920"/>
                                    <a:chOff x="1486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127840"/>
                                    <a:ext cx="3960" cy="7920"/>
                                    <a:chOff x="1488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7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127840"/>
                                  <a:ext cx="6840" cy="7920"/>
                                  <a:chOff x="1493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127840"/>
                                    <a:ext cx="2520" cy="7920"/>
                                    <a:chOff x="1493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127840"/>
                                    <a:ext cx="3960" cy="7920"/>
                                    <a:chOff x="14965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377" name=""/>
                            <p:cNvGrpSpPr/>
                            <p:nvPr/>
                          </p:nvGrpSpPr>
                          <p:grpSpPr>
                            <a:xfrm>
                              <a:off x="1501920" y="5127840"/>
                              <a:ext cx="30240" cy="7920"/>
                              <a:chOff x="1501920" y="5127840"/>
                              <a:chExt cx="30240" cy="7920"/>
                            </a:xfrm>
                          </p:grpSpPr>
                          <p:grpSp>
                            <p:nvGrpSpPr>
                              <p:cNvPr id="3378" name=""/>
                              <p:cNvGrpSpPr/>
                              <p:nvPr/>
                            </p:nvGrpSpPr>
                            <p:grpSpPr>
                              <a:xfrm>
                                <a:off x="1501920" y="5127840"/>
                                <a:ext cx="14760" cy="7920"/>
                                <a:chOff x="150192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337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127840"/>
                                  <a:ext cx="7200" cy="7920"/>
                                  <a:chOff x="150192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3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127840"/>
                                    <a:ext cx="2520" cy="7920"/>
                                    <a:chOff x="15019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127840"/>
                                    <a:ext cx="2520" cy="7920"/>
                                    <a:chOff x="1506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8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127840"/>
                                  <a:ext cx="6840" cy="7920"/>
                                  <a:chOff x="1509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127840"/>
                                    <a:ext cx="2160" cy="7920"/>
                                    <a:chOff x="15098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127840"/>
                                    <a:ext cx="2520" cy="7920"/>
                                    <a:chOff x="1514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93" name=""/>
                              <p:cNvGrpSpPr/>
                              <p:nvPr/>
                            </p:nvGrpSpPr>
                            <p:grpSpPr>
                              <a:xfrm>
                                <a:off x="1517760" y="5127840"/>
                                <a:ext cx="14400" cy="7920"/>
                                <a:chOff x="1517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9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127840"/>
                                  <a:ext cx="6840" cy="7920"/>
                                  <a:chOff x="151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127840"/>
                                    <a:ext cx="2160" cy="7920"/>
                                    <a:chOff x="15177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127840"/>
                                    <a:ext cx="2520" cy="7920"/>
                                    <a:chOff x="1522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0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127840"/>
                                  <a:ext cx="6840" cy="7920"/>
                                  <a:chOff x="1525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127840"/>
                                    <a:ext cx="2160" cy="7920"/>
                                    <a:chOff x="152532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127840"/>
                                    <a:ext cx="4320" cy="7920"/>
                                    <a:chOff x="152784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408" name=""/>
                          <p:cNvGrpSpPr/>
                          <p:nvPr/>
                        </p:nvGrpSpPr>
                        <p:grpSpPr>
                          <a:xfrm>
                            <a:off x="1533960" y="5127840"/>
                            <a:ext cx="61200" cy="7920"/>
                            <a:chOff x="1533960" y="5127840"/>
                            <a:chExt cx="61200" cy="7920"/>
                          </a:xfrm>
                        </p:grpSpPr>
                        <p:grpSp>
                          <p:nvGrpSpPr>
                            <p:cNvPr id="3409" name=""/>
                            <p:cNvGrpSpPr/>
                            <p:nvPr/>
                          </p:nvGrpSpPr>
                          <p:grpSpPr>
                            <a:xfrm>
                              <a:off x="1533960" y="5127840"/>
                              <a:ext cx="29880" cy="7920"/>
                              <a:chOff x="1533960" y="5127840"/>
                              <a:chExt cx="29880" cy="7920"/>
                            </a:xfrm>
                          </p:grpSpPr>
                          <p:grpSp>
                            <p:nvGrpSpPr>
                              <p:cNvPr id="3410" name=""/>
                              <p:cNvGrpSpPr/>
                              <p:nvPr/>
                            </p:nvGrpSpPr>
                            <p:grpSpPr>
                              <a:xfrm>
                                <a:off x="1533960" y="5127840"/>
                                <a:ext cx="14400" cy="7920"/>
                                <a:chOff x="15339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1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127840"/>
                                  <a:ext cx="6840" cy="7920"/>
                                  <a:chOff x="153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127840"/>
                                    <a:ext cx="2520" cy="7920"/>
                                    <a:chOff x="1533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127840"/>
                                    <a:ext cx="3960" cy="7920"/>
                                    <a:chOff x="1536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1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127840"/>
                                  <a:ext cx="6840" cy="7920"/>
                                  <a:chOff x="15415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127840"/>
                                    <a:ext cx="2520" cy="7920"/>
                                    <a:chOff x="15415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127840"/>
                                    <a:ext cx="2520" cy="7920"/>
                                    <a:chOff x="1545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25" name=""/>
                              <p:cNvGrpSpPr/>
                              <p:nvPr/>
                            </p:nvGrpSpPr>
                            <p:grpSpPr>
                              <a:xfrm>
                                <a:off x="1549440" y="5127840"/>
                                <a:ext cx="14400" cy="7920"/>
                                <a:chOff x="154944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2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127840"/>
                                  <a:ext cx="6840" cy="7920"/>
                                  <a:chOff x="154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127840"/>
                                    <a:ext cx="2520" cy="7920"/>
                                    <a:chOff x="1549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127840"/>
                                    <a:ext cx="2520" cy="7920"/>
                                    <a:chOff x="1553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3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127840"/>
                                  <a:ext cx="6840" cy="7920"/>
                                  <a:chOff x="15570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127840"/>
                                    <a:ext cx="2520" cy="7920"/>
                                    <a:chOff x="15570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127840"/>
                                    <a:ext cx="3960" cy="7920"/>
                                    <a:chOff x="15598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440" name=""/>
                            <p:cNvGrpSpPr/>
                            <p:nvPr/>
                          </p:nvGrpSpPr>
                          <p:grpSpPr>
                            <a:xfrm>
                              <a:off x="1565280" y="5127840"/>
                              <a:ext cx="29880" cy="7920"/>
                              <a:chOff x="1565280" y="5127840"/>
                              <a:chExt cx="29880" cy="7920"/>
                            </a:xfrm>
                          </p:grpSpPr>
                          <p:grpSp>
                            <p:nvGrpSpPr>
                              <p:cNvPr id="3441" name=""/>
                              <p:cNvGrpSpPr/>
                              <p:nvPr/>
                            </p:nvGrpSpPr>
                            <p:grpSpPr>
                              <a:xfrm>
                                <a:off x="1565280" y="5127840"/>
                                <a:ext cx="14400" cy="7920"/>
                                <a:chOff x="15652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4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127840"/>
                                  <a:ext cx="6840" cy="7920"/>
                                  <a:chOff x="1565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127840"/>
                                    <a:ext cx="2520" cy="7920"/>
                                    <a:chOff x="1565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127840"/>
                                    <a:ext cx="2520" cy="7920"/>
                                    <a:chOff x="1569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4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127840"/>
                                  <a:ext cx="6840" cy="7920"/>
                                  <a:chOff x="1572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127840"/>
                                    <a:ext cx="2520" cy="7920"/>
                                    <a:chOff x="1572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127840"/>
                                    <a:ext cx="3960" cy="7920"/>
                                    <a:chOff x="15757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56" name=""/>
                              <p:cNvGrpSpPr/>
                              <p:nvPr/>
                            </p:nvGrpSpPr>
                            <p:grpSpPr>
                              <a:xfrm>
                                <a:off x="1580760" y="5127840"/>
                                <a:ext cx="14400" cy="7920"/>
                                <a:chOff x="1580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5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127840"/>
                                  <a:ext cx="6840" cy="7920"/>
                                  <a:chOff x="1580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127840"/>
                                    <a:ext cx="2520" cy="7920"/>
                                    <a:chOff x="1580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127840"/>
                                    <a:ext cx="2520" cy="7920"/>
                                    <a:chOff x="1585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6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127840"/>
                                  <a:ext cx="6840" cy="7920"/>
                                  <a:chOff x="1588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127840"/>
                                    <a:ext cx="2520" cy="7920"/>
                                    <a:chOff x="15883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127840"/>
                                    <a:ext cx="2520" cy="7920"/>
                                    <a:chOff x="1592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471" name=""/>
                      <p:cNvGrpSpPr/>
                      <p:nvPr/>
                    </p:nvGrpSpPr>
                    <p:grpSpPr>
                      <a:xfrm>
                        <a:off x="1467360" y="5099040"/>
                        <a:ext cx="128160" cy="22320"/>
                        <a:chOff x="1467360" y="5099040"/>
                        <a:chExt cx="128160" cy="22320"/>
                      </a:xfrm>
                    </p:grpSpPr>
                    <p:sp>
                      <p:nvSpPr>
                        <p:cNvPr id="3472" name=""/>
                        <p:cNvSpPr/>
                        <p:nvPr/>
                      </p:nvSpPr>
                      <p:spPr>
                        <a:xfrm>
                          <a:off x="146736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3" name=""/>
                        <p:cNvSpPr/>
                        <p:nvPr/>
                      </p:nvSpPr>
                      <p:spPr>
                        <a:xfrm>
                          <a:off x="149580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4" name=""/>
                        <p:cNvSpPr/>
                        <p:nvPr/>
                      </p:nvSpPr>
                      <p:spPr>
                        <a:xfrm>
                          <a:off x="153540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5" name=""/>
                        <p:cNvSpPr/>
                        <p:nvPr/>
                      </p:nvSpPr>
                      <p:spPr>
                        <a:xfrm>
                          <a:off x="157680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76" name=""/>
                    <p:cNvGrpSpPr/>
                    <p:nvPr/>
                  </p:nvGrpSpPr>
                  <p:grpSpPr>
                    <a:xfrm>
                      <a:off x="1580400" y="5102280"/>
                      <a:ext cx="11880" cy="11160"/>
                      <a:chOff x="1580400" y="5102280"/>
                      <a:chExt cx="11880" cy="11160"/>
                    </a:xfrm>
                  </p:grpSpPr>
                  <p:sp>
                    <p:nvSpPr>
                      <p:cNvPr id="3477" name=""/>
                      <p:cNvSpPr/>
                      <p:nvPr/>
                    </p:nvSpPr>
                    <p:spPr>
                      <a:xfrm>
                        <a:off x="158472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8" name=""/>
                      <p:cNvSpPr/>
                      <p:nvPr/>
                    </p:nvSpPr>
                    <p:spPr>
                      <a:xfrm>
                        <a:off x="158616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79" name=""/>
                      <p:cNvGrpSpPr/>
                      <p:nvPr/>
                    </p:nvGrpSpPr>
                    <p:grpSpPr>
                      <a:xfrm>
                        <a:off x="1580400" y="5104080"/>
                        <a:ext cx="2520" cy="6120"/>
                        <a:chOff x="1580400" y="5104080"/>
                        <a:chExt cx="2520" cy="6120"/>
                      </a:xfrm>
                    </p:grpSpPr>
                    <p:sp>
                      <p:nvSpPr>
                        <p:cNvPr id="3480" name=""/>
                        <p:cNvSpPr/>
                        <p:nvPr/>
                      </p:nvSpPr>
                      <p:spPr>
                        <a:xfrm>
                          <a:off x="158040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1" name=""/>
                        <p:cNvSpPr/>
                        <p:nvPr/>
                      </p:nvSpPr>
                      <p:spPr>
                        <a:xfrm>
                          <a:off x="158040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82" name=""/>
                    <p:cNvGrpSpPr/>
                    <p:nvPr/>
                  </p:nvGrpSpPr>
                  <p:grpSpPr>
                    <a:xfrm>
                      <a:off x="1497600" y="5102280"/>
                      <a:ext cx="36000" cy="14400"/>
                      <a:chOff x="1497600" y="5102280"/>
                      <a:chExt cx="36000" cy="14400"/>
                    </a:xfrm>
                  </p:grpSpPr>
                  <p:grpSp>
                    <p:nvGrpSpPr>
                      <p:cNvPr id="3483" name=""/>
                      <p:cNvGrpSpPr/>
                      <p:nvPr/>
                    </p:nvGrpSpPr>
                    <p:grpSpPr>
                      <a:xfrm>
                        <a:off x="1499040" y="5102280"/>
                        <a:ext cx="34560" cy="7920"/>
                        <a:chOff x="1499040" y="5102280"/>
                        <a:chExt cx="34560" cy="7920"/>
                      </a:xfrm>
                    </p:grpSpPr>
                    <p:sp>
                      <p:nvSpPr>
                        <p:cNvPr id="3484" name=""/>
                        <p:cNvSpPr/>
                        <p:nvPr/>
                      </p:nvSpPr>
                      <p:spPr>
                        <a:xfrm>
                          <a:off x="150804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5" name=""/>
                        <p:cNvSpPr/>
                        <p:nvPr/>
                      </p:nvSpPr>
                      <p:spPr>
                        <a:xfrm>
                          <a:off x="150804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6" name=""/>
                        <p:cNvSpPr/>
                        <p:nvPr/>
                      </p:nvSpPr>
                      <p:spPr>
                        <a:xfrm>
                          <a:off x="149904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7" name=""/>
                      <p:cNvSpPr/>
                      <p:nvPr/>
                    </p:nvSpPr>
                    <p:spPr>
                      <a:xfrm>
                        <a:off x="149760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8" name=""/>
                      <p:cNvSpPr/>
                      <p:nvPr/>
                    </p:nvSpPr>
                    <p:spPr>
                      <a:xfrm>
                        <a:off x="152604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89" name=""/>
                    <p:cNvGrpSpPr/>
                    <p:nvPr/>
                  </p:nvGrpSpPr>
                  <p:grpSpPr>
                    <a:xfrm>
                      <a:off x="1470600" y="5115240"/>
                      <a:ext cx="21960" cy="4680"/>
                      <a:chOff x="1470600" y="5115240"/>
                      <a:chExt cx="21960" cy="4680"/>
                    </a:xfrm>
                  </p:grpSpPr>
                  <p:grpSp>
                    <p:nvGrpSpPr>
                      <p:cNvPr id="3490" name=""/>
                      <p:cNvGrpSpPr/>
                      <p:nvPr/>
                    </p:nvGrpSpPr>
                    <p:grpSpPr>
                      <a:xfrm>
                        <a:off x="1470600" y="5115240"/>
                        <a:ext cx="11520" cy="4680"/>
                        <a:chOff x="1470600" y="5115240"/>
                        <a:chExt cx="11520" cy="4680"/>
                      </a:xfrm>
                    </p:grpSpPr>
                    <p:grpSp>
                      <p:nvGrpSpPr>
                        <p:cNvPr id="3491" name=""/>
                        <p:cNvGrpSpPr/>
                        <p:nvPr/>
                      </p:nvGrpSpPr>
                      <p:grpSpPr>
                        <a:xfrm>
                          <a:off x="1470600" y="5115240"/>
                          <a:ext cx="5400" cy="4680"/>
                          <a:chOff x="1470600" y="5115240"/>
                          <a:chExt cx="5400" cy="4680"/>
                        </a:xfrm>
                      </p:grpSpPr>
                      <p:grpSp>
                        <p:nvGrpSpPr>
                          <p:cNvPr id="3492" name=""/>
                          <p:cNvGrpSpPr/>
                          <p:nvPr/>
                        </p:nvGrpSpPr>
                        <p:grpSpPr>
                          <a:xfrm>
                            <a:off x="1470600" y="5115240"/>
                            <a:ext cx="2520" cy="4680"/>
                            <a:chOff x="1470600" y="5115240"/>
                            <a:chExt cx="2520" cy="4680"/>
                          </a:xfrm>
                        </p:grpSpPr>
                        <p:sp>
                          <p:nvSpPr>
                            <p:cNvPr id="3493" name=""/>
                            <p:cNvSpPr/>
                            <p:nvPr/>
                          </p:nvSpPr>
                          <p:spPr>
                            <a:xfrm>
                              <a:off x="1470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4" name=""/>
                            <p:cNvSpPr/>
                            <p:nvPr/>
                          </p:nvSpPr>
                          <p:spPr>
                            <a:xfrm>
                              <a:off x="1472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95" name=""/>
                          <p:cNvGrpSpPr/>
                          <p:nvPr/>
                        </p:nvGrpSpPr>
                        <p:grpSpPr>
                          <a:xfrm>
                            <a:off x="1473480" y="5115240"/>
                            <a:ext cx="2520" cy="4680"/>
                            <a:chOff x="1473480" y="5115240"/>
                            <a:chExt cx="2520" cy="4680"/>
                          </a:xfrm>
                        </p:grpSpPr>
                        <p:sp>
                          <p:nvSpPr>
                            <p:cNvPr id="3496" name=""/>
                            <p:cNvSpPr/>
                            <p:nvPr/>
                          </p:nvSpPr>
                          <p:spPr>
                            <a:xfrm>
                              <a:off x="1473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7" name=""/>
                            <p:cNvSpPr/>
                            <p:nvPr/>
                          </p:nvSpPr>
                          <p:spPr>
                            <a:xfrm>
                              <a:off x="14749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8" name=""/>
                        <p:cNvGrpSpPr/>
                        <p:nvPr/>
                      </p:nvGrpSpPr>
                      <p:grpSpPr>
                        <a:xfrm>
                          <a:off x="1476720" y="5115240"/>
                          <a:ext cx="5400" cy="4680"/>
                          <a:chOff x="1476720" y="5115240"/>
                          <a:chExt cx="5400" cy="4680"/>
                        </a:xfrm>
                      </p:grpSpPr>
                      <p:grpSp>
                        <p:nvGrpSpPr>
                          <p:cNvPr id="3499" name=""/>
                          <p:cNvGrpSpPr/>
                          <p:nvPr/>
                        </p:nvGrpSpPr>
                        <p:grpSpPr>
                          <a:xfrm>
                            <a:off x="1476720" y="5115240"/>
                            <a:ext cx="2520" cy="4680"/>
                            <a:chOff x="1476720" y="5115240"/>
                            <a:chExt cx="2520" cy="4680"/>
                          </a:xfrm>
                        </p:grpSpPr>
                        <p:sp>
                          <p:nvSpPr>
                            <p:cNvPr id="3500" name=""/>
                            <p:cNvSpPr/>
                            <p:nvPr/>
                          </p:nvSpPr>
                          <p:spPr>
                            <a:xfrm>
                              <a:off x="1476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1" name=""/>
                            <p:cNvSpPr/>
                            <p:nvPr/>
                          </p:nvSpPr>
                          <p:spPr>
                            <a:xfrm>
                              <a:off x="1477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02" name=""/>
                          <p:cNvGrpSpPr/>
                          <p:nvPr/>
                        </p:nvGrpSpPr>
                        <p:grpSpPr>
                          <a:xfrm>
                            <a:off x="1479600" y="5115240"/>
                            <a:ext cx="2520" cy="4680"/>
                            <a:chOff x="1479600" y="5115240"/>
                            <a:chExt cx="2520" cy="4680"/>
                          </a:xfrm>
                        </p:grpSpPr>
                        <p:sp>
                          <p:nvSpPr>
                            <p:cNvPr id="3503" name=""/>
                            <p:cNvSpPr/>
                            <p:nvPr/>
                          </p:nvSpPr>
                          <p:spPr>
                            <a:xfrm>
                              <a:off x="1479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4" name=""/>
                            <p:cNvSpPr/>
                            <p:nvPr/>
                          </p:nvSpPr>
                          <p:spPr>
                            <a:xfrm>
                              <a:off x="1480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05" name=""/>
                      <p:cNvGrpSpPr/>
                      <p:nvPr/>
                    </p:nvGrpSpPr>
                    <p:grpSpPr>
                      <a:xfrm>
                        <a:off x="1483200" y="5115240"/>
                        <a:ext cx="9360" cy="4680"/>
                        <a:chOff x="1483200" y="5115240"/>
                        <a:chExt cx="9360" cy="4680"/>
                      </a:xfrm>
                    </p:grpSpPr>
                    <p:grpSp>
                      <p:nvGrpSpPr>
                        <p:cNvPr id="3506" name=""/>
                        <p:cNvGrpSpPr/>
                        <p:nvPr/>
                      </p:nvGrpSpPr>
                      <p:grpSpPr>
                        <a:xfrm>
                          <a:off x="1483200" y="5115240"/>
                          <a:ext cx="5040" cy="4680"/>
                          <a:chOff x="1483200" y="5115240"/>
                          <a:chExt cx="5040" cy="4680"/>
                        </a:xfrm>
                      </p:grpSpPr>
                      <p:grpSp>
                        <p:nvGrpSpPr>
                          <p:cNvPr id="3507" name=""/>
                          <p:cNvGrpSpPr/>
                          <p:nvPr/>
                        </p:nvGrpSpPr>
                        <p:grpSpPr>
                          <a:xfrm>
                            <a:off x="1483200" y="5115240"/>
                            <a:ext cx="2160" cy="4680"/>
                            <a:chOff x="1483200" y="5115240"/>
                            <a:chExt cx="2160" cy="4680"/>
                          </a:xfrm>
                        </p:grpSpPr>
                        <p:sp>
                          <p:nvSpPr>
                            <p:cNvPr id="3508" name=""/>
                            <p:cNvSpPr/>
                            <p:nvPr/>
                          </p:nvSpPr>
                          <p:spPr>
                            <a:xfrm>
                              <a:off x="14832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9" name=""/>
                            <p:cNvSpPr/>
                            <p:nvPr/>
                          </p:nvSpPr>
                          <p:spPr>
                            <a:xfrm>
                              <a:off x="1484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0" name=""/>
                          <p:cNvGrpSpPr/>
                          <p:nvPr/>
                        </p:nvGrpSpPr>
                        <p:grpSpPr>
                          <a:xfrm>
                            <a:off x="1485720" y="5115240"/>
                            <a:ext cx="2520" cy="4680"/>
                            <a:chOff x="1485720" y="5115240"/>
                            <a:chExt cx="2520" cy="4680"/>
                          </a:xfrm>
                        </p:grpSpPr>
                        <p:sp>
                          <p:nvSpPr>
                            <p:cNvPr id="3511" name=""/>
                            <p:cNvSpPr/>
                            <p:nvPr/>
                          </p:nvSpPr>
                          <p:spPr>
                            <a:xfrm>
                              <a:off x="1485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2" name=""/>
                            <p:cNvSpPr/>
                            <p:nvPr/>
                          </p:nvSpPr>
                          <p:spPr>
                            <a:xfrm>
                              <a:off x="1487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13" name=""/>
                        <p:cNvGrpSpPr/>
                        <p:nvPr/>
                      </p:nvGrpSpPr>
                      <p:grpSpPr>
                        <a:xfrm>
                          <a:off x="1488960" y="5115240"/>
                          <a:ext cx="3600" cy="4680"/>
                          <a:chOff x="1488960" y="5115240"/>
                          <a:chExt cx="3600" cy="4680"/>
                        </a:xfrm>
                      </p:grpSpPr>
                      <p:grpSp>
                        <p:nvGrpSpPr>
                          <p:cNvPr id="3514" name=""/>
                          <p:cNvGrpSpPr/>
                          <p:nvPr/>
                        </p:nvGrpSpPr>
                        <p:grpSpPr>
                          <a:xfrm>
                            <a:off x="1488960" y="5115240"/>
                            <a:ext cx="1440" cy="4680"/>
                            <a:chOff x="1488960" y="5115240"/>
                            <a:chExt cx="1440" cy="4680"/>
                          </a:xfrm>
                        </p:grpSpPr>
                        <p:sp>
                          <p:nvSpPr>
                            <p:cNvPr id="3515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6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7" name=""/>
                          <p:cNvGrpSpPr/>
                          <p:nvPr/>
                        </p:nvGrpSpPr>
                        <p:grpSpPr>
                          <a:xfrm>
                            <a:off x="1490400" y="5115240"/>
                            <a:ext cx="2160" cy="4680"/>
                            <a:chOff x="1490400" y="5115240"/>
                            <a:chExt cx="2160" cy="4680"/>
                          </a:xfrm>
                        </p:grpSpPr>
                        <p:sp>
                          <p:nvSpPr>
                            <p:cNvPr id="3518" name=""/>
                            <p:cNvSpPr/>
                            <p:nvPr/>
                          </p:nvSpPr>
                          <p:spPr>
                            <a:xfrm>
                              <a:off x="1490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9" name=""/>
                            <p:cNvSpPr/>
                            <p:nvPr/>
                          </p:nvSpPr>
                          <p:spPr>
                            <a:xfrm>
                              <a:off x="14914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146916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1" name=""/>
                  <p:cNvGrpSpPr/>
                  <p:nvPr/>
                </p:nvGrpSpPr>
                <p:grpSpPr>
                  <a:xfrm>
                    <a:off x="1425240" y="5134320"/>
                    <a:ext cx="210960" cy="29880"/>
                    <a:chOff x="1425240" y="5134320"/>
                    <a:chExt cx="210960" cy="29880"/>
                  </a:xfrm>
                </p:grpSpPr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1425240" y="5134320"/>
                      <a:ext cx="210960" cy="29880"/>
                      <a:chOff x="1425240" y="5134320"/>
                      <a:chExt cx="210960" cy="2988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142524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142524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5" name=""/>
                      <p:cNvSpPr/>
                      <p:nvPr/>
                    </p:nvSpPr>
                    <p:spPr>
                      <a:xfrm>
                        <a:off x="143136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6" name=""/>
                    <p:cNvGrpSpPr/>
                    <p:nvPr/>
                  </p:nvGrpSpPr>
                  <p:grpSpPr>
                    <a:xfrm>
                      <a:off x="1447200" y="5137200"/>
                      <a:ext cx="165960" cy="5040"/>
                      <a:chOff x="1447200" y="5137200"/>
                      <a:chExt cx="165960" cy="5040"/>
                    </a:xfrm>
                  </p:grpSpPr>
                  <p:sp>
                    <p:nvSpPr>
                      <p:cNvPr id="3527" name=""/>
                      <p:cNvSpPr/>
                      <p:nvPr/>
                    </p:nvSpPr>
                    <p:spPr>
                      <a:xfrm>
                        <a:off x="144720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8" name=""/>
                      <p:cNvSpPr/>
                      <p:nvPr/>
                    </p:nvSpPr>
                    <p:spPr>
                      <a:xfrm>
                        <a:off x="146448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9" name=""/>
                      <p:cNvSpPr/>
                      <p:nvPr/>
                    </p:nvSpPr>
                    <p:spPr>
                      <a:xfrm>
                        <a:off x="149760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0" name=""/>
                      <p:cNvSpPr/>
                      <p:nvPr/>
                    </p:nvSpPr>
                    <p:spPr>
                      <a:xfrm>
                        <a:off x="15278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1" name=""/>
                      <p:cNvSpPr/>
                      <p:nvPr/>
                    </p:nvSpPr>
                    <p:spPr>
                      <a:xfrm>
                        <a:off x="155808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2" name=""/>
                      <p:cNvSpPr/>
                      <p:nvPr/>
                    </p:nvSpPr>
                    <p:spPr>
                      <a:xfrm>
                        <a:off x="158652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33" name=""/>
                    <p:cNvGrpSpPr/>
                    <p:nvPr/>
                  </p:nvGrpSpPr>
                  <p:grpSpPr>
                    <a:xfrm>
                      <a:off x="1441080" y="5143680"/>
                      <a:ext cx="174960" cy="11160"/>
                      <a:chOff x="1441080" y="5143680"/>
                      <a:chExt cx="174960" cy="11160"/>
                    </a:xfrm>
                  </p:grpSpPr>
                  <p:grpSp>
                    <p:nvGrpSpPr>
                      <p:cNvPr id="3534" name=""/>
                      <p:cNvGrpSpPr/>
                      <p:nvPr/>
                    </p:nvGrpSpPr>
                    <p:grpSpPr>
                      <a:xfrm>
                        <a:off x="1456560" y="5143680"/>
                        <a:ext cx="84960" cy="9360"/>
                        <a:chOff x="1456560" y="5143680"/>
                        <a:chExt cx="84960" cy="9360"/>
                      </a:xfrm>
                    </p:grpSpPr>
                    <p:sp>
                      <p:nvSpPr>
                        <p:cNvPr id="3535" name=""/>
                        <p:cNvSpPr/>
                        <p:nvPr/>
                      </p:nvSpPr>
                      <p:spPr>
                        <a:xfrm>
                          <a:off x="145656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6" name=""/>
                        <p:cNvSpPr/>
                        <p:nvPr/>
                      </p:nvSpPr>
                      <p:spPr>
                        <a:xfrm>
                          <a:off x="145908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7" name=""/>
                        <p:cNvSpPr/>
                        <p:nvPr/>
                      </p:nvSpPr>
                      <p:spPr>
                        <a:xfrm>
                          <a:off x="146088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8" name=""/>
                        <p:cNvSpPr/>
                        <p:nvPr/>
                      </p:nvSpPr>
                      <p:spPr>
                        <a:xfrm>
                          <a:off x="146232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39" name=""/>
                      <p:cNvGrpSpPr/>
                      <p:nvPr/>
                    </p:nvGrpSpPr>
                    <p:grpSpPr>
                      <a:xfrm>
                        <a:off x="1441080" y="5145120"/>
                        <a:ext cx="15480" cy="6480"/>
                        <a:chOff x="1441080" y="5145120"/>
                        <a:chExt cx="15480" cy="6480"/>
                      </a:xfrm>
                    </p:grpSpPr>
                    <p:sp>
                      <p:nvSpPr>
                        <p:cNvPr id="3540" name=""/>
                        <p:cNvSpPr/>
                        <p:nvPr/>
                      </p:nvSpPr>
                      <p:spPr>
                        <a:xfrm>
                          <a:off x="144540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1" name=""/>
                        <p:cNvSpPr/>
                        <p:nvPr/>
                      </p:nvSpPr>
                      <p:spPr>
                        <a:xfrm>
                          <a:off x="144360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2" name=""/>
                        <p:cNvSpPr/>
                        <p:nvPr/>
                      </p:nvSpPr>
                      <p:spPr>
                        <a:xfrm>
                          <a:off x="144108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3" name=""/>
                      <p:cNvGrpSpPr/>
                      <p:nvPr/>
                    </p:nvGrpSpPr>
                    <p:grpSpPr>
                      <a:xfrm>
                        <a:off x="1475640" y="5143680"/>
                        <a:ext cx="78480" cy="9360"/>
                        <a:chOff x="1475640" y="5143680"/>
                        <a:chExt cx="78480" cy="9360"/>
                      </a:xfrm>
                    </p:grpSpPr>
                    <p:sp>
                      <p:nvSpPr>
                        <p:cNvPr id="3544" name=""/>
                        <p:cNvSpPr/>
                        <p:nvPr/>
                      </p:nvSpPr>
                      <p:spPr>
                        <a:xfrm>
                          <a:off x="147564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5" name=""/>
                        <p:cNvSpPr/>
                        <p:nvPr/>
                      </p:nvSpPr>
                      <p:spPr>
                        <a:xfrm>
                          <a:off x="154188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6" name=""/>
                        <p:cNvSpPr/>
                        <p:nvPr/>
                      </p:nvSpPr>
                      <p:spPr>
                        <a:xfrm>
                          <a:off x="154512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7" name=""/>
                        <p:cNvSpPr/>
                        <p:nvPr/>
                      </p:nvSpPr>
                      <p:spPr>
                        <a:xfrm>
                          <a:off x="153864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8" name=""/>
                        <p:cNvSpPr/>
                        <p:nvPr/>
                      </p:nvSpPr>
                      <p:spPr>
                        <a:xfrm>
                          <a:off x="152604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9" name=""/>
                        <p:cNvSpPr/>
                        <p:nvPr/>
                      </p:nvSpPr>
                      <p:spPr>
                        <a:xfrm>
                          <a:off x="153540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0" name=""/>
                      <p:cNvGrpSpPr/>
                      <p:nvPr/>
                    </p:nvGrpSpPr>
                    <p:grpSpPr>
                      <a:xfrm>
                        <a:off x="1558080" y="5145120"/>
                        <a:ext cx="24480" cy="7920"/>
                        <a:chOff x="1558080" y="5145120"/>
                        <a:chExt cx="24480" cy="7920"/>
                      </a:xfrm>
                    </p:grpSpPr>
                    <p:sp>
                      <p:nvSpPr>
                        <p:cNvPr id="3551" name=""/>
                        <p:cNvSpPr/>
                        <p:nvPr/>
                      </p:nvSpPr>
                      <p:spPr>
                        <a:xfrm>
                          <a:off x="155808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2" name=""/>
                        <p:cNvSpPr/>
                        <p:nvPr/>
                      </p:nvSpPr>
                      <p:spPr>
                        <a:xfrm>
                          <a:off x="156096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156096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4" name=""/>
                      <p:cNvGrpSpPr/>
                      <p:nvPr/>
                    </p:nvGrpSpPr>
                    <p:grpSpPr>
                      <a:xfrm>
                        <a:off x="1586520" y="5145120"/>
                        <a:ext cx="29520" cy="9720"/>
                        <a:chOff x="1586520" y="5145120"/>
                        <a:chExt cx="29520" cy="9720"/>
                      </a:xfrm>
                    </p:grpSpPr>
                    <p:sp>
                      <p:nvSpPr>
                        <p:cNvPr id="3555" name=""/>
                        <p:cNvSpPr/>
                        <p:nvPr/>
                      </p:nvSpPr>
                      <p:spPr>
                        <a:xfrm>
                          <a:off x="158940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6" name=""/>
                        <p:cNvSpPr/>
                        <p:nvPr/>
                      </p:nvSpPr>
                      <p:spPr>
                        <a:xfrm>
                          <a:off x="158652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7" name=""/>
                        <p:cNvSpPr/>
                        <p:nvPr/>
                      </p:nvSpPr>
                      <p:spPr>
                        <a:xfrm>
                          <a:off x="15894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8" name=""/>
                        <p:cNvSpPr/>
                        <p:nvPr/>
                      </p:nvSpPr>
                      <p:spPr>
                        <a:xfrm>
                          <a:off x="158796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/>
                        <p:nvPr/>
                      </p:nvSpPr>
                      <p:spPr>
                        <a:xfrm>
                          <a:off x="160848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0" name=""/>
                        <p:cNvSpPr/>
                        <p:nvPr/>
                      </p:nvSpPr>
                      <p:spPr>
                        <a:xfrm>
                          <a:off x="160992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561" name=""/>
                  <p:cNvGrpSpPr/>
                  <p:nvPr/>
                </p:nvGrpSpPr>
                <p:grpSpPr>
                  <a:xfrm>
                    <a:off x="1486800" y="5075280"/>
                    <a:ext cx="91800" cy="19080"/>
                    <a:chOff x="1486800" y="5075280"/>
                    <a:chExt cx="91800" cy="19080"/>
                  </a:xfrm>
                </p:grpSpPr>
                <p:grpSp>
                  <p:nvGrpSpPr>
                    <p:cNvPr id="3562" name=""/>
                    <p:cNvGrpSpPr/>
                    <p:nvPr/>
                  </p:nvGrpSpPr>
                  <p:grpSpPr>
                    <a:xfrm>
                      <a:off x="1486800" y="5080320"/>
                      <a:ext cx="91800" cy="14040"/>
                      <a:chOff x="1486800" y="5080320"/>
                      <a:chExt cx="91800" cy="14040"/>
                    </a:xfrm>
                  </p:grpSpPr>
                  <p:sp>
                    <p:nvSpPr>
                      <p:cNvPr id="3563" name=""/>
                      <p:cNvSpPr/>
                      <p:nvPr/>
                    </p:nvSpPr>
                    <p:spPr>
                      <a:xfrm>
                        <a:off x="148680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4" name=""/>
                      <p:cNvSpPr/>
                      <p:nvPr/>
                    </p:nvSpPr>
                    <p:spPr>
                      <a:xfrm>
                        <a:off x="148680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65" name=""/>
                    <p:cNvSpPr/>
                    <p:nvPr/>
                  </p:nvSpPr>
                  <p:spPr>
                    <a:xfrm>
                      <a:off x="150732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6" name=""/>
                  <p:cNvSpPr/>
                  <p:nvPr/>
                </p:nvSpPr>
                <p:spPr>
                  <a:xfrm>
                    <a:off x="147600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148860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149328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157104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570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203472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71" name=""/>
            <p:cNvGrpSpPr/>
            <p:nvPr/>
          </p:nvGrpSpPr>
          <p:grpSpPr>
            <a:xfrm>
              <a:off x="1352520" y="5638680"/>
              <a:ext cx="1085760" cy="752400"/>
              <a:chOff x="1352520" y="5638680"/>
              <a:chExt cx="1085760" cy="752400"/>
            </a:xfrm>
          </p:grpSpPr>
          <p:sp>
            <p:nvSpPr>
              <p:cNvPr id="3572" name=""/>
              <p:cNvSpPr/>
              <p:nvPr/>
            </p:nvSpPr>
            <p:spPr>
              <a:xfrm>
                <a:off x="135252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40004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3 Tepexi de Rodríguez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574" name=""/>
              <p:cNvGrpSpPr/>
              <p:nvPr/>
            </p:nvGrpSpPr>
            <p:grpSpPr>
              <a:xfrm>
                <a:off x="1425240" y="5694120"/>
                <a:ext cx="821880" cy="488880"/>
                <a:chOff x="1425240" y="5694120"/>
                <a:chExt cx="821880" cy="488880"/>
              </a:xfrm>
            </p:grpSpPr>
            <p:sp>
              <p:nvSpPr>
                <p:cNvPr id="3575" name=""/>
                <p:cNvSpPr/>
                <p:nvPr/>
              </p:nvSpPr>
              <p:spPr>
                <a:xfrm>
                  <a:off x="156780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18536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178704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578" name="pbx" descr=""/>
                <p:cNvPicPr/>
                <p:nvPr/>
              </p:nvPicPr>
              <p:blipFill>
                <a:blip r:embed="rId42"/>
                <a:srcRect l="37594" t="74298" r="28339" b="4834"/>
                <a:stretch/>
              </p:blipFill>
              <p:spPr>
                <a:xfrm>
                  <a:off x="172980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9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75680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0" name=""/>
                <p:cNvGrpSpPr/>
                <p:nvPr/>
              </p:nvGrpSpPr>
              <p:grpSpPr>
                <a:xfrm>
                  <a:off x="1425240" y="5832360"/>
                  <a:ext cx="210960" cy="169920"/>
                  <a:chOff x="1425240" y="5832360"/>
                  <a:chExt cx="210960" cy="169920"/>
                </a:xfrm>
              </p:grpSpPr>
              <p:grpSp>
                <p:nvGrpSpPr>
                  <p:cNvPr id="3581" name=""/>
                  <p:cNvGrpSpPr/>
                  <p:nvPr/>
                </p:nvGrpSpPr>
                <p:grpSpPr>
                  <a:xfrm>
                    <a:off x="1464840" y="5923080"/>
                    <a:ext cx="134280" cy="52200"/>
                    <a:chOff x="1464840" y="5923080"/>
                    <a:chExt cx="134280" cy="52200"/>
                  </a:xfrm>
                </p:grpSpPr>
                <p:grpSp>
                  <p:nvGrpSpPr>
                    <p:cNvPr id="3582" name=""/>
                    <p:cNvGrpSpPr/>
                    <p:nvPr/>
                  </p:nvGrpSpPr>
                  <p:grpSpPr>
                    <a:xfrm>
                      <a:off x="1464840" y="5923080"/>
                      <a:ext cx="134280" cy="52200"/>
                      <a:chOff x="1464840" y="5923080"/>
                      <a:chExt cx="134280" cy="52200"/>
                    </a:xfrm>
                  </p:grpSpPr>
                  <p:grpSp>
                    <p:nvGrpSpPr>
                      <p:cNvPr id="3583" name=""/>
                      <p:cNvGrpSpPr/>
                      <p:nvPr/>
                    </p:nvGrpSpPr>
                    <p:grpSpPr>
                      <a:xfrm>
                        <a:off x="1464840" y="5923080"/>
                        <a:ext cx="134280" cy="52200"/>
                        <a:chOff x="1464840" y="5923080"/>
                        <a:chExt cx="134280" cy="52200"/>
                      </a:xfrm>
                    </p:grpSpPr>
                    <p:grpSp>
                      <p:nvGrpSpPr>
                        <p:cNvPr id="3584" name=""/>
                        <p:cNvGrpSpPr/>
                        <p:nvPr/>
                      </p:nvGrpSpPr>
                      <p:grpSpPr>
                        <a:xfrm>
                          <a:off x="1464840" y="5923080"/>
                          <a:ext cx="134280" cy="52200"/>
                          <a:chOff x="1464840" y="5923080"/>
                          <a:chExt cx="134280" cy="52200"/>
                        </a:xfrm>
                      </p:grpSpPr>
                      <p:grpSp>
                        <p:nvGrpSpPr>
                          <p:cNvPr id="3585" name=""/>
                          <p:cNvGrpSpPr/>
                          <p:nvPr/>
                        </p:nvGrpSpPr>
                        <p:grpSpPr>
                          <a:xfrm>
                            <a:off x="1464840" y="5923080"/>
                            <a:ext cx="134280" cy="52200"/>
                            <a:chOff x="1464840" y="5923080"/>
                            <a:chExt cx="134280" cy="52200"/>
                          </a:xfrm>
                        </p:grpSpPr>
                        <p:sp>
                          <p:nvSpPr>
                            <p:cNvPr id="3586" name=""/>
                            <p:cNvSpPr/>
                            <p:nvPr/>
                          </p:nvSpPr>
                          <p:spPr>
                            <a:xfrm>
                              <a:off x="146484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7" name=""/>
                            <p:cNvSpPr/>
                            <p:nvPr/>
                          </p:nvSpPr>
                          <p:spPr>
                            <a:xfrm>
                              <a:off x="146592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88" name=""/>
                          <p:cNvSpPr/>
                          <p:nvPr/>
                        </p:nvSpPr>
                        <p:spPr>
                          <a:xfrm>
                            <a:off x="146736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89" name=""/>
                        <p:cNvGrpSpPr/>
                        <p:nvPr/>
                      </p:nvGrpSpPr>
                      <p:grpSpPr>
                        <a:xfrm>
                          <a:off x="1470600" y="5965920"/>
                          <a:ext cx="124560" cy="7920"/>
                          <a:chOff x="1470600" y="5965920"/>
                          <a:chExt cx="124560" cy="7920"/>
                        </a:xfrm>
                      </p:grpSpPr>
                      <p:grpSp>
                        <p:nvGrpSpPr>
                          <p:cNvPr id="3590" name=""/>
                          <p:cNvGrpSpPr/>
                          <p:nvPr/>
                        </p:nvGrpSpPr>
                        <p:grpSpPr>
                          <a:xfrm>
                            <a:off x="1470600" y="5965920"/>
                            <a:ext cx="61560" cy="7920"/>
                            <a:chOff x="1470600" y="5965920"/>
                            <a:chExt cx="61560" cy="7920"/>
                          </a:xfrm>
                        </p:grpSpPr>
                        <p:grpSp>
                          <p:nvGrpSpPr>
                            <p:cNvPr id="3591" name=""/>
                            <p:cNvGrpSpPr/>
                            <p:nvPr/>
                          </p:nvGrpSpPr>
                          <p:grpSpPr>
                            <a:xfrm>
                              <a:off x="1470600" y="5965920"/>
                              <a:ext cx="29880" cy="7920"/>
                              <a:chOff x="1470600" y="5965920"/>
                              <a:chExt cx="29880" cy="7920"/>
                            </a:xfrm>
                          </p:grpSpPr>
                          <p:grpSp>
                            <p:nvGrpSpPr>
                              <p:cNvPr id="3592" name=""/>
                              <p:cNvGrpSpPr/>
                              <p:nvPr/>
                            </p:nvGrpSpPr>
                            <p:grpSpPr>
                              <a:xfrm>
                                <a:off x="1470600" y="5965920"/>
                                <a:ext cx="14400" cy="7920"/>
                                <a:chOff x="14706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59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965920"/>
                                  <a:ext cx="6840" cy="7920"/>
                                  <a:chOff x="14706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5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965920"/>
                                    <a:ext cx="2520" cy="7920"/>
                                    <a:chOff x="1470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5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965920"/>
                                    <a:ext cx="3960" cy="7920"/>
                                    <a:chOff x="14734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0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965920"/>
                                  <a:ext cx="6840" cy="7920"/>
                                  <a:chOff x="14781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965920"/>
                                    <a:ext cx="2520" cy="7920"/>
                                    <a:chOff x="1478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965920"/>
                                    <a:ext cx="3960" cy="7920"/>
                                    <a:chOff x="14810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07" name=""/>
                              <p:cNvGrpSpPr/>
                              <p:nvPr/>
                            </p:nvGrpSpPr>
                            <p:grpSpPr>
                              <a:xfrm>
                                <a:off x="1486080" y="5965920"/>
                                <a:ext cx="14400" cy="7920"/>
                                <a:chOff x="1486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0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965920"/>
                                  <a:ext cx="6840" cy="7920"/>
                                  <a:chOff x="1486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965920"/>
                                    <a:ext cx="2520" cy="7920"/>
                                    <a:chOff x="1486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965920"/>
                                    <a:ext cx="3960" cy="7920"/>
                                    <a:chOff x="1488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1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965920"/>
                                  <a:ext cx="6840" cy="7920"/>
                                  <a:chOff x="1493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965920"/>
                                    <a:ext cx="2520" cy="7920"/>
                                    <a:chOff x="1493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965920"/>
                                    <a:ext cx="3960" cy="7920"/>
                                    <a:chOff x="14965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22" name=""/>
                            <p:cNvGrpSpPr/>
                            <p:nvPr/>
                          </p:nvGrpSpPr>
                          <p:grpSpPr>
                            <a:xfrm>
                              <a:off x="1501920" y="5965920"/>
                              <a:ext cx="30240" cy="7920"/>
                              <a:chOff x="1501920" y="5965920"/>
                              <a:chExt cx="30240" cy="7920"/>
                            </a:xfrm>
                          </p:grpSpPr>
                          <p:grpSp>
                            <p:nvGrpSpPr>
                              <p:cNvPr id="3623" name=""/>
                              <p:cNvGrpSpPr/>
                              <p:nvPr/>
                            </p:nvGrpSpPr>
                            <p:grpSpPr>
                              <a:xfrm>
                                <a:off x="1501920" y="5965920"/>
                                <a:ext cx="14760" cy="7920"/>
                                <a:chOff x="150192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362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965920"/>
                                  <a:ext cx="7200" cy="7920"/>
                                  <a:chOff x="150192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6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965920"/>
                                    <a:ext cx="2520" cy="7920"/>
                                    <a:chOff x="15019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965920"/>
                                    <a:ext cx="2520" cy="7920"/>
                                    <a:chOff x="1506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3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965920"/>
                                  <a:ext cx="6840" cy="7920"/>
                                  <a:chOff x="1509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965920"/>
                                    <a:ext cx="2160" cy="7920"/>
                                    <a:chOff x="15098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965920"/>
                                    <a:ext cx="2520" cy="7920"/>
                                    <a:chOff x="1514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38" name=""/>
                              <p:cNvGrpSpPr/>
                              <p:nvPr/>
                            </p:nvGrpSpPr>
                            <p:grpSpPr>
                              <a:xfrm>
                                <a:off x="1517760" y="5965920"/>
                                <a:ext cx="14400" cy="7920"/>
                                <a:chOff x="1517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3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965920"/>
                                  <a:ext cx="6840" cy="7920"/>
                                  <a:chOff x="151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965920"/>
                                    <a:ext cx="2160" cy="7920"/>
                                    <a:chOff x="15177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965920"/>
                                    <a:ext cx="2520" cy="7920"/>
                                    <a:chOff x="1522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4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965920"/>
                                  <a:ext cx="6840" cy="7920"/>
                                  <a:chOff x="1525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965920"/>
                                    <a:ext cx="2160" cy="7920"/>
                                    <a:chOff x="152532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965920"/>
                                    <a:ext cx="4320" cy="7920"/>
                                    <a:chOff x="152784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653" name=""/>
                          <p:cNvGrpSpPr/>
                          <p:nvPr/>
                        </p:nvGrpSpPr>
                        <p:grpSpPr>
                          <a:xfrm>
                            <a:off x="1533960" y="5965920"/>
                            <a:ext cx="61200" cy="7920"/>
                            <a:chOff x="1533960" y="5965920"/>
                            <a:chExt cx="61200" cy="7920"/>
                          </a:xfrm>
                        </p:grpSpPr>
                        <p:grpSp>
                          <p:nvGrpSpPr>
                            <p:cNvPr id="3654" name=""/>
                            <p:cNvGrpSpPr/>
                            <p:nvPr/>
                          </p:nvGrpSpPr>
                          <p:grpSpPr>
                            <a:xfrm>
                              <a:off x="1533960" y="5965920"/>
                              <a:ext cx="29880" cy="7920"/>
                              <a:chOff x="1533960" y="5965920"/>
                              <a:chExt cx="29880" cy="7920"/>
                            </a:xfrm>
                          </p:grpSpPr>
                          <p:grpSp>
                            <p:nvGrpSpPr>
                              <p:cNvPr id="3655" name=""/>
                              <p:cNvGrpSpPr/>
                              <p:nvPr/>
                            </p:nvGrpSpPr>
                            <p:grpSpPr>
                              <a:xfrm>
                                <a:off x="1533960" y="5965920"/>
                                <a:ext cx="14400" cy="7920"/>
                                <a:chOff x="15339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5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965920"/>
                                  <a:ext cx="6840" cy="7920"/>
                                  <a:chOff x="153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965920"/>
                                    <a:ext cx="2520" cy="7920"/>
                                    <a:chOff x="1533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965920"/>
                                    <a:ext cx="3960" cy="7920"/>
                                    <a:chOff x="1536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6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965920"/>
                                  <a:ext cx="6840" cy="7920"/>
                                  <a:chOff x="15415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965920"/>
                                    <a:ext cx="2520" cy="7920"/>
                                    <a:chOff x="15415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965920"/>
                                    <a:ext cx="2520" cy="7920"/>
                                    <a:chOff x="1545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70" name=""/>
                              <p:cNvGrpSpPr/>
                              <p:nvPr/>
                            </p:nvGrpSpPr>
                            <p:grpSpPr>
                              <a:xfrm>
                                <a:off x="1549440" y="5965920"/>
                                <a:ext cx="14400" cy="7920"/>
                                <a:chOff x="154944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7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965920"/>
                                  <a:ext cx="6840" cy="7920"/>
                                  <a:chOff x="154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965920"/>
                                    <a:ext cx="2520" cy="7920"/>
                                    <a:chOff x="1549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965920"/>
                                    <a:ext cx="2520" cy="7920"/>
                                    <a:chOff x="1553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7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965920"/>
                                  <a:ext cx="6840" cy="7920"/>
                                  <a:chOff x="15570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965920"/>
                                    <a:ext cx="2520" cy="7920"/>
                                    <a:chOff x="15570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965920"/>
                                    <a:ext cx="3960" cy="7920"/>
                                    <a:chOff x="15598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85" name=""/>
                            <p:cNvGrpSpPr/>
                            <p:nvPr/>
                          </p:nvGrpSpPr>
                          <p:grpSpPr>
                            <a:xfrm>
                              <a:off x="1565280" y="5965920"/>
                              <a:ext cx="29880" cy="7920"/>
                              <a:chOff x="1565280" y="5965920"/>
                              <a:chExt cx="29880" cy="7920"/>
                            </a:xfrm>
                          </p:grpSpPr>
                          <p:grpSp>
                            <p:nvGrpSpPr>
                              <p:cNvPr id="3686" name=""/>
                              <p:cNvGrpSpPr/>
                              <p:nvPr/>
                            </p:nvGrpSpPr>
                            <p:grpSpPr>
                              <a:xfrm>
                                <a:off x="1565280" y="5965920"/>
                                <a:ext cx="14400" cy="7920"/>
                                <a:chOff x="15652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8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965920"/>
                                  <a:ext cx="6840" cy="7920"/>
                                  <a:chOff x="1565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965920"/>
                                    <a:ext cx="2520" cy="7920"/>
                                    <a:chOff x="1565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965920"/>
                                    <a:ext cx="2520" cy="7920"/>
                                    <a:chOff x="1569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9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965920"/>
                                  <a:ext cx="6840" cy="7920"/>
                                  <a:chOff x="1572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965920"/>
                                    <a:ext cx="2520" cy="7920"/>
                                    <a:chOff x="1572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965920"/>
                                    <a:ext cx="3960" cy="7920"/>
                                    <a:chOff x="15757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701" name=""/>
                              <p:cNvGrpSpPr/>
                              <p:nvPr/>
                            </p:nvGrpSpPr>
                            <p:grpSpPr>
                              <a:xfrm>
                                <a:off x="1580760" y="5965920"/>
                                <a:ext cx="14400" cy="7920"/>
                                <a:chOff x="1580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70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965920"/>
                                  <a:ext cx="6840" cy="7920"/>
                                  <a:chOff x="1580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965920"/>
                                    <a:ext cx="2520" cy="7920"/>
                                    <a:chOff x="1580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965920"/>
                                    <a:ext cx="2520" cy="7920"/>
                                    <a:chOff x="1585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70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965920"/>
                                  <a:ext cx="6840" cy="7920"/>
                                  <a:chOff x="1588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965920"/>
                                    <a:ext cx="2520" cy="7920"/>
                                    <a:chOff x="15883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965920"/>
                                    <a:ext cx="2520" cy="7920"/>
                                    <a:chOff x="1592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716" name=""/>
                      <p:cNvGrpSpPr/>
                      <p:nvPr/>
                    </p:nvGrpSpPr>
                    <p:grpSpPr>
                      <a:xfrm>
                        <a:off x="1467360" y="5937120"/>
                        <a:ext cx="128160" cy="22320"/>
                        <a:chOff x="1467360" y="5937120"/>
                        <a:chExt cx="128160" cy="22320"/>
                      </a:xfrm>
                    </p:grpSpPr>
                    <p:sp>
                      <p:nvSpPr>
                        <p:cNvPr id="3717" name=""/>
                        <p:cNvSpPr/>
                        <p:nvPr/>
                      </p:nvSpPr>
                      <p:spPr>
                        <a:xfrm>
                          <a:off x="146736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8" name=""/>
                        <p:cNvSpPr/>
                        <p:nvPr/>
                      </p:nvSpPr>
                      <p:spPr>
                        <a:xfrm>
                          <a:off x="149580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9" name=""/>
                        <p:cNvSpPr/>
                        <p:nvPr/>
                      </p:nvSpPr>
                      <p:spPr>
                        <a:xfrm>
                          <a:off x="153540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0" name=""/>
                        <p:cNvSpPr/>
                        <p:nvPr/>
                      </p:nvSpPr>
                      <p:spPr>
                        <a:xfrm>
                          <a:off x="157680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1" name=""/>
                    <p:cNvGrpSpPr/>
                    <p:nvPr/>
                  </p:nvGrpSpPr>
                  <p:grpSpPr>
                    <a:xfrm>
                      <a:off x="1580400" y="5940360"/>
                      <a:ext cx="11880" cy="11160"/>
                      <a:chOff x="1580400" y="5940360"/>
                      <a:chExt cx="11880" cy="11160"/>
                    </a:xfrm>
                  </p:grpSpPr>
                  <p:sp>
                    <p:nvSpPr>
                      <p:cNvPr id="3722" name=""/>
                      <p:cNvSpPr/>
                      <p:nvPr/>
                    </p:nvSpPr>
                    <p:spPr>
                      <a:xfrm>
                        <a:off x="158472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3" name=""/>
                      <p:cNvSpPr/>
                      <p:nvPr/>
                    </p:nvSpPr>
                    <p:spPr>
                      <a:xfrm>
                        <a:off x="158616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24" name=""/>
                      <p:cNvGrpSpPr/>
                      <p:nvPr/>
                    </p:nvGrpSpPr>
                    <p:grpSpPr>
                      <a:xfrm>
                        <a:off x="1580400" y="5942160"/>
                        <a:ext cx="2520" cy="6120"/>
                        <a:chOff x="1580400" y="5942160"/>
                        <a:chExt cx="2520" cy="6120"/>
                      </a:xfrm>
                    </p:grpSpPr>
                    <p:sp>
                      <p:nvSpPr>
                        <p:cNvPr id="3725" name=""/>
                        <p:cNvSpPr/>
                        <p:nvPr/>
                      </p:nvSpPr>
                      <p:spPr>
                        <a:xfrm>
                          <a:off x="158040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6" name=""/>
                        <p:cNvSpPr/>
                        <p:nvPr/>
                      </p:nvSpPr>
                      <p:spPr>
                        <a:xfrm>
                          <a:off x="158040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7" name=""/>
                    <p:cNvGrpSpPr/>
                    <p:nvPr/>
                  </p:nvGrpSpPr>
                  <p:grpSpPr>
                    <a:xfrm>
                      <a:off x="1497600" y="5940360"/>
                      <a:ext cx="36000" cy="14400"/>
                      <a:chOff x="1497600" y="5940360"/>
                      <a:chExt cx="36000" cy="14400"/>
                    </a:xfrm>
                  </p:grpSpPr>
                  <p:grpSp>
                    <p:nvGrpSpPr>
                      <p:cNvPr id="3728" name=""/>
                      <p:cNvGrpSpPr/>
                      <p:nvPr/>
                    </p:nvGrpSpPr>
                    <p:grpSpPr>
                      <a:xfrm>
                        <a:off x="1499040" y="5940360"/>
                        <a:ext cx="34560" cy="7920"/>
                        <a:chOff x="1499040" y="5940360"/>
                        <a:chExt cx="34560" cy="7920"/>
                      </a:xfrm>
                    </p:grpSpPr>
                    <p:sp>
                      <p:nvSpPr>
                        <p:cNvPr id="3729" name=""/>
                        <p:cNvSpPr/>
                        <p:nvPr/>
                      </p:nvSpPr>
                      <p:spPr>
                        <a:xfrm>
                          <a:off x="150804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0" name=""/>
                        <p:cNvSpPr/>
                        <p:nvPr/>
                      </p:nvSpPr>
                      <p:spPr>
                        <a:xfrm>
                          <a:off x="150804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1" name=""/>
                        <p:cNvSpPr/>
                        <p:nvPr/>
                      </p:nvSpPr>
                      <p:spPr>
                        <a:xfrm>
                          <a:off x="149904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32" name=""/>
                      <p:cNvSpPr/>
                      <p:nvPr/>
                    </p:nvSpPr>
                    <p:spPr>
                      <a:xfrm>
                        <a:off x="149760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3" name=""/>
                      <p:cNvSpPr/>
                      <p:nvPr/>
                    </p:nvSpPr>
                    <p:spPr>
                      <a:xfrm>
                        <a:off x="152604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4" name=""/>
                    <p:cNvGrpSpPr/>
                    <p:nvPr/>
                  </p:nvGrpSpPr>
                  <p:grpSpPr>
                    <a:xfrm>
                      <a:off x="1470600" y="5953320"/>
                      <a:ext cx="21960" cy="4680"/>
                      <a:chOff x="1470600" y="5953320"/>
                      <a:chExt cx="21960" cy="4680"/>
                    </a:xfrm>
                  </p:grpSpPr>
                  <p:grpSp>
                    <p:nvGrpSpPr>
                      <p:cNvPr id="3735" name=""/>
                      <p:cNvGrpSpPr/>
                      <p:nvPr/>
                    </p:nvGrpSpPr>
                    <p:grpSpPr>
                      <a:xfrm>
                        <a:off x="1470600" y="5953320"/>
                        <a:ext cx="11520" cy="4680"/>
                        <a:chOff x="1470600" y="5953320"/>
                        <a:chExt cx="11520" cy="4680"/>
                      </a:xfrm>
                    </p:grpSpPr>
                    <p:grpSp>
                      <p:nvGrpSpPr>
                        <p:cNvPr id="3736" name=""/>
                        <p:cNvGrpSpPr/>
                        <p:nvPr/>
                      </p:nvGrpSpPr>
                      <p:grpSpPr>
                        <a:xfrm>
                          <a:off x="1470600" y="5953320"/>
                          <a:ext cx="5400" cy="4680"/>
                          <a:chOff x="1470600" y="5953320"/>
                          <a:chExt cx="5400" cy="4680"/>
                        </a:xfrm>
                      </p:grpSpPr>
                      <p:grpSp>
                        <p:nvGrpSpPr>
                          <p:cNvPr id="3737" name=""/>
                          <p:cNvGrpSpPr/>
                          <p:nvPr/>
                        </p:nvGrpSpPr>
                        <p:grpSpPr>
                          <a:xfrm>
                            <a:off x="1470600" y="5953320"/>
                            <a:ext cx="2520" cy="4680"/>
                            <a:chOff x="1470600" y="5953320"/>
                            <a:chExt cx="2520" cy="4680"/>
                          </a:xfrm>
                        </p:grpSpPr>
                        <p:sp>
                          <p:nvSpPr>
                            <p:cNvPr id="3738" name=""/>
                            <p:cNvSpPr/>
                            <p:nvPr/>
                          </p:nvSpPr>
                          <p:spPr>
                            <a:xfrm>
                              <a:off x="1470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39" name=""/>
                            <p:cNvSpPr/>
                            <p:nvPr/>
                          </p:nvSpPr>
                          <p:spPr>
                            <a:xfrm>
                              <a:off x="1472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0" name=""/>
                          <p:cNvGrpSpPr/>
                          <p:nvPr/>
                        </p:nvGrpSpPr>
                        <p:grpSpPr>
                          <a:xfrm>
                            <a:off x="1473480" y="5953320"/>
                            <a:ext cx="2520" cy="4680"/>
                            <a:chOff x="1473480" y="5953320"/>
                            <a:chExt cx="2520" cy="4680"/>
                          </a:xfrm>
                        </p:grpSpPr>
                        <p:sp>
                          <p:nvSpPr>
                            <p:cNvPr id="3741" name=""/>
                            <p:cNvSpPr/>
                            <p:nvPr/>
                          </p:nvSpPr>
                          <p:spPr>
                            <a:xfrm>
                              <a:off x="1473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2" name=""/>
                            <p:cNvSpPr/>
                            <p:nvPr/>
                          </p:nvSpPr>
                          <p:spPr>
                            <a:xfrm>
                              <a:off x="14749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43" name=""/>
                        <p:cNvGrpSpPr/>
                        <p:nvPr/>
                      </p:nvGrpSpPr>
                      <p:grpSpPr>
                        <a:xfrm>
                          <a:off x="1476720" y="5953320"/>
                          <a:ext cx="5400" cy="4680"/>
                          <a:chOff x="1476720" y="5953320"/>
                          <a:chExt cx="5400" cy="4680"/>
                        </a:xfrm>
                      </p:grpSpPr>
                      <p:grpSp>
                        <p:nvGrpSpPr>
                          <p:cNvPr id="3744" name=""/>
                          <p:cNvGrpSpPr/>
                          <p:nvPr/>
                        </p:nvGrpSpPr>
                        <p:grpSpPr>
                          <a:xfrm>
                            <a:off x="1476720" y="5953320"/>
                            <a:ext cx="2520" cy="4680"/>
                            <a:chOff x="1476720" y="5953320"/>
                            <a:chExt cx="2520" cy="4680"/>
                          </a:xfrm>
                        </p:grpSpPr>
                        <p:sp>
                          <p:nvSpPr>
                            <p:cNvPr id="3745" name=""/>
                            <p:cNvSpPr/>
                            <p:nvPr/>
                          </p:nvSpPr>
                          <p:spPr>
                            <a:xfrm>
                              <a:off x="1476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6" name=""/>
                            <p:cNvSpPr/>
                            <p:nvPr/>
                          </p:nvSpPr>
                          <p:spPr>
                            <a:xfrm>
                              <a:off x="1477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7" name=""/>
                          <p:cNvGrpSpPr/>
                          <p:nvPr/>
                        </p:nvGrpSpPr>
                        <p:grpSpPr>
                          <a:xfrm>
                            <a:off x="1479600" y="5953320"/>
                            <a:ext cx="2520" cy="4680"/>
                            <a:chOff x="1479600" y="5953320"/>
                            <a:chExt cx="2520" cy="4680"/>
                          </a:xfrm>
                        </p:grpSpPr>
                        <p:sp>
                          <p:nvSpPr>
                            <p:cNvPr id="3748" name=""/>
                            <p:cNvSpPr/>
                            <p:nvPr/>
                          </p:nvSpPr>
                          <p:spPr>
                            <a:xfrm>
                              <a:off x="1479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9" name=""/>
                            <p:cNvSpPr/>
                            <p:nvPr/>
                          </p:nvSpPr>
                          <p:spPr>
                            <a:xfrm>
                              <a:off x="1480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50" name=""/>
                      <p:cNvGrpSpPr/>
                      <p:nvPr/>
                    </p:nvGrpSpPr>
                    <p:grpSpPr>
                      <a:xfrm>
                        <a:off x="1483200" y="5953320"/>
                        <a:ext cx="9360" cy="4680"/>
                        <a:chOff x="1483200" y="5953320"/>
                        <a:chExt cx="9360" cy="4680"/>
                      </a:xfrm>
                    </p:grpSpPr>
                    <p:grpSp>
                      <p:nvGrpSpPr>
                        <p:cNvPr id="3751" name=""/>
                        <p:cNvGrpSpPr/>
                        <p:nvPr/>
                      </p:nvGrpSpPr>
                      <p:grpSpPr>
                        <a:xfrm>
                          <a:off x="1483200" y="5953320"/>
                          <a:ext cx="5040" cy="4680"/>
                          <a:chOff x="1483200" y="5953320"/>
                          <a:chExt cx="5040" cy="4680"/>
                        </a:xfrm>
                      </p:grpSpPr>
                      <p:grpSp>
                        <p:nvGrpSpPr>
                          <p:cNvPr id="3752" name=""/>
                          <p:cNvGrpSpPr/>
                          <p:nvPr/>
                        </p:nvGrpSpPr>
                        <p:grpSpPr>
                          <a:xfrm>
                            <a:off x="1483200" y="5953320"/>
                            <a:ext cx="2160" cy="4680"/>
                            <a:chOff x="1483200" y="5953320"/>
                            <a:chExt cx="2160" cy="4680"/>
                          </a:xfrm>
                        </p:grpSpPr>
                        <p:sp>
                          <p:nvSpPr>
                            <p:cNvPr id="3753" name=""/>
                            <p:cNvSpPr/>
                            <p:nvPr/>
                          </p:nvSpPr>
                          <p:spPr>
                            <a:xfrm>
                              <a:off x="14832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4" name=""/>
                            <p:cNvSpPr/>
                            <p:nvPr/>
                          </p:nvSpPr>
                          <p:spPr>
                            <a:xfrm>
                              <a:off x="1484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55" name=""/>
                          <p:cNvGrpSpPr/>
                          <p:nvPr/>
                        </p:nvGrpSpPr>
                        <p:grpSpPr>
                          <a:xfrm>
                            <a:off x="1485720" y="5953320"/>
                            <a:ext cx="2520" cy="4680"/>
                            <a:chOff x="1485720" y="5953320"/>
                            <a:chExt cx="2520" cy="4680"/>
                          </a:xfrm>
                        </p:grpSpPr>
                        <p:sp>
                          <p:nvSpPr>
                            <p:cNvPr id="3756" name=""/>
                            <p:cNvSpPr/>
                            <p:nvPr/>
                          </p:nvSpPr>
                          <p:spPr>
                            <a:xfrm>
                              <a:off x="1485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7" name=""/>
                            <p:cNvSpPr/>
                            <p:nvPr/>
                          </p:nvSpPr>
                          <p:spPr>
                            <a:xfrm>
                              <a:off x="1487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58" name=""/>
                        <p:cNvGrpSpPr/>
                        <p:nvPr/>
                      </p:nvGrpSpPr>
                      <p:grpSpPr>
                        <a:xfrm>
                          <a:off x="1488960" y="5953320"/>
                          <a:ext cx="3600" cy="4680"/>
                          <a:chOff x="1488960" y="5953320"/>
                          <a:chExt cx="3600" cy="4680"/>
                        </a:xfrm>
                      </p:grpSpPr>
                      <p:grpSp>
                        <p:nvGrpSpPr>
                          <p:cNvPr id="3759" name=""/>
                          <p:cNvGrpSpPr/>
                          <p:nvPr/>
                        </p:nvGrpSpPr>
                        <p:grpSpPr>
                          <a:xfrm>
                            <a:off x="1488960" y="5953320"/>
                            <a:ext cx="1440" cy="4680"/>
                            <a:chOff x="1488960" y="5953320"/>
                            <a:chExt cx="1440" cy="4680"/>
                          </a:xfrm>
                        </p:grpSpPr>
                        <p:sp>
                          <p:nvSpPr>
                            <p:cNvPr id="3760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1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62" name=""/>
                          <p:cNvGrpSpPr/>
                          <p:nvPr/>
                        </p:nvGrpSpPr>
                        <p:grpSpPr>
                          <a:xfrm>
                            <a:off x="1490400" y="5953320"/>
                            <a:ext cx="2160" cy="4680"/>
                            <a:chOff x="1490400" y="5953320"/>
                            <a:chExt cx="2160" cy="4680"/>
                          </a:xfrm>
                        </p:grpSpPr>
                        <p:sp>
                          <p:nvSpPr>
                            <p:cNvPr id="3763" name=""/>
                            <p:cNvSpPr/>
                            <p:nvPr/>
                          </p:nvSpPr>
                          <p:spPr>
                            <a:xfrm>
                              <a:off x="1490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4" name=""/>
                            <p:cNvSpPr/>
                            <p:nvPr/>
                          </p:nvSpPr>
                          <p:spPr>
                            <a:xfrm>
                              <a:off x="14914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765" name=""/>
                    <p:cNvSpPr/>
                    <p:nvPr/>
                  </p:nvSpPr>
                  <p:spPr>
                    <a:xfrm>
                      <a:off x="146916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6" name=""/>
                  <p:cNvGrpSpPr/>
                  <p:nvPr/>
                </p:nvGrpSpPr>
                <p:grpSpPr>
                  <a:xfrm>
                    <a:off x="1425240" y="5972400"/>
                    <a:ext cx="210960" cy="29880"/>
                    <a:chOff x="1425240" y="5972400"/>
                    <a:chExt cx="210960" cy="29880"/>
                  </a:xfrm>
                </p:grpSpPr>
                <p:grpSp>
                  <p:nvGrpSpPr>
                    <p:cNvPr id="3767" name=""/>
                    <p:cNvGrpSpPr/>
                    <p:nvPr/>
                  </p:nvGrpSpPr>
                  <p:grpSpPr>
                    <a:xfrm>
                      <a:off x="1425240" y="5972400"/>
                      <a:ext cx="210960" cy="29880"/>
                      <a:chOff x="1425240" y="5972400"/>
                      <a:chExt cx="210960" cy="29880"/>
                    </a:xfrm>
                  </p:grpSpPr>
                  <p:sp>
                    <p:nvSpPr>
                      <p:cNvPr id="3768" name=""/>
                      <p:cNvSpPr/>
                      <p:nvPr/>
                    </p:nvSpPr>
                    <p:spPr>
                      <a:xfrm>
                        <a:off x="142524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9" name=""/>
                      <p:cNvSpPr/>
                      <p:nvPr/>
                    </p:nvSpPr>
                    <p:spPr>
                      <a:xfrm>
                        <a:off x="142524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0" name=""/>
                      <p:cNvSpPr/>
                      <p:nvPr/>
                    </p:nvSpPr>
                    <p:spPr>
                      <a:xfrm>
                        <a:off x="143136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1" name=""/>
                    <p:cNvGrpSpPr/>
                    <p:nvPr/>
                  </p:nvGrpSpPr>
                  <p:grpSpPr>
                    <a:xfrm>
                      <a:off x="1447200" y="5975280"/>
                      <a:ext cx="165960" cy="5040"/>
                      <a:chOff x="1447200" y="5975280"/>
                      <a:chExt cx="165960" cy="5040"/>
                    </a:xfrm>
                  </p:grpSpPr>
                  <p:sp>
                    <p:nvSpPr>
                      <p:cNvPr id="3772" name=""/>
                      <p:cNvSpPr/>
                      <p:nvPr/>
                    </p:nvSpPr>
                    <p:spPr>
                      <a:xfrm>
                        <a:off x="144720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3" name=""/>
                      <p:cNvSpPr/>
                      <p:nvPr/>
                    </p:nvSpPr>
                    <p:spPr>
                      <a:xfrm>
                        <a:off x="146448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4" name=""/>
                      <p:cNvSpPr/>
                      <p:nvPr/>
                    </p:nvSpPr>
                    <p:spPr>
                      <a:xfrm>
                        <a:off x="149760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5" name=""/>
                      <p:cNvSpPr/>
                      <p:nvPr/>
                    </p:nvSpPr>
                    <p:spPr>
                      <a:xfrm>
                        <a:off x="15278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6" name=""/>
                      <p:cNvSpPr/>
                      <p:nvPr/>
                    </p:nvSpPr>
                    <p:spPr>
                      <a:xfrm>
                        <a:off x="155808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7" name=""/>
                      <p:cNvSpPr/>
                      <p:nvPr/>
                    </p:nvSpPr>
                    <p:spPr>
                      <a:xfrm>
                        <a:off x="158652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8" name=""/>
                    <p:cNvGrpSpPr/>
                    <p:nvPr/>
                  </p:nvGrpSpPr>
                  <p:grpSpPr>
                    <a:xfrm>
                      <a:off x="1441080" y="5981760"/>
                      <a:ext cx="174960" cy="11160"/>
                      <a:chOff x="1441080" y="5981760"/>
                      <a:chExt cx="174960" cy="11160"/>
                    </a:xfrm>
                  </p:grpSpPr>
                  <p:grpSp>
                    <p:nvGrpSpPr>
                      <p:cNvPr id="3779" name=""/>
                      <p:cNvGrpSpPr/>
                      <p:nvPr/>
                    </p:nvGrpSpPr>
                    <p:grpSpPr>
                      <a:xfrm>
                        <a:off x="1456560" y="5981760"/>
                        <a:ext cx="84960" cy="9360"/>
                        <a:chOff x="1456560" y="5981760"/>
                        <a:chExt cx="84960" cy="9360"/>
                      </a:xfrm>
                    </p:grpSpPr>
                    <p:sp>
                      <p:nvSpPr>
                        <p:cNvPr id="3780" name=""/>
                        <p:cNvSpPr/>
                        <p:nvPr/>
                      </p:nvSpPr>
                      <p:spPr>
                        <a:xfrm>
                          <a:off x="145656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1" name=""/>
                        <p:cNvSpPr/>
                        <p:nvPr/>
                      </p:nvSpPr>
                      <p:spPr>
                        <a:xfrm>
                          <a:off x="145908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2" name=""/>
                        <p:cNvSpPr/>
                        <p:nvPr/>
                      </p:nvSpPr>
                      <p:spPr>
                        <a:xfrm>
                          <a:off x="146088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3" name=""/>
                        <p:cNvSpPr/>
                        <p:nvPr/>
                      </p:nvSpPr>
                      <p:spPr>
                        <a:xfrm>
                          <a:off x="146232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4" name=""/>
                      <p:cNvGrpSpPr/>
                      <p:nvPr/>
                    </p:nvGrpSpPr>
                    <p:grpSpPr>
                      <a:xfrm>
                        <a:off x="1441080" y="5983200"/>
                        <a:ext cx="15480" cy="6480"/>
                        <a:chOff x="1441080" y="5983200"/>
                        <a:chExt cx="15480" cy="6480"/>
                      </a:xfrm>
                    </p:grpSpPr>
                    <p:sp>
                      <p:nvSpPr>
                        <p:cNvPr id="3785" name=""/>
                        <p:cNvSpPr/>
                        <p:nvPr/>
                      </p:nvSpPr>
                      <p:spPr>
                        <a:xfrm>
                          <a:off x="144540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6" name=""/>
                        <p:cNvSpPr/>
                        <p:nvPr/>
                      </p:nvSpPr>
                      <p:spPr>
                        <a:xfrm>
                          <a:off x="144360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7" name=""/>
                        <p:cNvSpPr/>
                        <p:nvPr/>
                      </p:nvSpPr>
                      <p:spPr>
                        <a:xfrm>
                          <a:off x="144108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8" name=""/>
                      <p:cNvGrpSpPr/>
                      <p:nvPr/>
                    </p:nvGrpSpPr>
                    <p:grpSpPr>
                      <a:xfrm>
                        <a:off x="1475640" y="5981760"/>
                        <a:ext cx="78480" cy="9360"/>
                        <a:chOff x="1475640" y="5981760"/>
                        <a:chExt cx="78480" cy="9360"/>
                      </a:xfrm>
                    </p:grpSpPr>
                    <p:sp>
                      <p:nvSpPr>
                        <p:cNvPr id="3789" name=""/>
                        <p:cNvSpPr/>
                        <p:nvPr/>
                      </p:nvSpPr>
                      <p:spPr>
                        <a:xfrm>
                          <a:off x="147564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0" name=""/>
                        <p:cNvSpPr/>
                        <p:nvPr/>
                      </p:nvSpPr>
                      <p:spPr>
                        <a:xfrm>
                          <a:off x="154188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1" name=""/>
                        <p:cNvSpPr/>
                        <p:nvPr/>
                      </p:nvSpPr>
                      <p:spPr>
                        <a:xfrm>
                          <a:off x="154512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2" name=""/>
                        <p:cNvSpPr/>
                        <p:nvPr/>
                      </p:nvSpPr>
                      <p:spPr>
                        <a:xfrm>
                          <a:off x="153864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3" name=""/>
                        <p:cNvSpPr/>
                        <p:nvPr/>
                      </p:nvSpPr>
                      <p:spPr>
                        <a:xfrm>
                          <a:off x="152604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4" name=""/>
                        <p:cNvSpPr/>
                        <p:nvPr/>
                      </p:nvSpPr>
                      <p:spPr>
                        <a:xfrm>
                          <a:off x="153540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5" name=""/>
                      <p:cNvGrpSpPr/>
                      <p:nvPr/>
                    </p:nvGrpSpPr>
                    <p:grpSpPr>
                      <a:xfrm>
                        <a:off x="1558080" y="5983200"/>
                        <a:ext cx="24480" cy="7920"/>
                        <a:chOff x="1558080" y="5983200"/>
                        <a:chExt cx="24480" cy="7920"/>
                      </a:xfrm>
                    </p:grpSpPr>
                    <p:sp>
                      <p:nvSpPr>
                        <p:cNvPr id="3796" name=""/>
                        <p:cNvSpPr/>
                        <p:nvPr/>
                      </p:nvSpPr>
                      <p:spPr>
                        <a:xfrm>
                          <a:off x="155808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7" name=""/>
                        <p:cNvSpPr/>
                        <p:nvPr/>
                      </p:nvSpPr>
                      <p:spPr>
                        <a:xfrm>
                          <a:off x="156096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8" name=""/>
                        <p:cNvSpPr/>
                        <p:nvPr/>
                      </p:nvSpPr>
                      <p:spPr>
                        <a:xfrm>
                          <a:off x="156096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9" name=""/>
                      <p:cNvGrpSpPr/>
                      <p:nvPr/>
                    </p:nvGrpSpPr>
                    <p:grpSpPr>
                      <a:xfrm>
                        <a:off x="1586520" y="5983200"/>
                        <a:ext cx="29520" cy="9720"/>
                        <a:chOff x="1586520" y="5983200"/>
                        <a:chExt cx="29520" cy="9720"/>
                      </a:xfrm>
                    </p:grpSpPr>
                    <p:sp>
                      <p:nvSpPr>
                        <p:cNvPr id="3800" name=""/>
                        <p:cNvSpPr/>
                        <p:nvPr/>
                      </p:nvSpPr>
                      <p:spPr>
                        <a:xfrm>
                          <a:off x="158940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1" name=""/>
                        <p:cNvSpPr/>
                        <p:nvPr/>
                      </p:nvSpPr>
                      <p:spPr>
                        <a:xfrm>
                          <a:off x="158652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2" name=""/>
                        <p:cNvSpPr/>
                        <p:nvPr/>
                      </p:nvSpPr>
                      <p:spPr>
                        <a:xfrm>
                          <a:off x="15894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3" name=""/>
                        <p:cNvSpPr/>
                        <p:nvPr/>
                      </p:nvSpPr>
                      <p:spPr>
                        <a:xfrm>
                          <a:off x="158796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4" name=""/>
                        <p:cNvSpPr/>
                        <p:nvPr/>
                      </p:nvSpPr>
                      <p:spPr>
                        <a:xfrm>
                          <a:off x="160848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5" name=""/>
                        <p:cNvSpPr/>
                        <p:nvPr/>
                      </p:nvSpPr>
                      <p:spPr>
                        <a:xfrm>
                          <a:off x="160992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806" name=""/>
                  <p:cNvGrpSpPr/>
                  <p:nvPr/>
                </p:nvGrpSpPr>
                <p:grpSpPr>
                  <a:xfrm>
                    <a:off x="1486800" y="5913360"/>
                    <a:ext cx="91800" cy="19080"/>
                    <a:chOff x="1486800" y="5913360"/>
                    <a:chExt cx="91800" cy="19080"/>
                  </a:xfrm>
                </p:grpSpPr>
                <p:grpSp>
                  <p:nvGrpSpPr>
                    <p:cNvPr id="3807" name=""/>
                    <p:cNvGrpSpPr/>
                    <p:nvPr/>
                  </p:nvGrpSpPr>
                  <p:grpSpPr>
                    <a:xfrm>
                      <a:off x="1486800" y="5918400"/>
                      <a:ext cx="91800" cy="14040"/>
                      <a:chOff x="1486800" y="5918400"/>
                      <a:chExt cx="91800" cy="14040"/>
                    </a:xfrm>
                  </p:grpSpPr>
                  <p:sp>
                    <p:nvSpPr>
                      <p:cNvPr id="3808" name=""/>
                      <p:cNvSpPr/>
                      <p:nvPr/>
                    </p:nvSpPr>
                    <p:spPr>
                      <a:xfrm>
                        <a:off x="148680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9" name=""/>
                      <p:cNvSpPr/>
                      <p:nvPr/>
                    </p:nvSpPr>
                    <p:spPr>
                      <a:xfrm>
                        <a:off x="148680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150732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1" name=""/>
                  <p:cNvSpPr/>
                  <p:nvPr/>
                </p:nvSpPr>
                <p:spPr>
                  <a:xfrm>
                    <a:off x="147600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148860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149328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157104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815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203472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816" name=""/>
            <p:cNvGrpSpPr/>
            <p:nvPr/>
          </p:nvGrpSpPr>
          <p:grpSpPr>
            <a:xfrm>
              <a:off x="5543640" y="1447920"/>
              <a:ext cx="1085760" cy="752400"/>
              <a:chOff x="5543640" y="1447920"/>
              <a:chExt cx="1085760" cy="752400"/>
            </a:xfrm>
          </p:grpSpPr>
          <p:sp>
            <p:nvSpPr>
              <p:cNvPr id="3817" name=""/>
              <p:cNvSpPr/>
              <p:nvPr/>
            </p:nvSpPr>
            <p:spPr>
              <a:xfrm>
                <a:off x="5543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591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819" name=""/>
              <p:cNvGrpSpPr/>
              <p:nvPr/>
            </p:nvGrpSpPr>
            <p:grpSpPr>
              <a:xfrm>
                <a:off x="5616360" y="1503360"/>
                <a:ext cx="821880" cy="488880"/>
                <a:chOff x="5616360" y="1503360"/>
                <a:chExt cx="821880" cy="488880"/>
              </a:xfrm>
            </p:grpSpPr>
            <p:sp>
              <p:nvSpPr>
                <p:cNvPr id="3820" name=""/>
                <p:cNvSpPr/>
                <p:nvPr/>
              </p:nvSpPr>
              <p:spPr>
                <a:xfrm>
                  <a:off x="5758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044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5978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823" name="pbx" descr=""/>
                <p:cNvPicPr/>
                <p:nvPr/>
              </p:nvPicPr>
              <p:blipFill>
                <a:blip r:embed="rId45"/>
                <a:srcRect l="37594" t="74298" r="28339" b="4834"/>
                <a:stretch/>
              </p:blipFill>
              <p:spPr>
                <a:xfrm>
                  <a:off x="5920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4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947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25" name=""/>
                <p:cNvGrpSpPr/>
                <p:nvPr/>
              </p:nvGrpSpPr>
              <p:grpSpPr>
                <a:xfrm>
                  <a:off x="5616360" y="1641600"/>
                  <a:ext cx="210960" cy="169920"/>
                  <a:chOff x="5616360" y="1641600"/>
                  <a:chExt cx="210960" cy="169920"/>
                </a:xfrm>
              </p:grpSpPr>
              <p:grpSp>
                <p:nvGrpSpPr>
                  <p:cNvPr id="3826" name=""/>
                  <p:cNvGrpSpPr/>
                  <p:nvPr/>
                </p:nvGrpSpPr>
                <p:grpSpPr>
                  <a:xfrm>
                    <a:off x="5655960" y="1732320"/>
                    <a:ext cx="134280" cy="52200"/>
                    <a:chOff x="5655960" y="1732320"/>
                    <a:chExt cx="134280" cy="52200"/>
                  </a:xfrm>
                </p:grpSpPr>
                <p:grpSp>
                  <p:nvGrpSpPr>
                    <p:cNvPr id="3827" name=""/>
                    <p:cNvGrpSpPr/>
                    <p:nvPr/>
                  </p:nvGrpSpPr>
                  <p:grpSpPr>
                    <a:xfrm>
                      <a:off x="5655960" y="1732320"/>
                      <a:ext cx="134280" cy="52200"/>
                      <a:chOff x="5655960" y="1732320"/>
                      <a:chExt cx="134280" cy="52200"/>
                    </a:xfrm>
                  </p:grpSpPr>
                  <p:grpSp>
                    <p:nvGrpSpPr>
                      <p:cNvPr id="3828" name=""/>
                      <p:cNvGrpSpPr/>
                      <p:nvPr/>
                    </p:nvGrpSpPr>
                    <p:grpSpPr>
                      <a:xfrm>
                        <a:off x="5655960" y="1732320"/>
                        <a:ext cx="134280" cy="52200"/>
                        <a:chOff x="5655960" y="1732320"/>
                        <a:chExt cx="134280" cy="52200"/>
                      </a:xfrm>
                    </p:grpSpPr>
                    <p:grpSp>
                      <p:nvGrpSpPr>
                        <p:cNvPr id="3829" name=""/>
                        <p:cNvGrpSpPr/>
                        <p:nvPr/>
                      </p:nvGrpSpPr>
                      <p:grpSpPr>
                        <a:xfrm>
                          <a:off x="5655960" y="1732320"/>
                          <a:ext cx="134280" cy="52200"/>
                          <a:chOff x="5655960" y="1732320"/>
                          <a:chExt cx="134280" cy="52200"/>
                        </a:xfrm>
                      </p:grpSpPr>
                      <p:grpSp>
                        <p:nvGrpSpPr>
                          <p:cNvPr id="3830" name=""/>
                          <p:cNvGrpSpPr/>
                          <p:nvPr/>
                        </p:nvGrpSpPr>
                        <p:grpSpPr>
                          <a:xfrm>
                            <a:off x="5655960" y="1732320"/>
                            <a:ext cx="134280" cy="52200"/>
                            <a:chOff x="5655960" y="1732320"/>
                            <a:chExt cx="134280" cy="52200"/>
                          </a:xfrm>
                        </p:grpSpPr>
                        <p:sp>
                          <p:nvSpPr>
                            <p:cNvPr id="3831" name=""/>
                            <p:cNvSpPr/>
                            <p:nvPr/>
                          </p:nvSpPr>
                          <p:spPr>
                            <a:xfrm>
                              <a:off x="5655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32" name=""/>
                            <p:cNvSpPr/>
                            <p:nvPr/>
                          </p:nvSpPr>
                          <p:spPr>
                            <a:xfrm>
                              <a:off x="5657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33" name=""/>
                          <p:cNvSpPr/>
                          <p:nvPr/>
                        </p:nvSpPr>
                        <p:spPr>
                          <a:xfrm>
                            <a:off x="5658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34" name=""/>
                        <p:cNvGrpSpPr/>
                        <p:nvPr/>
                      </p:nvGrpSpPr>
                      <p:grpSpPr>
                        <a:xfrm>
                          <a:off x="5661720" y="1775160"/>
                          <a:ext cx="124560" cy="7920"/>
                          <a:chOff x="5661720" y="1775160"/>
                          <a:chExt cx="124560" cy="7920"/>
                        </a:xfrm>
                      </p:grpSpPr>
                      <p:grpSp>
                        <p:nvGrpSpPr>
                          <p:cNvPr id="3835" name=""/>
                          <p:cNvGrpSpPr/>
                          <p:nvPr/>
                        </p:nvGrpSpPr>
                        <p:grpSpPr>
                          <a:xfrm>
                            <a:off x="5661720" y="1775160"/>
                            <a:ext cx="61560" cy="7920"/>
                            <a:chOff x="5661720" y="1775160"/>
                            <a:chExt cx="61560" cy="7920"/>
                          </a:xfrm>
                        </p:grpSpPr>
                        <p:grpSp>
                          <p:nvGrpSpPr>
                            <p:cNvPr id="3836" name=""/>
                            <p:cNvGrpSpPr/>
                            <p:nvPr/>
                          </p:nvGrpSpPr>
                          <p:grpSpPr>
                            <a:xfrm>
                              <a:off x="5661720" y="1775160"/>
                              <a:ext cx="29880" cy="7920"/>
                              <a:chOff x="5661720" y="1775160"/>
                              <a:chExt cx="29880" cy="7920"/>
                            </a:xfrm>
                          </p:grpSpPr>
                          <p:grpSp>
                            <p:nvGrpSpPr>
                              <p:cNvPr id="3837" name=""/>
                              <p:cNvGrpSpPr/>
                              <p:nvPr/>
                            </p:nvGrpSpPr>
                            <p:grpSpPr>
                              <a:xfrm>
                                <a:off x="5661720" y="1775160"/>
                                <a:ext cx="14400" cy="7920"/>
                                <a:chOff x="5661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38" name=""/>
                                <p:cNvGrpSpPr/>
                                <p:nvPr/>
                              </p:nvGrpSpPr>
                              <p:grpSpPr>
                                <a:xfrm>
                                  <a:off x="5661720" y="1775160"/>
                                  <a:ext cx="6840" cy="7920"/>
                                  <a:chOff x="5661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1720" y="1775160"/>
                                    <a:ext cx="2520" cy="7920"/>
                                    <a:chOff x="5661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3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4600" y="1775160"/>
                                    <a:ext cx="3960" cy="7920"/>
                                    <a:chOff x="5664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4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45" name=""/>
                                <p:cNvGrpSpPr/>
                                <p:nvPr/>
                              </p:nvGrpSpPr>
                              <p:grpSpPr>
                                <a:xfrm>
                                  <a:off x="5669280" y="1775160"/>
                                  <a:ext cx="6840" cy="7920"/>
                                  <a:chOff x="5669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9280" y="1775160"/>
                                    <a:ext cx="2520" cy="7920"/>
                                    <a:chOff x="5669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9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2160" y="1775160"/>
                                    <a:ext cx="3960" cy="7920"/>
                                    <a:chOff x="5672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52" name=""/>
                              <p:cNvGrpSpPr/>
                              <p:nvPr/>
                            </p:nvGrpSpPr>
                            <p:grpSpPr>
                              <a:xfrm>
                                <a:off x="5677200" y="1775160"/>
                                <a:ext cx="14400" cy="7920"/>
                                <a:chOff x="5677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53" name=""/>
                                <p:cNvGrpSpPr/>
                                <p:nvPr/>
                              </p:nvGrpSpPr>
                              <p:grpSpPr>
                                <a:xfrm>
                                  <a:off x="5677200" y="1775160"/>
                                  <a:ext cx="6840" cy="7920"/>
                                  <a:chOff x="5677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7200" y="1775160"/>
                                    <a:ext cx="2520" cy="7920"/>
                                    <a:chOff x="5677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7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8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080" y="1775160"/>
                                    <a:ext cx="3960" cy="7920"/>
                                    <a:chOff x="5680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60" name=""/>
                                <p:cNvGrpSpPr/>
                                <p:nvPr/>
                              </p:nvGrpSpPr>
                              <p:grpSpPr>
                                <a:xfrm>
                                  <a:off x="5684760" y="1775160"/>
                                  <a:ext cx="6840" cy="7920"/>
                                  <a:chOff x="5684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4760" y="1775160"/>
                                    <a:ext cx="2520" cy="7920"/>
                                    <a:chOff x="5684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4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7640" y="1775160"/>
                                    <a:ext cx="3960" cy="7920"/>
                                    <a:chOff x="5687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7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867" name=""/>
                            <p:cNvGrpSpPr/>
                            <p:nvPr/>
                          </p:nvGrpSpPr>
                          <p:grpSpPr>
                            <a:xfrm>
                              <a:off x="5693040" y="1775160"/>
                              <a:ext cx="30240" cy="7920"/>
                              <a:chOff x="5693040" y="1775160"/>
                              <a:chExt cx="30240" cy="7920"/>
                            </a:xfrm>
                          </p:grpSpPr>
                          <p:grpSp>
                            <p:nvGrpSpPr>
                              <p:cNvPr id="3868" name=""/>
                              <p:cNvGrpSpPr/>
                              <p:nvPr/>
                            </p:nvGrpSpPr>
                            <p:grpSpPr>
                              <a:xfrm>
                                <a:off x="5693040" y="1775160"/>
                                <a:ext cx="14760" cy="7920"/>
                                <a:chOff x="5693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3869" name=""/>
                                <p:cNvGrpSpPr/>
                                <p:nvPr/>
                              </p:nvGrpSpPr>
                              <p:grpSpPr>
                                <a:xfrm>
                                  <a:off x="5693040" y="1775160"/>
                                  <a:ext cx="7200" cy="7920"/>
                                  <a:chOff x="5693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8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3040" y="1775160"/>
                                    <a:ext cx="2520" cy="7920"/>
                                    <a:chOff x="5693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3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7720" y="1775160"/>
                                    <a:ext cx="2520" cy="7920"/>
                                    <a:chOff x="5697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8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76" name=""/>
                                <p:cNvGrpSpPr/>
                                <p:nvPr/>
                              </p:nvGrpSpPr>
                              <p:grpSpPr>
                                <a:xfrm>
                                  <a:off x="5700960" y="1775160"/>
                                  <a:ext cx="6840" cy="7920"/>
                                  <a:chOff x="5700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0960" y="1775160"/>
                                    <a:ext cx="2160" cy="7920"/>
                                    <a:chOff x="5700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5280" y="1775160"/>
                                    <a:ext cx="2520" cy="7920"/>
                                    <a:chOff x="570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83" name=""/>
                              <p:cNvGrpSpPr/>
                              <p:nvPr/>
                            </p:nvGrpSpPr>
                            <p:grpSpPr>
                              <a:xfrm>
                                <a:off x="5708880" y="1775160"/>
                                <a:ext cx="14400" cy="7920"/>
                                <a:chOff x="5708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84" name=""/>
                                <p:cNvGrpSpPr/>
                                <p:nvPr/>
                              </p:nvGrpSpPr>
                              <p:grpSpPr>
                                <a:xfrm>
                                  <a:off x="5708880" y="1775160"/>
                                  <a:ext cx="6840" cy="7920"/>
                                  <a:chOff x="5708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8880" y="1775160"/>
                                    <a:ext cx="2160" cy="7920"/>
                                    <a:chOff x="5708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8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3200" y="1775160"/>
                                    <a:ext cx="2520" cy="7920"/>
                                    <a:chOff x="5713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4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91" name=""/>
                                <p:cNvGrpSpPr/>
                                <p:nvPr/>
                              </p:nvGrpSpPr>
                              <p:grpSpPr>
                                <a:xfrm>
                                  <a:off x="5716440" y="1775160"/>
                                  <a:ext cx="6840" cy="7920"/>
                                  <a:chOff x="5716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440" y="1775160"/>
                                    <a:ext cx="2160" cy="7920"/>
                                    <a:chOff x="5716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8960" y="1775160"/>
                                    <a:ext cx="4320" cy="7920"/>
                                    <a:chOff x="5718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898" name=""/>
                          <p:cNvGrpSpPr/>
                          <p:nvPr/>
                        </p:nvGrpSpPr>
                        <p:grpSpPr>
                          <a:xfrm>
                            <a:off x="5725080" y="1775160"/>
                            <a:ext cx="61200" cy="7920"/>
                            <a:chOff x="5725080" y="1775160"/>
                            <a:chExt cx="61200" cy="7920"/>
                          </a:xfrm>
                        </p:grpSpPr>
                        <p:grpSp>
                          <p:nvGrpSpPr>
                            <p:cNvPr id="3899" name=""/>
                            <p:cNvGrpSpPr/>
                            <p:nvPr/>
                          </p:nvGrpSpPr>
                          <p:grpSpPr>
                            <a:xfrm>
                              <a:off x="5725080" y="1775160"/>
                              <a:ext cx="29880" cy="7920"/>
                              <a:chOff x="5725080" y="1775160"/>
                              <a:chExt cx="29880" cy="7920"/>
                            </a:xfrm>
                          </p:grpSpPr>
                          <p:grpSp>
                            <p:nvGrpSpPr>
                              <p:cNvPr id="3900" name=""/>
                              <p:cNvGrpSpPr/>
                              <p:nvPr/>
                            </p:nvGrpSpPr>
                            <p:grpSpPr>
                              <a:xfrm>
                                <a:off x="5725080" y="1775160"/>
                                <a:ext cx="14400" cy="7920"/>
                                <a:chOff x="5725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01" name=""/>
                                <p:cNvGrpSpPr/>
                                <p:nvPr/>
                              </p:nvGrpSpPr>
                              <p:grpSpPr>
                                <a:xfrm>
                                  <a:off x="5725080" y="1775160"/>
                                  <a:ext cx="6840" cy="7920"/>
                                  <a:chOff x="5725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5080" y="1775160"/>
                                    <a:ext cx="2520" cy="7920"/>
                                    <a:chOff x="572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1775160"/>
                                    <a:ext cx="3960" cy="7920"/>
                                    <a:chOff x="5727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08" name=""/>
                                <p:cNvGrpSpPr/>
                                <p:nvPr/>
                              </p:nvGrpSpPr>
                              <p:grpSpPr>
                                <a:xfrm>
                                  <a:off x="5732640" y="1775160"/>
                                  <a:ext cx="6840" cy="7920"/>
                                  <a:chOff x="5732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640" y="1775160"/>
                                    <a:ext cx="2520" cy="7920"/>
                                    <a:chOff x="573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6960" y="1775160"/>
                                    <a:ext cx="2520" cy="7920"/>
                                    <a:chOff x="573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15" name=""/>
                              <p:cNvGrpSpPr/>
                              <p:nvPr/>
                            </p:nvGrpSpPr>
                            <p:grpSpPr>
                              <a:xfrm>
                                <a:off x="5740560" y="1775160"/>
                                <a:ext cx="14400" cy="7920"/>
                                <a:chOff x="5740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16" name=""/>
                                <p:cNvGrpSpPr/>
                                <p:nvPr/>
                              </p:nvGrpSpPr>
                              <p:grpSpPr>
                                <a:xfrm>
                                  <a:off x="5740560" y="1775160"/>
                                  <a:ext cx="6840" cy="7920"/>
                                  <a:chOff x="5740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0560" y="1775160"/>
                                    <a:ext cx="2520" cy="7920"/>
                                    <a:chOff x="5740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1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880" y="1775160"/>
                                    <a:ext cx="2520" cy="7920"/>
                                    <a:chOff x="574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23" name=""/>
                                <p:cNvGrpSpPr/>
                                <p:nvPr/>
                              </p:nvGrpSpPr>
                              <p:grpSpPr>
                                <a:xfrm>
                                  <a:off x="5748120" y="1775160"/>
                                  <a:ext cx="6840" cy="7920"/>
                                  <a:chOff x="5748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8120" y="1775160"/>
                                    <a:ext cx="2520" cy="7920"/>
                                    <a:chOff x="5748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8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000" y="1775160"/>
                                    <a:ext cx="3960" cy="7920"/>
                                    <a:chOff x="5751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930" name=""/>
                            <p:cNvGrpSpPr/>
                            <p:nvPr/>
                          </p:nvGrpSpPr>
                          <p:grpSpPr>
                            <a:xfrm>
                              <a:off x="5756400" y="1775160"/>
                              <a:ext cx="29880" cy="7920"/>
                              <a:chOff x="5756400" y="1775160"/>
                              <a:chExt cx="29880" cy="7920"/>
                            </a:xfrm>
                          </p:grpSpPr>
                          <p:grpSp>
                            <p:nvGrpSpPr>
                              <p:cNvPr id="3931" name=""/>
                              <p:cNvGrpSpPr/>
                              <p:nvPr/>
                            </p:nvGrpSpPr>
                            <p:grpSpPr>
                              <a:xfrm>
                                <a:off x="5756400" y="1775160"/>
                                <a:ext cx="14400" cy="7920"/>
                                <a:chOff x="5756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32" name=""/>
                                <p:cNvGrpSpPr/>
                                <p:nvPr/>
                              </p:nvGrpSpPr>
                              <p:grpSpPr>
                                <a:xfrm>
                                  <a:off x="5756400" y="1775160"/>
                                  <a:ext cx="6840" cy="7920"/>
                                  <a:chOff x="5756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400" y="1775160"/>
                                    <a:ext cx="2520" cy="7920"/>
                                    <a:chOff x="5756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0720" y="1775160"/>
                                    <a:ext cx="2520" cy="7920"/>
                                    <a:chOff x="576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2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39" name=""/>
                                <p:cNvGrpSpPr/>
                                <p:nvPr/>
                              </p:nvGrpSpPr>
                              <p:grpSpPr>
                                <a:xfrm>
                                  <a:off x="5763960" y="1775160"/>
                                  <a:ext cx="6840" cy="7920"/>
                                  <a:chOff x="576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1775160"/>
                                    <a:ext cx="2520" cy="7920"/>
                                    <a:chOff x="576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6840" y="1775160"/>
                                    <a:ext cx="3960" cy="7920"/>
                                    <a:chOff x="576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9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46" name=""/>
                              <p:cNvGrpSpPr/>
                              <p:nvPr/>
                            </p:nvGrpSpPr>
                            <p:grpSpPr>
                              <a:xfrm>
                                <a:off x="5771880" y="1775160"/>
                                <a:ext cx="14400" cy="7920"/>
                                <a:chOff x="577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47" name=""/>
                                <p:cNvGrpSpPr/>
                                <p:nvPr/>
                              </p:nvGrpSpPr>
                              <p:grpSpPr>
                                <a:xfrm>
                                  <a:off x="5771880" y="1775160"/>
                                  <a:ext cx="6840" cy="7920"/>
                                  <a:chOff x="577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1880" y="1775160"/>
                                    <a:ext cx="2520" cy="7920"/>
                                    <a:chOff x="5771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6200" y="1775160"/>
                                    <a:ext cx="2520" cy="7920"/>
                                    <a:chOff x="577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7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54" name=""/>
                                <p:cNvGrpSpPr/>
                                <p:nvPr/>
                              </p:nvGrpSpPr>
                              <p:grpSpPr>
                                <a:xfrm>
                                  <a:off x="5779440" y="1775160"/>
                                  <a:ext cx="6840" cy="7920"/>
                                  <a:chOff x="577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440" y="1775160"/>
                                    <a:ext cx="2520" cy="7920"/>
                                    <a:chOff x="577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760" y="1775160"/>
                                    <a:ext cx="2520" cy="7920"/>
                                    <a:chOff x="578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961" name=""/>
                      <p:cNvGrpSpPr/>
                      <p:nvPr/>
                    </p:nvGrpSpPr>
                    <p:grpSpPr>
                      <a:xfrm>
                        <a:off x="5658480" y="1746360"/>
                        <a:ext cx="128160" cy="22320"/>
                        <a:chOff x="5658480" y="1746360"/>
                        <a:chExt cx="128160" cy="22320"/>
                      </a:xfrm>
                    </p:grpSpPr>
                    <p:sp>
                      <p:nvSpPr>
                        <p:cNvPr id="3962" name=""/>
                        <p:cNvSpPr/>
                        <p:nvPr/>
                      </p:nvSpPr>
                      <p:spPr>
                        <a:xfrm>
                          <a:off x="5658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3" name=""/>
                        <p:cNvSpPr/>
                        <p:nvPr/>
                      </p:nvSpPr>
                      <p:spPr>
                        <a:xfrm>
                          <a:off x="5686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4" name=""/>
                        <p:cNvSpPr/>
                        <p:nvPr/>
                      </p:nvSpPr>
                      <p:spPr>
                        <a:xfrm>
                          <a:off x="5726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5" name=""/>
                        <p:cNvSpPr/>
                        <p:nvPr/>
                      </p:nvSpPr>
                      <p:spPr>
                        <a:xfrm>
                          <a:off x="5767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66" name=""/>
                    <p:cNvGrpSpPr/>
                    <p:nvPr/>
                  </p:nvGrpSpPr>
                  <p:grpSpPr>
                    <a:xfrm>
                      <a:off x="5771520" y="1749600"/>
                      <a:ext cx="11880" cy="11160"/>
                      <a:chOff x="5771520" y="1749600"/>
                      <a:chExt cx="11880" cy="11160"/>
                    </a:xfrm>
                  </p:grpSpPr>
                  <p:sp>
                    <p:nvSpPr>
                      <p:cNvPr id="3967" name=""/>
                      <p:cNvSpPr/>
                      <p:nvPr/>
                    </p:nvSpPr>
                    <p:spPr>
                      <a:xfrm>
                        <a:off x="5775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8" name=""/>
                      <p:cNvSpPr/>
                      <p:nvPr/>
                    </p:nvSpPr>
                    <p:spPr>
                      <a:xfrm>
                        <a:off x="5777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69" name=""/>
                      <p:cNvGrpSpPr/>
                      <p:nvPr/>
                    </p:nvGrpSpPr>
                    <p:grpSpPr>
                      <a:xfrm>
                        <a:off x="5771520" y="1751400"/>
                        <a:ext cx="2520" cy="6120"/>
                        <a:chOff x="5771520" y="1751400"/>
                        <a:chExt cx="2520" cy="6120"/>
                      </a:xfrm>
                    </p:grpSpPr>
                    <p:sp>
                      <p:nvSpPr>
                        <p:cNvPr id="3970" name=""/>
                        <p:cNvSpPr/>
                        <p:nvPr/>
                      </p:nvSpPr>
                      <p:spPr>
                        <a:xfrm>
                          <a:off x="5771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1" name=""/>
                        <p:cNvSpPr/>
                        <p:nvPr/>
                      </p:nvSpPr>
                      <p:spPr>
                        <a:xfrm>
                          <a:off x="5771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2" name=""/>
                    <p:cNvGrpSpPr/>
                    <p:nvPr/>
                  </p:nvGrpSpPr>
                  <p:grpSpPr>
                    <a:xfrm>
                      <a:off x="5688720" y="1749600"/>
                      <a:ext cx="36000" cy="14400"/>
                      <a:chOff x="5688720" y="1749600"/>
                      <a:chExt cx="36000" cy="14400"/>
                    </a:xfrm>
                  </p:grpSpPr>
                  <p:grpSp>
                    <p:nvGrpSpPr>
                      <p:cNvPr id="3973" name=""/>
                      <p:cNvGrpSpPr/>
                      <p:nvPr/>
                    </p:nvGrpSpPr>
                    <p:grpSpPr>
                      <a:xfrm>
                        <a:off x="5690160" y="1749600"/>
                        <a:ext cx="34560" cy="7920"/>
                        <a:chOff x="5690160" y="1749600"/>
                        <a:chExt cx="34560" cy="7920"/>
                      </a:xfrm>
                    </p:grpSpPr>
                    <p:sp>
                      <p:nvSpPr>
                        <p:cNvPr id="3974" name=""/>
                        <p:cNvSpPr/>
                        <p:nvPr/>
                      </p:nvSpPr>
                      <p:spPr>
                        <a:xfrm>
                          <a:off x="5699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5" name=""/>
                        <p:cNvSpPr/>
                        <p:nvPr/>
                      </p:nvSpPr>
                      <p:spPr>
                        <a:xfrm>
                          <a:off x="5699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6" name=""/>
                        <p:cNvSpPr/>
                        <p:nvPr/>
                      </p:nvSpPr>
                      <p:spPr>
                        <a:xfrm>
                          <a:off x="5690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77" name=""/>
                      <p:cNvSpPr/>
                      <p:nvPr/>
                    </p:nvSpPr>
                    <p:spPr>
                      <a:xfrm>
                        <a:off x="5688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8" name=""/>
                      <p:cNvSpPr/>
                      <p:nvPr/>
                    </p:nvSpPr>
                    <p:spPr>
                      <a:xfrm>
                        <a:off x="5717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79" name=""/>
                    <p:cNvGrpSpPr/>
                    <p:nvPr/>
                  </p:nvGrpSpPr>
                  <p:grpSpPr>
                    <a:xfrm>
                      <a:off x="5661720" y="1762560"/>
                      <a:ext cx="21960" cy="4680"/>
                      <a:chOff x="5661720" y="1762560"/>
                      <a:chExt cx="21960" cy="4680"/>
                    </a:xfrm>
                  </p:grpSpPr>
                  <p:grpSp>
                    <p:nvGrpSpPr>
                      <p:cNvPr id="3980" name=""/>
                      <p:cNvGrpSpPr/>
                      <p:nvPr/>
                    </p:nvGrpSpPr>
                    <p:grpSpPr>
                      <a:xfrm>
                        <a:off x="5661720" y="1762560"/>
                        <a:ext cx="11520" cy="4680"/>
                        <a:chOff x="5661720" y="1762560"/>
                        <a:chExt cx="11520" cy="4680"/>
                      </a:xfrm>
                    </p:grpSpPr>
                    <p:grpSp>
                      <p:nvGrpSpPr>
                        <p:cNvPr id="3981" name=""/>
                        <p:cNvGrpSpPr/>
                        <p:nvPr/>
                      </p:nvGrpSpPr>
                      <p:grpSpPr>
                        <a:xfrm>
                          <a:off x="5661720" y="1762560"/>
                          <a:ext cx="5400" cy="4680"/>
                          <a:chOff x="5661720" y="1762560"/>
                          <a:chExt cx="5400" cy="4680"/>
                        </a:xfrm>
                      </p:grpSpPr>
                      <p:grpSp>
                        <p:nvGrpSpPr>
                          <p:cNvPr id="3982" name=""/>
                          <p:cNvGrpSpPr/>
                          <p:nvPr/>
                        </p:nvGrpSpPr>
                        <p:grpSpPr>
                          <a:xfrm>
                            <a:off x="5661720" y="1762560"/>
                            <a:ext cx="2520" cy="4680"/>
                            <a:chOff x="5661720" y="1762560"/>
                            <a:chExt cx="2520" cy="4680"/>
                          </a:xfrm>
                        </p:grpSpPr>
                        <p:sp>
                          <p:nvSpPr>
                            <p:cNvPr id="3983" name=""/>
                            <p:cNvSpPr/>
                            <p:nvPr/>
                          </p:nvSpPr>
                          <p:spPr>
                            <a:xfrm>
                              <a:off x="5661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4" name=""/>
                            <p:cNvSpPr/>
                            <p:nvPr/>
                          </p:nvSpPr>
                          <p:spPr>
                            <a:xfrm>
                              <a:off x="5663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85" name=""/>
                          <p:cNvGrpSpPr/>
                          <p:nvPr/>
                        </p:nvGrpSpPr>
                        <p:grpSpPr>
                          <a:xfrm>
                            <a:off x="5664600" y="1762560"/>
                            <a:ext cx="2520" cy="4680"/>
                            <a:chOff x="5664600" y="1762560"/>
                            <a:chExt cx="2520" cy="4680"/>
                          </a:xfrm>
                        </p:grpSpPr>
                        <p:sp>
                          <p:nvSpPr>
                            <p:cNvPr id="3986" name=""/>
                            <p:cNvSpPr/>
                            <p:nvPr/>
                          </p:nvSpPr>
                          <p:spPr>
                            <a:xfrm>
                              <a:off x="5664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7" name=""/>
                            <p:cNvSpPr/>
                            <p:nvPr/>
                          </p:nvSpPr>
                          <p:spPr>
                            <a:xfrm>
                              <a:off x="5666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88" name=""/>
                        <p:cNvGrpSpPr/>
                        <p:nvPr/>
                      </p:nvGrpSpPr>
                      <p:grpSpPr>
                        <a:xfrm>
                          <a:off x="5667840" y="1762560"/>
                          <a:ext cx="5400" cy="4680"/>
                          <a:chOff x="5667840" y="1762560"/>
                          <a:chExt cx="5400" cy="4680"/>
                        </a:xfrm>
                      </p:grpSpPr>
                      <p:grpSp>
                        <p:nvGrpSpPr>
                          <p:cNvPr id="3989" name=""/>
                          <p:cNvGrpSpPr/>
                          <p:nvPr/>
                        </p:nvGrpSpPr>
                        <p:grpSpPr>
                          <a:xfrm>
                            <a:off x="5667840" y="1762560"/>
                            <a:ext cx="2520" cy="4680"/>
                            <a:chOff x="5667840" y="1762560"/>
                            <a:chExt cx="2520" cy="4680"/>
                          </a:xfrm>
                        </p:grpSpPr>
                        <p:sp>
                          <p:nvSpPr>
                            <p:cNvPr id="3990" name=""/>
                            <p:cNvSpPr/>
                            <p:nvPr/>
                          </p:nvSpPr>
                          <p:spPr>
                            <a:xfrm>
                              <a:off x="5667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1" name=""/>
                            <p:cNvSpPr/>
                            <p:nvPr/>
                          </p:nvSpPr>
                          <p:spPr>
                            <a:xfrm>
                              <a:off x="5668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2" name=""/>
                          <p:cNvGrpSpPr/>
                          <p:nvPr/>
                        </p:nvGrpSpPr>
                        <p:grpSpPr>
                          <a:xfrm>
                            <a:off x="5670720" y="1762560"/>
                            <a:ext cx="2520" cy="4680"/>
                            <a:chOff x="5670720" y="1762560"/>
                            <a:chExt cx="2520" cy="4680"/>
                          </a:xfrm>
                        </p:grpSpPr>
                        <p:sp>
                          <p:nvSpPr>
                            <p:cNvPr id="3993" name=""/>
                            <p:cNvSpPr/>
                            <p:nvPr/>
                          </p:nvSpPr>
                          <p:spPr>
                            <a:xfrm>
                              <a:off x="5670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4" name=""/>
                            <p:cNvSpPr/>
                            <p:nvPr/>
                          </p:nvSpPr>
                          <p:spPr>
                            <a:xfrm>
                              <a:off x="5671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995" name=""/>
                      <p:cNvGrpSpPr/>
                      <p:nvPr/>
                    </p:nvGrpSpPr>
                    <p:grpSpPr>
                      <a:xfrm>
                        <a:off x="5674320" y="1762560"/>
                        <a:ext cx="9360" cy="4680"/>
                        <a:chOff x="5674320" y="1762560"/>
                        <a:chExt cx="9360" cy="4680"/>
                      </a:xfrm>
                    </p:grpSpPr>
                    <p:grpSp>
                      <p:nvGrpSpPr>
                        <p:cNvPr id="3996" name=""/>
                        <p:cNvGrpSpPr/>
                        <p:nvPr/>
                      </p:nvGrpSpPr>
                      <p:grpSpPr>
                        <a:xfrm>
                          <a:off x="5674320" y="1762560"/>
                          <a:ext cx="5040" cy="4680"/>
                          <a:chOff x="5674320" y="1762560"/>
                          <a:chExt cx="5040" cy="4680"/>
                        </a:xfrm>
                      </p:grpSpPr>
                      <p:grpSp>
                        <p:nvGrpSpPr>
                          <p:cNvPr id="3997" name=""/>
                          <p:cNvGrpSpPr/>
                          <p:nvPr/>
                        </p:nvGrpSpPr>
                        <p:grpSpPr>
                          <a:xfrm>
                            <a:off x="5674320" y="1762560"/>
                            <a:ext cx="2160" cy="4680"/>
                            <a:chOff x="5674320" y="1762560"/>
                            <a:chExt cx="2160" cy="4680"/>
                          </a:xfrm>
                        </p:grpSpPr>
                        <p:sp>
                          <p:nvSpPr>
                            <p:cNvPr id="3998" name=""/>
                            <p:cNvSpPr/>
                            <p:nvPr/>
                          </p:nvSpPr>
                          <p:spPr>
                            <a:xfrm>
                              <a:off x="5674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9" name=""/>
                            <p:cNvSpPr/>
                            <p:nvPr/>
                          </p:nvSpPr>
                          <p:spPr>
                            <a:xfrm>
                              <a:off x="5675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0" name=""/>
                          <p:cNvGrpSpPr/>
                          <p:nvPr/>
                        </p:nvGrpSpPr>
                        <p:grpSpPr>
                          <a:xfrm>
                            <a:off x="5676840" y="1762560"/>
                            <a:ext cx="2520" cy="4680"/>
                            <a:chOff x="5676840" y="1762560"/>
                            <a:chExt cx="2520" cy="4680"/>
                          </a:xfrm>
                        </p:grpSpPr>
                        <p:sp>
                          <p:nvSpPr>
                            <p:cNvPr id="4001" name=""/>
                            <p:cNvSpPr/>
                            <p:nvPr/>
                          </p:nvSpPr>
                          <p:spPr>
                            <a:xfrm>
                              <a:off x="5676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2" name=""/>
                            <p:cNvSpPr/>
                            <p:nvPr/>
                          </p:nvSpPr>
                          <p:spPr>
                            <a:xfrm>
                              <a:off x="5678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003" name=""/>
                        <p:cNvGrpSpPr/>
                        <p:nvPr/>
                      </p:nvGrpSpPr>
                      <p:grpSpPr>
                        <a:xfrm>
                          <a:off x="5680080" y="1762560"/>
                          <a:ext cx="3600" cy="4680"/>
                          <a:chOff x="5680080" y="1762560"/>
                          <a:chExt cx="3600" cy="4680"/>
                        </a:xfrm>
                      </p:grpSpPr>
                      <p:grpSp>
                        <p:nvGrpSpPr>
                          <p:cNvPr id="4004" name=""/>
                          <p:cNvGrpSpPr/>
                          <p:nvPr/>
                        </p:nvGrpSpPr>
                        <p:grpSpPr>
                          <a:xfrm>
                            <a:off x="5680080" y="1762560"/>
                            <a:ext cx="1440" cy="4680"/>
                            <a:chOff x="5680080" y="1762560"/>
                            <a:chExt cx="1440" cy="4680"/>
                          </a:xfrm>
                        </p:grpSpPr>
                        <p:sp>
                          <p:nvSpPr>
                            <p:cNvPr id="4005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6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7" name=""/>
                          <p:cNvGrpSpPr/>
                          <p:nvPr/>
                        </p:nvGrpSpPr>
                        <p:grpSpPr>
                          <a:xfrm>
                            <a:off x="5681520" y="1762560"/>
                            <a:ext cx="2160" cy="4680"/>
                            <a:chOff x="5681520" y="1762560"/>
                            <a:chExt cx="2160" cy="4680"/>
                          </a:xfrm>
                        </p:grpSpPr>
                        <p:sp>
                          <p:nvSpPr>
                            <p:cNvPr id="4008" name=""/>
                            <p:cNvSpPr/>
                            <p:nvPr/>
                          </p:nvSpPr>
                          <p:spPr>
                            <a:xfrm>
                              <a:off x="5681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9" name=""/>
                            <p:cNvSpPr/>
                            <p:nvPr/>
                          </p:nvSpPr>
                          <p:spPr>
                            <a:xfrm>
                              <a:off x="5682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010" name=""/>
                    <p:cNvSpPr/>
                    <p:nvPr/>
                  </p:nvSpPr>
                  <p:spPr>
                    <a:xfrm>
                      <a:off x="5660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1" name=""/>
                  <p:cNvGrpSpPr/>
                  <p:nvPr/>
                </p:nvGrpSpPr>
                <p:grpSpPr>
                  <a:xfrm>
                    <a:off x="5616360" y="1781640"/>
                    <a:ext cx="210960" cy="29880"/>
                    <a:chOff x="5616360" y="1781640"/>
                    <a:chExt cx="210960" cy="29880"/>
                  </a:xfrm>
                </p:grpSpPr>
                <p:grpSp>
                  <p:nvGrpSpPr>
                    <p:cNvPr id="4012" name=""/>
                    <p:cNvGrpSpPr/>
                    <p:nvPr/>
                  </p:nvGrpSpPr>
                  <p:grpSpPr>
                    <a:xfrm>
                      <a:off x="5616360" y="1781640"/>
                      <a:ext cx="210960" cy="29880"/>
                      <a:chOff x="5616360" y="1781640"/>
                      <a:chExt cx="210960" cy="29880"/>
                    </a:xfrm>
                  </p:grpSpPr>
                  <p:sp>
                    <p:nvSpPr>
                      <p:cNvPr id="4013" name=""/>
                      <p:cNvSpPr/>
                      <p:nvPr/>
                    </p:nvSpPr>
                    <p:spPr>
                      <a:xfrm>
                        <a:off x="5616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4" name=""/>
                      <p:cNvSpPr/>
                      <p:nvPr/>
                    </p:nvSpPr>
                    <p:spPr>
                      <a:xfrm>
                        <a:off x="5616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5" name=""/>
                      <p:cNvSpPr/>
                      <p:nvPr/>
                    </p:nvSpPr>
                    <p:spPr>
                      <a:xfrm>
                        <a:off x="5622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16" name=""/>
                    <p:cNvGrpSpPr/>
                    <p:nvPr/>
                  </p:nvGrpSpPr>
                  <p:grpSpPr>
                    <a:xfrm>
                      <a:off x="5638320" y="1784520"/>
                      <a:ext cx="165960" cy="5040"/>
                      <a:chOff x="5638320" y="1784520"/>
                      <a:chExt cx="165960" cy="5040"/>
                    </a:xfrm>
                  </p:grpSpPr>
                  <p:sp>
                    <p:nvSpPr>
                      <p:cNvPr id="4017" name=""/>
                      <p:cNvSpPr/>
                      <p:nvPr/>
                    </p:nvSpPr>
                    <p:spPr>
                      <a:xfrm>
                        <a:off x="5638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8" name=""/>
                      <p:cNvSpPr/>
                      <p:nvPr/>
                    </p:nvSpPr>
                    <p:spPr>
                      <a:xfrm>
                        <a:off x="5655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9" name=""/>
                      <p:cNvSpPr/>
                      <p:nvPr/>
                    </p:nvSpPr>
                    <p:spPr>
                      <a:xfrm>
                        <a:off x="5688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0" name=""/>
                      <p:cNvSpPr/>
                      <p:nvPr/>
                    </p:nvSpPr>
                    <p:spPr>
                      <a:xfrm>
                        <a:off x="5718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1" name=""/>
                      <p:cNvSpPr/>
                      <p:nvPr/>
                    </p:nvSpPr>
                    <p:spPr>
                      <a:xfrm>
                        <a:off x="5749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2" name=""/>
                      <p:cNvSpPr/>
                      <p:nvPr/>
                    </p:nvSpPr>
                    <p:spPr>
                      <a:xfrm>
                        <a:off x="5777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23" name=""/>
                    <p:cNvGrpSpPr/>
                    <p:nvPr/>
                  </p:nvGrpSpPr>
                  <p:grpSpPr>
                    <a:xfrm>
                      <a:off x="5632200" y="1791000"/>
                      <a:ext cx="174960" cy="11160"/>
                      <a:chOff x="5632200" y="1791000"/>
                      <a:chExt cx="174960" cy="11160"/>
                    </a:xfrm>
                  </p:grpSpPr>
                  <p:grpSp>
                    <p:nvGrpSpPr>
                      <p:cNvPr id="4024" name=""/>
                      <p:cNvGrpSpPr/>
                      <p:nvPr/>
                    </p:nvGrpSpPr>
                    <p:grpSpPr>
                      <a:xfrm>
                        <a:off x="5647680" y="1791000"/>
                        <a:ext cx="84960" cy="9360"/>
                        <a:chOff x="5647680" y="1791000"/>
                        <a:chExt cx="84960" cy="9360"/>
                      </a:xfrm>
                    </p:grpSpPr>
                    <p:sp>
                      <p:nvSpPr>
                        <p:cNvPr id="4025" name=""/>
                        <p:cNvSpPr/>
                        <p:nvPr/>
                      </p:nvSpPr>
                      <p:spPr>
                        <a:xfrm>
                          <a:off x="5647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6" name=""/>
                        <p:cNvSpPr/>
                        <p:nvPr/>
                      </p:nvSpPr>
                      <p:spPr>
                        <a:xfrm>
                          <a:off x="5650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7" name=""/>
                        <p:cNvSpPr/>
                        <p:nvPr/>
                      </p:nvSpPr>
                      <p:spPr>
                        <a:xfrm>
                          <a:off x="5652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8" name=""/>
                        <p:cNvSpPr/>
                        <p:nvPr/>
                      </p:nvSpPr>
                      <p:spPr>
                        <a:xfrm>
                          <a:off x="5653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29" name=""/>
                      <p:cNvGrpSpPr/>
                      <p:nvPr/>
                    </p:nvGrpSpPr>
                    <p:grpSpPr>
                      <a:xfrm>
                        <a:off x="5632200" y="1792440"/>
                        <a:ext cx="15480" cy="6480"/>
                        <a:chOff x="5632200" y="1792440"/>
                        <a:chExt cx="15480" cy="6480"/>
                      </a:xfrm>
                    </p:grpSpPr>
                    <p:sp>
                      <p:nvSpPr>
                        <p:cNvPr id="4030" name=""/>
                        <p:cNvSpPr/>
                        <p:nvPr/>
                      </p:nvSpPr>
                      <p:spPr>
                        <a:xfrm>
                          <a:off x="5636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1" name=""/>
                        <p:cNvSpPr/>
                        <p:nvPr/>
                      </p:nvSpPr>
                      <p:spPr>
                        <a:xfrm>
                          <a:off x="5634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2" name=""/>
                        <p:cNvSpPr/>
                        <p:nvPr/>
                      </p:nvSpPr>
                      <p:spPr>
                        <a:xfrm>
                          <a:off x="5632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33" name=""/>
                      <p:cNvGrpSpPr/>
                      <p:nvPr/>
                    </p:nvGrpSpPr>
                    <p:grpSpPr>
                      <a:xfrm>
                        <a:off x="5666760" y="1791000"/>
                        <a:ext cx="78480" cy="9360"/>
                        <a:chOff x="5666760" y="1791000"/>
                        <a:chExt cx="78480" cy="9360"/>
                      </a:xfrm>
                    </p:grpSpPr>
                    <p:sp>
                      <p:nvSpPr>
                        <p:cNvPr id="4034" name=""/>
                        <p:cNvSpPr/>
                        <p:nvPr/>
                      </p:nvSpPr>
                      <p:spPr>
                        <a:xfrm>
                          <a:off x="5666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5" name=""/>
                        <p:cNvSpPr/>
                        <p:nvPr/>
                      </p:nvSpPr>
                      <p:spPr>
                        <a:xfrm>
                          <a:off x="5733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6" name=""/>
                        <p:cNvSpPr/>
                        <p:nvPr/>
                      </p:nvSpPr>
                      <p:spPr>
                        <a:xfrm>
                          <a:off x="5736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7" name=""/>
                        <p:cNvSpPr/>
                        <p:nvPr/>
                      </p:nvSpPr>
                      <p:spPr>
                        <a:xfrm>
                          <a:off x="5729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8" name=""/>
                        <p:cNvSpPr/>
                        <p:nvPr/>
                      </p:nvSpPr>
                      <p:spPr>
                        <a:xfrm>
                          <a:off x="5717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9" name=""/>
                        <p:cNvSpPr/>
                        <p:nvPr/>
                      </p:nvSpPr>
                      <p:spPr>
                        <a:xfrm>
                          <a:off x="5726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0" name=""/>
                      <p:cNvGrpSpPr/>
                      <p:nvPr/>
                    </p:nvGrpSpPr>
                    <p:grpSpPr>
                      <a:xfrm>
                        <a:off x="5749200" y="1792440"/>
                        <a:ext cx="24480" cy="7920"/>
                        <a:chOff x="5749200" y="1792440"/>
                        <a:chExt cx="24480" cy="7920"/>
                      </a:xfrm>
                    </p:grpSpPr>
                    <p:sp>
                      <p:nvSpPr>
                        <p:cNvPr id="4041" name=""/>
                        <p:cNvSpPr/>
                        <p:nvPr/>
                      </p:nvSpPr>
                      <p:spPr>
                        <a:xfrm>
                          <a:off x="5749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2" name=""/>
                        <p:cNvSpPr/>
                        <p:nvPr/>
                      </p:nvSpPr>
                      <p:spPr>
                        <a:xfrm>
                          <a:off x="5752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3" name=""/>
                        <p:cNvSpPr/>
                        <p:nvPr/>
                      </p:nvSpPr>
                      <p:spPr>
                        <a:xfrm>
                          <a:off x="5752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4" name=""/>
                      <p:cNvGrpSpPr/>
                      <p:nvPr/>
                    </p:nvGrpSpPr>
                    <p:grpSpPr>
                      <a:xfrm>
                        <a:off x="5777640" y="1792440"/>
                        <a:ext cx="29520" cy="9720"/>
                        <a:chOff x="5777640" y="1792440"/>
                        <a:chExt cx="29520" cy="9720"/>
                      </a:xfrm>
                    </p:grpSpPr>
                    <p:sp>
                      <p:nvSpPr>
                        <p:cNvPr id="4045" name=""/>
                        <p:cNvSpPr/>
                        <p:nvPr/>
                      </p:nvSpPr>
                      <p:spPr>
                        <a:xfrm>
                          <a:off x="5780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6" name=""/>
                        <p:cNvSpPr/>
                        <p:nvPr/>
                      </p:nvSpPr>
                      <p:spPr>
                        <a:xfrm>
                          <a:off x="5777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7" name=""/>
                        <p:cNvSpPr/>
                        <p:nvPr/>
                      </p:nvSpPr>
                      <p:spPr>
                        <a:xfrm>
                          <a:off x="5780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8" name=""/>
                        <p:cNvSpPr/>
                        <p:nvPr/>
                      </p:nvSpPr>
                      <p:spPr>
                        <a:xfrm>
                          <a:off x="5779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9" name=""/>
                        <p:cNvSpPr/>
                        <p:nvPr/>
                      </p:nvSpPr>
                      <p:spPr>
                        <a:xfrm>
                          <a:off x="5799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50" name=""/>
                        <p:cNvSpPr/>
                        <p:nvPr/>
                      </p:nvSpPr>
                      <p:spPr>
                        <a:xfrm>
                          <a:off x="5801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051" name=""/>
                  <p:cNvGrpSpPr/>
                  <p:nvPr/>
                </p:nvGrpSpPr>
                <p:grpSpPr>
                  <a:xfrm>
                    <a:off x="5677920" y="1722600"/>
                    <a:ext cx="91800" cy="19080"/>
                    <a:chOff x="5677920" y="1722600"/>
                    <a:chExt cx="91800" cy="19080"/>
                  </a:xfrm>
                </p:grpSpPr>
                <p:grpSp>
                  <p:nvGrpSpPr>
                    <p:cNvPr id="4052" name=""/>
                    <p:cNvGrpSpPr/>
                    <p:nvPr/>
                  </p:nvGrpSpPr>
                  <p:grpSpPr>
                    <a:xfrm>
                      <a:off x="5677920" y="1727640"/>
                      <a:ext cx="91800" cy="14040"/>
                      <a:chOff x="5677920" y="1727640"/>
                      <a:chExt cx="91800" cy="14040"/>
                    </a:xfrm>
                  </p:grpSpPr>
                  <p:sp>
                    <p:nvSpPr>
                      <p:cNvPr id="4053" name=""/>
                      <p:cNvSpPr/>
                      <p:nvPr/>
                    </p:nvSpPr>
                    <p:spPr>
                      <a:xfrm>
                        <a:off x="5677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4" name=""/>
                      <p:cNvSpPr/>
                      <p:nvPr/>
                    </p:nvSpPr>
                    <p:spPr>
                      <a:xfrm>
                        <a:off x="5677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55" name=""/>
                    <p:cNvSpPr/>
                    <p:nvPr/>
                  </p:nvSpPr>
                  <p:spPr>
                    <a:xfrm>
                      <a:off x="5698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6" name=""/>
                  <p:cNvSpPr/>
                  <p:nvPr/>
                </p:nvSpPr>
                <p:spPr>
                  <a:xfrm>
                    <a:off x="5667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5679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5684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5762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060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6225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61" name=""/>
            <p:cNvGrpSpPr/>
            <p:nvPr/>
          </p:nvGrpSpPr>
          <p:grpSpPr>
            <a:xfrm>
              <a:off x="6686640" y="5638680"/>
              <a:ext cx="1085760" cy="752400"/>
              <a:chOff x="6686640" y="5638680"/>
              <a:chExt cx="1085760" cy="752400"/>
            </a:xfrm>
          </p:grpSpPr>
          <p:sp>
            <p:nvSpPr>
              <p:cNvPr id="4062" name=""/>
              <p:cNvSpPr/>
              <p:nvPr/>
            </p:nvSpPr>
            <p:spPr>
              <a:xfrm>
                <a:off x="668664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73416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5 Huauchina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064" name=""/>
              <p:cNvGrpSpPr/>
              <p:nvPr/>
            </p:nvGrpSpPr>
            <p:grpSpPr>
              <a:xfrm>
                <a:off x="6759360" y="5694120"/>
                <a:ext cx="821880" cy="488880"/>
                <a:chOff x="6759360" y="5694120"/>
                <a:chExt cx="821880" cy="488880"/>
              </a:xfrm>
            </p:grpSpPr>
            <p:sp>
              <p:nvSpPr>
                <p:cNvPr id="4065" name=""/>
                <p:cNvSpPr/>
                <p:nvPr/>
              </p:nvSpPr>
              <p:spPr>
                <a:xfrm>
                  <a:off x="690192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718776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712116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068" name="pbx" descr=""/>
                <p:cNvPicPr/>
                <p:nvPr/>
              </p:nvPicPr>
              <p:blipFill>
                <a:blip r:embed="rId48"/>
                <a:srcRect l="37594" t="74298" r="28339" b="4834"/>
                <a:stretch/>
              </p:blipFill>
              <p:spPr>
                <a:xfrm>
                  <a:off x="706392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09092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70" name=""/>
                <p:cNvGrpSpPr/>
                <p:nvPr/>
              </p:nvGrpSpPr>
              <p:grpSpPr>
                <a:xfrm>
                  <a:off x="6759360" y="5832360"/>
                  <a:ext cx="210960" cy="169920"/>
                  <a:chOff x="6759360" y="5832360"/>
                  <a:chExt cx="210960" cy="169920"/>
                </a:xfrm>
              </p:grpSpPr>
              <p:grpSp>
                <p:nvGrpSpPr>
                  <p:cNvPr id="4071" name=""/>
                  <p:cNvGrpSpPr/>
                  <p:nvPr/>
                </p:nvGrpSpPr>
                <p:grpSpPr>
                  <a:xfrm>
                    <a:off x="6798960" y="5923080"/>
                    <a:ext cx="134280" cy="52200"/>
                    <a:chOff x="6798960" y="5923080"/>
                    <a:chExt cx="134280" cy="52200"/>
                  </a:xfrm>
                </p:grpSpPr>
                <p:grpSp>
                  <p:nvGrpSpPr>
                    <p:cNvPr id="4072" name=""/>
                    <p:cNvGrpSpPr/>
                    <p:nvPr/>
                  </p:nvGrpSpPr>
                  <p:grpSpPr>
                    <a:xfrm>
                      <a:off x="6798960" y="5923080"/>
                      <a:ext cx="134280" cy="52200"/>
                      <a:chOff x="6798960" y="5923080"/>
                      <a:chExt cx="134280" cy="52200"/>
                    </a:xfrm>
                  </p:grpSpPr>
                  <p:grpSp>
                    <p:nvGrpSpPr>
                      <p:cNvPr id="4073" name=""/>
                      <p:cNvGrpSpPr/>
                      <p:nvPr/>
                    </p:nvGrpSpPr>
                    <p:grpSpPr>
                      <a:xfrm>
                        <a:off x="6798960" y="5923080"/>
                        <a:ext cx="134280" cy="52200"/>
                        <a:chOff x="6798960" y="5923080"/>
                        <a:chExt cx="134280" cy="52200"/>
                      </a:xfrm>
                    </p:grpSpPr>
                    <p:grpSp>
                      <p:nvGrpSpPr>
                        <p:cNvPr id="4074" name=""/>
                        <p:cNvGrpSpPr/>
                        <p:nvPr/>
                      </p:nvGrpSpPr>
                      <p:grpSpPr>
                        <a:xfrm>
                          <a:off x="6798960" y="5923080"/>
                          <a:ext cx="134280" cy="52200"/>
                          <a:chOff x="6798960" y="5923080"/>
                          <a:chExt cx="134280" cy="52200"/>
                        </a:xfrm>
                      </p:grpSpPr>
                      <p:grpSp>
                        <p:nvGrpSpPr>
                          <p:cNvPr id="4075" name=""/>
                          <p:cNvGrpSpPr/>
                          <p:nvPr/>
                        </p:nvGrpSpPr>
                        <p:grpSpPr>
                          <a:xfrm>
                            <a:off x="6798960" y="5923080"/>
                            <a:ext cx="134280" cy="52200"/>
                            <a:chOff x="6798960" y="5923080"/>
                            <a:chExt cx="134280" cy="52200"/>
                          </a:xfrm>
                        </p:grpSpPr>
                        <p:sp>
                          <p:nvSpPr>
                            <p:cNvPr id="4076" name=""/>
                            <p:cNvSpPr/>
                            <p:nvPr/>
                          </p:nvSpPr>
                          <p:spPr>
                            <a:xfrm>
                              <a:off x="679896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77" name=""/>
                            <p:cNvSpPr/>
                            <p:nvPr/>
                          </p:nvSpPr>
                          <p:spPr>
                            <a:xfrm>
                              <a:off x="680004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78" name=""/>
                          <p:cNvSpPr/>
                          <p:nvPr/>
                        </p:nvSpPr>
                        <p:spPr>
                          <a:xfrm>
                            <a:off x="680148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79" name=""/>
                        <p:cNvGrpSpPr/>
                        <p:nvPr/>
                      </p:nvGrpSpPr>
                      <p:grpSpPr>
                        <a:xfrm>
                          <a:off x="6804720" y="5965920"/>
                          <a:ext cx="124560" cy="7920"/>
                          <a:chOff x="6804720" y="5965920"/>
                          <a:chExt cx="124560" cy="7920"/>
                        </a:xfrm>
                      </p:grpSpPr>
                      <p:grpSp>
                        <p:nvGrpSpPr>
                          <p:cNvPr id="4080" name=""/>
                          <p:cNvGrpSpPr/>
                          <p:nvPr/>
                        </p:nvGrpSpPr>
                        <p:grpSpPr>
                          <a:xfrm>
                            <a:off x="6804720" y="5965920"/>
                            <a:ext cx="61560" cy="7920"/>
                            <a:chOff x="6804720" y="5965920"/>
                            <a:chExt cx="61560" cy="7920"/>
                          </a:xfrm>
                        </p:grpSpPr>
                        <p:grpSp>
                          <p:nvGrpSpPr>
                            <p:cNvPr id="4081" name=""/>
                            <p:cNvGrpSpPr/>
                            <p:nvPr/>
                          </p:nvGrpSpPr>
                          <p:grpSpPr>
                            <a:xfrm>
                              <a:off x="6804720" y="5965920"/>
                              <a:ext cx="29880" cy="7920"/>
                              <a:chOff x="6804720" y="5965920"/>
                              <a:chExt cx="29880" cy="7920"/>
                            </a:xfrm>
                          </p:grpSpPr>
                          <p:grpSp>
                            <p:nvGrpSpPr>
                              <p:cNvPr id="4082" name=""/>
                              <p:cNvGrpSpPr/>
                              <p:nvPr/>
                            </p:nvGrpSpPr>
                            <p:grpSpPr>
                              <a:xfrm>
                                <a:off x="6804720" y="5965920"/>
                                <a:ext cx="14400" cy="7920"/>
                                <a:chOff x="680472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8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965920"/>
                                  <a:ext cx="6840" cy="7920"/>
                                  <a:chOff x="68047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965920"/>
                                    <a:ext cx="2520" cy="7920"/>
                                    <a:chOff x="6804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965920"/>
                                    <a:ext cx="3960" cy="7920"/>
                                    <a:chOff x="68076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09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965920"/>
                                  <a:ext cx="6840" cy="7920"/>
                                  <a:chOff x="6812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965920"/>
                                    <a:ext cx="2520" cy="7920"/>
                                    <a:chOff x="6812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965920"/>
                                    <a:ext cx="3960" cy="7920"/>
                                    <a:chOff x="68151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097" name=""/>
                              <p:cNvGrpSpPr/>
                              <p:nvPr/>
                            </p:nvGrpSpPr>
                            <p:grpSpPr>
                              <a:xfrm>
                                <a:off x="6820200" y="5965920"/>
                                <a:ext cx="14400" cy="7920"/>
                                <a:chOff x="68202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9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965920"/>
                                  <a:ext cx="6840" cy="7920"/>
                                  <a:chOff x="68202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965920"/>
                                    <a:ext cx="2520" cy="7920"/>
                                    <a:chOff x="6820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965920"/>
                                    <a:ext cx="3960" cy="7920"/>
                                    <a:chOff x="68230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0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965920"/>
                                  <a:ext cx="6840" cy="7920"/>
                                  <a:chOff x="682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965920"/>
                                    <a:ext cx="2520" cy="7920"/>
                                    <a:chOff x="6827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965920"/>
                                    <a:ext cx="3960" cy="7920"/>
                                    <a:chOff x="68306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12" name=""/>
                            <p:cNvGrpSpPr/>
                            <p:nvPr/>
                          </p:nvGrpSpPr>
                          <p:grpSpPr>
                            <a:xfrm>
                              <a:off x="6836040" y="5965920"/>
                              <a:ext cx="30240" cy="7920"/>
                              <a:chOff x="6836040" y="5965920"/>
                              <a:chExt cx="30240" cy="7920"/>
                            </a:xfrm>
                          </p:grpSpPr>
                          <p:grpSp>
                            <p:nvGrpSpPr>
                              <p:cNvPr id="4113" name=""/>
                              <p:cNvGrpSpPr/>
                              <p:nvPr/>
                            </p:nvGrpSpPr>
                            <p:grpSpPr>
                              <a:xfrm>
                                <a:off x="6836040" y="5965920"/>
                                <a:ext cx="14760" cy="7920"/>
                                <a:chOff x="683604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411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965920"/>
                                  <a:ext cx="7200" cy="7920"/>
                                  <a:chOff x="683604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1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965920"/>
                                    <a:ext cx="2520" cy="7920"/>
                                    <a:chOff x="68360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965920"/>
                                    <a:ext cx="2520" cy="7920"/>
                                    <a:chOff x="6840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2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965920"/>
                                  <a:ext cx="6840" cy="7920"/>
                                  <a:chOff x="684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965920"/>
                                    <a:ext cx="2160" cy="7920"/>
                                    <a:chOff x="68439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965920"/>
                                    <a:ext cx="2520" cy="7920"/>
                                    <a:chOff x="6848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28" name=""/>
                              <p:cNvGrpSpPr/>
                              <p:nvPr/>
                            </p:nvGrpSpPr>
                            <p:grpSpPr>
                              <a:xfrm>
                                <a:off x="6851880" y="5965920"/>
                                <a:ext cx="14400" cy="7920"/>
                                <a:chOff x="6851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2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965920"/>
                                  <a:ext cx="6840" cy="7920"/>
                                  <a:chOff x="6851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965920"/>
                                    <a:ext cx="2160" cy="7920"/>
                                    <a:chOff x="685188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965920"/>
                                    <a:ext cx="2520" cy="7920"/>
                                    <a:chOff x="6856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3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965920"/>
                                  <a:ext cx="6840" cy="7920"/>
                                  <a:chOff x="685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965920"/>
                                    <a:ext cx="2160" cy="7920"/>
                                    <a:chOff x="68594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965920"/>
                                    <a:ext cx="4320" cy="7920"/>
                                    <a:chOff x="686196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143" name=""/>
                          <p:cNvGrpSpPr/>
                          <p:nvPr/>
                        </p:nvGrpSpPr>
                        <p:grpSpPr>
                          <a:xfrm>
                            <a:off x="6868080" y="5965920"/>
                            <a:ext cx="61200" cy="7920"/>
                            <a:chOff x="6868080" y="5965920"/>
                            <a:chExt cx="61200" cy="7920"/>
                          </a:xfrm>
                        </p:grpSpPr>
                        <p:grpSp>
                          <p:nvGrpSpPr>
                            <p:cNvPr id="4144" name=""/>
                            <p:cNvGrpSpPr/>
                            <p:nvPr/>
                          </p:nvGrpSpPr>
                          <p:grpSpPr>
                            <a:xfrm>
                              <a:off x="6868080" y="5965920"/>
                              <a:ext cx="29880" cy="7920"/>
                              <a:chOff x="6868080" y="5965920"/>
                              <a:chExt cx="29880" cy="7920"/>
                            </a:xfrm>
                          </p:grpSpPr>
                          <p:grpSp>
                            <p:nvGrpSpPr>
                              <p:cNvPr id="4145" name=""/>
                              <p:cNvGrpSpPr/>
                              <p:nvPr/>
                            </p:nvGrpSpPr>
                            <p:grpSpPr>
                              <a:xfrm>
                                <a:off x="6868080" y="5965920"/>
                                <a:ext cx="14400" cy="7920"/>
                                <a:chOff x="6868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4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965920"/>
                                  <a:ext cx="6840" cy="7920"/>
                                  <a:chOff x="6868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965920"/>
                                    <a:ext cx="2520" cy="7920"/>
                                    <a:chOff x="6868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965920"/>
                                    <a:ext cx="3960" cy="7920"/>
                                    <a:chOff x="6870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5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965920"/>
                                  <a:ext cx="6840" cy="7920"/>
                                  <a:chOff x="6875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965920"/>
                                    <a:ext cx="2520" cy="7920"/>
                                    <a:chOff x="6875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965920"/>
                                    <a:ext cx="2520" cy="7920"/>
                                    <a:chOff x="6879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60" name=""/>
                              <p:cNvGrpSpPr/>
                              <p:nvPr/>
                            </p:nvGrpSpPr>
                            <p:grpSpPr>
                              <a:xfrm>
                                <a:off x="6883560" y="5965920"/>
                                <a:ext cx="14400" cy="7920"/>
                                <a:chOff x="68835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6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965920"/>
                                  <a:ext cx="6840" cy="7920"/>
                                  <a:chOff x="68835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965920"/>
                                    <a:ext cx="2520" cy="7920"/>
                                    <a:chOff x="68835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965920"/>
                                    <a:ext cx="2520" cy="7920"/>
                                    <a:chOff x="6887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6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965920"/>
                                  <a:ext cx="6840" cy="7920"/>
                                  <a:chOff x="68911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965920"/>
                                    <a:ext cx="2520" cy="7920"/>
                                    <a:chOff x="68911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965920"/>
                                    <a:ext cx="3960" cy="7920"/>
                                    <a:chOff x="68940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75" name=""/>
                            <p:cNvGrpSpPr/>
                            <p:nvPr/>
                          </p:nvGrpSpPr>
                          <p:grpSpPr>
                            <a:xfrm>
                              <a:off x="6899400" y="5965920"/>
                              <a:ext cx="29880" cy="7920"/>
                              <a:chOff x="6899400" y="5965920"/>
                              <a:chExt cx="29880" cy="7920"/>
                            </a:xfrm>
                          </p:grpSpPr>
                          <p:grpSp>
                            <p:nvGrpSpPr>
                              <p:cNvPr id="4176" name=""/>
                              <p:cNvGrpSpPr/>
                              <p:nvPr/>
                            </p:nvGrpSpPr>
                            <p:grpSpPr>
                              <a:xfrm>
                                <a:off x="6899400" y="5965920"/>
                                <a:ext cx="14400" cy="7920"/>
                                <a:chOff x="68994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7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965920"/>
                                  <a:ext cx="6840" cy="7920"/>
                                  <a:chOff x="68994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965920"/>
                                    <a:ext cx="2520" cy="7920"/>
                                    <a:chOff x="68994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965920"/>
                                    <a:ext cx="2520" cy="7920"/>
                                    <a:chOff x="6903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8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965920"/>
                                  <a:ext cx="6840" cy="7920"/>
                                  <a:chOff x="6906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965920"/>
                                    <a:ext cx="2520" cy="7920"/>
                                    <a:chOff x="6906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965920"/>
                                    <a:ext cx="3960" cy="7920"/>
                                    <a:chOff x="6909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91" name=""/>
                              <p:cNvGrpSpPr/>
                              <p:nvPr/>
                            </p:nvGrpSpPr>
                            <p:grpSpPr>
                              <a:xfrm>
                                <a:off x="6914880" y="5965920"/>
                                <a:ext cx="14400" cy="7920"/>
                                <a:chOff x="6914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9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965920"/>
                                  <a:ext cx="6840" cy="7920"/>
                                  <a:chOff x="6914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965920"/>
                                    <a:ext cx="2520" cy="7920"/>
                                    <a:chOff x="6914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965920"/>
                                    <a:ext cx="2520" cy="7920"/>
                                    <a:chOff x="6919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9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965920"/>
                                  <a:ext cx="6840" cy="7920"/>
                                  <a:chOff x="6922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965920"/>
                                    <a:ext cx="2520" cy="7920"/>
                                    <a:chOff x="6922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965920"/>
                                    <a:ext cx="2520" cy="7920"/>
                                    <a:chOff x="6926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206" name=""/>
                      <p:cNvGrpSpPr/>
                      <p:nvPr/>
                    </p:nvGrpSpPr>
                    <p:grpSpPr>
                      <a:xfrm>
                        <a:off x="6801480" y="5937120"/>
                        <a:ext cx="128160" cy="22320"/>
                        <a:chOff x="6801480" y="5937120"/>
                        <a:chExt cx="128160" cy="22320"/>
                      </a:xfrm>
                    </p:grpSpPr>
                    <p:sp>
                      <p:nvSpPr>
                        <p:cNvPr id="4207" name=""/>
                        <p:cNvSpPr/>
                        <p:nvPr/>
                      </p:nvSpPr>
                      <p:spPr>
                        <a:xfrm>
                          <a:off x="680148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8" name=""/>
                        <p:cNvSpPr/>
                        <p:nvPr/>
                      </p:nvSpPr>
                      <p:spPr>
                        <a:xfrm>
                          <a:off x="682992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9" name=""/>
                        <p:cNvSpPr/>
                        <p:nvPr/>
                      </p:nvSpPr>
                      <p:spPr>
                        <a:xfrm>
                          <a:off x="686952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0" name=""/>
                        <p:cNvSpPr/>
                        <p:nvPr/>
                      </p:nvSpPr>
                      <p:spPr>
                        <a:xfrm>
                          <a:off x="691092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1" name=""/>
                    <p:cNvGrpSpPr/>
                    <p:nvPr/>
                  </p:nvGrpSpPr>
                  <p:grpSpPr>
                    <a:xfrm>
                      <a:off x="6914520" y="5940360"/>
                      <a:ext cx="11880" cy="11160"/>
                      <a:chOff x="6914520" y="5940360"/>
                      <a:chExt cx="11880" cy="11160"/>
                    </a:xfrm>
                  </p:grpSpPr>
                  <p:sp>
                    <p:nvSpPr>
                      <p:cNvPr id="4212" name=""/>
                      <p:cNvSpPr/>
                      <p:nvPr/>
                    </p:nvSpPr>
                    <p:spPr>
                      <a:xfrm>
                        <a:off x="691884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3" name=""/>
                      <p:cNvSpPr/>
                      <p:nvPr/>
                    </p:nvSpPr>
                    <p:spPr>
                      <a:xfrm>
                        <a:off x="692028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4" name=""/>
                      <p:cNvGrpSpPr/>
                      <p:nvPr/>
                    </p:nvGrpSpPr>
                    <p:grpSpPr>
                      <a:xfrm>
                        <a:off x="6914520" y="5942160"/>
                        <a:ext cx="2520" cy="6120"/>
                        <a:chOff x="6914520" y="5942160"/>
                        <a:chExt cx="2520" cy="6120"/>
                      </a:xfrm>
                    </p:grpSpPr>
                    <p:sp>
                      <p:nvSpPr>
                        <p:cNvPr id="4215" name=""/>
                        <p:cNvSpPr/>
                        <p:nvPr/>
                      </p:nvSpPr>
                      <p:spPr>
                        <a:xfrm>
                          <a:off x="691452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6" name=""/>
                        <p:cNvSpPr/>
                        <p:nvPr/>
                      </p:nvSpPr>
                      <p:spPr>
                        <a:xfrm>
                          <a:off x="691452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7" name=""/>
                    <p:cNvGrpSpPr/>
                    <p:nvPr/>
                  </p:nvGrpSpPr>
                  <p:grpSpPr>
                    <a:xfrm>
                      <a:off x="6831720" y="5940360"/>
                      <a:ext cx="36000" cy="14400"/>
                      <a:chOff x="6831720" y="5940360"/>
                      <a:chExt cx="36000" cy="14400"/>
                    </a:xfrm>
                  </p:grpSpPr>
                  <p:grpSp>
                    <p:nvGrpSpPr>
                      <p:cNvPr id="4218" name=""/>
                      <p:cNvGrpSpPr/>
                      <p:nvPr/>
                    </p:nvGrpSpPr>
                    <p:grpSpPr>
                      <a:xfrm>
                        <a:off x="6833160" y="5940360"/>
                        <a:ext cx="34560" cy="7920"/>
                        <a:chOff x="6833160" y="5940360"/>
                        <a:chExt cx="34560" cy="7920"/>
                      </a:xfrm>
                    </p:grpSpPr>
                    <p:sp>
                      <p:nvSpPr>
                        <p:cNvPr id="4219" name=""/>
                        <p:cNvSpPr/>
                        <p:nvPr/>
                      </p:nvSpPr>
                      <p:spPr>
                        <a:xfrm>
                          <a:off x="684216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0" name=""/>
                        <p:cNvSpPr/>
                        <p:nvPr/>
                      </p:nvSpPr>
                      <p:spPr>
                        <a:xfrm>
                          <a:off x="684216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1" name=""/>
                        <p:cNvSpPr/>
                        <p:nvPr/>
                      </p:nvSpPr>
                      <p:spPr>
                        <a:xfrm>
                          <a:off x="683316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222" name=""/>
                      <p:cNvSpPr/>
                      <p:nvPr/>
                    </p:nvSpPr>
                    <p:spPr>
                      <a:xfrm>
                        <a:off x="683172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3" name=""/>
                      <p:cNvSpPr/>
                      <p:nvPr/>
                    </p:nvSpPr>
                    <p:spPr>
                      <a:xfrm>
                        <a:off x="686016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24" name=""/>
                    <p:cNvGrpSpPr/>
                    <p:nvPr/>
                  </p:nvGrpSpPr>
                  <p:grpSpPr>
                    <a:xfrm>
                      <a:off x="6804720" y="5953320"/>
                      <a:ext cx="21960" cy="4680"/>
                      <a:chOff x="6804720" y="5953320"/>
                      <a:chExt cx="21960" cy="4680"/>
                    </a:xfrm>
                  </p:grpSpPr>
                  <p:grpSp>
                    <p:nvGrpSpPr>
                      <p:cNvPr id="4225" name=""/>
                      <p:cNvGrpSpPr/>
                      <p:nvPr/>
                    </p:nvGrpSpPr>
                    <p:grpSpPr>
                      <a:xfrm>
                        <a:off x="6804720" y="5953320"/>
                        <a:ext cx="11520" cy="4680"/>
                        <a:chOff x="6804720" y="5953320"/>
                        <a:chExt cx="11520" cy="4680"/>
                      </a:xfrm>
                    </p:grpSpPr>
                    <p:grpSp>
                      <p:nvGrpSpPr>
                        <p:cNvPr id="4226" name=""/>
                        <p:cNvGrpSpPr/>
                        <p:nvPr/>
                      </p:nvGrpSpPr>
                      <p:grpSpPr>
                        <a:xfrm>
                          <a:off x="6804720" y="5953320"/>
                          <a:ext cx="5400" cy="4680"/>
                          <a:chOff x="6804720" y="5953320"/>
                          <a:chExt cx="5400" cy="4680"/>
                        </a:xfrm>
                      </p:grpSpPr>
                      <p:grpSp>
                        <p:nvGrpSpPr>
                          <p:cNvPr id="4227" name=""/>
                          <p:cNvGrpSpPr/>
                          <p:nvPr/>
                        </p:nvGrpSpPr>
                        <p:grpSpPr>
                          <a:xfrm>
                            <a:off x="6804720" y="5953320"/>
                            <a:ext cx="2520" cy="4680"/>
                            <a:chOff x="6804720" y="5953320"/>
                            <a:chExt cx="2520" cy="4680"/>
                          </a:xfrm>
                        </p:grpSpPr>
                        <p:sp>
                          <p:nvSpPr>
                            <p:cNvPr id="4228" name=""/>
                            <p:cNvSpPr/>
                            <p:nvPr/>
                          </p:nvSpPr>
                          <p:spPr>
                            <a:xfrm>
                              <a:off x="6804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29" name=""/>
                            <p:cNvSpPr/>
                            <p:nvPr/>
                          </p:nvSpPr>
                          <p:spPr>
                            <a:xfrm>
                              <a:off x="6806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0" name=""/>
                          <p:cNvGrpSpPr/>
                          <p:nvPr/>
                        </p:nvGrpSpPr>
                        <p:grpSpPr>
                          <a:xfrm>
                            <a:off x="6807600" y="5953320"/>
                            <a:ext cx="2520" cy="4680"/>
                            <a:chOff x="6807600" y="5953320"/>
                            <a:chExt cx="2520" cy="4680"/>
                          </a:xfrm>
                        </p:grpSpPr>
                        <p:sp>
                          <p:nvSpPr>
                            <p:cNvPr id="4231" name=""/>
                            <p:cNvSpPr/>
                            <p:nvPr/>
                          </p:nvSpPr>
                          <p:spPr>
                            <a:xfrm>
                              <a:off x="6807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2" name=""/>
                            <p:cNvSpPr/>
                            <p:nvPr/>
                          </p:nvSpPr>
                          <p:spPr>
                            <a:xfrm>
                              <a:off x="6809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33" name=""/>
                        <p:cNvGrpSpPr/>
                        <p:nvPr/>
                      </p:nvGrpSpPr>
                      <p:grpSpPr>
                        <a:xfrm>
                          <a:off x="6810840" y="5953320"/>
                          <a:ext cx="5400" cy="4680"/>
                          <a:chOff x="6810840" y="5953320"/>
                          <a:chExt cx="5400" cy="4680"/>
                        </a:xfrm>
                      </p:grpSpPr>
                      <p:grpSp>
                        <p:nvGrpSpPr>
                          <p:cNvPr id="4234" name=""/>
                          <p:cNvGrpSpPr/>
                          <p:nvPr/>
                        </p:nvGrpSpPr>
                        <p:grpSpPr>
                          <a:xfrm>
                            <a:off x="6810840" y="5953320"/>
                            <a:ext cx="2520" cy="4680"/>
                            <a:chOff x="6810840" y="5953320"/>
                            <a:chExt cx="2520" cy="4680"/>
                          </a:xfrm>
                        </p:grpSpPr>
                        <p:sp>
                          <p:nvSpPr>
                            <p:cNvPr id="4235" name=""/>
                            <p:cNvSpPr/>
                            <p:nvPr/>
                          </p:nvSpPr>
                          <p:spPr>
                            <a:xfrm>
                              <a:off x="68108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6" name=""/>
                            <p:cNvSpPr/>
                            <p:nvPr/>
                          </p:nvSpPr>
                          <p:spPr>
                            <a:xfrm>
                              <a:off x="68119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7" name=""/>
                          <p:cNvGrpSpPr/>
                          <p:nvPr/>
                        </p:nvGrpSpPr>
                        <p:grpSpPr>
                          <a:xfrm>
                            <a:off x="6813720" y="5953320"/>
                            <a:ext cx="2520" cy="4680"/>
                            <a:chOff x="6813720" y="5953320"/>
                            <a:chExt cx="2520" cy="4680"/>
                          </a:xfrm>
                        </p:grpSpPr>
                        <p:sp>
                          <p:nvSpPr>
                            <p:cNvPr id="4238" name=""/>
                            <p:cNvSpPr/>
                            <p:nvPr/>
                          </p:nvSpPr>
                          <p:spPr>
                            <a:xfrm>
                              <a:off x="6813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9" name=""/>
                            <p:cNvSpPr/>
                            <p:nvPr/>
                          </p:nvSpPr>
                          <p:spPr>
                            <a:xfrm>
                              <a:off x="6814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240" name=""/>
                      <p:cNvGrpSpPr/>
                      <p:nvPr/>
                    </p:nvGrpSpPr>
                    <p:grpSpPr>
                      <a:xfrm>
                        <a:off x="6817320" y="5953320"/>
                        <a:ext cx="9360" cy="4680"/>
                        <a:chOff x="6817320" y="5953320"/>
                        <a:chExt cx="9360" cy="4680"/>
                      </a:xfrm>
                    </p:grpSpPr>
                    <p:grpSp>
                      <p:nvGrpSpPr>
                        <p:cNvPr id="4241" name=""/>
                        <p:cNvGrpSpPr/>
                        <p:nvPr/>
                      </p:nvGrpSpPr>
                      <p:grpSpPr>
                        <a:xfrm>
                          <a:off x="6817320" y="5953320"/>
                          <a:ext cx="5040" cy="4680"/>
                          <a:chOff x="6817320" y="5953320"/>
                          <a:chExt cx="5040" cy="4680"/>
                        </a:xfrm>
                      </p:grpSpPr>
                      <p:grpSp>
                        <p:nvGrpSpPr>
                          <p:cNvPr id="4242" name=""/>
                          <p:cNvGrpSpPr/>
                          <p:nvPr/>
                        </p:nvGrpSpPr>
                        <p:grpSpPr>
                          <a:xfrm>
                            <a:off x="6817320" y="5953320"/>
                            <a:ext cx="2160" cy="4680"/>
                            <a:chOff x="6817320" y="5953320"/>
                            <a:chExt cx="2160" cy="4680"/>
                          </a:xfrm>
                        </p:grpSpPr>
                        <p:sp>
                          <p:nvSpPr>
                            <p:cNvPr id="4243" name=""/>
                            <p:cNvSpPr/>
                            <p:nvPr/>
                          </p:nvSpPr>
                          <p:spPr>
                            <a:xfrm>
                              <a:off x="68173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4" name=""/>
                            <p:cNvSpPr/>
                            <p:nvPr/>
                          </p:nvSpPr>
                          <p:spPr>
                            <a:xfrm>
                              <a:off x="6818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5" name=""/>
                          <p:cNvGrpSpPr/>
                          <p:nvPr/>
                        </p:nvGrpSpPr>
                        <p:grpSpPr>
                          <a:xfrm>
                            <a:off x="6819840" y="5953320"/>
                            <a:ext cx="2520" cy="4680"/>
                            <a:chOff x="6819840" y="5953320"/>
                            <a:chExt cx="2520" cy="4680"/>
                          </a:xfrm>
                        </p:grpSpPr>
                        <p:sp>
                          <p:nvSpPr>
                            <p:cNvPr id="4246" name=""/>
                            <p:cNvSpPr/>
                            <p:nvPr/>
                          </p:nvSpPr>
                          <p:spPr>
                            <a:xfrm>
                              <a:off x="6819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7" name=""/>
                            <p:cNvSpPr/>
                            <p:nvPr/>
                          </p:nvSpPr>
                          <p:spPr>
                            <a:xfrm>
                              <a:off x="6821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8" name=""/>
                        <p:cNvGrpSpPr/>
                        <p:nvPr/>
                      </p:nvGrpSpPr>
                      <p:grpSpPr>
                        <a:xfrm>
                          <a:off x="6823080" y="5953320"/>
                          <a:ext cx="3600" cy="4680"/>
                          <a:chOff x="6823080" y="5953320"/>
                          <a:chExt cx="3600" cy="4680"/>
                        </a:xfrm>
                      </p:grpSpPr>
                      <p:grpSp>
                        <p:nvGrpSpPr>
                          <p:cNvPr id="4249" name=""/>
                          <p:cNvGrpSpPr/>
                          <p:nvPr/>
                        </p:nvGrpSpPr>
                        <p:grpSpPr>
                          <a:xfrm>
                            <a:off x="6823080" y="5953320"/>
                            <a:ext cx="1440" cy="4680"/>
                            <a:chOff x="6823080" y="5953320"/>
                            <a:chExt cx="1440" cy="4680"/>
                          </a:xfrm>
                        </p:grpSpPr>
                        <p:sp>
                          <p:nvSpPr>
                            <p:cNvPr id="4250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1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52" name=""/>
                          <p:cNvGrpSpPr/>
                          <p:nvPr/>
                        </p:nvGrpSpPr>
                        <p:grpSpPr>
                          <a:xfrm>
                            <a:off x="6824520" y="5953320"/>
                            <a:ext cx="2160" cy="4680"/>
                            <a:chOff x="6824520" y="5953320"/>
                            <a:chExt cx="2160" cy="4680"/>
                          </a:xfrm>
                        </p:grpSpPr>
                        <p:sp>
                          <p:nvSpPr>
                            <p:cNvPr id="4253" name=""/>
                            <p:cNvSpPr/>
                            <p:nvPr/>
                          </p:nvSpPr>
                          <p:spPr>
                            <a:xfrm>
                              <a:off x="68245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4" name=""/>
                            <p:cNvSpPr/>
                            <p:nvPr/>
                          </p:nvSpPr>
                          <p:spPr>
                            <a:xfrm>
                              <a:off x="6825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255" name=""/>
                    <p:cNvSpPr/>
                    <p:nvPr/>
                  </p:nvSpPr>
                  <p:spPr>
                    <a:xfrm>
                      <a:off x="680328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6" name=""/>
                  <p:cNvGrpSpPr/>
                  <p:nvPr/>
                </p:nvGrpSpPr>
                <p:grpSpPr>
                  <a:xfrm>
                    <a:off x="6759360" y="5972400"/>
                    <a:ext cx="210960" cy="29880"/>
                    <a:chOff x="6759360" y="5972400"/>
                    <a:chExt cx="210960" cy="29880"/>
                  </a:xfrm>
                </p:grpSpPr>
                <p:grpSp>
                  <p:nvGrpSpPr>
                    <p:cNvPr id="4257" name=""/>
                    <p:cNvGrpSpPr/>
                    <p:nvPr/>
                  </p:nvGrpSpPr>
                  <p:grpSpPr>
                    <a:xfrm>
                      <a:off x="6759360" y="5972400"/>
                      <a:ext cx="210960" cy="29880"/>
                      <a:chOff x="6759360" y="5972400"/>
                      <a:chExt cx="210960" cy="29880"/>
                    </a:xfrm>
                  </p:grpSpPr>
                  <p:sp>
                    <p:nvSpPr>
                      <p:cNvPr id="4258" name=""/>
                      <p:cNvSpPr/>
                      <p:nvPr/>
                    </p:nvSpPr>
                    <p:spPr>
                      <a:xfrm>
                        <a:off x="675936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9" name=""/>
                      <p:cNvSpPr/>
                      <p:nvPr/>
                    </p:nvSpPr>
                    <p:spPr>
                      <a:xfrm>
                        <a:off x="675936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0" name=""/>
                      <p:cNvSpPr/>
                      <p:nvPr/>
                    </p:nvSpPr>
                    <p:spPr>
                      <a:xfrm>
                        <a:off x="676548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1" name=""/>
                    <p:cNvGrpSpPr/>
                    <p:nvPr/>
                  </p:nvGrpSpPr>
                  <p:grpSpPr>
                    <a:xfrm>
                      <a:off x="6781320" y="5975280"/>
                      <a:ext cx="165960" cy="5040"/>
                      <a:chOff x="6781320" y="5975280"/>
                      <a:chExt cx="165960" cy="5040"/>
                    </a:xfrm>
                  </p:grpSpPr>
                  <p:sp>
                    <p:nvSpPr>
                      <p:cNvPr id="4262" name=""/>
                      <p:cNvSpPr/>
                      <p:nvPr/>
                    </p:nvSpPr>
                    <p:spPr>
                      <a:xfrm>
                        <a:off x="678132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3" name=""/>
                      <p:cNvSpPr/>
                      <p:nvPr/>
                    </p:nvSpPr>
                    <p:spPr>
                      <a:xfrm>
                        <a:off x="679860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4" name=""/>
                      <p:cNvSpPr/>
                      <p:nvPr/>
                    </p:nvSpPr>
                    <p:spPr>
                      <a:xfrm>
                        <a:off x="683172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5" name=""/>
                      <p:cNvSpPr/>
                      <p:nvPr/>
                    </p:nvSpPr>
                    <p:spPr>
                      <a:xfrm>
                        <a:off x="686196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6" name=""/>
                      <p:cNvSpPr/>
                      <p:nvPr/>
                    </p:nvSpPr>
                    <p:spPr>
                      <a:xfrm>
                        <a:off x="689220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7" name=""/>
                      <p:cNvSpPr/>
                      <p:nvPr/>
                    </p:nvSpPr>
                    <p:spPr>
                      <a:xfrm>
                        <a:off x="692064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8" name=""/>
                    <p:cNvGrpSpPr/>
                    <p:nvPr/>
                  </p:nvGrpSpPr>
                  <p:grpSpPr>
                    <a:xfrm>
                      <a:off x="6775200" y="5981760"/>
                      <a:ext cx="174960" cy="11160"/>
                      <a:chOff x="6775200" y="5981760"/>
                      <a:chExt cx="174960" cy="11160"/>
                    </a:xfrm>
                  </p:grpSpPr>
                  <p:grpSp>
                    <p:nvGrpSpPr>
                      <p:cNvPr id="4269" name=""/>
                      <p:cNvGrpSpPr/>
                      <p:nvPr/>
                    </p:nvGrpSpPr>
                    <p:grpSpPr>
                      <a:xfrm>
                        <a:off x="6790680" y="5981760"/>
                        <a:ext cx="84960" cy="9360"/>
                        <a:chOff x="6790680" y="5981760"/>
                        <a:chExt cx="84960" cy="9360"/>
                      </a:xfrm>
                    </p:grpSpPr>
                    <p:sp>
                      <p:nvSpPr>
                        <p:cNvPr id="4270" name=""/>
                        <p:cNvSpPr/>
                        <p:nvPr/>
                      </p:nvSpPr>
                      <p:spPr>
                        <a:xfrm>
                          <a:off x="679068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1" name=""/>
                        <p:cNvSpPr/>
                        <p:nvPr/>
                      </p:nvSpPr>
                      <p:spPr>
                        <a:xfrm>
                          <a:off x="679320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2" name=""/>
                        <p:cNvSpPr/>
                        <p:nvPr/>
                      </p:nvSpPr>
                      <p:spPr>
                        <a:xfrm>
                          <a:off x="679500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3" name=""/>
                        <p:cNvSpPr/>
                        <p:nvPr/>
                      </p:nvSpPr>
                      <p:spPr>
                        <a:xfrm>
                          <a:off x="679644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4" name=""/>
                      <p:cNvGrpSpPr/>
                      <p:nvPr/>
                    </p:nvGrpSpPr>
                    <p:grpSpPr>
                      <a:xfrm>
                        <a:off x="6775200" y="5983200"/>
                        <a:ext cx="15480" cy="6480"/>
                        <a:chOff x="6775200" y="5983200"/>
                        <a:chExt cx="15480" cy="6480"/>
                      </a:xfrm>
                    </p:grpSpPr>
                    <p:sp>
                      <p:nvSpPr>
                        <p:cNvPr id="4275" name=""/>
                        <p:cNvSpPr/>
                        <p:nvPr/>
                      </p:nvSpPr>
                      <p:spPr>
                        <a:xfrm>
                          <a:off x="677952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6" name=""/>
                        <p:cNvSpPr/>
                        <p:nvPr/>
                      </p:nvSpPr>
                      <p:spPr>
                        <a:xfrm>
                          <a:off x="677772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7" name=""/>
                        <p:cNvSpPr/>
                        <p:nvPr/>
                      </p:nvSpPr>
                      <p:spPr>
                        <a:xfrm>
                          <a:off x="67752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8" name=""/>
                      <p:cNvGrpSpPr/>
                      <p:nvPr/>
                    </p:nvGrpSpPr>
                    <p:grpSpPr>
                      <a:xfrm>
                        <a:off x="6809760" y="5981760"/>
                        <a:ext cx="78480" cy="9360"/>
                        <a:chOff x="6809760" y="5981760"/>
                        <a:chExt cx="78480" cy="9360"/>
                      </a:xfrm>
                    </p:grpSpPr>
                    <p:sp>
                      <p:nvSpPr>
                        <p:cNvPr id="4279" name=""/>
                        <p:cNvSpPr/>
                        <p:nvPr/>
                      </p:nvSpPr>
                      <p:spPr>
                        <a:xfrm>
                          <a:off x="680976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0" name=""/>
                        <p:cNvSpPr/>
                        <p:nvPr/>
                      </p:nvSpPr>
                      <p:spPr>
                        <a:xfrm>
                          <a:off x="687600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1" name=""/>
                        <p:cNvSpPr/>
                        <p:nvPr/>
                      </p:nvSpPr>
                      <p:spPr>
                        <a:xfrm>
                          <a:off x="687924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2" name=""/>
                        <p:cNvSpPr/>
                        <p:nvPr/>
                      </p:nvSpPr>
                      <p:spPr>
                        <a:xfrm>
                          <a:off x="687276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3" name=""/>
                        <p:cNvSpPr/>
                        <p:nvPr/>
                      </p:nvSpPr>
                      <p:spPr>
                        <a:xfrm>
                          <a:off x="686016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4" name=""/>
                        <p:cNvSpPr/>
                        <p:nvPr/>
                      </p:nvSpPr>
                      <p:spPr>
                        <a:xfrm>
                          <a:off x="686952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5" name=""/>
                      <p:cNvGrpSpPr/>
                      <p:nvPr/>
                    </p:nvGrpSpPr>
                    <p:grpSpPr>
                      <a:xfrm>
                        <a:off x="6892200" y="5983200"/>
                        <a:ext cx="24480" cy="7920"/>
                        <a:chOff x="6892200" y="5983200"/>
                        <a:chExt cx="24480" cy="7920"/>
                      </a:xfrm>
                    </p:grpSpPr>
                    <p:sp>
                      <p:nvSpPr>
                        <p:cNvPr id="4286" name=""/>
                        <p:cNvSpPr/>
                        <p:nvPr/>
                      </p:nvSpPr>
                      <p:spPr>
                        <a:xfrm>
                          <a:off x="689220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7" name=""/>
                        <p:cNvSpPr/>
                        <p:nvPr/>
                      </p:nvSpPr>
                      <p:spPr>
                        <a:xfrm>
                          <a:off x="689508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8" name=""/>
                        <p:cNvSpPr/>
                        <p:nvPr/>
                      </p:nvSpPr>
                      <p:spPr>
                        <a:xfrm>
                          <a:off x="689508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9" name=""/>
                      <p:cNvGrpSpPr/>
                      <p:nvPr/>
                    </p:nvGrpSpPr>
                    <p:grpSpPr>
                      <a:xfrm>
                        <a:off x="6920640" y="5983200"/>
                        <a:ext cx="29520" cy="9720"/>
                        <a:chOff x="6920640" y="5983200"/>
                        <a:chExt cx="29520" cy="9720"/>
                      </a:xfrm>
                    </p:grpSpPr>
                    <p:sp>
                      <p:nvSpPr>
                        <p:cNvPr id="4290" name=""/>
                        <p:cNvSpPr/>
                        <p:nvPr/>
                      </p:nvSpPr>
                      <p:spPr>
                        <a:xfrm>
                          <a:off x="692352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1" name=""/>
                        <p:cNvSpPr/>
                        <p:nvPr/>
                      </p:nvSpPr>
                      <p:spPr>
                        <a:xfrm>
                          <a:off x="692064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2" name=""/>
                        <p:cNvSpPr/>
                        <p:nvPr/>
                      </p:nvSpPr>
                      <p:spPr>
                        <a:xfrm>
                          <a:off x="692352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3" name=""/>
                        <p:cNvSpPr/>
                        <p:nvPr/>
                      </p:nvSpPr>
                      <p:spPr>
                        <a:xfrm>
                          <a:off x="692208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4" name=""/>
                        <p:cNvSpPr/>
                        <p:nvPr/>
                      </p:nvSpPr>
                      <p:spPr>
                        <a:xfrm>
                          <a:off x="694260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5" name=""/>
                        <p:cNvSpPr/>
                        <p:nvPr/>
                      </p:nvSpPr>
                      <p:spPr>
                        <a:xfrm>
                          <a:off x="694404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296" name=""/>
                  <p:cNvGrpSpPr/>
                  <p:nvPr/>
                </p:nvGrpSpPr>
                <p:grpSpPr>
                  <a:xfrm>
                    <a:off x="6820920" y="5913360"/>
                    <a:ext cx="91800" cy="19080"/>
                    <a:chOff x="6820920" y="5913360"/>
                    <a:chExt cx="91800" cy="19080"/>
                  </a:xfrm>
                </p:grpSpPr>
                <p:grpSp>
                  <p:nvGrpSpPr>
                    <p:cNvPr id="4297" name=""/>
                    <p:cNvGrpSpPr/>
                    <p:nvPr/>
                  </p:nvGrpSpPr>
                  <p:grpSpPr>
                    <a:xfrm>
                      <a:off x="6820920" y="5918400"/>
                      <a:ext cx="91800" cy="14040"/>
                      <a:chOff x="6820920" y="5918400"/>
                      <a:chExt cx="91800" cy="14040"/>
                    </a:xfrm>
                  </p:grpSpPr>
                  <p:sp>
                    <p:nvSpPr>
                      <p:cNvPr id="4298" name=""/>
                      <p:cNvSpPr/>
                      <p:nvPr/>
                    </p:nvSpPr>
                    <p:spPr>
                      <a:xfrm>
                        <a:off x="682092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9" name=""/>
                      <p:cNvSpPr/>
                      <p:nvPr/>
                    </p:nvSpPr>
                    <p:spPr>
                      <a:xfrm>
                        <a:off x="682092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00" name=""/>
                    <p:cNvSpPr/>
                    <p:nvPr/>
                  </p:nvSpPr>
                  <p:spPr>
                    <a:xfrm>
                      <a:off x="684144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01" name=""/>
                  <p:cNvSpPr/>
                  <p:nvPr/>
                </p:nvSpPr>
                <p:spPr>
                  <a:xfrm>
                    <a:off x="681012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682272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682740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690516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305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36884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306" name=""/>
            <p:cNvGrpSpPr/>
            <p:nvPr/>
          </p:nvGrpSpPr>
          <p:grpSpPr>
            <a:xfrm>
              <a:off x="6686640" y="4800600"/>
              <a:ext cx="1085760" cy="752400"/>
              <a:chOff x="6686640" y="4800600"/>
              <a:chExt cx="1085760" cy="752400"/>
            </a:xfrm>
          </p:grpSpPr>
          <p:sp>
            <p:nvSpPr>
              <p:cNvPr id="4307" name=""/>
              <p:cNvSpPr/>
              <p:nvPr/>
            </p:nvSpPr>
            <p:spPr>
              <a:xfrm>
                <a:off x="668664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673416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3 Tetela de Ocamp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309" name=""/>
              <p:cNvGrpSpPr/>
              <p:nvPr/>
            </p:nvGrpSpPr>
            <p:grpSpPr>
              <a:xfrm>
                <a:off x="6759360" y="4856040"/>
                <a:ext cx="821880" cy="488880"/>
                <a:chOff x="6759360" y="4856040"/>
                <a:chExt cx="821880" cy="48888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690192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718776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712116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313" name="pbx" descr=""/>
                <p:cNvPicPr/>
                <p:nvPr/>
              </p:nvPicPr>
              <p:blipFill>
                <a:blip r:embed="rId51"/>
                <a:srcRect l="37594" t="74298" r="28339" b="4834"/>
                <a:stretch/>
              </p:blipFill>
              <p:spPr>
                <a:xfrm>
                  <a:off x="706392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4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09092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15" name=""/>
                <p:cNvGrpSpPr/>
                <p:nvPr/>
              </p:nvGrpSpPr>
              <p:grpSpPr>
                <a:xfrm>
                  <a:off x="6759360" y="4994280"/>
                  <a:ext cx="210960" cy="169920"/>
                  <a:chOff x="6759360" y="4994280"/>
                  <a:chExt cx="210960" cy="169920"/>
                </a:xfrm>
              </p:grpSpPr>
              <p:grpSp>
                <p:nvGrpSpPr>
                  <p:cNvPr id="4316" name=""/>
                  <p:cNvGrpSpPr/>
                  <p:nvPr/>
                </p:nvGrpSpPr>
                <p:grpSpPr>
                  <a:xfrm>
                    <a:off x="6798960" y="5085000"/>
                    <a:ext cx="134280" cy="52200"/>
                    <a:chOff x="6798960" y="5085000"/>
                    <a:chExt cx="134280" cy="52200"/>
                  </a:xfrm>
                </p:grpSpPr>
                <p:grpSp>
                  <p:nvGrpSpPr>
                    <p:cNvPr id="4317" name=""/>
                    <p:cNvGrpSpPr/>
                    <p:nvPr/>
                  </p:nvGrpSpPr>
                  <p:grpSpPr>
                    <a:xfrm>
                      <a:off x="6798960" y="5085000"/>
                      <a:ext cx="134280" cy="52200"/>
                      <a:chOff x="6798960" y="5085000"/>
                      <a:chExt cx="134280" cy="52200"/>
                    </a:xfrm>
                  </p:grpSpPr>
                  <p:grpSp>
                    <p:nvGrpSpPr>
                      <p:cNvPr id="4318" name=""/>
                      <p:cNvGrpSpPr/>
                      <p:nvPr/>
                    </p:nvGrpSpPr>
                    <p:grpSpPr>
                      <a:xfrm>
                        <a:off x="6798960" y="5085000"/>
                        <a:ext cx="134280" cy="52200"/>
                        <a:chOff x="6798960" y="5085000"/>
                        <a:chExt cx="134280" cy="52200"/>
                      </a:xfrm>
                    </p:grpSpPr>
                    <p:grpSp>
                      <p:nvGrpSpPr>
                        <p:cNvPr id="4319" name=""/>
                        <p:cNvGrpSpPr/>
                        <p:nvPr/>
                      </p:nvGrpSpPr>
                      <p:grpSpPr>
                        <a:xfrm>
                          <a:off x="6798960" y="5085000"/>
                          <a:ext cx="134280" cy="52200"/>
                          <a:chOff x="6798960" y="5085000"/>
                          <a:chExt cx="134280" cy="52200"/>
                        </a:xfrm>
                      </p:grpSpPr>
                      <p:grpSp>
                        <p:nvGrpSpPr>
                          <p:cNvPr id="4320" name=""/>
                          <p:cNvGrpSpPr/>
                          <p:nvPr/>
                        </p:nvGrpSpPr>
                        <p:grpSpPr>
                          <a:xfrm>
                            <a:off x="6798960" y="5085000"/>
                            <a:ext cx="134280" cy="52200"/>
                            <a:chOff x="6798960" y="5085000"/>
                            <a:chExt cx="134280" cy="52200"/>
                          </a:xfrm>
                        </p:grpSpPr>
                        <p:sp>
                          <p:nvSpPr>
                            <p:cNvPr id="4321" name=""/>
                            <p:cNvSpPr/>
                            <p:nvPr/>
                          </p:nvSpPr>
                          <p:spPr>
                            <a:xfrm>
                              <a:off x="679896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2" name=""/>
                            <p:cNvSpPr/>
                            <p:nvPr/>
                          </p:nvSpPr>
                          <p:spPr>
                            <a:xfrm>
                              <a:off x="680004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23" name=""/>
                          <p:cNvSpPr/>
                          <p:nvPr/>
                        </p:nvSpPr>
                        <p:spPr>
                          <a:xfrm>
                            <a:off x="680148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24" name=""/>
                        <p:cNvGrpSpPr/>
                        <p:nvPr/>
                      </p:nvGrpSpPr>
                      <p:grpSpPr>
                        <a:xfrm>
                          <a:off x="6804720" y="5127840"/>
                          <a:ext cx="124560" cy="7920"/>
                          <a:chOff x="6804720" y="5127840"/>
                          <a:chExt cx="124560" cy="7920"/>
                        </a:xfrm>
                      </p:grpSpPr>
                      <p:grpSp>
                        <p:nvGrpSpPr>
                          <p:cNvPr id="4325" name=""/>
                          <p:cNvGrpSpPr/>
                          <p:nvPr/>
                        </p:nvGrpSpPr>
                        <p:grpSpPr>
                          <a:xfrm>
                            <a:off x="6804720" y="5127840"/>
                            <a:ext cx="61560" cy="7920"/>
                            <a:chOff x="6804720" y="5127840"/>
                            <a:chExt cx="61560" cy="7920"/>
                          </a:xfrm>
                        </p:grpSpPr>
                        <p:grpSp>
                          <p:nvGrpSpPr>
                            <p:cNvPr id="4326" name=""/>
                            <p:cNvGrpSpPr/>
                            <p:nvPr/>
                          </p:nvGrpSpPr>
                          <p:grpSpPr>
                            <a:xfrm>
                              <a:off x="6804720" y="5127840"/>
                              <a:ext cx="29880" cy="7920"/>
                              <a:chOff x="6804720" y="5127840"/>
                              <a:chExt cx="29880" cy="7920"/>
                            </a:xfrm>
                          </p:grpSpPr>
                          <p:grpSp>
                            <p:nvGrpSpPr>
                              <p:cNvPr id="4327" name=""/>
                              <p:cNvGrpSpPr/>
                              <p:nvPr/>
                            </p:nvGrpSpPr>
                            <p:grpSpPr>
                              <a:xfrm>
                                <a:off x="6804720" y="5127840"/>
                                <a:ext cx="14400" cy="7920"/>
                                <a:chOff x="680472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2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127840"/>
                                  <a:ext cx="6840" cy="7920"/>
                                  <a:chOff x="68047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127840"/>
                                    <a:ext cx="2520" cy="7920"/>
                                    <a:chOff x="6804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127840"/>
                                    <a:ext cx="3960" cy="7920"/>
                                    <a:chOff x="68076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3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127840"/>
                                  <a:ext cx="6840" cy="7920"/>
                                  <a:chOff x="6812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127840"/>
                                    <a:ext cx="2520" cy="7920"/>
                                    <a:chOff x="6812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127840"/>
                                    <a:ext cx="3960" cy="7920"/>
                                    <a:chOff x="68151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42" name=""/>
                              <p:cNvGrpSpPr/>
                              <p:nvPr/>
                            </p:nvGrpSpPr>
                            <p:grpSpPr>
                              <a:xfrm>
                                <a:off x="6820200" y="5127840"/>
                                <a:ext cx="14400" cy="7920"/>
                                <a:chOff x="68202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4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127840"/>
                                  <a:ext cx="6840" cy="7920"/>
                                  <a:chOff x="68202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127840"/>
                                    <a:ext cx="2520" cy="7920"/>
                                    <a:chOff x="6820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127840"/>
                                    <a:ext cx="3960" cy="7920"/>
                                    <a:chOff x="68230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5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127840"/>
                                  <a:ext cx="6840" cy="7920"/>
                                  <a:chOff x="682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127840"/>
                                    <a:ext cx="2520" cy="7920"/>
                                    <a:chOff x="6827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127840"/>
                                    <a:ext cx="3960" cy="7920"/>
                                    <a:chOff x="68306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57" name=""/>
                            <p:cNvGrpSpPr/>
                            <p:nvPr/>
                          </p:nvGrpSpPr>
                          <p:grpSpPr>
                            <a:xfrm>
                              <a:off x="6836040" y="5127840"/>
                              <a:ext cx="30240" cy="7920"/>
                              <a:chOff x="6836040" y="5127840"/>
                              <a:chExt cx="30240" cy="7920"/>
                            </a:xfrm>
                          </p:grpSpPr>
                          <p:grpSp>
                            <p:nvGrpSpPr>
                              <p:cNvPr id="4358" name=""/>
                              <p:cNvGrpSpPr/>
                              <p:nvPr/>
                            </p:nvGrpSpPr>
                            <p:grpSpPr>
                              <a:xfrm>
                                <a:off x="6836040" y="5127840"/>
                                <a:ext cx="14760" cy="7920"/>
                                <a:chOff x="683604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435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127840"/>
                                  <a:ext cx="7200" cy="7920"/>
                                  <a:chOff x="683604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127840"/>
                                    <a:ext cx="2520" cy="7920"/>
                                    <a:chOff x="68360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127840"/>
                                    <a:ext cx="2520" cy="7920"/>
                                    <a:chOff x="6840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6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127840"/>
                                  <a:ext cx="6840" cy="7920"/>
                                  <a:chOff x="684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127840"/>
                                    <a:ext cx="2160" cy="7920"/>
                                    <a:chOff x="68439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127840"/>
                                    <a:ext cx="2520" cy="7920"/>
                                    <a:chOff x="6848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73" name=""/>
                              <p:cNvGrpSpPr/>
                              <p:nvPr/>
                            </p:nvGrpSpPr>
                            <p:grpSpPr>
                              <a:xfrm>
                                <a:off x="6851880" y="5127840"/>
                                <a:ext cx="14400" cy="7920"/>
                                <a:chOff x="6851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7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127840"/>
                                  <a:ext cx="6840" cy="7920"/>
                                  <a:chOff x="6851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127840"/>
                                    <a:ext cx="2160" cy="7920"/>
                                    <a:chOff x="685188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127840"/>
                                    <a:ext cx="2520" cy="7920"/>
                                    <a:chOff x="6856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8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127840"/>
                                  <a:ext cx="6840" cy="7920"/>
                                  <a:chOff x="685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127840"/>
                                    <a:ext cx="2160" cy="7920"/>
                                    <a:chOff x="68594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127840"/>
                                    <a:ext cx="4320" cy="7920"/>
                                    <a:chOff x="686196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388" name=""/>
                          <p:cNvGrpSpPr/>
                          <p:nvPr/>
                        </p:nvGrpSpPr>
                        <p:grpSpPr>
                          <a:xfrm>
                            <a:off x="6868080" y="5127840"/>
                            <a:ext cx="61200" cy="7920"/>
                            <a:chOff x="6868080" y="5127840"/>
                            <a:chExt cx="61200" cy="7920"/>
                          </a:xfrm>
                        </p:grpSpPr>
                        <p:grpSp>
                          <p:nvGrpSpPr>
                            <p:cNvPr id="4389" name=""/>
                            <p:cNvGrpSpPr/>
                            <p:nvPr/>
                          </p:nvGrpSpPr>
                          <p:grpSpPr>
                            <a:xfrm>
                              <a:off x="6868080" y="5127840"/>
                              <a:ext cx="29880" cy="7920"/>
                              <a:chOff x="6868080" y="5127840"/>
                              <a:chExt cx="29880" cy="7920"/>
                            </a:xfrm>
                          </p:grpSpPr>
                          <p:grpSp>
                            <p:nvGrpSpPr>
                              <p:cNvPr id="4390" name=""/>
                              <p:cNvGrpSpPr/>
                              <p:nvPr/>
                            </p:nvGrpSpPr>
                            <p:grpSpPr>
                              <a:xfrm>
                                <a:off x="6868080" y="5127840"/>
                                <a:ext cx="14400" cy="7920"/>
                                <a:chOff x="6868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9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127840"/>
                                  <a:ext cx="6840" cy="7920"/>
                                  <a:chOff x="6868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127840"/>
                                    <a:ext cx="2520" cy="7920"/>
                                    <a:chOff x="6868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127840"/>
                                    <a:ext cx="3960" cy="7920"/>
                                    <a:chOff x="6870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9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127840"/>
                                  <a:ext cx="6840" cy="7920"/>
                                  <a:chOff x="6875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127840"/>
                                    <a:ext cx="2520" cy="7920"/>
                                    <a:chOff x="6875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127840"/>
                                    <a:ext cx="2520" cy="7920"/>
                                    <a:chOff x="6879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05" name=""/>
                              <p:cNvGrpSpPr/>
                              <p:nvPr/>
                            </p:nvGrpSpPr>
                            <p:grpSpPr>
                              <a:xfrm>
                                <a:off x="6883560" y="5127840"/>
                                <a:ext cx="14400" cy="7920"/>
                                <a:chOff x="68835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0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127840"/>
                                  <a:ext cx="6840" cy="7920"/>
                                  <a:chOff x="68835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127840"/>
                                    <a:ext cx="2520" cy="7920"/>
                                    <a:chOff x="68835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127840"/>
                                    <a:ext cx="2520" cy="7920"/>
                                    <a:chOff x="6887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1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127840"/>
                                  <a:ext cx="6840" cy="7920"/>
                                  <a:chOff x="68911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127840"/>
                                    <a:ext cx="2520" cy="7920"/>
                                    <a:chOff x="68911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127840"/>
                                    <a:ext cx="3960" cy="7920"/>
                                    <a:chOff x="68940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420" name=""/>
                            <p:cNvGrpSpPr/>
                            <p:nvPr/>
                          </p:nvGrpSpPr>
                          <p:grpSpPr>
                            <a:xfrm>
                              <a:off x="6899400" y="5127840"/>
                              <a:ext cx="29880" cy="7920"/>
                              <a:chOff x="6899400" y="5127840"/>
                              <a:chExt cx="29880" cy="7920"/>
                            </a:xfrm>
                          </p:grpSpPr>
                          <p:grpSp>
                            <p:nvGrpSpPr>
                              <p:cNvPr id="4421" name=""/>
                              <p:cNvGrpSpPr/>
                              <p:nvPr/>
                            </p:nvGrpSpPr>
                            <p:grpSpPr>
                              <a:xfrm>
                                <a:off x="6899400" y="5127840"/>
                                <a:ext cx="14400" cy="7920"/>
                                <a:chOff x="68994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2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127840"/>
                                  <a:ext cx="6840" cy="7920"/>
                                  <a:chOff x="68994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127840"/>
                                    <a:ext cx="2520" cy="7920"/>
                                    <a:chOff x="68994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127840"/>
                                    <a:ext cx="2520" cy="7920"/>
                                    <a:chOff x="6903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2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127840"/>
                                  <a:ext cx="6840" cy="7920"/>
                                  <a:chOff x="6906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127840"/>
                                    <a:ext cx="2520" cy="7920"/>
                                    <a:chOff x="6906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127840"/>
                                    <a:ext cx="3960" cy="7920"/>
                                    <a:chOff x="6909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36" name=""/>
                              <p:cNvGrpSpPr/>
                              <p:nvPr/>
                            </p:nvGrpSpPr>
                            <p:grpSpPr>
                              <a:xfrm>
                                <a:off x="6914880" y="5127840"/>
                                <a:ext cx="14400" cy="7920"/>
                                <a:chOff x="6914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3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127840"/>
                                  <a:ext cx="6840" cy="7920"/>
                                  <a:chOff x="6914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127840"/>
                                    <a:ext cx="2520" cy="7920"/>
                                    <a:chOff x="6914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127840"/>
                                    <a:ext cx="2520" cy="7920"/>
                                    <a:chOff x="6919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4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127840"/>
                                  <a:ext cx="6840" cy="7920"/>
                                  <a:chOff x="6922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127840"/>
                                    <a:ext cx="2520" cy="7920"/>
                                    <a:chOff x="6922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127840"/>
                                    <a:ext cx="2520" cy="7920"/>
                                    <a:chOff x="6926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451" name=""/>
                      <p:cNvGrpSpPr/>
                      <p:nvPr/>
                    </p:nvGrpSpPr>
                    <p:grpSpPr>
                      <a:xfrm>
                        <a:off x="6801480" y="5099040"/>
                        <a:ext cx="128160" cy="22320"/>
                        <a:chOff x="6801480" y="5099040"/>
                        <a:chExt cx="128160" cy="22320"/>
                      </a:xfrm>
                    </p:grpSpPr>
                    <p:sp>
                      <p:nvSpPr>
                        <p:cNvPr id="4452" name=""/>
                        <p:cNvSpPr/>
                        <p:nvPr/>
                      </p:nvSpPr>
                      <p:spPr>
                        <a:xfrm>
                          <a:off x="680148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3" name=""/>
                        <p:cNvSpPr/>
                        <p:nvPr/>
                      </p:nvSpPr>
                      <p:spPr>
                        <a:xfrm>
                          <a:off x="682992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4" name=""/>
                        <p:cNvSpPr/>
                        <p:nvPr/>
                      </p:nvSpPr>
                      <p:spPr>
                        <a:xfrm>
                          <a:off x="686952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5" name=""/>
                        <p:cNvSpPr/>
                        <p:nvPr/>
                      </p:nvSpPr>
                      <p:spPr>
                        <a:xfrm>
                          <a:off x="691092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56" name=""/>
                    <p:cNvGrpSpPr/>
                    <p:nvPr/>
                  </p:nvGrpSpPr>
                  <p:grpSpPr>
                    <a:xfrm>
                      <a:off x="6914520" y="5102280"/>
                      <a:ext cx="11880" cy="11160"/>
                      <a:chOff x="6914520" y="5102280"/>
                      <a:chExt cx="11880" cy="11160"/>
                    </a:xfrm>
                  </p:grpSpPr>
                  <p:sp>
                    <p:nvSpPr>
                      <p:cNvPr id="4457" name=""/>
                      <p:cNvSpPr/>
                      <p:nvPr/>
                    </p:nvSpPr>
                    <p:spPr>
                      <a:xfrm>
                        <a:off x="691884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8" name=""/>
                      <p:cNvSpPr/>
                      <p:nvPr/>
                    </p:nvSpPr>
                    <p:spPr>
                      <a:xfrm>
                        <a:off x="692028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59" name=""/>
                      <p:cNvGrpSpPr/>
                      <p:nvPr/>
                    </p:nvGrpSpPr>
                    <p:grpSpPr>
                      <a:xfrm>
                        <a:off x="6914520" y="5104080"/>
                        <a:ext cx="2520" cy="6120"/>
                        <a:chOff x="6914520" y="5104080"/>
                        <a:chExt cx="2520" cy="6120"/>
                      </a:xfrm>
                    </p:grpSpPr>
                    <p:sp>
                      <p:nvSpPr>
                        <p:cNvPr id="4460" name=""/>
                        <p:cNvSpPr/>
                        <p:nvPr/>
                      </p:nvSpPr>
                      <p:spPr>
                        <a:xfrm>
                          <a:off x="691452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1" name=""/>
                        <p:cNvSpPr/>
                        <p:nvPr/>
                      </p:nvSpPr>
                      <p:spPr>
                        <a:xfrm>
                          <a:off x="691452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62" name=""/>
                    <p:cNvGrpSpPr/>
                    <p:nvPr/>
                  </p:nvGrpSpPr>
                  <p:grpSpPr>
                    <a:xfrm>
                      <a:off x="6831720" y="5102280"/>
                      <a:ext cx="36000" cy="14400"/>
                      <a:chOff x="6831720" y="5102280"/>
                      <a:chExt cx="36000" cy="14400"/>
                    </a:xfrm>
                  </p:grpSpPr>
                  <p:grpSp>
                    <p:nvGrpSpPr>
                      <p:cNvPr id="4463" name=""/>
                      <p:cNvGrpSpPr/>
                      <p:nvPr/>
                    </p:nvGrpSpPr>
                    <p:grpSpPr>
                      <a:xfrm>
                        <a:off x="6833160" y="5102280"/>
                        <a:ext cx="34560" cy="7920"/>
                        <a:chOff x="6833160" y="5102280"/>
                        <a:chExt cx="34560" cy="7920"/>
                      </a:xfrm>
                    </p:grpSpPr>
                    <p:sp>
                      <p:nvSpPr>
                        <p:cNvPr id="4464" name=""/>
                        <p:cNvSpPr/>
                        <p:nvPr/>
                      </p:nvSpPr>
                      <p:spPr>
                        <a:xfrm>
                          <a:off x="684216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5" name=""/>
                        <p:cNvSpPr/>
                        <p:nvPr/>
                      </p:nvSpPr>
                      <p:spPr>
                        <a:xfrm>
                          <a:off x="684216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6" name=""/>
                        <p:cNvSpPr/>
                        <p:nvPr/>
                      </p:nvSpPr>
                      <p:spPr>
                        <a:xfrm>
                          <a:off x="683316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67" name=""/>
                      <p:cNvSpPr/>
                      <p:nvPr/>
                    </p:nvSpPr>
                    <p:spPr>
                      <a:xfrm>
                        <a:off x="683172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8" name=""/>
                      <p:cNvSpPr/>
                      <p:nvPr/>
                    </p:nvSpPr>
                    <p:spPr>
                      <a:xfrm>
                        <a:off x="686016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69" name=""/>
                    <p:cNvGrpSpPr/>
                    <p:nvPr/>
                  </p:nvGrpSpPr>
                  <p:grpSpPr>
                    <a:xfrm>
                      <a:off x="6804720" y="5115240"/>
                      <a:ext cx="21960" cy="4680"/>
                      <a:chOff x="6804720" y="5115240"/>
                      <a:chExt cx="21960" cy="4680"/>
                    </a:xfrm>
                  </p:grpSpPr>
                  <p:grpSp>
                    <p:nvGrpSpPr>
                      <p:cNvPr id="4470" name=""/>
                      <p:cNvGrpSpPr/>
                      <p:nvPr/>
                    </p:nvGrpSpPr>
                    <p:grpSpPr>
                      <a:xfrm>
                        <a:off x="6804720" y="5115240"/>
                        <a:ext cx="11520" cy="4680"/>
                        <a:chOff x="6804720" y="5115240"/>
                        <a:chExt cx="11520" cy="4680"/>
                      </a:xfrm>
                    </p:grpSpPr>
                    <p:grpSp>
                      <p:nvGrpSpPr>
                        <p:cNvPr id="4471" name=""/>
                        <p:cNvGrpSpPr/>
                        <p:nvPr/>
                      </p:nvGrpSpPr>
                      <p:grpSpPr>
                        <a:xfrm>
                          <a:off x="6804720" y="5115240"/>
                          <a:ext cx="5400" cy="4680"/>
                          <a:chOff x="6804720" y="5115240"/>
                          <a:chExt cx="5400" cy="4680"/>
                        </a:xfrm>
                      </p:grpSpPr>
                      <p:grpSp>
                        <p:nvGrpSpPr>
                          <p:cNvPr id="4472" name=""/>
                          <p:cNvGrpSpPr/>
                          <p:nvPr/>
                        </p:nvGrpSpPr>
                        <p:grpSpPr>
                          <a:xfrm>
                            <a:off x="6804720" y="5115240"/>
                            <a:ext cx="2520" cy="4680"/>
                            <a:chOff x="6804720" y="5115240"/>
                            <a:chExt cx="2520" cy="4680"/>
                          </a:xfrm>
                        </p:grpSpPr>
                        <p:sp>
                          <p:nvSpPr>
                            <p:cNvPr id="4473" name=""/>
                            <p:cNvSpPr/>
                            <p:nvPr/>
                          </p:nvSpPr>
                          <p:spPr>
                            <a:xfrm>
                              <a:off x="6804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4" name=""/>
                            <p:cNvSpPr/>
                            <p:nvPr/>
                          </p:nvSpPr>
                          <p:spPr>
                            <a:xfrm>
                              <a:off x="6806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5" name=""/>
                          <p:cNvGrpSpPr/>
                          <p:nvPr/>
                        </p:nvGrpSpPr>
                        <p:grpSpPr>
                          <a:xfrm>
                            <a:off x="6807600" y="5115240"/>
                            <a:ext cx="2520" cy="4680"/>
                            <a:chOff x="6807600" y="5115240"/>
                            <a:chExt cx="2520" cy="4680"/>
                          </a:xfrm>
                        </p:grpSpPr>
                        <p:sp>
                          <p:nvSpPr>
                            <p:cNvPr id="4476" name=""/>
                            <p:cNvSpPr/>
                            <p:nvPr/>
                          </p:nvSpPr>
                          <p:spPr>
                            <a:xfrm>
                              <a:off x="6807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7" name=""/>
                            <p:cNvSpPr/>
                            <p:nvPr/>
                          </p:nvSpPr>
                          <p:spPr>
                            <a:xfrm>
                              <a:off x="6809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78" name=""/>
                        <p:cNvGrpSpPr/>
                        <p:nvPr/>
                      </p:nvGrpSpPr>
                      <p:grpSpPr>
                        <a:xfrm>
                          <a:off x="6810840" y="5115240"/>
                          <a:ext cx="5400" cy="4680"/>
                          <a:chOff x="6810840" y="5115240"/>
                          <a:chExt cx="5400" cy="4680"/>
                        </a:xfrm>
                      </p:grpSpPr>
                      <p:grpSp>
                        <p:nvGrpSpPr>
                          <p:cNvPr id="4479" name=""/>
                          <p:cNvGrpSpPr/>
                          <p:nvPr/>
                        </p:nvGrpSpPr>
                        <p:grpSpPr>
                          <a:xfrm>
                            <a:off x="6810840" y="5115240"/>
                            <a:ext cx="2520" cy="4680"/>
                            <a:chOff x="6810840" y="5115240"/>
                            <a:chExt cx="2520" cy="4680"/>
                          </a:xfrm>
                        </p:grpSpPr>
                        <p:sp>
                          <p:nvSpPr>
                            <p:cNvPr id="4480" name=""/>
                            <p:cNvSpPr/>
                            <p:nvPr/>
                          </p:nvSpPr>
                          <p:spPr>
                            <a:xfrm>
                              <a:off x="68108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1" name=""/>
                            <p:cNvSpPr/>
                            <p:nvPr/>
                          </p:nvSpPr>
                          <p:spPr>
                            <a:xfrm>
                              <a:off x="68119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82" name=""/>
                          <p:cNvGrpSpPr/>
                          <p:nvPr/>
                        </p:nvGrpSpPr>
                        <p:grpSpPr>
                          <a:xfrm>
                            <a:off x="6813720" y="5115240"/>
                            <a:ext cx="2520" cy="4680"/>
                            <a:chOff x="6813720" y="5115240"/>
                            <a:chExt cx="2520" cy="4680"/>
                          </a:xfrm>
                        </p:grpSpPr>
                        <p:sp>
                          <p:nvSpPr>
                            <p:cNvPr id="4483" name=""/>
                            <p:cNvSpPr/>
                            <p:nvPr/>
                          </p:nvSpPr>
                          <p:spPr>
                            <a:xfrm>
                              <a:off x="6813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4" name=""/>
                            <p:cNvSpPr/>
                            <p:nvPr/>
                          </p:nvSpPr>
                          <p:spPr>
                            <a:xfrm>
                              <a:off x="6814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85" name=""/>
                      <p:cNvGrpSpPr/>
                      <p:nvPr/>
                    </p:nvGrpSpPr>
                    <p:grpSpPr>
                      <a:xfrm>
                        <a:off x="6817320" y="5115240"/>
                        <a:ext cx="9360" cy="4680"/>
                        <a:chOff x="6817320" y="5115240"/>
                        <a:chExt cx="9360" cy="4680"/>
                      </a:xfrm>
                    </p:grpSpPr>
                    <p:grpSp>
                      <p:nvGrpSpPr>
                        <p:cNvPr id="4486" name=""/>
                        <p:cNvGrpSpPr/>
                        <p:nvPr/>
                      </p:nvGrpSpPr>
                      <p:grpSpPr>
                        <a:xfrm>
                          <a:off x="6817320" y="5115240"/>
                          <a:ext cx="5040" cy="4680"/>
                          <a:chOff x="6817320" y="5115240"/>
                          <a:chExt cx="5040" cy="4680"/>
                        </a:xfrm>
                      </p:grpSpPr>
                      <p:grpSp>
                        <p:nvGrpSpPr>
                          <p:cNvPr id="4487" name=""/>
                          <p:cNvGrpSpPr/>
                          <p:nvPr/>
                        </p:nvGrpSpPr>
                        <p:grpSpPr>
                          <a:xfrm>
                            <a:off x="6817320" y="5115240"/>
                            <a:ext cx="2160" cy="4680"/>
                            <a:chOff x="6817320" y="5115240"/>
                            <a:chExt cx="2160" cy="4680"/>
                          </a:xfrm>
                        </p:grpSpPr>
                        <p:sp>
                          <p:nvSpPr>
                            <p:cNvPr id="4488" name=""/>
                            <p:cNvSpPr/>
                            <p:nvPr/>
                          </p:nvSpPr>
                          <p:spPr>
                            <a:xfrm>
                              <a:off x="68173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9" name=""/>
                            <p:cNvSpPr/>
                            <p:nvPr/>
                          </p:nvSpPr>
                          <p:spPr>
                            <a:xfrm>
                              <a:off x="6818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0" name=""/>
                          <p:cNvGrpSpPr/>
                          <p:nvPr/>
                        </p:nvGrpSpPr>
                        <p:grpSpPr>
                          <a:xfrm>
                            <a:off x="6819840" y="5115240"/>
                            <a:ext cx="2520" cy="4680"/>
                            <a:chOff x="6819840" y="5115240"/>
                            <a:chExt cx="2520" cy="4680"/>
                          </a:xfrm>
                        </p:grpSpPr>
                        <p:sp>
                          <p:nvSpPr>
                            <p:cNvPr id="4491" name=""/>
                            <p:cNvSpPr/>
                            <p:nvPr/>
                          </p:nvSpPr>
                          <p:spPr>
                            <a:xfrm>
                              <a:off x="6819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2" name=""/>
                            <p:cNvSpPr/>
                            <p:nvPr/>
                          </p:nvSpPr>
                          <p:spPr>
                            <a:xfrm>
                              <a:off x="6821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93" name=""/>
                        <p:cNvGrpSpPr/>
                        <p:nvPr/>
                      </p:nvGrpSpPr>
                      <p:grpSpPr>
                        <a:xfrm>
                          <a:off x="6823080" y="5115240"/>
                          <a:ext cx="3600" cy="4680"/>
                          <a:chOff x="6823080" y="5115240"/>
                          <a:chExt cx="3600" cy="4680"/>
                        </a:xfrm>
                      </p:grpSpPr>
                      <p:grpSp>
                        <p:nvGrpSpPr>
                          <p:cNvPr id="4494" name=""/>
                          <p:cNvGrpSpPr/>
                          <p:nvPr/>
                        </p:nvGrpSpPr>
                        <p:grpSpPr>
                          <a:xfrm>
                            <a:off x="6823080" y="5115240"/>
                            <a:ext cx="1440" cy="4680"/>
                            <a:chOff x="6823080" y="5115240"/>
                            <a:chExt cx="1440" cy="4680"/>
                          </a:xfrm>
                        </p:grpSpPr>
                        <p:sp>
                          <p:nvSpPr>
                            <p:cNvPr id="4495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6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7" name=""/>
                          <p:cNvGrpSpPr/>
                          <p:nvPr/>
                        </p:nvGrpSpPr>
                        <p:grpSpPr>
                          <a:xfrm>
                            <a:off x="6824520" y="5115240"/>
                            <a:ext cx="2160" cy="4680"/>
                            <a:chOff x="6824520" y="5115240"/>
                            <a:chExt cx="2160" cy="4680"/>
                          </a:xfrm>
                        </p:grpSpPr>
                        <p:sp>
                          <p:nvSpPr>
                            <p:cNvPr id="4498" name=""/>
                            <p:cNvSpPr/>
                            <p:nvPr/>
                          </p:nvSpPr>
                          <p:spPr>
                            <a:xfrm>
                              <a:off x="68245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9" name=""/>
                            <p:cNvSpPr/>
                            <p:nvPr/>
                          </p:nvSpPr>
                          <p:spPr>
                            <a:xfrm>
                              <a:off x="6825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500" name=""/>
                    <p:cNvSpPr/>
                    <p:nvPr/>
                  </p:nvSpPr>
                  <p:spPr>
                    <a:xfrm>
                      <a:off x="680328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1" name=""/>
                  <p:cNvGrpSpPr/>
                  <p:nvPr/>
                </p:nvGrpSpPr>
                <p:grpSpPr>
                  <a:xfrm>
                    <a:off x="6759360" y="5134320"/>
                    <a:ext cx="210960" cy="29880"/>
                    <a:chOff x="6759360" y="5134320"/>
                    <a:chExt cx="210960" cy="29880"/>
                  </a:xfrm>
                </p:grpSpPr>
                <p:grpSp>
                  <p:nvGrpSpPr>
                    <p:cNvPr id="4502" name=""/>
                    <p:cNvGrpSpPr/>
                    <p:nvPr/>
                  </p:nvGrpSpPr>
                  <p:grpSpPr>
                    <a:xfrm>
                      <a:off x="6759360" y="5134320"/>
                      <a:ext cx="210960" cy="29880"/>
                      <a:chOff x="6759360" y="5134320"/>
                      <a:chExt cx="210960" cy="29880"/>
                    </a:xfrm>
                  </p:grpSpPr>
                  <p:sp>
                    <p:nvSpPr>
                      <p:cNvPr id="4503" name=""/>
                      <p:cNvSpPr/>
                      <p:nvPr/>
                    </p:nvSpPr>
                    <p:spPr>
                      <a:xfrm>
                        <a:off x="675936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4" name=""/>
                      <p:cNvSpPr/>
                      <p:nvPr/>
                    </p:nvSpPr>
                    <p:spPr>
                      <a:xfrm>
                        <a:off x="675936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5" name=""/>
                      <p:cNvSpPr/>
                      <p:nvPr/>
                    </p:nvSpPr>
                    <p:spPr>
                      <a:xfrm>
                        <a:off x="676548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6" name=""/>
                    <p:cNvGrpSpPr/>
                    <p:nvPr/>
                  </p:nvGrpSpPr>
                  <p:grpSpPr>
                    <a:xfrm>
                      <a:off x="6781320" y="5137200"/>
                      <a:ext cx="165960" cy="5040"/>
                      <a:chOff x="6781320" y="5137200"/>
                      <a:chExt cx="165960" cy="5040"/>
                    </a:xfrm>
                  </p:grpSpPr>
                  <p:sp>
                    <p:nvSpPr>
                      <p:cNvPr id="4507" name=""/>
                      <p:cNvSpPr/>
                      <p:nvPr/>
                    </p:nvSpPr>
                    <p:spPr>
                      <a:xfrm>
                        <a:off x="678132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8" name=""/>
                      <p:cNvSpPr/>
                      <p:nvPr/>
                    </p:nvSpPr>
                    <p:spPr>
                      <a:xfrm>
                        <a:off x="679860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9" name=""/>
                      <p:cNvSpPr/>
                      <p:nvPr/>
                    </p:nvSpPr>
                    <p:spPr>
                      <a:xfrm>
                        <a:off x="683172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0" name=""/>
                      <p:cNvSpPr/>
                      <p:nvPr/>
                    </p:nvSpPr>
                    <p:spPr>
                      <a:xfrm>
                        <a:off x="686196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1" name=""/>
                      <p:cNvSpPr/>
                      <p:nvPr/>
                    </p:nvSpPr>
                    <p:spPr>
                      <a:xfrm>
                        <a:off x="689220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2" name=""/>
                      <p:cNvSpPr/>
                      <p:nvPr/>
                    </p:nvSpPr>
                    <p:spPr>
                      <a:xfrm>
                        <a:off x="692064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3" name=""/>
                    <p:cNvGrpSpPr/>
                    <p:nvPr/>
                  </p:nvGrpSpPr>
                  <p:grpSpPr>
                    <a:xfrm>
                      <a:off x="6775200" y="5143680"/>
                      <a:ext cx="174960" cy="11160"/>
                      <a:chOff x="6775200" y="5143680"/>
                      <a:chExt cx="174960" cy="11160"/>
                    </a:xfrm>
                  </p:grpSpPr>
                  <p:grpSp>
                    <p:nvGrpSpPr>
                      <p:cNvPr id="4514" name=""/>
                      <p:cNvGrpSpPr/>
                      <p:nvPr/>
                    </p:nvGrpSpPr>
                    <p:grpSpPr>
                      <a:xfrm>
                        <a:off x="6790680" y="5143680"/>
                        <a:ext cx="84960" cy="9360"/>
                        <a:chOff x="6790680" y="5143680"/>
                        <a:chExt cx="84960" cy="9360"/>
                      </a:xfrm>
                    </p:grpSpPr>
                    <p:sp>
                      <p:nvSpPr>
                        <p:cNvPr id="4515" name=""/>
                        <p:cNvSpPr/>
                        <p:nvPr/>
                      </p:nvSpPr>
                      <p:spPr>
                        <a:xfrm>
                          <a:off x="679068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6" name=""/>
                        <p:cNvSpPr/>
                        <p:nvPr/>
                      </p:nvSpPr>
                      <p:spPr>
                        <a:xfrm>
                          <a:off x="679320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7" name=""/>
                        <p:cNvSpPr/>
                        <p:nvPr/>
                      </p:nvSpPr>
                      <p:spPr>
                        <a:xfrm>
                          <a:off x="679500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8" name=""/>
                        <p:cNvSpPr/>
                        <p:nvPr/>
                      </p:nvSpPr>
                      <p:spPr>
                        <a:xfrm>
                          <a:off x="679644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9" name=""/>
                      <p:cNvGrpSpPr/>
                      <p:nvPr/>
                    </p:nvGrpSpPr>
                    <p:grpSpPr>
                      <a:xfrm>
                        <a:off x="6775200" y="5145120"/>
                        <a:ext cx="15480" cy="6480"/>
                        <a:chOff x="6775200" y="5145120"/>
                        <a:chExt cx="15480" cy="6480"/>
                      </a:xfrm>
                    </p:grpSpPr>
                    <p:sp>
                      <p:nvSpPr>
                        <p:cNvPr id="4520" name=""/>
                        <p:cNvSpPr/>
                        <p:nvPr/>
                      </p:nvSpPr>
                      <p:spPr>
                        <a:xfrm>
                          <a:off x="677952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1" name=""/>
                        <p:cNvSpPr/>
                        <p:nvPr/>
                      </p:nvSpPr>
                      <p:spPr>
                        <a:xfrm>
                          <a:off x="677772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2" name=""/>
                        <p:cNvSpPr/>
                        <p:nvPr/>
                      </p:nvSpPr>
                      <p:spPr>
                        <a:xfrm>
                          <a:off x="67752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23" name=""/>
                      <p:cNvGrpSpPr/>
                      <p:nvPr/>
                    </p:nvGrpSpPr>
                    <p:grpSpPr>
                      <a:xfrm>
                        <a:off x="6809760" y="5143680"/>
                        <a:ext cx="78480" cy="9360"/>
                        <a:chOff x="6809760" y="5143680"/>
                        <a:chExt cx="78480" cy="9360"/>
                      </a:xfrm>
                    </p:grpSpPr>
                    <p:sp>
                      <p:nvSpPr>
                        <p:cNvPr id="4524" name=""/>
                        <p:cNvSpPr/>
                        <p:nvPr/>
                      </p:nvSpPr>
                      <p:spPr>
                        <a:xfrm>
                          <a:off x="680976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5" name=""/>
                        <p:cNvSpPr/>
                        <p:nvPr/>
                      </p:nvSpPr>
                      <p:spPr>
                        <a:xfrm>
                          <a:off x="687600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6" name=""/>
                        <p:cNvSpPr/>
                        <p:nvPr/>
                      </p:nvSpPr>
                      <p:spPr>
                        <a:xfrm>
                          <a:off x="687924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7" name=""/>
                        <p:cNvSpPr/>
                        <p:nvPr/>
                      </p:nvSpPr>
                      <p:spPr>
                        <a:xfrm>
                          <a:off x="687276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8" name=""/>
                        <p:cNvSpPr/>
                        <p:nvPr/>
                      </p:nvSpPr>
                      <p:spPr>
                        <a:xfrm>
                          <a:off x="686016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9" name=""/>
                        <p:cNvSpPr/>
                        <p:nvPr/>
                      </p:nvSpPr>
                      <p:spPr>
                        <a:xfrm>
                          <a:off x="686952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0" name=""/>
                      <p:cNvGrpSpPr/>
                      <p:nvPr/>
                    </p:nvGrpSpPr>
                    <p:grpSpPr>
                      <a:xfrm>
                        <a:off x="6892200" y="5145120"/>
                        <a:ext cx="24480" cy="7920"/>
                        <a:chOff x="6892200" y="5145120"/>
                        <a:chExt cx="24480" cy="7920"/>
                      </a:xfrm>
                    </p:grpSpPr>
                    <p:sp>
                      <p:nvSpPr>
                        <p:cNvPr id="4531" name=""/>
                        <p:cNvSpPr/>
                        <p:nvPr/>
                      </p:nvSpPr>
                      <p:spPr>
                        <a:xfrm>
                          <a:off x="689220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2" name=""/>
                        <p:cNvSpPr/>
                        <p:nvPr/>
                      </p:nvSpPr>
                      <p:spPr>
                        <a:xfrm>
                          <a:off x="689508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3" name=""/>
                        <p:cNvSpPr/>
                        <p:nvPr/>
                      </p:nvSpPr>
                      <p:spPr>
                        <a:xfrm>
                          <a:off x="689508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4" name=""/>
                      <p:cNvGrpSpPr/>
                      <p:nvPr/>
                    </p:nvGrpSpPr>
                    <p:grpSpPr>
                      <a:xfrm>
                        <a:off x="6920640" y="5145120"/>
                        <a:ext cx="29520" cy="9720"/>
                        <a:chOff x="6920640" y="5145120"/>
                        <a:chExt cx="29520" cy="9720"/>
                      </a:xfrm>
                    </p:grpSpPr>
                    <p:sp>
                      <p:nvSpPr>
                        <p:cNvPr id="4535" name=""/>
                        <p:cNvSpPr/>
                        <p:nvPr/>
                      </p:nvSpPr>
                      <p:spPr>
                        <a:xfrm>
                          <a:off x="692352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6" name=""/>
                        <p:cNvSpPr/>
                        <p:nvPr/>
                      </p:nvSpPr>
                      <p:spPr>
                        <a:xfrm>
                          <a:off x="692064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7" name=""/>
                        <p:cNvSpPr/>
                        <p:nvPr/>
                      </p:nvSpPr>
                      <p:spPr>
                        <a:xfrm>
                          <a:off x="692352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8" name=""/>
                        <p:cNvSpPr/>
                        <p:nvPr/>
                      </p:nvSpPr>
                      <p:spPr>
                        <a:xfrm>
                          <a:off x="692208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9" name=""/>
                        <p:cNvSpPr/>
                        <p:nvPr/>
                      </p:nvSpPr>
                      <p:spPr>
                        <a:xfrm>
                          <a:off x="694260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40" name=""/>
                        <p:cNvSpPr/>
                        <p:nvPr/>
                      </p:nvSpPr>
                      <p:spPr>
                        <a:xfrm>
                          <a:off x="694404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541" name=""/>
                  <p:cNvGrpSpPr/>
                  <p:nvPr/>
                </p:nvGrpSpPr>
                <p:grpSpPr>
                  <a:xfrm>
                    <a:off x="6820920" y="5075280"/>
                    <a:ext cx="91800" cy="19080"/>
                    <a:chOff x="6820920" y="5075280"/>
                    <a:chExt cx="91800" cy="19080"/>
                  </a:xfrm>
                </p:grpSpPr>
                <p:grpSp>
                  <p:nvGrpSpPr>
                    <p:cNvPr id="4542" name=""/>
                    <p:cNvGrpSpPr/>
                    <p:nvPr/>
                  </p:nvGrpSpPr>
                  <p:grpSpPr>
                    <a:xfrm>
                      <a:off x="6820920" y="5080320"/>
                      <a:ext cx="91800" cy="14040"/>
                      <a:chOff x="6820920" y="5080320"/>
                      <a:chExt cx="91800" cy="14040"/>
                    </a:xfrm>
                  </p:grpSpPr>
                  <p:sp>
                    <p:nvSpPr>
                      <p:cNvPr id="4543" name=""/>
                      <p:cNvSpPr/>
                      <p:nvPr/>
                    </p:nvSpPr>
                    <p:spPr>
                      <a:xfrm>
                        <a:off x="682092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4" name=""/>
                      <p:cNvSpPr/>
                      <p:nvPr/>
                    </p:nvSpPr>
                    <p:spPr>
                      <a:xfrm>
                        <a:off x="682092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45" name=""/>
                    <p:cNvSpPr/>
                    <p:nvPr/>
                  </p:nvSpPr>
                  <p:spPr>
                    <a:xfrm>
                      <a:off x="684144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46" name=""/>
                  <p:cNvSpPr/>
                  <p:nvPr/>
                </p:nvSpPr>
                <p:spPr>
                  <a:xfrm>
                    <a:off x="681012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82272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>
                    <a:off x="682740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>
                    <a:off x="690516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550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36884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51" name=""/>
            <p:cNvGrpSpPr/>
            <p:nvPr/>
          </p:nvGrpSpPr>
          <p:grpSpPr>
            <a:xfrm>
              <a:off x="6686640" y="3962520"/>
              <a:ext cx="1085760" cy="752400"/>
              <a:chOff x="6686640" y="3962520"/>
              <a:chExt cx="1085760" cy="752400"/>
            </a:xfrm>
          </p:grpSpPr>
          <p:sp>
            <p:nvSpPr>
              <p:cNvPr id="4552" name=""/>
              <p:cNvSpPr/>
              <p:nvPr/>
            </p:nvSpPr>
            <p:spPr>
              <a:xfrm>
                <a:off x="668664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73416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1 Teziu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554" name=""/>
              <p:cNvGrpSpPr/>
              <p:nvPr/>
            </p:nvGrpSpPr>
            <p:grpSpPr>
              <a:xfrm>
                <a:off x="6759360" y="4017960"/>
                <a:ext cx="821880" cy="488880"/>
                <a:chOff x="6759360" y="4017960"/>
                <a:chExt cx="821880" cy="488880"/>
              </a:xfrm>
            </p:grpSpPr>
            <p:sp>
              <p:nvSpPr>
                <p:cNvPr id="4555" name=""/>
                <p:cNvSpPr/>
                <p:nvPr/>
              </p:nvSpPr>
              <p:spPr>
                <a:xfrm>
                  <a:off x="690192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718776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712116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558" name="pbx" descr=""/>
                <p:cNvPicPr/>
                <p:nvPr/>
              </p:nvPicPr>
              <p:blipFill>
                <a:blip r:embed="rId54"/>
                <a:srcRect l="37594" t="74298" r="28339" b="4834"/>
                <a:stretch/>
              </p:blipFill>
              <p:spPr>
                <a:xfrm>
                  <a:off x="706392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9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09092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0" name=""/>
                <p:cNvGrpSpPr/>
                <p:nvPr/>
              </p:nvGrpSpPr>
              <p:grpSpPr>
                <a:xfrm>
                  <a:off x="6759360" y="4156200"/>
                  <a:ext cx="210960" cy="169920"/>
                  <a:chOff x="6759360" y="4156200"/>
                  <a:chExt cx="210960" cy="169920"/>
                </a:xfrm>
              </p:grpSpPr>
              <p:grpSp>
                <p:nvGrpSpPr>
                  <p:cNvPr id="4561" name=""/>
                  <p:cNvGrpSpPr/>
                  <p:nvPr/>
                </p:nvGrpSpPr>
                <p:grpSpPr>
                  <a:xfrm>
                    <a:off x="6798960" y="4246920"/>
                    <a:ext cx="134280" cy="52200"/>
                    <a:chOff x="6798960" y="4246920"/>
                    <a:chExt cx="134280" cy="52200"/>
                  </a:xfrm>
                </p:grpSpPr>
                <p:grpSp>
                  <p:nvGrpSpPr>
                    <p:cNvPr id="4562" name=""/>
                    <p:cNvGrpSpPr/>
                    <p:nvPr/>
                  </p:nvGrpSpPr>
                  <p:grpSpPr>
                    <a:xfrm>
                      <a:off x="6798960" y="4246920"/>
                      <a:ext cx="134280" cy="52200"/>
                      <a:chOff x="6798960" y="4246920"/>
                      <a:chExt cx="134280" cy="52200"/>
                    </a:xfrm>
                  </p:grpSpPr>
                  <p:grpSp>
                    <p:nvGrpSpPr>
                      <p:cNvPr id="4563" name=""/>
                      <p:cNvGrpSpPr/>
                      <p:nvPr/>
                    </p:nvGrpSpPr>
                    <p:grpSpPr>
                      <a:xfrm>
                        <a:off x="6798960" y="4246920"/>
                        <a:ext cx="134280" cy="52200"/>
                        <a:chOff x="6798960" y="4246920"/>
                        <a:chExt cx="134280" cy="52200"/>
                      </a:xfrm>
                    </p:grpSpPr>
                    <p:grpSp>
                      <p:nvGrpSpPr>
                        <p:cNvPr id="4564" name=""/>
                        <p:cNvGrpSpPr/>
                        <p:nvPr/>
                      </p:nvGrpSpPr>
                      <p:grpSpPr>
                        <a:xfrm>
                          <a:off x="6798960" y="4246920"/>
                          <a:ext cx="134280" cy="52200"/>
                          <a:chOff x="6798960" y="4246920"/>
                          <a:chExt cx="134280" cy="52200"/>
                        </a:xfrm>
                      </p:grpSpPr>
                      <p:grpSp>
                        <p:nvGrpSpPr>
                          <p:cNvPr id="4565" name=""/>
                          <p:cNvGrpSpPr/>
                          <p:nvPr/>
                        </p:nvGrpSpPr>
                        <p:grpSpPr>
                          <a:xfrm>
                            <a:off x="6798960" y="4246920"/>
                            <a:ext cx="134280" cy="52200"/>
                            <a:chOff x="6798960" y="4246920"/>
                            <a:chExt cx="134280" cy="52200"/>
                          </a:xfrm>
                        </p:grpSpPr>
                        <p:sp>
                          <p:nvSpPr>
                            <p:cNvPr id="4566" name=""/>
                            <p:cNvSpPr/>
                            <p:nvPr/>
                          </p:nvSpPr>
                          <p:spPr>
                            <a:xfrm>
                              <a:off x="679896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67" name=""/>
                            <p:cNvSpPr/>
                            <p:nvPr/>
                          </p:nvSpPr>
                          <p:spPr>
                            <a:xfrm>
                              <a:off x="680004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68" name=""/>
                          <p:cNvSpPr/>
                          <p:nvPr/>
                        </p:nvSpPr>
                        <p:spPr>
                          <a:xfrm>
                            <a:off x="680148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69" name=""/>
                        <p:cNvGrpSpPr/>
                        <p:nvPr/>
                      </p:nvGrpSpPr>
                      <p:grpSpPr>
                        <a:xfrm>
                          <a:off x="6804720" y="4289760"/>
                          <a:ext cx="124560" cy="7920"/>
                          <a:chOff x="6804720" y="4289760"/>
                          <a:chExt cx="124560" cy="7920"/>
                        </a:xfrm>
                      </p:grpSpPr>
                      <p:grpSp>
                        <p:nvGrpSpPr>
                          <p:cNvPr id="4570" name=""/>
                          <p:cNvGrpSpPr/>
                          <p:nvPr/>
                        </p:nvGrpSpPr>
                        <p:grpSpPr>
                          <a:xfrm>
                            <a:off x="6804720" y="4289760"/>
                            <a:ext cx="61560" cy="7920"/>
                            <a:chOff x="6804720" y="4289760"/>
                            <a:chExt cx="61560" cy="7920"/>
                          </a:xfrm>
                        </p:grpSpPr>
                        <p:grpSp>
                          <p:nvGrpSpPr>
                            <p:cNvPr id="4571" name=""/>
                            <p:cNvGrpSpPr/>
                            <p:nvPr/>
                          </p:nvGrpSpPr>
                          <p:grpSpPr>
                            <a:xfrm>
                              <a:off x="6804720" y="4289760"/>
                              <a:ext cx="29880" cy="7920"/>
                              <a:chOff x="6804720" y="4289760"/>
                              <a:chExt cx="29880" cy="7920"/>
                            </a:xfrm>
                          </p:grpSpPr>
                          <p:grpSp>
                            <p:nvGrpSpPr>
                              <p:cNvPr id="4572" name=""/>
                              <p:cNvGrpSpPr/>
                              <p:nvPr/>
                            </p:nvGrpSpPr>
                            <p:grpSpPr>
                              <a:xfrm>
                                <a:off x="6804720" y="4289760"/>
                                <a:ext cx="14400" cy="7920"/>
                                <a:chOff x="680472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7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4289760"/>
                                  <a:ext cx="6840" cy="7920"/>
                                  <a:chOff x="68047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4289760"/>
                                    <a:ext cx="2520" cy="7920"/>
                                    <a:chOff x="6804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4289760"/>
                                    <a:ext cx="3960" cy="7920"/>
                                    <a:chOff x="68076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8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4289760"/>
                                  <a:ext cx="6840" cy="7920"/>
                                  <a:chOff x="6812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4289760"/>
                                    <a:ext cx="2520" cy="7920"/>
                                    <a:chOff x="6812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4289760"/>
                                    <a:ext cx="3960" cy="7920"/>
                                    <a:chOff x="68151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87" name=""/>
                              <p:cNvGrpSpPr/>
                              <p:nvPr/>
                            </p:nvGrpSpPr>
                            <p:grpSpPr>
                              <a:xfrm>
                                <a:off x="6820200" y="4289760"/>
                                <a:ext cx="14400" cy="7920"/>
                                <a:chOff x="68202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8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4289760"/>
                                  <a:ext cx="6840" cy="7920"/>
                                  <a:chOff x="68202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4289760"/>
                                    <a:ext cx="2520" cy="7920"/>
                                    <a:chOff x="6820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4289760"/>
                                    <a:ext cx="3960" cy="7920"/>
                                    <a:chOff x="68230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9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4289760"/>
                                  <a:ext cx="6840" cy="7920"/>
                                  <a:chOff x="682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4289760"/>
                                    <a:ext cx="2520" cy="7920"/>
                                    <a:chOff x="6827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4289760"/>
                                    <a:ext cx="3960" cy="7920"/>
                                    <a:chOff x="68306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02" name=""/>
                            <p:cNvGrpSpPr/>
                            <p:nvPr/>
                          </p:nvGrpSpPr>
                          <p:grpSpPr>
                            <a:xfrm>
                              <a:off x="6836040" y="4289760"/>
                              <a:ext cx="30240" cy="7920"/>
                              <a:chOff x="6836040" y="4289760"/>
                              <a:chExt cx="30240" cy="7920"/>
                            </a:xfrm>
                          </p:grpSpPr>
                          <p:grpSp>
                            <p:nvGrpSpPr>
                              <p:cNvPr id="4603" name=""/>
                              <p:cNvGrpSpPr/>
                              <p:nvPr/>
                            </p:nvGrpSpPr>
                            <p:grpSpPr>
                              <a:xfrm>
                                <a:off x="6836040" y="4289760"/>
                                <a:ext cx="14760" cy="7920"/>
                                <a:chOff x="683604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460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4289760"/>
                                  <a:ext cx="7200" cy="7920"/>
                                  <a:chOff x="683604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6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4289760"/>
                                    <a:ext cx="2520" cy="7920"/>
                                    <a:chOff x="68360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4289760"/>
                                    <a:ext cx="2520" cy="7920"/>
                                    <a:chOff x="6840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1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4289760"/>
                                  <a:ext cx="6840" cy="7920"/>
                                  <a:chOff x="684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4289760"/>
                                    <a:ext cx="2160" cy="7920"/>
                                    <a:chOff x="68439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4289760"/>
                                    <a:ext cx="2520" cy="7920"/>
                                    <a:chOff x="6848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18" name=""/>
                              <p:cNvGrpSpPr/>
                              <p:nvPr/>
                            </p:nvGrpSpPr>
                            <p:grpSpPr>
                              <a:xfrm>
                                <a:off x="6851880" y="4289760"/>
                                <a:ext cx="14400" cy="7920"/>
                                <a:chOff x="6851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1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4289760"/>
                                  <a:ext cx="6840" cy="7920"/>
                                  <a:chOff x="6851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4289760"/>
                                    <a:ext cx="2160" cy="7920"/>
                                    <a:chOff x="685188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4289760"/>
                                    <a:ext cx="2520" cy="7920"/>
                                    <a:chOff x="6856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2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4289760"/>
                                  <a:ext cx="6840" cy="7920"/>
                                  <a:chOff x="685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4289760"/>
                                    <a:ext cx="2160" cy="7920"/>
                                    <a:chOff x="68594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4289760"/>
                                    <a:ext cx="4320" cy="7920"/>
                                    <a:chOff x="686196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33" name=""/>
                          <p:cNvGrpSpPr/>
                          <p:nvPr/>
                        </p:nvGrpSpPr>
                        <p:grpSpPr>
                          <a:xfrm>
                            <a:off x="6868080" y="4289760"/>
                            <a:ext cx="61200" cy="7920"/>
                            <a:chOff x="6868080" y="4289760"/>
                            <a:chExt cx="61200" cy="7920"/>
                          </a:xfrm>
                        </p:grpSpPr>
                        <p:grpSp>
                          <p:nvGrpSpPr>
                            <p:cNvPr id="4634" name=""/>
                            <p:cNvGrpSpPr/>
                            <p:nvPr/>
                          </p:nvGrpSpPr>
                          <p:grpSpPr>
                            <a:xfrm>
                              <a:off x="6868080" y="4289760"/>
                              <a:ext cx="29880" cy="7920"/>
                              <a:chOff x="6868080" y="4289760"/>
                              <a:chExt cx="29880" cy="7920"/>
                            </a:xfrm>
                          </p:grpSpPr>
                          <p:grpSp>
                            <p:nvGrpSpPr>
                              <p:cNvPr id="4635" name=""/>
                              <p:cNvGrpSpPr/>
                              <p:nvPr/>
                            </p:nvGrpSpPr>
                            <p:grpSpPr>
                              <a:xfrm>
                                <a:off x="6868080" y="4289760"/>
                                <a:ext cx="14400" cy="7920"/>
                                <a:chOff x="6868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3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4289760"/>
                                  <a:ext cx="6840" cy="7920"/>
                                  <a:chOff x="6868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4289760"/>
                                    <a:ext cx="2520" cy="7920"/>
                                    <a:chOff x="6868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4289760"/>
                                    <a:ext cx="3960" cy="7920"/>
                                    <a:chOff x="6870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4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4289760"/>
                                  <a:ext cx="6840" cy="7920"/>
                                  <a:chOff x="6875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4289760"/>
                                    <a:ext cx="2520" cy="7920"/>
                                    <a:chOff x="6875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4289760"/>
                                    <a:ext cx="2520" cy="7920"/>
                                    <a:chOff x="6879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50" name=""/>
                              <p:cNvGrpSpPr/>
                              <p:nvPr/>
                            </p:nvGrpSpPr>
                            <p:grpSpPr>
                              <a:xfrm>
                                <a:off x="6883560" y="4289760"/>
                                <a:ext cx="14400" cy="7920"/>
                                <a:chOff x="68835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5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4289760"/>
                                  <a:ext cx="6840" cy="7920"/>
                                  <a:chOff x="68835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4289760"/>
                                    <a:ext cx="2520" cy="7920"/>
                                    <a:chOff x="68835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4289760"/>
                                    <a:ext cx="2520" cy="7920"/>
                                    <a:chOff x="6887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5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4289760"/>
                                  <a:ext cx="6840" cy="7920"/>
                                  <a:chOff x="68911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4289760"/>
                                    <a:ext cx="2520" cy="7920"/>
                                    <a:chOff x="68911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4289760"/>
                                    <a:ext cx="3960" cy="7920"/>
                                    <a:chOff x="68940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65" name=""/>
                            <p:cNvGrpSpPr/>
                            <p:nvPr/>
                          </p:nvGrpSpPr>
                          <p:grpSpPr>
                            <a:xfrm>
                              <a:off x="6899400" y="4289760"/>
                              <a:ext cx="29880" cy="7920"/>
                              <a:chOff x="6899400" y="4289760"/>
                              <a:chExt cx="29880" cy="7920"/>
                            </a:xfrm>
                          </p:grpSpPr>
                          <p:grpSp>
                            <p:nvGrpSpPr>
                              <p:cNvPr id="4666" name=""/>
                              <p:cNvGrpSpPr/>
                              <p:nvPr/>
                            </p:nvGrpSpPr>
                            <p:grpSpPr>
                              <a:xfrm>
                                <a:off x="6899400" y="4289760"/>
                                <a:ext cx="14400" cy="7920"/>
                                <a:chOff x="68994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6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4289760"/>
                                  <a:ext cx="6840" cy="7920"/>
                                  <a:chOff x="68994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4289760"/>
                                    <a:ext cx="2520" cy="7920"/>
                                    <a:chOff x="68994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4289760"/>
                                    <a:ext cx="2520" cy="7920"/>
                                    <a:chOff x="6903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7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4289760"/>
                                  <a:ext cx="6840" cy="7920"/>
                                  <a:chOff x="6906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4289760"/>
                                    <a:ext cx="2520" cy="7920"/>
                                    <a:chOff x="6906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4289760"/>
                                    <a:ext cx="3960" cy="7920"/>
                                    <a:chOff x="6909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81" name=""/>
                              <p:cNvGrpSpPr/>
                              <p:nvPr/>
                            </p:nvGrpSpPr>
                            <p:grpSpPr>
                              <a:xfrm>
                                <a:off x="6914880" y="4289760"/>
                                <a:ext cx="14400" cy="7920"/>
                                <a:chOff x="6914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8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4289760"/>
                                  <a:ext cx="6840" cy="7920"/>
                                  <a:chOff x="6914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4289760"/>
                                    <a:ext cx="2520" cy="7920"/>
                                    <a:chOff x="6914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4289760"/>
                                    <a:ext cx="2520" cy="7920"/>
                                    <a:chOff x="6919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8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4289760"/>
                                  <a:ext cx="6840" cy="7920"/>
                                  <a:chOff x="6922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4289760"/>
                                    <a:ext cx="2520" cy="7920"/>
                                    <a:chOff x="6922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4289760"/>
                                    <a:ext cx="2520" cy="7920"/>
                                    <a:chOff x="6926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696" name=""/>
                      <p:cNvGrpSpPr/>
                      <p:nvPr/>
                    </p:nvGrpSpPr>
                    <p:grpSpPr>
                      <a:xfrm>
                        <a:off x="6801480" y="4260960"/>
                        <a:ext cx="128160" cy="22320"/>
                        <a:chOff x="6801480" y="4260960"/>
                        <a:chExt cx="128160" cy="22320"/>
                      </a:xfrm>
                    </p:grpSpPr>
                    <p:sp>
                      <p:nvSpPr>
                        <p:cNvPr id="4697" name=""/>
                        <p:cNvSpPr/>
                        <p:nvPr/>
                      </p:nvSpPr>
                      <p:spPr>
                        <a:xfrm>
                          <a:off x="680148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8" name=""/>
                        <p:cNvSpPr/>
                        <p:nvPr/>
                      </p:nvSpPr>
                      <p:spPr>
                        <a:xfrm>
                          <a:off x="682992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9" name=""/>
                        <p:cNvSpPr/>
                        <p:nvPr/>
                      </p:nvSpPr>
                      <p:spPr>
                        <a:xfrm>
                          <a:off x="686952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0" name=""/>
                        <p:cNvSpPr/>
                        <p:nvPr/>
                      </p:nvSpPr>
                      <p:spPr>
                        <a:xfrm>
                          <a:off x="691092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1" name=""/>
                    <p:cNvGrpSpPr/>
                    <p:nvPr/>
                  </p:nvGrpSpPr>
                  <p:grpSpPr>
                    <a:xfrm>
                      <a:off x="6914520" y="4264200"/>
                      <a:ext cx="11880" cy="11160"/>
                      <a:chOff x="6914520" y="4264200"/>
                      <a:chExt cx="11880" cy="11160"/>
                    </a:xfrm>
                  </p:grpSpPr>
                  <p:sp>
                    <p:nvSpPr>
                      <p:cNvPr id="4702" name=""/>
                      <p:cNvSpPr/>
                      <p:nvPr/>
                    </p:nvSpPr>
                    <p:spPr>
                      <a:xfrm>
                        <a:off x="691884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3" name=""/>
                      <p:cNvSpPr/>
                      <p:nvPr/>
                    </p:nvSpPr>
                    <p:spPr>
                      <a:xfrm>
                        <a:off x="692028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04" name=""/>
                      <p:cNvGrpSpPr/>
                      <p:nvPr/>
                    </p:nvGrpSpPr>
                    <p:grpSpPr>
                      <a:xfrm>
                        <a:off x="6914520" y="4266000"/>
                        <a:ext cx="2520" cy="6120"/>
                        <a:chOff x="6914520" y="4266000"/>
                        <a:chExt cx="2520" cy="6120"/>
                      </a:xfrm>
                    </p:grpSpPr>
                    <p:sp>
                      <p:nvSpPr>
                        <p:cNvPr id="4705" name=""/>
                        <p:cNvSpPr/>
                        <p:nvPr/>
                      </p:nvSpPr>
                      <p:spPr>
                        <a:xfrm>
                          <a:off x="691452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6" name=""/>
                        <p:cNvSpPr/>
                        <p:nvPr/>
                      </p:nvSpPr>
                      <p:spPr>
                        <a:xfrm>
                          <a:off x="691452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7" name=""/>
                    <p:cNvGrpSpPr/>
                    <p:nvPr/>
                  </p:nvGrpSpPr>
                  <p:grpSpPr>
                    <a:xfrm>
                      <a:off x="6831720" y="4264200"/>
                      <a:ext cx="36000" cy="14400"/>
                      <a:chOff x="6831720" y="4264200"/>
                      <a:chExt cx="36000" cy="14400"/>
                    </a:xfrm>
                  </p:grpSpPr>
                  <p:grpSp>
                    <p:nvGrpSpPr>
                      <p:cNvPr id="4708" name=""/>
                      <p:cNvGrpSpPr/>
                      <p:nvPr/>
                    </p:nvGrpSpPr>
                    <p:grpSpPr>
                      <a:xfrm>
                        <a:off x="6833160" y="4264200"/>
                        <a:ext cx="34560" cy="7920"/>
                        <a:chOff x="6833160" y="4264200"/>
                        <a:chExt cx="34560" cy="7920"/>
                      </a:xfrm>
                    </p:grpSpPr>
                    <p:sp>
                      <p:nvSpPr>
                        <p:cNvPr id="4709" name=""/>
                        <p:cNvSpPr/>
                        <p:nvPr/>
                      </p:nvSpPr>
                      <p:spPr>
                        <a:xfrm>
                          <a:off x="684216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0" name=""/>
                        <p:cNvSpPr/>
                        <p:nvPr/>
                      </p:nvSpPr>
                      <p:spPr>
                        <a:xfrm>
                          <a:off x="684216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1" name=""/>
                        <p:cNvSpPr/>
                        <p:nvPr/>
                      </p:nvSpPr>
                      <p:spPr>
                        <a:xfrm>
                          <a:off x="683316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12" name=""/>
                      <p:cNvSpPr/>
                      <p:nvPr/>
                    </p:nvSpPr>
                    <p:spPr>
                      <a:xfrm>
                        <a:off x="683172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3" name=""/>
                      <p:cNvSpPr/>
                      <p:nvPr/>
                    </p:nvSpPr>
                    <p:spPr>
                      <a:xfrm>
                        <a:off x="686016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14" name=""/>
                    <p:cNvGrpSpPr/>
                    <p:nvPr/>
                  </p:nvGrpSpPr>
                  <p:grpSpPr>
                    <a:xfrm>
                      <a:off x="6804720" y="4277160"/>
                      <a:ext cx="21960" cy="4680"/>
                      <a:chOff x="6804720" y="4277160"/>
                      <a:chExt cx="21960" cy="4680"/>
                    </a:xfrm>
                  </p:grpSpPr>
                  <p:grpSp>
                    <p:nvGrpSpPr>
                      <p:cNvPr id="4715" name=""/>
                      <p:cNvGrpSpPr/>
                      <p:nvPr/>
                    </p:nvGrpSpPr>
                    <p:grpSpPr>
                      <a:xfrm>
                        <a:off x="6804720" y="4277160"/>
                        <a:ext cx="11520" cy="4680"/>
                        <a:chOff x="6804720" y="4277160"/>
                        <a:chExt cx="11520" cy="4680"/>
                      </a:xfrm>
                    </p:grpSpPr>
                    <p:grpSp>
                      <p:nvGrpSpPr>
                        <p:cNvPr id="4716" name=""/>
                        <p:cNvGrpSpPr/>
                        <p:nvPr/>
                      </p:nvGrpSpPr>
                      <p:grpSpPr>
                        <a:xfrm>
                          <a:off x="6804720" y="4277160"/>
                          <a:ext cx="5400" cy="4680"/>
                          <a:chOff x="6804720" y="4277160"/>
                          <a:chExt cx="5400" cy="4680"/>
                        </a:xfrm>
                      </p:grpSpPr>
                      <p:grpSp>
                        <p:nvGrpSpPr>
                          <p:cNvPr id="4717" name=""/>
                          <p:cNvGrpSpPr/>
                          <p:nvPr/>
                        </p:nvGrpSpPr>
                        <p:grpSpPr>
                          <a:xfrm>
                            <a:off x="6804720" y="4277160"/>
                            <a:ext cx="2520" cy="4680"/>
                            <a:chOff x="6804720" y="4277160"/>
                            <a:chExt cx="2520" cy="4680"/>
                          </a:xfrm>
                        </p:grpSpPr>
                        <p:sp>
                          <p:nvSpPr>
                            <p:cNvPr id="4718" name=""/>
                            <p:cNvSpPr/>
                            <p:nvPr/>
                          </p:nvSpPr>
                          <p:spPr>
                            <a:xfrm>
                              <a:off x="6804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19" name=""/>
                            <p:cNvSpPr/>
                            <p:nvPr/>
                          </p:nvSpPr>
                          <p:spPr>
                            <a:xfrm>
                              <a:off x="6806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0" name=""/>
                          <p:cNvGrpSpPr/>
                          <p:nvPr/>
                        </p:nvGrpSpPr>
                        <p:grpSpPr>
                          <a:xfrm>
                            <a:off x="6807600" y="4277160"/>
                            <a:ext cx="2520" cy="4680"/>
                            <a:chOff x="6807600" y="4277160"/>
                            <a:chExt cx="2520" cy="4680"/>
                          </a:xfrm>
                        </p:grpSpPr>
                        <p:sp>
                          <p:nvSpPr>
                            <p:cNvPr id="4721" name=""/>
                            <p:cNvSpPr/>
                            <p:nvPr/>
                          </p:nvSpPr>
                          <p:spPr>
                            <a:xfrm>
                              <a:off x="6807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2" name=""/>
                            <p:cNvSpPr/>
                            <p:nvPr/>
                          </p:nvSpPr>
                          <p:spPr>
                            <a:xfrm>
                              <a:off x="6809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23" name=""/>
                        <p:cNvGrpSpPr/>
                        <p:nvPr/>
                      </p:nvGrpSpPr>
                      <p:grpSpPr>
                        <a:xfrm>
                          <a:off x="6810840" y="4277160"/>
                          <a:ext cx="5400" cy="4680"/>
                          <a:chOff x="6810840" y="4277160"/>
                          <a:chExt cx="5400" cy="4680"/>
                        </a:xfrm>
                      </p:grpSpPr>
                      <p:grpSp>
                        <p:nvGrpSpPr>
                          <p:cNvPr id="4724" name=""/>
                          <p:cNvGrpSpPr/>
                          <p:nvPr/>
                        </p:nvGrpSpPr>
                        <p:grpSpPr>
                          <a:xfrm>
                            <a:off x="6810840" y="4277160"/>
                            <a:ext cx="2520" cy="4680"/>
                            <a:chOff x="6810840" y="4277160"/>
                            <a:chExt cx="2520" cy="4680"/>
                          </a:xfrm>
                        </p:grpSpPr>
                        <p:sp>
                          <p:nvSpPr>
                            <p:cNvPr id="4725" name=""/>
                            <p:cNvSpPr/>
                            <p:nvPr/>
                          </p:nvSpPr>
                          <p:spPr>
                            <a:xfrm>
                              <a:off x="68108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6" name=""/>
                            <p:cNvSpPr/>
                            <p:nvPr/>
                          </p:nvSpPr>
                          <p:spPr>
                            <a:xfrm>
                              <a:off x="68119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7" name=""/>
                          <p:cNvGrpSpPr/>
                          <p:nvPr/>
                        </p:nvGrpSpPr>
                        <p:grpSpPr>
                          <a:xfrm>
                            <a:off x="6813720" y="4277160"/>
                            <a:ext cx="2520" cy="4680"/>
                            <a:chOff x="6813720" y="4277160"/>
                            <a:chExt cx="2520" cy="4680"/>
                          </a:xfrm>
                        </p:grpSpPr>
                        <p:sp>
                          <p:nvSpPr>
                            <p:cNvPr id="4728" name=""/>
                            <p:cNvSpPr/>
                            <p:nvPr/>
                          </p:nvSpPr>
                          <p:spPr>
                            <a:xfrm>
                              <a:off x="6813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9" name=""/>
                            <p:cNvSpPr/>
                            <p:nvPr/>
                          </p:nvSpPr>
                          <p:spPr>
                            <a:xfrm>
                              <a:off x="6814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730" name=""/>
                      <p:cNvGrpSpPr/>
                      <p:nvPr/>
                    </p:nvGrpSpPr>
                    <p:grpSpPr>
                      <a:xfrm>
                        <a:off x="6817320" y="4277160"/>
                        <a:ext cx="9360" cy="4680"/>
                        <a:chOff x="6817320" y="4277160"/>
                        <a:chExt cx="9360" cy="4680"/>
                      </a:xfrm>
                    </p:grpSpPr>
                    <p:grpSp>
                      <p:nvGrpSpPr>
                        <p:cNvPr id="4731" name=""/>
                        <p:cNvGrpSpPr/>
                        <p:nvPr/>
                      </p:nvGrpSpPr>
                      <p:grpSpPr>
                        <a:xfrm>
                          <a:off x="6817320" y="4277160"/>
                          <a:ext cx="5040" cy="4680"/>
                          <a:chOff x="6817320" y="4277160"/>
                          <a:chExt cx="5040" cy="4680"/>
                        </a:xfrm>
                      </p:grpSpPr>
                      <p:grpSp>
                        <p:nvGrpSpPr>
                          <p:cNvPr id="4732" name=""/>
                          <p:cNvGrpSpPr/>
                          <p:nvPr/>
                        </p:nvGrpSpPr>
                        <p:grpSpPr>
                          <a:xfrm>
                            <a:off x="6817320" y="4277160"/>
                            <a:ext cx="2160" cy="4680"/>
                            <a:chOff x="6817320" y="4277160"/>
                            <a:chExt cx="2160" cy="4680"/>
                          </a:xfrm>
                        </p:grpSpPr>
                        <p:sp>
                          <p:nvSpPr>
                            <p:cNvPr id="4733" name=""/>
                            <p:cNvSpPr/>
                            <p:nvPr/>
                          </p:nvSpPr>
                          <p:spPr>
                            <a:xfrm>
                              <a:off x="68173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4" name=""/>
                            <p:cNvSpPr/>
                            <p:nvPr/>
                          </p:nvSpPr>
                          <p:spPr>
                            <a:xfrm>
                              <a:off x="6818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35" name=""/>
                          <p:cNvGrpSpPr/>
                          <p:nvPr/>
                        </p:nvGrpSpPr>
                        <p:grpSpPr>
                          <a:xfrm>
                            <a:off x="6819840" y="4277160"/>
                            <a:ext cx="2520" cy="4680"/>
                            <a:chOff x="6819840" y="4277160"/>
                            <a:chExt cx="2520" cy="4680"/>
                          </a:xfrm>
                        </p:grpSpPr>
                        <p:sp>
                          <p:nvSpPr>
                            <p:cNvPr id="4736" name=""/>
                            <p:cNvSpPr/>
                            <p:nvPr/>
                          </p:nvSpPr>
                          <p:spPr>
                            <a:xfrm>
                              <a:off x="6819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7" name=""/>
                            <p:cNvSpPr/>
                            <p:nvPr/>
                          </p:nvSpPr>
                          <p:spPr>
                            <a:xfrm>
                              <a:off x="6821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38" name=""/>
                        <p:cNvGrpSpPr/>
                        <p:nvPr/>
                      </p:nvGrpSpPr>
                      <p:grpSpPr>
                        <a:xfrm>
                          <a:off x="6823080" y="4277160"/>
                          <a:ext cx="3600" cy="4680"/>
                          <a:chOff x="6823080" y="4277160"/>
                          <a:chExt cx="3600" cy="4680"/>
                        </a:xfrm>
                      </p:grpSpPr>
                      <p:grpSp>
                        <p:nvGrpSpPr>
                          <p:cNvPr id="4739" name=""/>
                          <p:cNvGrpSpPr/>
                          <p:nvPr/>
                        </p:nvGrpSpPr>
                        <p:grpSpPr>
                          <a:xfrm>
                            <a:off x="6823080" y="4277160"/>
                            <a:ext cx="1440" cy="4680"/>
                            <a:chOff x="6823080" y="4277160"/>
                            <a:chExt cx="1440" cy="4680"/>
                          </a:xfrm>
                        </p:grpSpPr>
                        <p:sp>
                          <p:nvSpPr>
                            <p:cNvPr id="4740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1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42" name=""/>
                          <p:cNvGrpSpPr/>
                          <p:nvPr/>
                        </p:nvGrpSpPr>
                        <p:grpSpPr>
                          <a:xfrm>
                            <a:off x="6824520" y="4277160"/>
                            <a:ext cx="2160" cy="4680"/>
                            <a:chOff x="6824520" y="4277160"/>
                            <a:chExt cx="2160" cy="4680"/>
                          </a:xfrm>
                        </p:grpSpPr>
                        <p:sp>
                          <p:nvSpPr>
                            <p:cNvPr id="4743" name=""/>
                            <p:cNvSpPr/>
                            <p:nvPr/>
                          </p:nvSpPr>
                          <p:spPr>
                            <a:xfrm>
                              <a:off x="68245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4" name=""/>
                            <p:cNvSpPr/>
                            <p:nvPr/>
                          </p:nvSpPr>
                          <p:spPr>
                            <a:xfrm>
                              <a:off x="6825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745" name=""/>
                    <p:cNvSpPr/>
                    <p:nvPr/>
                  </p:nvSpPr>
                  <p:spPr>
                    <a:xfrm>
                      <a:off x="680328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6" name=""/>
                  <p:cNvGrpSpPr/>
                  <p:nvPr/>
                </p:nvGrpSpPr>
                <p:grpSpPr>
                  <a:xfrm>
                    <a:off x="6759360" y="4296240"/>
                    <a:ext cx="210960" cy="29880"/>
                    <a:chOff x="6759360" y="4296240"/>
                    <a:chExt cx="210960" cy="29880"/>
                  </a:xfrm>
                </p:grpSpPr>
                <p:grpSp>
                  <p:nvGrpSpPr>
                    <p:cNvPr id="4747" name=""/>
                    <p:cNvGrpSpPr/>
                    <p:nvPr/>
                  </p:nvGrpSpPr>
                  <p:grpSpPr>
                    <a:xfrm>
                      <a:off x="6759360" y="4296240"/>
                      <a:ext cx="210960" cy="29880"/>
                      <a:chOff x="6759360" y="4296240"/>
                      <a:chExt cx="210960" cy="29880"/>
                    </a:xfrm>
                  </p:grpSpPr>
                  <p:sp>
                    <p:nvSpPr>
                      <p:cNvPr id="4748" name=""/>
                      <p:cNvSpPr/>
                      <p:nvPr/>
                    </p:nvSpPr>
                    <p:spPr>
                      <a:xfrm>
                        <a:off x="675936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9" name=""/>
                      <p:cNvSpPr/>
                      <p:nvPr/>
                    </p:nvSpPr>
                    <p:spPr>
                      <a:xfrm>
                        <a:off x="675936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0" name=""/>
                      <p:cNvSpPr/>
                      <p:nvPr/>
                    </p:nvSpPr>
                    <p:spPr>
                      <a:xfrm>
                        <a:off x="676548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1" name=""/>
                    <p:cNvGrpSpPr/>
                    <p:nvPr/>
                  </p:nvGrpSpPr>
                  <p:grpSpPr>
                    <a:xfrm>
                      <a:off x="6781320" y="4299120"/>
                      <a:ext cx="165960" cy="5040"/>
                      <a:chOff x="6781320" y="4299120"/>
                      <a:chExt cx="165960" cy="5040"/>
                    </a:xfrm>
                  </p:grpSpPr>
                  <p:sp>
                    <p:nvSpPr>
                      <p:cNvPr id="4752" name=""/>
                      <p:cNvSpPr/>
                      <p:nvPr/>
                    </p:nvSpPr>
                    <p:spPr>
                      <a:xfrm>
                        <a:off x="678132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3" name=""/>
                      <p:cNvSpPr/>
                      <p:nvPr/>
                    </p:nvSpPr>
                    <p:spPr>
                      <a:xfrm>
                        <a:off x="679860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4" name=""/>
                      <p:cNvSpPr/>
                      <p:nvPr/>
                    </p:nvSpPr>
                    <p:spPr>
                      <a:xfrm>
                        <a:off x="683172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5" name=""/>
                      <p:cNvSpPr/>
                      <p:nvPr/>
                    </p:nvSpPr>
                    <p:spPr>
                      <a:xfrm>
                        <a:off x="686196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6" name=""/>
                      <p:cNvSpPr/>
                      <p:nvPr/>
                    </p:nvSpPr>
                    <p:spPr>
                      <a:xfrm>
                        <a:off x="689220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7" name=""/>
                      <p:cNvSpPr/>
                      <p:nvPr/>
                    </p:nvSpPr>
                    <p:spPr>
                      <a:xfrm>
                        <a:off x="692064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8" name=""/>
                    <p:cNvGrpSpPr/>
                    <p:nvPr/>
                  </p:nvGrpSpPr>
                  <p:grpSpPr>
                    <a:xfrm>
                      <a:off x="6775200" y="4305600"/>
                      <a:ext cx="174960" cy="11160"/>
                      <a:chOff x="6775200" y="4305600"/>
                      <a:chExt cx="174960" cy="11160"/>
                    </a:xfrm>
                  </p:grpSpPr>
                  <p:grpSp>
                    <p:nvGrpSpPr>
                      <p:cNvPr id="4759" name=""/>
                      <p:cNvGrpSpPr/>
                      <p:nvPr/>
                    </p:nvGrpSpPr>
                    <p:grpSpPr>
                      <a:xfrm>
                        <a:off x="6790680" y="4305600"/>
                        <a:ext cx="84960" cy="9360"/>
                        <a:chOff x="6790680" y="4305600"/>
                        <a:chExt cx="84960" cy="9360"/>
                      </a:xfrm>
                    </p:grpSpPr>
                    <p:sp>
                      <p:nvSpPr>
                        <p:cNvPr id="4760" name=""/>
                        <p:cNvSpPr/>
                        <p:nvPr/>
                      </p:nvSpPr>
                      <p:spPr>
                        <a:xfrm>
                          <a:off x="679068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1" name=""/>
                        <p:cNvSpPr/>
                        <p:nvPr/>
                      </p:nvSpPr>
                      <p:spPr>
                        <a:xfrm>
                          <a:off x="679320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2" name=""/>
                        <p:cNvSpPr/>
                        <p:nvPr/>
                      </p:nvSpPr>
                      <p:spPr>
                        <a:xfrm>
                          <a:off x="679500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3" name=""/>
                        <p:cNvSpPr/>
                        <p:nvPr/>
                      </p:nvSpPr>
                      <p:spPr>
                        <a:xfrm>
                          <a:off x="679644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4" name=""/>
                      <p:cNvGrpSpPr/>
                      <p:nvPr/>
                    </p:nvGrpSpPr>
                    <p:grpSpPr>
                      <a:xfrm>
                        <a:off x="6775200" y="4307040"/>
                        <a:ext cx="15480" cy="6480"/>
                        <a:chOff x="6775200" y="4307040"/>
                        <a:chExt cx="15480" cy="6480"/>
                      </a:xfrm>
                    </p:grpSpPr>
                    <p:sp>
                      <p:nvSpPr>
                        <p:cNvPr id="4765" name=""/>
                        <p:cNvSpPr/>
                        <p:nvPr/>
                      </p:nvSpPr>
                      <p:spPr>
                        <a:xfrm>
                          <a:off x="677952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6" name=""/>
                        <p:cNvSpPr/>
                        <p:nvPr/>
                      </p:nvSpPr>
                      <p:spPr>
                        <a:xfrm>
                          <a:off x="677772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7" name=""/>
                        <p:cNvSpPr/>
                        <p:nvPr/>
                      </p:nvSpPr>
                      <p:spPr>
                        <a:xfrm>
                          <a:off x="67752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8" name=""/>
                      <p:cNvGrpSpPr/>
                      <p:nvPr/>
                    </p:nvGrpSpPr>
                    <p:grpSpPr>
                      <a:xfrm>
                        <a:off x="6809760" y="4305600"/>
                        <a:ext cx="78480" cy="9360"/>
                        <a:chOff x="6809760" y="4305600"/>
                        <a:chExt cx="78480" cy="9360"/>
                      </a:xfrm>
                    </p:grpSpPr>
                    <p:sp>
                      <p:nvSpPr>
                        <p:cNvPr id="4769" name=""/>
                        <p:cNvSpPr/>
                        <p:nvPr/>
                      </p:nvSpPr>
                      <p:spPr>
                        <a:xfrm>
                          <a:off x="680976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0" name=""/>
                        <p:cNvSpPr/>
                        <p:nvPr/>
                      </p:nvSpPr>
                      <p:spPr>
                        <a:xfrm>
                          <a:off x="687600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1" name=""/>
                        <p:cNvSpPr/>
                        <p:nvPr/>
                      </p:nvSpPr>
                      <p:spPr>
                        <a:xfrm>
                          <a:off x="687924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2" name=""/>
                        <p:cNvSpPr/>
                        <p:nvPr/>
                      </p:nvSpPr>
                      <p:spPr>
                        <a:xfrm>
                          <a:off x="687276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3" name=""/>
                        <p:cNvSpPr/>
                        <p:nvPr/>
                      </p:nvSpPr>
                      <p:spPr>
                        <a:xfrm>
                          <a:off x="686016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4" name=""/>
                        <p:cNvSpPr/>
                        <p:nvPr/>
                      </p:nvSpPr>
                      <p:spPr>
                        <a:xfrm>
                          <a:off x="686952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5" name=""/>
                      <p:cNvGrpSpPr/>
                      <p:nvPr/>
                    </p:nvGrpSpPr>
                    <p:grpSpPr>
                      <a:xfrm>
                        <a:off x="6892200" y="4307040"/>
                        <a:ext cx="24480" cy="7920"/>
                        <a:chOff x="6892200" y="4307040"/>
                        <a:chExt cx="24480" cy="7920"/>
                      </a:xfrm>
                    </p:grpSpPr>
                    <p:sp>
                      <p:nvSpPr>
                        <p:cNvPr id="4776" name=""/>
                        <p:cNvSpPr/>
                        <p:nvPr/>
                      </p:nvSpPr>
                      <p:spPr>
                        <a:xfrm>
                          <a:off x="689220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7" name=""/>
                        <p:cNvSpPr/>
                        <p:nvPr/>
                      </p:nvSpPr>
                      <p:spPr>
                        <a:xfrm>
                          <a:off x="689508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8" name=""/>
                        <p:cNvSpPr/>
                        <p:nvPr/>
                      </p:nvSpPr>
                      <p:spPr>
                        <a:xfrm>
                          <a:off x="689508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9" name=""/>
                      <p:cNvGrpSpPr/>
                      <p:nvPr/>
                    </p:nvGrpSpPr>
                    <p:grpSpPr>
                      <a:xfrm>
                        <a:off x="6920640" y="4307040"/>
                        <a:ext cx="29520" cy="9720"/>
                        <a:chOff x="6920640" y="4307040"/>
                        <a:chExt cx="29520" cy="9720"/>
                      </a:xfrm>
                    </p:grpSpPr>
                    <p:sp>
                      <p:nvSpPr>
                        <p:cNvPr id="4780" name=""/>
                        <p:cNvSpPr/>
                        <p:nvPr/>
                      </p:nvSpPr>
                      <p:spPr>
                        <a:xfrm>
                          <a:off x="692352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1" name=""/>
                        <p:cNvSpPr/>
                        <p:nvPr/>
                      </p:nvSpPr>
                      <p:spPr>
                        <a:xfrm>
                          <a:off x="692064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2" name=""/>
                        <p:cNvSpPr/>
                        <p:nvPr/>
                      </p:nvSpPr>
                      <p:spPr>
                        <a:xfrm>
                          <a:off x="692352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3" name=""/>
                        <p:cNvSpPr/>
                        <p:nvPr/>
                      </p:nvSpPr>
                      <p:spPr>
                        <a:xfrm>
                          <a:off x="692208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4" name=""/>
                        <p:cNvSpPr/>
                        <p:nvPr/>
                      </p:nvSpPr>
                      <p:spPr>
                        <a:xfrm>
                          <a:off x="694260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5" name=""/>
                        <p:cNvSpPr/>
                        <p:nvPr/>
                      </p:nvSpPr>
                      <p:spPr>
                        <a:xfrm>
                          <a:off x="694404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6820920" y="4237200"/>
                    <a:ext cx="91800" cy="19080"/>
                    <a:chOff x="6820920" y="4237200"/>
                    <a:chExt cx="91800" cy="19080"/>
                  </a:xfrm>
                </p:grpSpPr>
                <p:grpSp>
                  <p:nvGrpSpPr>
                    <p:cNvPr id="4787" name=""/>
                    <p:cNvGrpSpPr/>
                    <p:nvPr/>
                  </p:nvGrpSpPr>
                  <p:grpSpPr>
                    <a:xfrm>
                      <a:off x="6820920" y="4242240"/>
                      <a:ext cx="91800" cy="14040"/>
                      <a:chOff x="6820920" y="4242240"/>
                      <a:chExt cx="91800" cy="14040"/>
                    </a:xfrm>
                  </p:grpSpPr>
                  <p:sp>
                    <p:nvSpPr>
                      <p:cNvPr id="4788" name=""/>
                      <p:cNvSpPr/>
                      <p:nvPr/>
                    </p:nvSpPr>
                    <p:spPr>
                      <a:xfrm>
                        <a:off x="682092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"/>
                      <p:cNvSpPr/>
                      <p:nvPr/>
                    </p:nvSpPr>
                    <p:spPr>
                      <a:xfrm>
                        <a:off x="682092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90" name=""/>
                    <p:cNvSpPr/>
                    <p:nvPr/>
                  </p:nvSpPr>
                  <p:spPr>
                    <a:xfrm>
                      <a:off x="684144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91" name=""/>
                  <p:cNvSpPr/>
                  <p:nvPr/>
                </p:nvSpPr>
                <p:spPr>
                  <a:xfrm>
                    <a:off x="681012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682272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682740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>
                    <a:off x="690516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795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36884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96" name=""/>
            <p:cNvGrpSpPr/>
            <p:nvPr/>
          </p:nvGrpSpPr>
          <p:grpSpPr>
            <a:xfrm>
              <a:off x="6686640" y="3124080"/>
              <a:ext cx="1085760" cy="752400"/>
              <a:chOff x="6686640" y="3124080"/>
              <a:chExt cx="1085760" cy="752400"/>
            </a:xfrm>
          </p:grpSpPr>
          <p:sp>
            <p:nvSpPr>
              <p:cNvPr id="4797" name=""/>
              <p:cNvSpPr/>
              <p:nvPr/>
            </p:nvSpPr>
            <p:spPr>
              <a:xfrm>
                <a:off x="668664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73416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9 Ciudad Serd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799" name=""/>
              <p:cNvGrpSpPr/>
              <p:nvPr/>
            </p:nvGrpSpPr>
            <p:grpSpPr>
              <a:xfrm>
                <a:off x="6759360" y="3179520"/>
                <a:ext cx="821880" cy="488880"/>
                <a:chOff x="6759360" y="3179520"/>
                <a:chExt cx="821880" cy="48888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690192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718776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12116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803" name="pbx" descr=""/>
                <p:cNvPicPr/>
                <p:nvPr/>
              </p:nvPicPr>
              <p:blipFill>
                <a:blip r:embed="rId57"/>
                <a:srcRect l="37594" t="74298" r="28339" b="4834"/>
                <a:stretch/>
              </p:blipFill>
              <p:spPr>
                <a:xfrm>
                  <a:off x="706392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4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09092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05" name=""/>
                <p:cNvGrpSpPr/>
                <p:nvPr/>
              </p:nvGrpSpPr>
              <p:grpSpPr>
                <a:xfrm>
                  <a:off x="6759360" y="3317760"/>
                  <a:ext cx="210960" cy="169920"/>
                  <a:chOff x="6759360" y="3317760"/>
                  <a:chExt cx="210960" cy="169920"/>
                </a:xfrm>
              </p:grpSpPr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6798960" y="3408480"/>
                    <a:ext cx="134280" cy="52200"/>
                    <a:chOff x="6798960" y="3408480"/>
                    <a:chExt cx="134280" cy="52200"/>
                  </a:xfrm>
                </p:grpSpPr>
                <p:grpSp>
                  <p:nvGrpSpPr>
                    <p:cNvPr id="4807" name=""/>
                    <p:cNvGrpSpPr/>
                    <p:nvPr/>
                  </p:nvGrpSpPr>
                  <p:grpSpPr>
                    <a:xfrm>
                      <a:off x="6798960" y="3408480"/>
                      <a:ext cx="134280" cy="52200"/>
                      <a:chOff x="6798960" y="3408480"/>
                      <a:chExt cx="134280" cy="52200"/>
                    </a:xfrm>
                  </p:grpSpPr>
                  <p:grpSp>
                    <p:nvGrpSpPr>
                      <p:cNvPr id="4808" name=""/>
                      <p:cNvGrpSpPr/>
                      <p:nvPr/>
                    </p:nvGrpSpPr>
                    <p:grpSpPr>
                      <a:xfrm>
                        <a:off x="6798960" y="3408480"/>
                        <a:ext cx="134280" cy="52200"/>
                        <a:chOff x="6798960" y="3408480"/>
                        <a:chExt cx="134280" cy="52200"/>
                      </a:xfrm>
                    </p:grpSpPr>
                    <p:grpSp>
                      <p:nvGrpSpPr>
                        <p:cNvPr id="4809" name=""/>
                        <p:cNvGrpSpPr/>
                        <p:nvPr/>
                      </p:nvGrpSpPr>
                      <p:grpSpPr>
                        <a:xfrm>
                          <a:off x="6798960" y="3408480"/>
                          <a:ext cx="134280" cy="52200"/>
                          <a:chOff x="6798960" y="3408480"/>
                          <a:chExt cx="134280" cy="52200"/>
                        </a:xfrm>
                      </p:grpSpPr>
                      <p:grpSp>
                        <p:nvGrpSpPr>
                          <p:cNvPr id="4810" name=""/>
                          <p:cNvGrpSpPr/>
                          <p:nvPr/>
                        </p:nvGrpSpPr>
                        <p:grpSpPr>
                          <a:xfrm>
                            <a:off x="6798960" y="3408480"/>
                            <a:ext cx="134280" cy="52200"/>
                            <a:chOff x="6798960" y="3408480"/>
                            <a:chExt cx="134280" cy="52200"/>
                          </a:xfrm>
                        </p:grpSpPr>
                        <p:sp>
                          <p:nvSpPr>
                            <p:cNvPr id="4811" name=""/>
                            <p:cNvSpPr/>
                            <p:nvPr/>
                          </p:nvSpPr>
                          <p:spPr>
                            <a:xfrm>
                              <a:off x="679896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12" name=""/>
                            <p:cNvSpPr/>
                            <p:nvPr/>
                          </p:nvSpPr>
                          <p:spPr>
                            <a:xfrm>
                              <a:off x="680004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13" name=""/>
                          <p:cNvSpPr/>
                          <p:nvPr/>
                        </p:nvSpPr>
                        <p:spPr>
                          <a:xfrm>
                            <a:off x="680148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14" name=""/>
                        <p:cNvGrpSpPr/>
                        <p:nvPr/>
                      </p:nvGrpSpPr>
                      <p:grpSpPr>
                        <a:xfrm>
                          <a:off x="6804720" y="3451320"/>
                          <a:ext cx="124560" cy="7920"/>
                          <a:chOff x="6804720" y="3451320"/>
                          <a:chExt cx="124560" cy="7920"/>
                        </a:xfrm>
                      </p:grpSpPr>
                      <p:grpSp>
                        <p:nvGrpSpPr>
                          <p:cNvPr id="4815" name=""/>
                          <p:cNvGrpSpPr/>
                          <p:nvPr/>
                        </p:nvGrpSpPr>
                        <p:grpSpPr>
                          <a:xfrm>
                            <a:off x="6804720" y="3451320"/>
                            <a:ext cx="61560" cy="7920"/>
                            <a:chOff x="6804720" y="3451320"/>
                            <a:chExt cx="61560" cy="7920"/>
                          </a:xfrm>
                        </p:grpSpPr>
                        <p:grpSp>
                          <p:nvGrpSpPr>
                            <p:cNvPr id="4816" name=""/>
                            <p:cNvGrpSpPr/>
                            <p:nvPr/>
                          </p:nvGrpSpPr>
                          <p:grpSpPr>
                            <a:xfrm>
                              <a:off x="6804720" y="3451320"/>
                              <a:ext cx="29880" cy="7920"/>
                              <a:chOff x="6804720" y="3451320"/>
                              <a:chExt cx="29880" cy="7920"/>
                            </a:xfrm>
                          </p:grpSpPr>
                          <p:grpSp>
                            <p:nvGrpSpPr>
                              <p:cNvPr id="4817" name=""/>
                              <p:cNvGrpSpPr/>
                              <p:nvPr/>
                            </p:nvGrpSpPr>
                            <p:grpSpPr>
                              <a:xfrm>
                                <a:off x="6804720" y="3451320"/>
                                <a:ext cx="14400" cy="7920"/>
                                <a:chOff x="680472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1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3451320"/>
                                  <a:ext cx="6840" cy="7920"/>
                                  <a:chOff x="68047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3451320"/>
                                    <a:ext cx="2520" cy="7920"/>
                                    <a:chOff x="6804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3451320"/>
                                    <a:ext cx="3960" cy="7920"/>
                                    <a:chOff x="68076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2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3451320"/>
                                  <a:ext cx="6840" cy="7920"/>
                                  <a:chOff x="68122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3451320"/>
                                    <a:ext cx="2520" cy="7920"/>
                                    <a:chOff x="6812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3451320"/>
                                    <a:ext cx="3960" cy="7920"/>
                                    <a:chOff x="68151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32" name=""/>
                              <p:cNvGrpSpPr/>
                              <p:nvPr/>
                            </p:nvGrpSpPr>
                            <p:grpSpPr>
                              <a:xfrm>
                                <a:off x="6820200" y="3451320"/>
                                <a:ext cx="14400" cy="7920"/>
                                <a:chOff x="68202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3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3451320"/>
                                  <a:ext cx="6840" cy="7920"/>
                                  <a:chOff x="68202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3451320"/>
                                    <a:ext cx="2520" cy="7920"/>
                                    <a:chOff x="6820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3451320"/>
                                    <a:ext cx="3960" cy="7920"/>
                                    <a:chOff x="68230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4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3451320"/>
                                  <a:ext cx="6840" cy="7920"/>
                                  <a:chOff x="682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3451320"/>
                                    <a:ext cx="2520" cy="7920"/>
                                    <a:chOff x="682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3451320"/>
                                    <a:ext cx="3960" cy="7920"/>
                                    <a:chOff x="683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847" name=""/>
                            <p:cNvGrpSpPr/>
                            <p:nvPr/>
                          </p:nvGrpSpPr>
                          <p:grpSpPr>
                            <a:xfrm>
                              <a:off x="6836040" y="3451320"/>
                              <a:ext cx="30240" cy="7920"/>
                              <a:chOff x="6836040" y="3451320"/>
                              <a:chExt cx="30240" cy="7920"/>
                            </a:xfrm>
                          </p:grpSpPr>
                          <p:grpSp>
                            <p:nvGrpSpPr>
                              <p:cNvPr id="4848" name=""/>
                              <p:cNvGrpSpPr/>
                              <p:nvPr/>
                            </p:nvGrpSpPr>
                            <p:grpSpPr>
                              <a:xfrm>
                                <a:off x="6836040" y="3451320"/>
                                <a:ext cx="14760" cy="7920"/>
                                <a:chOff x="683604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484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3451320"/>
                                  <a:ext cx="7200" cy="7920"/>
                                  <a:chOff x="683604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8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3451320"/>
                                    <a:ext cx="2520" cy="7920"/>
                                    <a:chOff x="68360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3451320"/>
                                    <a:ext cx="2520" cy="7920"/>
                                    <a:chOff x="6840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5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3451320"/>
                                  <a:ext cx="6840" cy="7920"/>
                                  <a:chOff x="6843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3451320"/>
                                    <a:ext cx="2160" cy="7920"/>
                                    <a:chOff x="68439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3451320"/>
                                    <a:ext cx="2520" cy="7920"/>
                                    <a:chOff x="6848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63" name=""/>
                              <p:cNvGrpSpPr/>
                              <p:nvPr/>
                            </p:nvGrpSpPr>
                            <p:grpSpPr>
                              <a:xfrm>
                                <a:off x="6851880" y="3451320"/>
                                <a:ext cx="14400" cy="7920"/>
                                <a:chOff x="6851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6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3451320"/>
                                  <a:ext cx="6840" cy="7920"/>
                                  <a:chOff x="6851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3451320"/>
                                    <a:ext cx="2160" cy="7920"/>
                                    <a:chOff x="685188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3451320"/>
                                    <a:ext cx="2520" cy="7920"/>
                                    <a:chOff x="6856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7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3451320"/>
                                  <a:ext cx="6840" cy="7920"/>
                                  <a:chOff x="6859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3451320"/>
                                    <a:ext cx="2160" cy="7920"/>
                                    <a:chOff x="68594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3451320"/>
                                    <a:ext cx="4320" cy="7920"/>
                                    <a:chOff x="686196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878" name=""/>
                          <p:cNvGrpSpPr/>
                          <p:nvPr/>
                        </p:nvGrpSpPr>
                        <p:grpSpPr>
                          <a:xfrm>
                            <a:off x="6868080" y="3451320"/>
                            <a:ext cx="61200" cy="7920"/>
                            <a:chOff x="6868080" y="3451320"/>
                            <a:chExt cx="61200" cy="7920"/>
                          </a:xfrm>
                        </p:grpSpPr>
                        <p:grpSp>
                          <p:nvGrpSpPr>
                            <p:cNvPr id="4879" name=""/>
                            <p:cNvGrpSpPr/>
                            <p:nvPr/>
                          </p:nvGrpSpPr>
                          <p:grpSpPr>
                            <a:xfrm>
                              <a:off x="6868080" y="3451320"/>
                              <a:ext cx="29880" cy="7920"/>
                              <a:chOff x="6868080" y="3451320"/>
                              <a:chExt cx="29880" cy="7920"/>
                            </a:xfrm>
                          </p:grpSpPr>
                          <p:grpSp>
                            <p:nvGrpSpPr>
                              <p:cNvPr id="4880" name=""/>
                              <p:cNvGrpSpPr/>
                              <p:nvPr/>
                            </p:nvGrpSpPr>
                            <p:grpSpPr>
                              <a:xfrm>
                                <a:off x="6868080" y="3451320"/>
                                <a:ext cx="14400" cy="7920"/>
                                <a:chOff x="6868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8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3451320"/>
                                  <a:ext cx="6840" cy="7920"/>
                                  <a:chOff x="6868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3451320"/>
                                    <a:ext cx="2520" cy="7920"/>
                                    <a:chOff x="6868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3451320"/>
                                    <a:ext cx="3960" cy="7920"/>
                                    <a:chOff x="68709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8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3451320"/>
                                  <a:ext cx="6840" cy="7920"/>
                                  <a:chOff x="6875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3451320"/>
                                    <a:ext cx="2520" cy="7920"/>
                                    <a:chOff x="6875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3451320"/>
                                    <a:ext cx="2520" cy="7920"/>
                                    <a:chOff x="6879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95" name=""/>
                              <p:cNvGrpSpPr/>
                              <p:nvPr/>
                            </p:nvGrpSpPr>
                            <p:grpSpPr>
                              <a:xfrm>
                                <a:off x="6883560" y="3451320"/>
                                <a:ext cx="14400" cy="7920"/>
                                <a:chOff x="6883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9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3451320"/>
                                  <a:ext cx="6840" cy="7920"/>
                                  <a:chOff x="6883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3451320"/>
                                    <a:ext cx="2520" cy="7920"/>
                                    <a:chOff x="6883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3451320"/>
                                    <a:ext cx="2520" cy="7920"/>
                                    <a:chOff x="6887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0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3451320"/>
                                  <a:ext cx="6840" cy="7920"/>
                                  <a:chOff x="6891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3451320"/>
                                    <a:ext cx="2520" cy="7920"/>
                                    <a:chOff x="6891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3451320"/>
                                    <a:ext cx="3960" cy="7920"/>
                                    <a:chOff x="68940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10" name=""/>
                            <p:cNvGrpSpPr/>
                            <p:nvPr/>
                          </p:nvGrpSpPr>
                          <p:grpSpPr>
                            <a:xfrm>
                              <a:off x="6899400" y="3451320"/>
                              <a:ext cx="29880" cy="7920"/>
                              <a:chOff x="6899400" y="3451320"/>
                              <a:chExt cx="29880" cy="7920"/>
                            </a:xfrm>
                          </p:grpSpPr>
                          <p:grpSp>
                            <p:nvGrpSpPr>
                              <p:cNvPr id="4911" name=""/>
                              <p:cNvGrpSpPr/>
                              <p:nvPr/>
                            </p:nvGrpSpPr>
                            <p:grpSpPr>
                              <a:xfrm>
                                <a:off x="6899400" y="3451320"/>
                                <a:ext cx="14400" cy="7920"/>
                                <a:chOff x="6899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1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3451320"/>
                                  <a:ext cx="6840" cy="7920"/>
                                  <a:chOff x="6899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3451320"/>
                                    <a:ext cx="2520" cy="7920"/>
                                    <a:chOff x="6899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3451320"/>
                                    <a:ext cx="2520" cy="7920"/>
                                    <a:chOff x="6903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1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3451320"/>
                                  <a:ext cx="6840" cy="7920"/>
                                  <a:chOff x="6906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3451320"/>
                                    <a:ext cx="2520" cy="7920"/>
                                    <a:chOff x="6906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3451320"/>
                                    <a:ext cx="3960" cy="7920"/>
                                    <a:chOff x="6909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926" name=""/>
                              <p:cNvGrpSpPr/>
                              <p:nvPr/>
                            </p:nvGrpSpPr>
                            <p:grpSpPr>
                              <a:xfrm>
                                <a:off x="6914880" y="3451320"/>
                                <a:ext cx="14400" cy="7920"/>
                                <a:chOff x="6914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2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3451320"/>
                                  <a:ext cx="6840" cy="7920"/>
                                  <a:chOff x="6914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3451320"/>
                                    <a:ext cx="2520" cy="7920"/>
                                    <a:chOff x="6914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3451320"/>
                                    <a:ext cx="2520" cy="7920"/>
                                    <a:chOff x="6919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3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3451320"/>
                                  <a:ext cx="6840" cy="7920"/>
                                  <a:chOff x="6922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3451320"/>
                                    <a:ext cx="2520" cy="7920"/>
                                    <a:chOff x="6922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3451320"/>
                                    <a:ext cx="2520" cy="7920"/>
                                    <a:chOff x="6926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941" name=""/>
                      <p:cNvGrpSpPr/>
                      <p:nvPr/>
                    </p:nvGrpSpPr>
                    <p:grpSpPr>
                      <a:xfrm>
                        <a:off x="6801480" y="3422520"/>
                        <a:ext cx="128160" cy="22320"/>
                        <a:chOff x="6801480" y="3422520"/>
                        <a:chExt cx="128160" cy="22320"/>
                      </a:xfrm>
                    </p:grpSpPr>
                    <p:sp>
                      <p:nvSpPr>
                        <p:cNvPr id="4942" name=""/>
                        <p:cNvSpPr/>
                        <p:nvPr/>
                      </p:nvSpPr>
                      <p:spPr>
                        <a:xfrm>
                          <a:off x="680148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3" name=""/>
                        <p:cNvSpPr/>
                        <p:nvPr/>
                      </p:nvSpPr>
                      <p:spPr>
                        <a:xfrm>
                          <a:off x="682992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4" name=""/>
                        <p:cNvSpPr/>
                        <p:nvPr/>
                      </p:nvSpPr>
                      <p:spPr>
                        <a:xfrm>
                          <a:off x="686952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5" name=""/>
                        <p:cNvSpPr/>
                        <p:nvPr/>
                      </p:nvSpPr>
                      <p:spPr>
                        <a:xfrm>
                          <a:off x="691092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46" name=""/>
                    <p:cNvGrpSpPr/>
                    <p:nvPr/>
                  </p:nvGrpSpPr>
                  <p:grpSpPr>
                    <a:xfrm>
                      <a:off x="6914520" y="3425760"/>
                      <a:ext cx="11880" cy="11160"/>
                      <a:chOff x="6914520" y="3425760"/>
                      <a:chExt cx="11880" cy="11160"/>
                    </a:xfrm>
                  </p:grpSpPr>
                  <p:sp>
                    <p:nvSpPr>
                      <p:cNvPr id="4947" name=""/>
                      <p:cNvSpPr/>
                      <p:nvPr/>
                    </p:nvSpPr>
                    <p:spPr>
                      <a:xfrm>
                        <a:off x="691884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8" name=""/>
                      <p:cNvSpPr/>
                      <p:nvPr/>
                    </p:nvSpPr>
                    <p:spPr>
                      <a:xfrm>
                        <a:off x="692028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949" name=""/>
                      <p:cNvGrpSpPr/>
                      <p:nvPr/>
                    </p:nvGrpSpPr>
                    <p:grpSpPr>
                      <a:xfrm>
                        <a:off x="6914520" y="3427560"/>
                        <a:ext cx="2520" cy="6120"/>
                        <a:chOff x="6914520" y="3427560"/>
                        <a:chExt cx="2520" cy="6120"/>
                      </a:xfrm>
                    </p:grpSpPr>
                    <p:sp>
                      <p:nvSpPr>
                        <p:cNvPr id="4950" name=""/>
                        <p:cNvSpPr/>
                        <p:nvPr/>
                      </p:nvSpPr>
                      <p:spPr>
                        <a:xfrm>
                          <a:off x="691452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1" name=""/>
                        <p:cNvSpPr/>
                        <p:nvPr/>
                      </p:nvSpPr>
                      <p:spPr>
                        <a:xfrm>
                          <a:off x="691452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52" name=""/>
                    <p:cNvGrpSpPr/>
                    <p:nvPr/>
                  </p:nvGrpSpPr>
                  <p:grpSpPr>
                    <a:xfrm>
                      <a:off x="6831720" y="3425760"/>
                      <a:ext cx="36000" cy="14400"/>
                      <a:chOff x="6831720" y="3425760"/>
                      <a:chExt cx="36000" cy="14400"/>
                    </a:xfrm>
                  </p:grpSpPr>
                  <p:grpSp>
                    <p:nvGrpSpPr>
                      <p:cNvPr id="4953" name=""/>
                      <p:cNvGrpSpPr/>
                      <p:nvPr/>
                    </p:nvGrpSpPr>
                    <p:grpSpPr>
                      <a:xfrm>
                        <a:off x="6833160" y="3425760"/>
                        <a:ext cx="34560" cy="7920"/>
                        <a:chOff x="6833160" y="3425760"/>
                        <a:chExt cx="34560" cy="7920"/>
                      </a:xfrm>
                    </p:grpSpPr>
                    <p:sp>
                      <p:nvSpPr>
                        <p:cNvPr id="4954" name=""/>
                        <p:cNvSpPr/>
                        <p:nvPr/>
                      </p:nvSpPr>
                      <p:spPr>
                        <a:xfrm>
                          <a:off x="684216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5" name=""/>
                        <p:cNvSpPr/>
                        <p:nvPr/>
                      </p:nvSpPr>
                      <p:spPr>
                        <a:xfrm>
                          <a:off x="684216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6" name=""/>
                        <p:cNvSpPr/>
                        <p:nvPr/>
                      </p:nvSpPr>
                      <p:spPr>
                        <a:xfrm>
                          <a:off x="683316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57" name=""/>
                      <p:cNvSpPr/>
                      <p:nvPr/>
                    </p:nvSpPr>
                    <p:spPr>
                      <a:xfrm>
                        <a:off x="683172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8" name=""/>
                      <p:cNvSpPr/>
                      <p:nvPr/>
                    </p:nvSpPr>
                    <p:spPr>
                      <a:xfrm>
                        <a:off x="686016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9" name=""/>
                    <p:cNvGrpSpPr/>
                    <p:nvPr/>
                  </p:nvGrpSpPr>
                  <p:grpSpPr>
                    <a:xfrm>
                      <a:off x="6804720" y="3438720"/>
                      <a:ext cx="21960" cy="4680"/>
                      <a:chOff x="6804720" y="3438720"/>
                      <a:chExt cx="21960" cy="4680"/>
                    </a:xfrm>
                  </p:grpSpPr>
                  <p:grpSp>
                    <p:nvGrpSpPr>
                      <p:cNvPr id="4960" name=""/>
                      <p:cNvGrpSpPr/>
                      <p:nvPr/>
                    </p:nvGrpSpPr>
                    <p:grpSpPr>
                      <a:xfrm>
                        <a:off x="6804720" y="3438720"/>
                        <a:ext cx="11520" cy="4680"/>
                        <a:chOff x="6804720" y="3438720"/>
                        <a:chExt cx="11520" cy="4680"/>
                      </a:xfrm>
                    </p:grpSpPr>
                    <p:grpSp>
                      <p:nvGrpSpPr>
                        <p:cNvPr id="4961" name=""/>
                        <p:cNvGrpSpPr/>
                        <p:nvPr/>
                      </p:nvGrpSpPr>
                      <p:grpSpPr>
                        <a:xfrm>
                          <a:off x="6804720" y="3438720"/>
                          <a:ext cx="5400" cy="4680"/>
                          <a:chOff x="6804720" y="3438720"/>
                          <a:chExt cx="5400" cy="4680"/>
                        </a:xfrm>
                      </p:grpSpPr>
                      <p:grpSp>
                        <p:nvGrpSpPr>
                          <p:cNvPr id="4962" name=""/>
                          <p:cNvGrpSpPr/>
                          <p:nvPr/>
                        </p:nvGrpSpPr>
                        <p:grpSpPr>
                          <a:xfrm>
                            <a:off x="6804720" y="3438720"/>
                            <a:ext cx="2520" cy="4680"/>
                            <a:chOff x="6804720" y="3438720"/>
                            <a:chExt cx="2520" cy="4680"/>
                          </a:xfrm>
                        </p:grpSpPr>
                        <p:sp>
                          <p:nvSpPr>
                            <p:cNvPr id="4963" name=""/>
                            <p:cNvSpPr/>
                            <p:nvPr/>
                          </p:nvSpPr>
                          <p:spPr>
                            <a:xfrm>
                              <a:off x="6804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4" name=""/>
                            <p:cNvSpPr/>
                            <p:nvPr/>
                          </p:nvSpPr>
                          <p:spPr>
                            <a:xfrm>
                              <a:off x="68061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65" name=""/>
                          <p:cNvGrpSpPr/>
                          <p:nvPr/>
                        </p:nvGrpSpPr>
                        <p:grpSpPr>
                          <a:xfrm>
                            <a:off x="6807600" y="3438720"/>
                            <a:ext cx="2520" cy="4680"/>
                            <a:chOff x="6807600" y="3438720"/>
                            <a:chExt cx="2520" cy="4680"/>
                          </a:xfrm>
                        </p:grpSpPr>
                        <p:sp>
                          <p:nvSpPr>
                            <p:cNvPr id="4966" name=""/>
                            <p:cNvSpPr/>
                            <p:nvPr/>
                          </p:nvSpPr>
                          <p:spPr>
                            <a:xfrm>
                              <a:off x="6807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7" name=""/>
                            <p:cNvSpPr/>
                            <p:nvPr/>
                          </p:nvSpPr>
                          <p:spPr>
                            <a:xfrm>
                              <a:off x="68090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68" name=""/>
                        <p:cNvGrpSpPr/>
                        <p:nvPr/>
                      </p:nvGrpSpPr>
                      <p:grpSpPr>
                        <a:xfrm>
                          <a:off x="6810840" y="3438720"/>
                          <a:ext cx="5400" cy="4680"/>
                          <a:chOff x="6810840" y="3438720"/>
                          <a:chExt cx="5400" cy="4680"/>
                        </a:xfrm>
                      </p:grpSpPr>
                      <p:grpSp>
                        <p:nvGrpSpPr>
                          <p:cNvPr id="4969" name=""/>
                          <p:cNvGrpSpPr/>
                          <p:nvPr/>
                        </p:nvGrpSpPr>
                        <p:grpSpPr>
                          <a:xfrm>
                            <a:off x="6810840" y="3438720"/>
                            <a:ext cx="2520" cy="4680"/>
                            <a:chOff x="6810840" y="3438720"/>
                            <a:chExt cx="2520" cy="4680"/>
                          </a:xfrm>
                        </p:grpSpPr>
                        <p:sp>
                          <p:nvSpPr>
                            <p:cNvPr id="4970" name=""/>
                            <p:cNvSpPr/>
                            <p:nvPr/>
                          </p:nvSpPr>
                          <p:spPr>
                            <a:xfrm>
                              <a:off x="6810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1" name=""/>
                            <p:cNvSpPr/>
                            <p:nvPr/>
                          </p:nvSpPr>
                          <p:spPr>
                            <a:xfrm>
                              <a:off x="68119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72" name=""/>
                          <p:cNvGrpSpPr/>
                          <p:nvPr/>
                        </p:nvGrpSpPr>
                        <p:grpSpPr>
                          <a:xfrm>
                            <a:off x="6813720" y="3438720"/>
                            <a:ext cx="2520" cy="4680"/>
                            <a:chOff x="6813720" y="3438720"/>
                            <a:chExt cx="2520" cy="4680"/>
                          </a:xfrm>
                        </p:grpSpPr>
                        <p:sp>
                          <p:nvSpPr>
                            <p:cNvPr id="4973" name=""/>
                            <p:cNvSpPr/>
                            <p:nvPr/>
                          </p:nvSpPr>
                          <p:spPr>
                            <a:xfrm>
                              <a:off x="6813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4" name=""/>
                            <p:cNvSpPr/>
                            <p:nvPr/>
                          </p:nvSpPr>
                          <p:spPr>
                            <a:xfrm>
                              <a:off x="6814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975" name=""/>
                      <p:cNvGrpSpPr/>
                      <p:nvPr/>
                    </p:nvGrpSpPr>
                    <p:grpSpPr>
                      <a:xfrm>
                        <a:off x="6817320" y="3438720"/>
                        <a:ext cx="9360" cy="4680"/>
                        <a:chOff x="6817320" y="3438720"/>
                        <a:chExt cx="9360" cy="4680"/>
                      </a:xfrm>
                    </p:grpSpPr>
                    <p:grpSp>
                      <p:nvGrpSpPr>
                        <p:cNvPr id="4976" name=""/>
                        <p:cNvGrpSpPr/>
                        <p:nvPr/>
                      </p:nvGrpSpPr>
                      <p:grpSpPr>
                        <a:xfrm>
                          <a:off x="6817320" y="3438720"/>
                          <a:ext cx="5040" cy="4680"/>
                          <a:chOff x="6817320" y="3438720"/>
                          <a:chExt cx="5040" cy="4680"/>
                        </a:xfrm>
                      </p:grpSpPr>
                      <p:grpSp>
                        <p:nvGrpSpPr>
                          <p:cNvPr id="4977" name=""/>
                          <p:cNvGrpSpPr/>
                          <p:nvPr/>
                        </p:nvGrpSpPr>
                        <p:grpSpPr>
                          <a:xfrm>
                            <a:off x="6817320" y="3438720"/>
                            <a:ext cx="2160" cy="4680"/>
                            <a:chOff x="6817320" y="3438720"/>
                            <a:chExt cx="2160" cy="4680"/>
                          </a:xfrm>
                        </p:grpSpPr>
                        <p:sp>
                          <p:nvSpPr>
                            <p:cNvPr id="4978" name=""/>
                            <p:cNvSpPr/>
                            <p:nvPr/>
                          </p:nvSpPr>
                          <p:spPr>
                            <a:xfrm>
                              <a:off x="68173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9" name=""/>
                            <p:cNvSpPr/>
                            <p:nvPr/>
                          </p:nvSpPr>
                          <p:spPr>
                            <a:xfrm>
                              <a:off x="6818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0" name=""/>
                          <p:cNvGrpSpPr/>
                          <p:nvPr/>
                        </p:nvGrpSpPr>
                        <p:grpSpPr>
                          <a:xfrm>
                            <a:off x="6819840" y="3438720"/>
                            <a:ext cx="2520" cy="4680"/>
                            <a:chOff x="6819840" y="3438720"/>
                            <a:chExt cx="2520" cy="4680"/>
                          </a:xfrm>
                        </p:grpSpPr>
                        <p:sp>
                          <p:nvSpPr>
                            <p:cNvPr id="4981" name=""/>
                            <p:cNvSpPr/>
                            <p:nvPr/>
                          </p:nvSpPr>
                          <p:spPr>
                            <a:xfrm>
                              <a:off x="68198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2" name=""/>
                            <p:cNvSpPr/>
                            <p:nvPr/>
                          </p:nvSpPr>
                          <p:spPr>
                            <a:xfrm>
                              <a:off x="6821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83" name=""/>
                        <p:cNvGrpSpPr/>
                        <p:nvPr/>
                      </p:nvGrpSpPr>
                      <p:grpSpPr>
                        <a:xfrm>
                          <a:off x="6823080" y="3438720"/>
                          <a:ext cx="3600" cy="4680"/>
                          <a:chOff x="6823080" y="3438720"/>
                          <a:chExt cx="3600" cy="4680"/>
                        </a:xfrm>
                      </p:grpSpPr>
                      <p:grpSp>
                        <p:nvGrpSpPr>
                          <p:cNvPr id="4984" name=""/>
                          <p:cNvGrpSpPr/>
                          <p:nvPr/>
                        </p:nvGrpSpPr>
                        <p:grpSpPr>
                          <a:xfrm>
                            <a:off x="6823080" y="3438720"/>
                            <a:ext cx="1440" cy="4680"/>
                            <a:chOff x="6823080" y="3438720"/>
                            <a:chExt cx="1440" cy="4680"/>
                          </a:xfrm>
                        </p:grpSpPr>
                        <p:sp>
                          <p:nvSpPr>
                            <p:cNvPr id="4985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6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7" name=""/>
                          <p:cNvGrpSpPr/>
                          <p:nvPr/>
                        </p:nvGrpSpPr>
                        <p:grpSpPr>
                          <a:xfrm>
                            <a:off x="6824520" y="3438720"/>
                            <a:ext cx="2160" cy="4680"/>
                            <a:chOff x="6824520" y="3438720"/>
                            <a:chExt cx="2160" cy="4680"/>
                          </a:xfrm>
                        </p:grpSpPr>
                        <p:sp>
                          <p:nvSpPr>
                            <p:cNvPr id="4988" name=""/>
                            <p:cNvSpPr/>
                            <p:nvPr/>
                          </p:nvSpPr>
                          <p:spPr>
                            <a:xfrm>
                              <a:off x="6824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9" name=""/>
                            <p:cNvSpPr/>
                            <p:nvPr/>
                          </p:nvSpPr>
                          <p:spPr>
                            <a:xfrm>
                              <a:off x="68256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680328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1" name=""/>
                  <p:cNvGrpSpPr/>
                  <p:nvPr/>
                </p:nvGrpSpPr>
                <p:grpSpPr>
                  <a:xfrm>
                    <a:off x="6759360" y="3457800"/>
                    <a:ext cx="210960" cy="29880"/>
                    <a:chOff x="6759360" y="3457800"/>
                    <a:chExt cx="210960" cy="29880"/>
                  </a:xfrm>
                </p:grpSpPr>
                <p:grpSp>
                  <p:nvGrpSpPr>
                    <p:cNvPr id="4992" name=""/>
                    <p:cNvGrpSpPr/>
                    <p:nvPr/>
                  </p:nvGrpSpPr>
                  <p:grpSpPr>
                    <a:xfrm>
                      <a:off x="6759360" y="3457800"/>
                      <a:ext cx="210960" cy="29880"/>
                      <a:chOff x="6759360" y="3457800"/>
                      <a:chExt cx="210960" cy="29880"/>
                    </a:xfrm>
                  </p:grpSpPr>
                  <p:sp>
                    <p:nvSpPr>
                      <p:cNvPr id="4993" name=""/>
                      <p:cNvSpPr/>
                      <p:nvPr/>
                    </p:nvSpPr>
                    <p:spPr>
                      <a:xfrm>
                        <a:off x="675936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4" name=""/>
                      <p:cNvSpPr/>
                      <p:nvPr/>
                    </p:nvSpPr>
                    <p:spPr>
                      <a:xfrm>
                        <a:off x="675936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5" name=""/>
                      <p:cNvSpPr/>
                      <p:nvPr/>
                    </p:nvSpPr>
                    <p:spPr>
                      <a:xfrm>
                        <a:off x="676548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96" name=""/>
                    <p:cNvGrpSpPr/>
                    <p:nvPr/>
                  </p:nvGrpSpPr>
                  <p:grpSpPr>
                    <a:xfrm>
                      <a:off x="6781320" y="3460680"/>
                      <a:ext cx="165960" cy="5040"/>
                      <a:chOff x="6781320" y="3460680"/>
                      <a:chExt cx="165960" cy="5040"/>
                    </a:xfrm>
                  </p:grpSpPr>
                  <p:sp>
                    <p:nvSpPr>
                      <p:cNvPr id="4997" name=""/>
                      <p:cNvSpPr/>
                      <p:nvPr/>
                    </p:nvSpPr>
                    <p:spPr>
                      <a:xfrm>
                        <a:off x="678132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8" name=""/>
                      <p:cNvSpPr/>
                      <p:nvPr/>
                    </p:nvSpPr>
                    <p:spPr>
                      <a:xfrm>
                        <a:off x="679860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9" name=""/>
                      <p:cNvSpPr/>
                      <p:nvPr/>
                    </p:nvSpPr>
                    <p:spPr>
                      <a:xfrm>
                        <a:off x="683172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0" name=""/>
                      <p:cNvSpPr/>
                      <p:nvPr/>
                    </p:nvSpPr>
                    <p:spPr>
                      <a:xfrm>
                        <a:off x="686196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1" name=""/>
                      <p:cNvSpPr/>
                      <p:nvPr/>
                    </p:nvSpPr>
                    <p:spPr>
                      <a:xfrm>
                        <a:off x="689220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2" name=""/>
                      <p:cNvSpPr/>
                      <p:nvPr/>
                    </p:nvSpPr>
                    <p:spPr>
                      <a:xfrm>
                        <a:off x="692064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3" name=""/>
                    <p:cNvGrpSpPr/>
                    <p:nvPr/>
                  </p:nvGrpSpPr>
                  <p:grpSpPr>
                    <a:xfrm>
                      <a:off x="6775200" y="3467160"/>
                      <a:ext cx="174960" cy="11160"/>
                      <a:chOff x="6775200" y="3467160"/>
                      <a:chExt cx="174960" cy="11160"/>
                    </a:xfrm>
                  </p:grpSpPr>
                  <p:grpSp>
                    <p:nvGrpSpPr>
                      <p:cNvPr id="5004" name=""/>
                      <p:cNvGrpSpPr/>
                      <p:nvPr/>
                    </p:nvGrpSpPr>
                    <p:grpSpPr>
                      <a:xfrm>
                        <a:off x="6790680" y="3467160"/>
                        <a:ext cx="84960" cy="9360"/>
                        <a:chOff x="6790680" y="3467160"/>
                        <a:chExt cx="84960" cy="9360"/>
                      </a:xfrm>
                    </p:grpSpPr>
                    <p:sp>
                      <p:nvSpPr>
                        <p:cNvPr id="5005" name=""/>
                        <p:cNvSpPr/>
                        <p:nvPr/>
                      </p:nvSpPr>
                      <p:spPr>
                        <a:xfrm>
                          <a:off x="679068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6" name=""/>
                        <p:cNvSpPr/>
                        <p:nvPr/>
                      </p:nvSpPr>
                      <p:spPr>
                        <a:xfrm>
                          <a:off x="679320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7" name=""/>
                        <p:cNvSpPr/>
                        <p:nvPr/>
                      </p:nvSpPr>
                      <p:spPr>
                        <a:xfrm>
                          <a:off x="679500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8" name=""/>
                        <p:cNvSpPr/>
                        <p:nvPr/>
                      </p:nvSpPr>
                      <p:spPr>
                        <a:xfrm>
                          <a:off x="679644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09" name=""/>
                      <p:cNvGrpSpPr/>
                      <p:nvPr/>
                    </p:nvGrpSpPr>
                    <p:grpSpPr>
                      <a:xfrm>
                        <a:off x="6775200" y="3468600"/>
                        <a:ext cx="15480" cy="6480"/>
                        <a:chOff x="6775200" y="3468600"/>
                        <a:chExt cx="15480" cy="6480"/>
                      </a:xfrm>
                    </p:grpSpPr>
                    <p:sp>
                      <p:nvSpPr>
                        <p:cNvPr id="5010" name=""/>
                        <p:cNvSpPr/>
                        <p:nvPr/>
                      </p:nvSpPr>
                      <p:spPr>
                        <a:xfrm>
                          <a:off x="677952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1" name=""/>
                        <p:cNvSpPr/>
                        <p:nvPr/>
                      </p:nvSpPr>
                      <p:spPr>
                        <a:xfrm>
                          <a:off x="677772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2" name=""/>
                        <p:cNvSpPr/>
                        <p:nvPr/>
                      </p:nvSpPr>
                      <p:spPr>
                        <a:xfrm>
                          <a:off x="6775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13" name=""/>
                      <p:cNvGrpSpPr/>
                      <p:nvPr/>
                    </p:nvGrpSpPr>
                    <p:grpSpPr>
                      <a:xfrm>
                        <a:off x="6809760" y="3467160"/>
                        <a:ext cx="78480" cy="9360"/>
                        <a:chOff x="6809760" y="3467160"/>
                        <a:chExt cx="78480" cy="9360"/>
                      </a:xfrm>
                    </p:grpSpPr>
                    <p:sp>
                      <p:nvSpPr>
                        <p:cNvPr id="5014" name=""/>
                        <p:cNvSpPr/>
                        <p:nvPr/>
                      </p:nvSpPr>
                      <p:spPr>
                        <a:xfrm>
                          <a:off x="680976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5" name=""/>
                        <p:cNvSpPr/>
                        <p:nvPr/>
                      </p:nvSpPr>
                      <p:spPr>
                        <a:xfrm>
                          <a:off x="687600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6" name=""/>
                        <p:cNvSpPr/>
                        <p:nvPr/>
                      </p:nvSpPr>
                      <p:spPr>
                        <a:xfrm>
                          <a:off x="687924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7" name=""/>
                        <p:cNvSpPr/>
                        <p:nvPr/>
                      </p:nvSpPr>
                      <p:spPr>
                        <a:xfrm>
                          <a:off x="687276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8" name=""/>
                        <p:cNvSpPr/>
                        <p:nvPr/>
                      </p:nvSpPr>
                      <p:spPr>
                        <a:xfrm>
                          <a:off x="686016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9" name=""/>
                        <p:cNvSpPr/>
                        <p:nvPr/>
                      </p:nvSpPr>
                      <p:spPr>
                        <a:xfrm>
                          <a:off x="686952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0" name=""/>
                      <p:cNvGrpSpPr/>
                      <p:nvPr/>
                    </p:nvGrpSpPr>
                    <p:grpSpPr>
                      <a:xfrm>
                        <a:off x="6892200" y="3468600"/>
                        <a:ext cx="24480" cy="7920"/>
                        <a:chOff x="6892200" y="3468600"/>
                        <a:chExt cx="24480" cy="7920"/>
                      </a:xfrm>
                    </p:grpSpPr>
                    <p:sp>
                      <p:nvSpPr>
                        <p:cNvPr id="5021" name=""/>
                        <p:cNvSpPr/>
                        <p:nvPr/>
                      </p:nvSpPr>
                      <p:spPr>
                        <a:xfrm>
                          <a:off x="689220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2" name=""/>
                        <p:cNvSpPr/>
                        <p:nvPr/>
                      </p:nvSpPr>
                      <p:spPr>
                        <a:xfrm>
                          <a:off x="689508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3" name=""/>
                        <p:cNvSpPr/>
                        <p:nvPr/>
                      </p:nvSpPr>
                      <p:spPr>
                        <a:xfrm>
                          <a:off x="689508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4" name=""/>
                      <p:cNvGrpSpPr/>
                      <p:nvPr/>
                    </p:nvGrpSpPr>
                    <p:grpSpPr>
                      <a:xfrm>
                        <a:off x="6920640" y="3468600"/>
                        <a:ext cx="29520" cy="9720"/>
                        <a:chOff x="6920640" y="3468600"/>
                        <a:chExt cx="29520" cy="9720"/>
                      </a:xfrm>
                    </p:grpSpPr>
                    <p:sp>
                      <p:nvSpPr>
                        <p:cNvPr id="5025" name=""/>
                        <p:cNvSpPr/>
                        <p:nvPr/>
                      </p:nvSpPr>
                      <p:spPr>
                        <a:xfrm>
                          <a:off x="692352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6" name=""/>
                        <p:cNvSpPr/>
                        <p:nvPr/>
                      </p:nvSpPr>
                      <p:spPr>
                        <a:xfrm>
                          <a:off x="692064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7" name=""/>
                        <p:cNvSpPr/>
                        <p:nvPr/>
                      </p:nvSpPr>
                      <p:spPr>
                        <a:xfrm>
                          <a:off x="692352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8" name=""/>
                        <p:cNvSpPr/>
                        <p:nvPr/>
                      </p:nvSpPr>
                      <p:spPr>
                        <a:xfrm>
                          <a:off x="692208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9" name=""/>
                        <p:cNvSpPr/>
                        <p:nvPr/>
                      </p:nvSpPr>
                      <p:spPr>
                        <a:xfrm>
                          <a:off x="694260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0" name=""/>
                        <p:cNvSpPr/>
                        <p:nvPr/>
                      </p:nvSpPr>
                      <p:spPr>
                        <a:xfrm>
                          <a:off x="694404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031" name=""/>
                  <p:cNvGrpSpPr/>
                  <p:nvPr/>
                </p:nvGrpSpPr>
                <p:grpSpPr>
                  <a:xfrm>
                    <a:off x="6820920" y="3398760"/>
                    <a:ext cx="91800" cy="19080"/>
                    <a:chOff x="6820920" y="3398760"/>
                    <a:chExt cx="91800" cy="19080"/>
                  </a:xfrm>
                </p:grpSpPr>
                <p:grpSp>
                  <p:nvGrpSpPr>
                    <p:cNvPr id="5032" name=""/>
                    <p:cNvGrpSpPr/>
                    <p:nvPr/>
                  </p:nvGrpSpPr>
                  <p:grpSpPr>
                    <a:xfrm>
                      <a:off x="6820920" y="3403800"/>
                      <a:ext cx="91800" cy="14040"/>
                      <a:chOff x="6820920" y="3403800"/>
                      <a:chExt cx="91800" cy="14040"/>
                    </a:xfrm>
                  </p:grpSpPr>
                  <p:sp>
                    <p:nvSpPr>
                      <p:cNvPr id="5033" name=""/>
                      <p:cNvSpPr/>
                      <p:nvPr/>
                    </p:nvSpPr>
                    <p:spPr>
                      <a:xfrm>
                        <a:off x="682092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4" name=""/>
                      <p:cNvSpPr/>
                      <p:nvPr/>
                    </p:nvSpPr>
                    <p:spPr>
                      <a:xfrm>
                        <a:off x="682092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684144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6" name=""/>
                  <p:cNvSpPr/>
                  <p:nvPr/>
                </p:nvSpPr>
                <p:spPr>
                  <a:xfrm>
                    <a:off x="681012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682272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>
                    <a:off x="682740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690516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040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736884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41" name=""/>
            <p:cNvGrpSpPr/>
            <p:nvPr/>
          </p:nvGrpSpPr>
          <p:grpSpPr>
            <a:xfrm>
              <a:off x="5562720" y="2286000"/>
              <a:ext cx="1085760" cy="752400"/>
              <a:chOff x="5562720" y="2286000"/>
              <a:chExt cx="1085760" cy="752400"/>
            </a:xfrm>
          </p:grpSpPr>
          <p:sp>
            <p:nvSpPr>
              <p:cNvPr id="5042" name=""/>
              <p:cNvSpPr/>
              <p:nvPr/>
            </p:nvSpPr>
            <p:spPr>
              <a:xfrm>
                <a:off x="55627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102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5635440" y="2341440"/>
                <a:ext cx="821880" cy="488880"/>
                <a:chOff x="5635440" y="2341440"/>
                <a:chExt cx="821880" cy="488880"/>
              </a:xfrm>
            </p:grpSpPr>
            <p:sp>
              <p:nvSpPr>
                <p:cNvPr id="5045" name=""/>
                <p:cNvSpPr/>
                <p:nvPr/>
              </p:nvSpPr>
              <p:spPr>
                <a:xfrm>
                  <a:off x="57780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>
                  <a:off x="60638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59972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048" name="pbx" descr=""/>
                <p:cNvPicPr/>
                <p:nvPr/>
              </p:nvPicPr>
              <p:blipFill>
                <a:blip r:embed="rId60"/>
                <a:srcRect l="37594" t="74298" r="28339" b="4834"/>
                <a:stretch/>
              </p:blipFill>
              <p:spPr>
                <a:xfrm>
                  <a:off x="59400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9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59670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50" name=""/>
                <p:cNvGrpSpPr/>
                <p:nvPr/>
              </p:nvGrpSpPr>
              <p:grpSpPr>
                <a:xfrm>
                  <a:off x="5635440" y="2479680"/>
                  <a:ext cx="210960" cy="169920"/>
                  <a:chOff x="5635440" y="2479680"/>
                  <a:chExt cx="210960" cy="169920"/>
                </a:xfrm>
              </p:grpSpPr>
              <p:grpSp>
                <p:nvGrpSpPr>
                  <p:cNvPr id="5051" name=""/>
                  <p:cNvGrpSpPr/>
                  <p:nvPr/>
                </p:nvGrpSpPr>
                <p:grpSpPr>
                  <a:xfrm>
                    <a:off x="5675040" y="2570400"/>
                    <a:ext cx="134280" cy="52200"/>
                    <a:chOff x="5675040" y="2570400"/>
                    <a:chExt cx="134280" cy="52200"/>
                  </a:xfrm>
                </p:grpSpPr>
                <p:grpSp>
                  <p:nvGrpSpPr>
                    <p:cNvPr id="5052" name=""/>
                    <p:cNvGrpSpPr/>
                    <p:nvPr/>
                  </p:nvGrpSpPr>
                  <p:grpSpPr>
                    <a:xfrm>
                      <a:off x="5675040" y="2570400"/>
                      <a:ext cx="134280" cy="52200"/>
                      <a:chOff x="5675040" y="2570400"/>
                      <a:chExt cx="134280" cy="52200"/>
                    </a:xfrm>
                  </p:grpSpPr>
                  <p:grpSp>
                    <p:nvGrpSpPr>
                      <p:cNvPr id="5053" name=""/>
                      <p:cNvGrpSpPr/>
                      <p:nvPr/>
                    </p:nvGrpSpPr>
                    <p:grpSpPr>
                      <a:xfrm>
                        <a:off x="5675040" y="2570400"/>
                        <a:ext cx="134280" cy="52200"/>
                        <a:chOff x="5675040" y="2570400"/>
                        <a:chExt cx="134280" cy="52200"/>
                      </a:xfrm>
                    </p:grpSpPr>
                    <p:grpSp>
                      <p:nvGrpSpPr>
                        <p:cNvPr id="5054" name=""/>
                        <p:cNvGrpSpPr/>
                        <p:nvPr/>
                      </p:nvGrpSpPr>
                      <p:grpSpPr>
                        <a:xfrm>
                          <a:off x="5675040" y="2570400"/>
                          <a:ext cx="134280" cy="52200"/>
                          <a:chOff x="5675040" y="2570400"/>
                          <a:chExt cx="134280" cy="52200"/>
                        </a:xfrm>
                      </p:grpSpPr>
                      <p:grpSp>
                        <p:nvGrpSpPr>
                          <p:cNvPr id="5055" name=""/>
                          <p:cNvGrpSpPr/>
                          <p:nvPr/>
                        </p:nvGrpSpPr>
                        <p:grpSpPr>
                          <a:xfrm>
                            <a:off x="5675040" y="2570400"/>
                            <a:ext cx="134280" cy="52200"/>
                            <a:chOff x="5675040" y="2570400"/>
                            <a:chExt cx="134280" cy="52200"/>
                          </a:xfrm>
                        </p:grpSpPr>
                        <p:sp>
                          <p:nvSpPr>
                            <p:cNvPr id="5056" name=""/>
                            <p:cNvSpPr/>
                            <p:nvPr/>
                          </p:nvSpPr>
                          <p:spPr>
                            <a:xfrm>
                              <a:off x="56750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57" name=""/>
                            <p:cNvSpPr/>
                            <p:nvPr/>
                          </p:nvSpPr>
                          <p:spPr>
                            <a:xfrm>
                              <a:off x="56761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58" name=""/>
                          <p:cNvSpPr/>
                          <p:nvPr/>
                        </p:nvSpPr>
                        <p:spPr>
                          <a:xfrm>
                            <a:off x="56775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59" name=""/>
                        <p:cNvGrpSpPr/>
                        <p:nvPr/>
                      </p:nvGrpSpPr>
                      <p:grpSpPr>
                        <a:xfrm>
                          <a:off x="5680800" y="2613240"/>
                          <a:ext cx="124560" cy="7920"/>
                          <a:chOff x="5680800" y="2613240"/>
                          <a:chExt cx="124560" cy="7920"/>
                        </a:xfrm>
                      </p:grpSpPr>
                      <p:grpSp>
                        <p:nvGrpSpPr>
                          <p:cNvPr id="5060" name=""/>
                          <p:cNvGrpSpPr/>
                          <p:nvPr/>
                        </p:nvGrpSpPr>
                        <p:grpSpPr>
                          <a:xfrm>
                            <a:off x="5680800" y="2613240"/>
                            <a:ext cx="61560" cy="7920"/>
                            <a:chOff x="5680800" y="2613240"/>
                            <a:chExt cx="61560" cy="7920"/>
                          </a:xfrm>
                        </p:grpSpPr>
                        <p:grpSp>
                          <p:nvGrpSpPr>
                            <p:cNvPr id="5061" name=""/>
                            <p:cNvGrpSpPr/>
                            <p:nvPr/>
                          </p:nvGrpSpPr>
                          <p:grpSpPr>
                            <a:xfrm>
                              <a:off x="5680800" y="2613240"/>
                              <a:ext cx="29880" cy="7920"/>
                              <a:chOff x="5680800" y="2613240"/>
                              <a:chExt cx="29880" cy="7920"/>
                            </a:xfrm>
                          </p:grpSpPr>
                          <p:grpSp>
                            <p:nvGrpSpPr>
                              <p:cNvPr id="5062" name=""/>
                              <p:cNvGrpSpPr/>
                              <p:nvPr/>
                            </p:nvGrpSpPr>
                            <p:grpSpPr>
                              <a:xfrm>
                                <a:off x="5680800" y="2613240"/>
                                <a:ext cx="14400" cy="7920"/>
                                <a:chOff x="56808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63" name=""/>
                                <p:cNvGrpSpPr/>
                                <p:nvPr/>
                              </p:nvGrpSpPr>
                              <p:grpSpPr>
                                <a:xfrm>
                                  <a:off x="5680800" y="2613240"/>
                                  <a:ext cx="6840" cy="7920"/>
                                  <a:chOff x="56808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800" y="2613240"/>
                                    <a:ext cx="2520" cy="7920"/>
                                    <a:chOff x="5680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3680" y="2613240"/>
                                    <a:ext cx="3960" cy="7920"/>
                                    <a:chOff x="56836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3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70" name=""/>
                                <p:cNvGrpSpPr/>
                                <p:nvPr/>
                              </p:nvGrpSpPr>
                              <p:grpSpPr>
                                <a:xfrm>
                                  <a:off x="5688360" y="2613240"/>
                                  <a:ext cx="6840" cy="7920"/>
                                  <a:chOff x="5688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8360" y="2613240"/>
                                    <a:ext cx="2520" cy="7920"/>
                                    <a:chOff x="5688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8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9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1240" y="2613240"/>
                                    <a:ext cx="3960" cy="7920"/>
                                    <a:chOff x="5691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1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077" name=""/>
                              <p:cNvGrpSpPr/>
                              <p:nvPr/>
                            </p:nvGrpSpPr>
                            <p:grpSpPr>
                              <a:xfrm>
                                <a:off x="5696280" y="2613240"/>
                                <a:ext cx="14400" cy="7920"/>
                                <a:chOff x="5696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78" name=""/>
                                <p:cNvGrpSpPr/>
                                <p:nvPr/>
                              </p:nvGrpSpPr>
                              <p:grpSpPr>
                                <a:xfrm>
                                  <a:off x="5696280" y="2613240"/>
                                  <a:ext cx="6840" cy="7920"/>
                                  <a:chOff x="5696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6280" y="2613240"/>
                                    <a:ext cx="2520" cy="7920"/>
                                    <a:chOff x="5696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6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9160" y="2613240"/>
                                    <a:ext cx="3960" cy="7920"/>
                                    <a:chOff x="56991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9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5" name=""/>
                                <p:cNvGrpSpPr/>
                                <p:nvPr/>
                              </p:nvGrpSpPr>
                              <p:grpSpPr>
                                <a:xfrm>
                                  <a:off x="5703840" y="2613240"/>
                                  <a:ext cx="6840" cy="7920"/>
                                  <a:chOff x="5703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3840" y="2613240"/>
                                    <a:ext cx="2520" cy="7920"/>
                                    <a:chOff x="5703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3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6720" y="2613240"/>
                                    <a:ext cx="3960" cy="7920"/>
                                    <a:chOff x="5706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092" name=""/>
                            <p:cNvGrpSpPr/>
                            <p:nvPr/>
                          </p:nvGrpSpPr>
                          <p:grpSpPr>
                            <a:xfrm>
                              <a:off x="5712120" y="2613240"/>
                              <a:ext cx="30240" cy="7920"/>
                              <a:chOff x="5712120" y="2613240"/>
                              <a:chExt cx="30240" cy="7920"/>
                            </a:xfrm>
                          </p:grpSpPr>
                          <p:grpSp>
                            <p:nvGrpSpPr>
                              <p:cNvPr id="5093" name=""/>
                              <p:cNvGrpSpPr/>
                              <p:nvPr/>
                            </p:nvGrpSpPr>
                            <p:grpSpPr>
                              <a:xfrm>
                                <a:off x="5712120" y="2613240"/>
                                <a:ext cx="14760" cy="7920"/>
                                <a:chOff x="57121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5094" name=""/>
                                <p:cNvGrpSpPr/>
                                <p:nvPr/>
                              </p:nvGrpSpPr>
                              <p:grpSpPr>
                                <a:xfrm>
                                  <a:off x="5712120" y="2613240"/>
                                  <a:ext cx="7200" cy="7920"/>
                                  <a:chOff x="57121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0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2120" y="2613240"/>
                                    <a:ext cx="2520" cy="7920"/>
                                    <a:chOff x="57121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2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800" y="2613240"/>
                                    <a:ext cx="2520" cy="7920"/>
                                    <a:chOff x="5716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01" name=""/>
                                <p:cNvGrpSpPr/>
                                <p:nvPr/>
                              </p:nvGrpSpPr>
                              <p:grpSpPr>
                                <a:xfrm>
                                  <a:off x="5720040" y="2613240"/>
                                  <a:ext cx="6840" cy="7920"/>
                                  <a:chOff x="5720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0040" y="2613240"/>
                                    <a:ext cx="2160" cy="7920"/>
                                    <a:chOff x="57200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0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4360" y="2613240"/>
                                    <a:ext cx="2520" cy="7920"/>
                                    <a:chOff x="5724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08" name=""/>
                              <p:cNvGrpSpPr/>
                              <p:nvPr/>
                            </p:nvGrpSpPr>
                            <p:grpSpPr>
                              <a:xfrm>
                                <a:off x="5727960" y="2613240"/>
                                <a:ext cx="14400" cy="7920"/>
                                <a:chOff x="5727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09" name=""/>
                                <p:cNvGrpSpPr/>
                                <p:nvPr/>
                              </p:nvGrpSpPr>
                              <p:grpSpPr>
                                <a:xfrm>
                                  <a:off x="5727960" y="2613240"/>
                                  <a:ext cx="6840" cy="7920"/>
                                  <a:chOff x="5727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2613240"/>
                                    <a:ext cx="2160" cy="7920"/>
                                    <a:chOff x="57279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9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280" y="2613240"/>
                                    <a:ext cx="2520" cy="7920"/>
                                    <a:chOff x="5732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16" name=""/>
                                <p:cNvGrpSpPr/>
                                <p:nvPr/>
                              </p:nvGrpSpPr>
                              <p:grpSpPr>
                                <a:xfrm>
                                  <a:off x="5735520" y="2613240"/>
                                  <a:ext cx="6840" cy="7920"/>
                                  <a:chOff x="5735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5520" y="2613240"/>
                                    <a:ext cx="2160" cy="7920"/>
                                    <a:chOff x="57355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5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8040" y="2613240"/>
                                    <a:ext cx="4320" cy="7920"/>
                                    <a:chOff x="57380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123" name=""/>
                          <p:cNvGrpSpPr/>
                          <p:nvPr/>
                        </p:nvGrpSpPr>
                        <p:grpSpPr>
                          <a:xfrm>
                            <a:off x="5744160" y="2613240"/>
                            <a:ext cx="61200" cy="7920"/>
                            <a:chOff x="5744160" y="2613240"/>
                            <a:chExt cx="61200" cy="7920"/>
                          </a:xfrm>
                        </p:grpSpPr>
                        <p:grpSp>
                          <p:nvGrpSpPr>
                            <p:cNvPr id="5124" name=""/>
                            <p:cNvGrpSpPr/>
                            <p:nvPr/>
                          </p:nvGrpSpPr>
                          <p:grpSpPr>
                            <a:xfrm>
                              <a:off x="5744160" y="2613240"/>
                              <a:ext cx="29880" cy="7920"/>
                              <a:chOff x="5744160" y="2613240"/>
                              <a:chExt cx="29880" cy="7920"/>
                            </a:xfrm>
                          </p:grpSpPr>
                          <p:grpSp>
                            <p:nvGrpSpPr>
                              <p:cNvPr id="5125" name=""/>
                              <p:cNvGrpSpPr/>
                              <p:nvPr/>
                            </p:nvGrpSpPr>
                            <p:grpSpPr>
                              <a:xfrm>
                                <a:off x="5744160" y="2613240"/>
                                <a:ext cx="14400" cy="7920"/>
                                <a:chOff x="5744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26" name=""/>
                                <p:cNvGrpSpPr/>
                                <p:nvPr/>
                              </p:nvGrpSpPr>
                              <p:grpSpPr>
                                <a:xfrm>
                                  <a:off x="5744160" y="2613240"/>
                                  <a:ext cx="6840" cy="7920"/>
                                  <a:chOff x="5744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160" y="2613240"/>
                                    <a:ext cx="2520" cy="7920"/>
                                    <a:chOff x="574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7040" y="2613240"/>
                                    <a:ext cx="3960" cy="7920"/>
                                    <a:chOff x="5747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7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33" name=""/>
                                <p:cNvGrpSpPr/>
                                <p:nvPr/>
                              </p:nvGrpSpPr>
                              <p:grpSpPr>
                                <a:xfrm>
                                  <a:off x="5751720" y="2613240"/>
                                  <a:ext cx="6840" cy="7920"/>
                                  <a:chOff x="5751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720" y="2613240"/>
                                    <a:ext cx="2520" cy="7920"/>
                                    <a:chOff x="5751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2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040" y="2613240"/>
                                    <a:ext cx="2520" cy="7920"/>
                                    <a:chOff x="5756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40" name=""/>
                              <p:cNvGrpSpPr/>
                              <p:nvPr/>
                            </p:nvGrpSpPr>
                            <p:grpSpPr>
                              <a:xfrm>
                                <a:off x="5759640" y="2613240"/>
                                <a:ext cx="14400" cy="7920"/>
                                <a:chOff x="57596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41" name=""/>
                                <p:cNvGrpSpPr/>
                                <p:nvPr/>
                              </p:nvGrpSpPr>
                              <p:grpSpPr>
                                <a:xfrm>
                                  <a:off x="5759640" y="2613240"/>
                                  <a:ext cx="6840" cy="7920"/>
                                  <a:chOff x="5759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9640" y="2613240"/>
                                    <a:ext cx="2520" cy="7920"/>
                                    <a:chOff x="5759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96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2613240"/>
                                    <a:ext cx="2520" cy="7920"/>
                                    <a:chOff x="576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48" name=""/>
                                <p:cNvGrpSpPr/>
                                <p:nvPr/>
                              </p:nvGrpSpPr>
                              <p:grpSpPr>
                                <a:xfrm>
                                  <a:off x="5767200" y="2613240"/>
                                  <a:ext cx="6840" cy="7920"/>
                                  <a:chOff x="57672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7200" y="2613240"/>
                                    <a:ext cx="2520" cy="7920"/>
                                    <a:chOff x="57672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72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8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0080" y="2613240"/>
                                    <a:ext cx="3960" cy="7920"/>
                                    <a:chOff x="57700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0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155" name=""/>
                            <p:cNvGrpSpPr/>
                            <p:nvPr/>
                          </p:nvGrpSpPr>
                          <p:grpSpPr>
                            <a:xfrm>
                              <a:off x="5775480" y="2613240"/>
                              <a:ext cx="29880" cy="7920"/>
                              <a:chOff x="5775480" y="2613240"/>
                              <a:chExt cx="29880" cy="7920"/>
                            </a:xfrm>
                          </p:grpSpPr>
                          <p:grpSp>
                            <p:nvGrpSpPr>
                              <p:cNvPr id="5156" name=""/>
                              <p:cNvGrpSpPr/>
                              <p:nvPr/>
                            </p:nvGrpSpPr>
                            <p:grpSpPr>
                              <a:xfrm>
                                <a:off x="5775480" y="2613240"/>
                                <a:ext cx="14400" cy="7920"/>
                                <a:chOff x="5775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57" name=""/>
                                <p:cNvGrpSpPr/>
                                <p:nvPr/>
                              </p:nvGrpSpPr>
                              <p:grpSpPr>
                                <a:xfrm>
                                  <a:off x="5775480" y="2613240"/>
                                  <a:ext cx="6840" cy="7920"/>
                                  <a:chOff x="5775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5480" y="2613240"/>
                                    <a:ext cx="2520" cy="7920"/>
                                    <a:chOff x="5775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5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800" y="2613240"/>
                                    <a:ext cx="2520" cy="7920"/>
                                    <a:chOff x="5779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64" name=""/>
                                <p:cNvGrpSpPr/>
                                <p:nvPr/>
                              </p:nvGrpSpPr>
                              <p:grpSpPr>
                                <a:xfrm>
                                  <a:off x="5783040" y="2613240"/>
                                  <a:ext cx="6840" cy="7920"/>
                                  <a:chOff x="5783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040" y="2613240"/>
                                    <a:ext cx="2520" cy="7920"/>
                                    <a:chOff x="5783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4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5920" y="2613240"/>
                                    <a:ext cx="3960" cy="7920"/>
                                    <a:chOff x="5785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8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71" name=""/>
                              <p:cNvGrpSpPr/>
                              <p:nvPr/>
                            </p:nvGrpSpPr>
                            <p:grpSpPr>
                              <a:xfrm>
                                <a:off x="5790960" y="2613240"/>
                                <a:ext cx="14400" cy="7920"/>
                                <a:chOff x="5790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72" name=""/>
                                <p:cNvGrpSpPr/>
                                <p:nvPr/>
                              </p:nvGrpSpPr>
                              <p:grpSpPr>
                                <a:xfrm>
                                  <a:off x="5790960" y="2613240"/>
                                  <a:ext cx="6840" cy="7920"/>
                                  <a:chOff x="5790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0960" y="2613240"/>
                                    <a:ext cx="2520" cy="7920"/>
                                    <a:chOff x="5790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0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5280" y="2613240"/>
                                    <a:ext cx="2520" cy="7920"/>
                                    <a:chOff x="579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5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79" name=""/>
                                <p:cNvGrpSpPr/>
                                <p:nvPr/>
                              </p:nvGrpSpPr>
                              <p:grpSpPr>
                                <a:xfrm>
                                  <a:off x="5798520" y="2613240"/>
                                  <a:ext cx="6840" cy="7920"/>
                                  <a:chOff x="5798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8520" y="2613240"/>
                                    <a:ext cx="2520" cy="7920"/>
                                    <a:chOff x="5798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8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802840" y="2613240"/>
                                    <a:ext cx="2520" cy="7920"/>
                                    <a:chOff x="580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2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4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186" name=""/>
                      <p:cNvGrpSpPr/>
                      <p:nvPr/>
                    </p:nvGrpSpPr>
                    <p:grpSpPr>
                      <a:xfrm>
                        <a:off x="5677560" y="2584440"/>
                        <a:ext cx="128160" cy="22320"/>
                        <a:chOff x="5677560" y="2584440"/>
                        <a:chExt cx="128160" cy="22320"/>
                      </a:xfrm>
                    </p:grpSpPr>
                    <p:sp>
                      <p:nvSpPr>
                        <p:cNvPr id="5187" name=""/>
                        <p:cNvSpPr/>
                        <p:nvPr/>
                      </p:nvSpPr>
                      <p:spPr>
                        <a:xfrm>
                          <a:off x="56775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8" name=""/>
                        <p:cNvSpPr/>
                        <p:nvPr/>
                      </p:nvSpPr>
                      <p:spPr>
                        <a:xfrm>
                          <a:off x="57060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9" name=""/>
                        <p:cNvSpPr/>
                        <p:nvPr/>
                      </p:nvSpPr>
                      <p:spPr>
                        <a:xfrm>
                          <a:off x="57456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0" name=""/>
                        <p:cNvSpPr/>
                        <p:nvPr/>
                      </p:nvSpPr>
                      <p:spPr>
                        <a:xfrm>
                          <a:off x="57870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1" name=""/>
                    <p:cNvGrpSpPr/>
                    <p:nvPr/>
                  </p:nvGrpSpPr>
                  <p:grpSpPr>
                    <a:xfrm>
                      <a:off x="5790600" y="2587680"/>
                      <a:ext cx="11880" cy="11160"/>
                      <a:chOff x="5790600" y="2587680"/>
                      <a:chExt cx="11880" cy="11160"/>
                    </a:xfrm>
                  </p:grpSpPr>
                  <p:sp>
                    <p:nvSpPr>
                      <p:cNvPr id="5192" name=""/>
                      <p:cNvSpPr/>
                      <p:nvPr/>
                    </p:nvSpPr>
                    <p:spPr>
                      <a:xfrm>
                        <a:off x="57949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3" name=""/>
                      <p:cNvSpPr/>
                      <p:nvPr/>
                    </p:nvSpPr>
                    <p:spPr>
                      <a:xfrm>
                        <a:off x="57963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94" name=""/>
                      <p:cNvGrpSpPr/>
                      <p:nvPr/>
                    </p:nvGrpSpPr>
                    <p:grpSpPr>
                      <a:xfrm>
                        <a:off x="5790600" y="2589480"/>
                        <a:ext cx="2520" cy="6120"/>
                        <a:chOff x="5790600" y="2589480"/>
                        <a:chExt cx="2520" cy="6120"/>
                      </a:xfrm>
                    </p:grpSpPr>
                    <p:sp>
                      <p:nvSpPr>
                        <p:cNvPr id="5195" name=""/>
                        <p:cNvSpPr/>
                        <p:nvPr/>
                      </p:nvSpPr>
                      <p:spPr>
                        <a:xfrm>
                          <a:off x="57906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6" name=""/>
                        <p:cNvSpPr/>
                        <p:nvPr/>
                      </p:nvSpPr>
                      <p:spPr>
                        <a:xfrm>
                          <a:off x="57906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7" name=""/>
                    <p:cNvGrpSpPr/>
                    <p:nvPr/>
                  </p:nvGrpSpPr>
                  <p:grpSpPr>
                    <a:xfrm>
                      <a:off x="5707800" y="2587680"/>
                      <a:ext cx="36000" cy="14400"/>
                      <a:chOff x="5707800" y="2587680"/>
                      <a:chExt cx="36000" cy="14400"/>
                    </a:xfrm>
                  </p:grpSpPr>
                  <p:grpSp>
                    <p:nvGrpSpPr>
                      <p:cNvPr id="5198" name=""/>
                      <p:cNvGrpSpPr/>
                      <p:nvPr/>
                    </p:nvGrpSpPr>
                    <p:grpSpPr>
                      <a:xfrm>
                        <a:off x="5709240" y="2587680"/>
                        <a:ext cx="34560" cy="7920"/>
                        <a:chOff x="5709240" y="2587680"/>
                        <a:chExt cx="34560" cy="7920"/>
                      </a:xfrm>
                    </p:grpSpPr>
                    <p:sp>
                      <p:nvSpPr>
                        <p:cNvPr id="5199" name=""/>
                        <p:cNvSpPr/>
                        <p:nvPr/>
                      </p:nvSpPr>
                      <p:spPr>
                        <a:xfrm>
                          <a:off x="57182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0" name=""/>
                        <p:cNvSpPr/>
                        <p:nvPr/>
                      </p:nvSpPr>
                      <p:spPr>
                        <a:xfrm>
                          <a:off x="57182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1" name=""/>
                        <p:cNvSpPr/>
                        <p:nvPr/>
                      </p:nvSpPr>
                      <p:spPr>
                        <a:xfrm>
                          <a:off x="57092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202" name=""/>
                      <p:cNvSpPr/>
                      <p:nvPr/>
                    </p:nvSpPr>
                    <p:spPr>
                      <a:xfrm>
                        <a:off x="57078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3" name=""/>
                      <p:cNvSpPr/>
                      <p:nvPr/>
                    </p:nvSpPr>
                    <p:spPr>
                      <a:xfrm>
                        <a:off x="57362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04" name=""/>
                    <p:cNvGrpSpPr/>
                    <p:nvPr/>
                  </p:nvGrpSpPr>
                  <p:grpSpPr>
                    <a:xfrm>
                      <a:off x="5680800" y="2600640"/>
                      <a:ext cx="21960" cy="4680"/>
                      <a:chOff x="5680800" y="2600640"/>
                      <a:chExt cx="21960" cy="4680"/>
                    </a:xfrm>
                  </p:grpSpPr>
                  <p:grpSp>
                    <p:nvGrpSpPr>
                      <p:cNvPr id="5205" name=""/>
                      <p:cNvGrpSpPr/>
                      <p:nvPr/>
                    </p:nvGrpSpPr>
                    <p:grpSpPr>
                      <a:xfrm>
                        <a:off x="5680800" y="2600640"/>
                        <a:ext cx="11520" cy="4680"/>
                        <a:chOff x="5680800" y="2600640"/>
                        <a:chExt cx="11520" cy="4680"/>
                      </a:xfrm>
                    </p:grpSpPr>
                    <p:grpSp>
                      <p:nvGrpSpPr>
                        <p:cNvPr id="5206" name=""/>
                        <p:cNvGrpSpPr/>
                        <p:nvPr/>
                      </p:nvGrpSpPr>
                      <p:grpSpPr>
                        <a:xfrm>
                          <a:off x="5680800" y="2600640"/>
                          <a:ext cx="5400" cy="4680"/>
                          <a:chOff x="5680800" y="2600640"/>
                          <a:chExt cx="5400" cy="4680"/>
                        </a:xfrm>
                      </p:grpSpPr>
                      <p:grpSp>
                        <p:nvGrpSpPr>
                          <p:cNvPr id="5207" name=""/>
                          <p:cNvGrpSpPr/>
                          <p:nvPr/>
                        </p:nvGrpSpPr>
                        <p:grpSpPr>
                          <a:xfrm>
                            <a:off x="5680800" y="2600640"/>
                            <a:ext cx="2520" cy="4680"/>
                            <a:chOff x="5680800" y="2600640"/>
                            <a:chExt cx="2520" cy="4680"/>
                          </a:xfrm>
                        </p:grpSpPr>
                        <p:sp>
                          <p:nvSpPr>
                            <p:cNvPr id="5208" name=""/>
                            <p:cNvSpPr/>
                            <p:nvPr/>
                          </p:nvSpPr>
                          <p:spPr>
                            <a:xfrm>
                              <a:off x="5680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9" name=""/>
                            <p:cNvSpPr/>
                            <p:nvPr/>
                          </p:nvSpPr>
                          <p:spPr>
                            <a:xfrm>
                              <a:off x="56822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0" name=""/>
                          <p:cNvGrpSpPr/>
                          <p:nvPr/>
                        </p:nvGrpSpPr>
                        <p:grpSpPr>
                          <a:xfrm>
                            <a:off x="5683680" y="2600640"/>
                            <a:ext cx="2520" cy="4680"/>
                            <a:chOff x="5683680" y="2600640"/>
                            <a:chExt cx="2520" cy="4680"/>
                          </a:xfrm>
                        </p:grpSpPr>
                        <p:sp>
                          <p:nvSpPr>
                            <p:cNvPr id="5211" name=""/>
                            <p:cNvSpPr/>
                            <p:nvPr/>
                          </p:nvSpPr>
                          <p:spPr>
                            <a:xfrm>
                              <a:off x="5683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2" name=""/>
                            <p:cNvSpPr/>
                            <p:nvPr/>
                          </p:nvSpPr>
                          <p:spPr>
                            <a:xfrm>
                              <a:off x="568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13" name=""/>
                        <p:cNvGrpSpPr/>
                        <p:nvPr/>
                      </p:nvGrpSpPr>
                      <p:grpSpPr>
                        <a:xfrm>
                          <a:off x="5686920" y="2600640"/>
                          <a:ext cx="5400" cy="4680"/>
                          <a:chOff x="5686920" y="2600640"/>
                          <a:chExt cx="5400" cy="4680"/>
                        </a:xfrm>
                      </p:grpSpPr>
                      <p:grpSp>
                        <p:nvGrpSpPr>
                          <p:cNvPr id="5214" name=""/>
                          <p:cNvGrpSpPr/>
                          <p:nvPr/>
                        </p:nvGrpSpPr>
                        <p:grpSpPr>
                          <a:xfrm>
                            <a:off x="5686920" y="2600640"/>
                            <a:ext cx="2520" cy="4680"/>
                            <a:chOff x="5686920" y="2600640"/>
                            <a:chExt cx="2520" cy="4680"/>
                          </a:xfrm>
                        </p:grpSpPr>
                        <p:sp>
                          <p:nvSpPr>
                            <p:cNvPr id="5215" name=""/>
                            <p:cNvSpPr/>
                            <p:nvPr/>
                          </p:nvSpPr>
                          <p:spPr>
                            <a:xfrm>
                              <a:off x="5686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6" name=""/>
                            <p:cNvSpPr/>
                            <p:nvPr/>
                          </p:nvSpPr>
                          <p:spPr>
                            <a:xfrm>
                              <a:off x="5688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7" name=""/>
                          <p:cNvGrpSpPr/>
                          <p:nvPr/>
                        </p:nvGrpSpPr>
                        <p:grpSpPr>
                          <a:xfrm>
                            <a:off x="5689800" y="2600640"/>
                            <a:ext cx="2520" cy="4680"/>
                            <a:chOff x="5689800" y="2600640"/>
                            <a:chExt cx="2520" cy="4680"/>
                          </a:xfrm>
                        </p:grpSpPr>
                        <p:sp>
                          <p:nvSpPr>
                            <p:cNvPr id="5218" name=""/>
                            <p:cNvSpPr/>
                            <p:nvPr/>
                          </p:nvSpPr>
                          <p:spPr>
                            <a:xfrm>
                              <a:off x="5689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9" name=""/>
                            <p:cNvSpPr/>
                            <p:nvPr/>
                          </p:nvSpPr>
                          <p:spPr>
                            <a:xfrm>
                              <a:off x="5690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220" name=""/>
                      <p:cNvGrpSpPr/>
                      <p:nvPr/>
                    </p:nvGrpSpPr>
                    <p:grpSpPr>
                      <a:xfrm>
                        <a:off x="5693400" y="2600640"/>
                        <a:ext cx="9360" cy="4680"/>
                        <a:chOff x="5693400" y="2600640"/>
                        <a:chExt cx="9360" cy="4680"/>
                      </a:xfrm>
                    </p:grpSpPr>
                    <p:grpSp>
                      <p:nvGrpSpPr>
                        <p:cNvPr id="5221" name=""/>
                        <p:cNvGrpSpPr/>
                        <p:nvPr/>
                      </p:nvGrpSpPr>
                      <p:grpSpPr>
                        <a:xfrm>
                          <a:off x="5693400" y="2600640"/>
                          <a:ext cx="5040" cy="4680"/>
                          <a:chOff x="5693400" y="2600640"/>
                          <a:chExt cx="5040" cy="4680"/>
                        </a:xfrm>
                      </p:grpSpPr>
                      <p:grpSp>
                        <p:nvGrpSpPr>
                          <p:cNvPr id="5222" name=""/>
                          <p:cNvGrpSpPr/>
                          <p:nvPr/>
                        </p:nvGrpSpPr>
                        <p:grpSpPr>
                          <a:xfrm>
                            <a:off x="5693400" y="2600640"/>
                            <a:ext cx="2160" cy="4680"/>
                            <a:chOff x="5693400" y="2600640"/>
                            <a:chExt cx="2160" cy="4680"/>
                          </a:xfrm>
                        </p:grpSpPr>
                        <p:sp>
                          <p:nvSpPr>
                            <p:cNvPr id="5223" name=""/>
                            <p:cNvSpPr/>
                            <p:nvPr/>
                          </p:nvSpPr>
                          <p:spPr>
                            <a:xfrm>
                              <a:off x="5693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4" name=""/>
                            <p:cNvSpPr/>
                            <p:nvPr/>
                          </p:nvSpPr>
                          <p:spPr>
                            <a:xfrm>
                              <a:off x="5694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25" name=""/>
                          <p:cNvGrpSpPr/>
                          <p:nvPr/>
                        </p:nvGrpSpPr>
                        <p:grpSpPr>
                          <a:xfrm>
                            <a:off x="5695920" y="2600640"/>
                            <a:ext cx="2520" cy="4680"/>
                            <a:chOff x="5695920" y="2600640"/>
                            <a:chExt cx="2520" cy="4680"/>
                          </a:xfrm>
                        </p:grpSpPr>
                        <p:sp>
                          <p:nvSpPr>
                            <p:cNvPr id="5226" name=""/>
                            <p:cNvSpPr/>
                            <p:nvPr/>
                          </p:nvSpPr>
                          <p:spPr>
                            <a:xfrm>
                              <a:off x="56959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7" name=""/>
                            <p:cNvSpPr/>
                            <p:nvPr/>
                          </p:nvSpPr>
                          <p:spPr>
                            <a:xfrm>
                              <a:off x="56973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28" name=""/>
                        <p:cNvGrpSpPr/>
                        <p:nvPr/>
                      </p:nvGrpSpPr>
                      <p:grpSpPr>
                        <a:xfrm>
                          <a:off x="5699160" y="2600640"/>
                          <a:ext cx="3600" cy="4680"/>
                          <a:chOff x="5699160" y="2600640"/>
                          <a:chExt cx="3600" cy="4680"/>
                        </a:xfrm>
                      </p:grpSpPr>
                      <p:grpSp>
                        <p:nvGrpSpPr>
                          <p:cNvPr id="5229" name=""/>
                          <p:cNvGrpSpPr/>
                          <p:nvPr/>
                        </p:nvGrpSpPr>
                        <p:grpSpPr>
                          <a:xfrm>
                            <a:off x="5699160" y="2600640"/>
                            <a:ext cx="1440" cy="4680"/>
                            <a:chOff x="5699160" y="2600640"/>
                            <a:chExt cx="1440" cy="4680"/>
                          </a:xfrm>
                        </p:grpSpPr>
                        <p:sp>
                          <p:nvSpPr>
                            <p:cNvPr id="5230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1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32" name=""/>
                          <p:cNvGrpSpPr/>
                          <p:nvPr/>
                        </p:nvGrpSpPr>
                        <p:grpSpPr>
                          <a:xfrm>
                            <a:off x="5700600" y="2600640"/>
                            <a:ext cx="2160" cy="4680"/>
                            <a:chOff x="5700600" y="2600640"/>
                            <a:chExt cx="2160" cy="4680"/>
                          </a:xfrm>
                        </p:grpSpPr>
                        <p:sp>
                          <p:nvSpPr>
                            <p:cNvPr id="5233" name=""/>
                            <p:cNvSpPr/>
                            <p:nvPr/>
                          </p:nvSpPr>
                          <p:spPr>
                            <a:xfrm>
                              <a:off x="5700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4" name=""/>
                            <p:cNvSpPr/>
                            <p:nvPr/>
                          </p:nvSpPr>
                          <p:spPr>
                            <a:xfrm>
                              <a:off x="5701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235" name=""/>
                    <p:cNvSpPr/>
                    <p:nvPr/>
                  </p:nvSpPr>
                  <p:spPr>
                    <a:xfrm>
                      <a:off x="56793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6" name=""/>
                  <p:cNvGrpSpPr/>
                  <p:nvPr/>
                </p:nvGrpSpPr>
                <p:grpSpPr>
                  <a:xfrm>
                    <a:off x="5635440" y="2619720"/>
                    <a:ext cx="210960" cy="29880"/>
                    <a:chOff x="5635440" y="2619720"/>
                    <a:chExt cx="210960" cy="29880"/>
                  </a:xfrm>
                </p:grpSpPr>
                <p:grpSp>
                  <p:nvGrpSpPr>
                    <p:cNvPr id="5237" name=""/>
                    <p:cNvGrpSpPr/>
                    <p:nvPr/>
                  </p:nvGrpSpPr>
                  <p:grpSpPr>
                    <a:xfrm>
                      <a:off x="5635440" y="2619720"/>
                      <a:ext cx="210960" cy="29880"/>
                      <a:chOff x="5635440" y="2619720"/>
                      <a:chExt cx="210960" cy="29880"/>
                    </a:xfrm>
                  </p:grpSpPr>
                  <p:sp>
                    <p:nvSpPr>
                      <p:cNvPr id="5238" name=""/>
                      <p:cNvSpPr/>
                      <p:nvPr/>
                    </p:nvSpPr>
                    <p:spPr>
                      <a:xfrm>
                        <a:off x="56354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9" name=""/>
                      <p:cNvSpPr/>
                      <p:nvPr/>
                    </p:nvSpPr>
                    <p:spPr>
                      <a:xfrm>
                        <a:off x="56354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0" name=""/>
                      <p:cNvSpPr/>
                      <p:nvPr/>
                    </p:nvSpPr>
                    <p:spPr>
                      <a:xfrm>
                        <a:off x="56415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1" name=""/>
                    <p:cNvGrpSpPr/>
                    <p:nvPr/>
                  </p:nvGrpSpPr>
                  <p:grpSpPr>
                    <a:xfrm>
                      <a:off x="5657400" y="2622600"/>
                      <a:ext cx="165960" cy="5040"/>
                      <a:chOff x="5657400" y="2622600"/>
                      <a:chExt cx="165960" cy="5040"/>
                    </a:xfrm>
                  </p:grpSpPr>
                  <p:sp>
                    <p:nvSpPr>
                      <p:cNvPr id="5242" name=""/>
                      <p:cNvSpPr/>
                      <p:nvPr/>
                    </p:nvSpPr>
                    <p:spPr>
                      <a:xfrm>
                        <a:off x="56574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3" name=""/>
                      <p:cNvSpPr/>
                      <p:nvPr/>
                    </p:nvSpPr>
                    <p:spPr>
                      <a:xfrm>
                        <a:off x="56746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4" name=""/>
                      <p:cNvSpPr/>
                      <p:nvPr/>
                    </p:nvSpPr>
                    <p:spPr>
                      <a:xfrm>
                        <a:off x="57078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5" name=""/>
                      <p:cNvSpPr/>
                      <p:nvPr/>
                    </p:nvSpPr>
                    <p:spPr>
                      <a:xfrm>
                        <a:off x="57380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6" name=""/>
                      <p:cNvSpPr/>
                      <p:nvPr/>
                    </p:nvSpPr>
                    <p:spPr>
                      <a:xfrm>
                        <a:off x="57682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7" name=""/>
                      <p:cNvSpPr/>
                      <p:nvPr/>
                    </p:nvSpPr>
                    <p:spPr>
                      <a:xfrm>
                        <a:off x="57967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8" name=""/>
                    <p:cNvGrpSpPr/>
                    <p:nvPr/>
                  </p:nvGrpSpPr>
                  <p:grpSpPr>
                    <a:xfrm>
                      <a:off x="5651280" y="2629080"/>
                      <a:ext cx="174960" cy="11160"/>
                      <a:chOff x="5651280" y="2629080"/>
                      <a:chExt cx="174960" cy="11160"/>
                    </a:xfrm>
                  </p:grpSpPr>
                  <p:grpSp>
                    <p:nvGrpSpPr>
                      <p:cNvPr id="5249" name=""/>
                      <p:cNvGrpSpPr/>
                      <p:nvPr/>
                    </p:nvGrpSpPr>
                    <p:grpSpPr>
                      <a:xfrm>
                        <a:off x="5666760" y="2629080"/>
                        <a:ext cx="84960" cy="9360"/>
                        <a:chOff x="5666760" y="2629080"/>
                        <a:chExt cx="84960" cy="9360"/>
                      </a:xfrm>
                    </p:grpSpPr>
                    <p:sp>
                      <p:nvSpPr>
                        <p:cNvPr id="5250" name=""/>
                        <p:cNvSpPr/>
                        <p:nvPr/>
                      </p:nvSpPr>
                      <p:spPr>
                        <a:xfrm>
                          <a:off x="56667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1" name=""/>
                        <p:cNvSpPr/>
                        <p:nvPr/>
                      </p:nvSpPr>
                      <p:spPr>
                        <a:xfrm>
                          <a:off x="56692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2" name=""/>
                        <p:cNvSpPr/>
                        <p:nvPr/>
                      </p:nvSpPr>
                      <p:spPr>
                        <a:xfrm>
                          <a:off x="56710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3" name=""/>
                        <p:cNvSpPr/>
                        <p:nvPr/>
                      </p:nvSpPr>
                      <p:spPr>
                        <a:xfrm>
                          <a:off x="56725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4" name=""/>
                      <p:cNvGrpSpPr/>
                      <p:nvPr/>
                    </p:nvGrpSpPr>
                    <p:grpSpPr>
                      <a:xfrm>
                        <a:off x="5651280" y="2630520"/>
                        <a:ext cx="15480" cy="6480"/>
                        <a:chOff x="5651280" y="2630520"/>
                        <a:chExt cx="15480" cy="6480"/>
                      </a:xfrm>
                    </p:grpSpPr>
                    <p:sp>
                      <p:nvSpPr>
                        <p:cNvPr id="5255" name=""/>
                        <p:cNvSpPr/>
                        <p:nvPr/>
                      </p:nvSpPr>
                      <p:spPr>
                        <a:xfrm>
                          <a:off x="56556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6" name=""/>
                        <p:cNvSpPr/>
                        <p:nvPr/>
                      </p:nvSpPr>
                      <p:spPr>
                        <a:xfrm>
                          <a:off x="56538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7" name=""/>
                        <p:cNvSpPr/>
                        <p:nvPr/>
                      </p:nvSpPr>
                      <p:spPr>
                        <a:xfrm>
                          <a:off x="56512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8" name=""/>
                      <p:cNvGrpSpPr/>
                      <p:nvPr/>
                    </p:nvGrpSpPr>
                    <p:grpSpPr>
                      <a:xfrm>
                        <a:off x="5685840" y="2629080"/>
                        <a:ext cx="78480" cy="9360"/>
                        <a:chOff x="5685840" y="2629080"/>
                        <a:chExt cx="78480" cy="9360"/>
                      </a:xfrm>
                    </p:grpSpPr>
                    <p:sp>
                      <p:nvSpPr>
                        <p:cNvPr id="5259" name=""/>
                        <p:cNvSpPr/>
                        <p:nvPr/>
                      </p:nvSpPr>
                      <p:spPr>
                        <a:xfrm>
                          <a:off x="56858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0" name=""/>
                        <p:cNvSpPr/>
                        <p:nvPr/>
                      </p:nvSpPr>
                      <p:spPr>
                        <a:xfrm>
                          <a:off x="57520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1" name=""/>
                        <p:cNvSpPr/>
                        <p:nvPr/>
                      </p:nvSpPr>
                      <p:spPr>
                        <a:xfrm>
                          <a:off x="57553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2" name=""/>
                        <p:cNvSpPr/>
                        <p:nvPr/>
                      </p:nvSpPr>
                      <p:spPr>
                        <a:xfrm>
                          <a:off x="57488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3" name=""/>
                        <p:cNvSpPr/>
                        <p:nvPr/>
                      </p:nvSpPr>
                      <p:spPr>
                        <a:xfrm>
                          <a:off x="57362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4" name=""/>
                        <p:cNvSpPr/>
                        <p:nvPr/>
                      </p:nvSpPr>
                      <p:spPr>
                        <a:xfrm>
                          <a:off x="57456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5" name=""/>
                      <p:cNvGrpSpPr/>
                      <p:nvPr/>
                    </p:nvGrpSpPr>
                    <p:grpSpPr>
                      <a:xfrm>
                        <a:off x="5768280" y="2630520"/>
                        <a:ext cx="24480" cy="7920"/>
                        <a:chOff x="5768280" y="2630520"/>
                        <a:chExt cx="24480" cy="7920"/>
                      </a:xfrm>
                    </p:grpSpPr>
                    <p:sp>
                      <p:nvSpPr>
                        <p:cNvPr id="5266" name=""/>
                        <p:cNvSpPr/>
                        <p:nvPr/>
                      </p:nvSpPr>
                      <p:spPr>
                        <a:xfrm>
                          <a:off x="57682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7" name=""/>
                        <p:cNvSpPr/>
                        <p:nvPr/>
                      </p:nvSpPr>
                      <p:spPr>
                        <a:xfrm>
                          <a:off x="57711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8" name=""/>
                        <p:cNvSpPr/>
                        <p:nvPr/>
                      </p:nvSpPr>
                      <p:spPr>
                        <a:xfrm>
                          <a:off x="57711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9" name=""/>
                      <p:cNvGrpSpPr/>
                      <p:nvPr/>
                    </p:nvGrpSpPr>
                    <p:grpSpPr>
                      <a:xfrm>
                        <a:off x="5796720" y="2630520"/>
                        <a:ext cx="29520" cy="9720"/>
                        <a:chOff x="5796720" y="2630520"/>
                        <a:chExt cx="29520" cy="9720"/>
                      </a:xfrm>
                    </p:grpSpPr>
                    <p:sp>
                      <p:nvSpPr>
                        <p:cNvPr id="5270" name=""/>
                        <p:cNvSpPr/>
                        <p:nvPr/>
                      </p:nvSpPr>
                      <p:spPr>
                        <a:xfrm>
                          <a:off x="57996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1" name=""/>
                        <p:cNvSpPr/>
                        <p:nvPr/>
                      </p:nvSpPr>
                      <p:spPr>
                        <a:xfrm>
                          <a:off x="57967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2" name=""/>
                        <p:cNvSpPr/>
                        <p:nvPr/>
                      </p:nvSpPr>
                      <p:spPr>
                        <a:xfrm>
                          <a:off x="57996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3" name=""/>
                        <p:cNvSpPr/>
                        <p:nvPr/>
                      </p:nvSpPr>
                      <p:spPr>
                        <a:xfrm>
                          <a:off x="57981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4" name=""/>
                        <p:cNvSpPr/>
                        <p:nvPr/>
                      </p:nvSpPr>
                      <p:spPr>
                        <a:xfrm>
                          <a:off x="58186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5" name=""/>
                        <p:cNvSpPr/>
                        <p:nvPr/>
                      </p:nvSpPr>
                      <p:spPr>
                        <a:xfrm>
                          <a:off x="58201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276" name=""/>
                  <p:cNvGrpSpPr/>
                  <p:nvPr/>
                </p:nvGrpSpPr>
                <p:grpSpPr>
                  <a:xfrm>
                    <a:off x="5697000" y="2560680"/>
                    <a:ext cx="91800" cy="19080"/>
                    <a:chOff x="5697000" y="2560680"/>
                    <a:chExt cx="91800" cy="19080"/>
                  </a:xfrm>
                </p:grpSpPr>
                <p:grpSp>
                  <p:nvGrpSpPr>
                    <p:cNvPr id="5277" name=""/>
                    <p:cNvGrpSpPr/>
                    <p:nvPr/>
                  </p:nvGrpSpPr>
                  <p:grpSpPr>
                    <a:xfrm>
                      <a:off x="5697000" y="2565720"/>
                      <a:ext cx="91800" cy="14040"/>
                      <a:chOff x="5697000" y="2565720"/>
                      <a:chExt cx="91800" cy="14040"/>
                    </a:xfrm>
                  </p:grpSpPr>
                  <p:sp>
                    <p:nvSpPr>
                      <p:cNvPr id="5278" name=""/>
                      <p:cNvSpPr/>
                      <p:nvPr/>
                    </p:nvSpPr>
                    <p:spPr>
                      <a:xfrm>
                        <a:off x="56970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9" name=""/>
                      <p:cNvSpPr/>
                      <p:nvPr/>
                    </p:nvSpPr>
                    <p:spPr>
                      <a:xfrm>
                        <a:off x="56970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80" name=""/>
                    <p:cNvSpPr/>
                    <p:nvPr/>
                  </p:nvSpPr>
                  <p:spPr>
                    <a:xfrm>
                      <a:off x="57175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81" name=""/>
                  <p:cNvSpPr/>
                  <p:nvPr/>
                </p:nvSpPr>
                <p:spPr>
                  <a:xfrm>
                    <a:off x="56862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2" name=""/>
                  <p:cNvSpPr/>
                  <p:nvPr/>
                </p:nvSpPr>
                <p:spPr>
                  <a:xfrm>
                    <a:off x="56988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3" name=""/>
                  <p:cNvSpPr/>
                  <p:nvPr/>
                </p:nvSpPr>
                <p:spPr>
                  <a:xfrm>
                    <a:off x="57034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4" name=""/>
                  <p:cNvSpPr/>
                  <p:nvPr/>
                </p:nvSpPr>
                <p:spPr>
                  <a:xfrm>
                    <a:off x="57812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85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62449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86" name=""/>
            <p:cNvGrpSpPr/>
            <p:nvPr/>
          </p:nvGrpSpPr>
          <p:grpSpPr>
            <a:xfrm>
              <a:off x="6686640" y="1447920"/>
              <a:ext cx="1085760" cy="752400"/>
              <a:chOff x="6686640" y="1447920"/>
              <a:chExt cx="1085760" cy="752400"/>
            </a:xfrm>
          </p:grpSpPr>
          <p:sp>
            <p:nvSpPr>
              <p:cNvPr id="5287" name=""/>
              <p:cNvSpPr/>
              <p:nvPr/>
            </p:nvSpPr>
            <p:spPr>
              <a:xfrm>
                <a:off x="6686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734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289" name=""/>
              <p:cNvGrpSpPr/>
              <p:nvPr/>
            </p:nvGrpSpPr>
            <p:grpSpPr>
              <a:xfrm>
                <a:off x="6759360" y="1503360"/>
                <a:ext cx="821880" cy="488880"/>
                <a:chOff x="6759360" y="1503360"/>
                <a:chExt cx="821880" cy="488880"/>
              </a:xfrm>
            </p:grpSpPr>
            <p:sp>
              <p:nvSpPr>
                <p:cNvPr id="5290" name=""/>
                <p:cNvSpPr/>
                <p:nvPr/>
              </p:nvSpPr>
              <p:spPr>
                <a:xfrm>
                  <a:off x="6901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7187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7121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293" name="pbx" descr=""/>
                <p:cNvPicPr/>
                <p:nvPr/>
              </p:nvPicPr>
              <p:blipFill>
                <a:blip r:embed="rId63"/>
                <a:srcRect l="37594" t="74298" r="28339" b="4834"/>
                <a:stretch/>
              </p:blipFill>
              <p:spPr>
                <a:xfrm>
                  <a:off x="7063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4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7090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95" name=""/>
                <p:cNvGrpSpPr/>
                <p:nvPr/>
              </p:nvGrpSpPr>
              <p:grpSpPr>
                <a:xfrm>
                  <a:off x="6759360" y="1641600"/>
                  <a:ext cx="210960" cy="169920"/>
                  <a:chOff x="6759360" y="1641600"/>
                  <a:chExt cx="210960" cy="169920"/>
                </a:xfrm>
              </p:grpSpPr>
              <p:grpSp>
                <p:nvGrpSpPr>
                  <p:cNvPr id="5296" name=""/>
                  <p:cNvGrpSpPr/>
                  <p:nvPr/>
                </p:nvGrpSpPr>
                <p:grpSpPr>
                  <a:xfrm>
                    <a:off x="6798960" y="1732320"/>
                    <a:ext cx="134280" cy="52200"/>
                    <a:chOff x="6798960" y="1732320"/>
                    <a:chExt cx="134280" cy="52200"/>
                  </a:xfrm>
                </p:grpSpPr>
                <p:grpSp>
                  <p:nvGrpSpPr>
                    <p:cNvPr id="5297" name=""/>
                    <p:cNvGrpSpPr/>
                    <p:nvPr/>
                  </p:nvGrpSpPr>
                  <p:grpSpPr>
                    <a:xfrm>
                      <a:off x="6798960" y="1732320"/>
                      <a:ext cx="134280" cy="52200"/>
                      <a:chOff x="6798960" y="1732320"/>
                      <a:chExt cx="134280" cy="52200"/>
                    </a:xfrm>
                  </p:grpSpPr>
                  <p:grpSp>
                    <p:nvGrpSpPr>
                      <p:cNvPr id="5298" name=""/>
                      <p:cNvGrpSpPr/>
                      <p:nvPr/>
                    </p:nvGrpSpPr>
                    <p:grpSpPr>
                      <a:xfrm>
                        <a:off x="6798960" y="1732320"/>
                        <a:ext cx="134280" cy="52200"/>
                        <a:chOff x="6798960" y="1732320"/>
                        <a:chExt cx="134280" cy="52200"/>
                      </a:xfrm>
                    </p:grpSpPr>
                    <p:grpSp>
                      <p:nvGrpSpPr>
                        <p:cNvPr id="5299" name=""/>
                        <p:cNvGrpSpPr/>
                        <p:nvPr/>
                      </p:nvGrpSpPr>
                      <p:grpSpPr>
                        <a:xfrm>
                          <a:off x="6798960" y="1732320"/>
                          <a:ext cx="134280" cy="52200"/>
                          <a:chOff x="6798960" y="1732320"/>
                          <a:chExt cx="134280" cy="52200"/>
                        </a:xfrm>
                      </p:grpSpPr>
                      <p:grpSp>
                        <p:nvGrpSpPr>
                          <p:cNvPr id="5300" name=""/>
                          <p:cNvGrpSpPr/>
                          <p:nvPr/>
                        </p:nvGrpSpPr>
                        <p:grpSpPr>
                          <a:xfrm>
                            <a:off x="6798960" y="1732320"/>
                            <a:ext cx="134280" cy="52200"/>
                            <a:chOff x="6798960" y="1732320"/>
                            <a:chExt cx="134280" cy="52200"/>
                          </a:xfrm>
                        </p:grpSpPr>
                        <p:sp>
                          <p:nvSpPr>
                            <p:cNvPr id="5301" name=""/>
                            <p:cNvSpPr/>
                            <p:nvPr/>
                          </p:nvSpPr>
                          <p:spPr>
                            <a:xfrm>
                              <a:off x="6798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02" name=""/>
                            <p:cNvSpPr/>
                            <p:nvPr/>
                          </p:nvSpPr>
                          <p:spPr>
                            <a:xfrm>
                              <a:off x="6800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03" name=""/>
                          <p:cNvSpPr/>
                          <p:nvPr/>
                        </p:nvSpPr>
                        <p:spPr>
                          <a:xfrm>
                            <a:off x="6801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04" name=""/>
                        <p:cNvGrpSpPr/>
                        <p:nvPr/>
                      </p:nvGrpSpPr>
                      <p:grpSpPr>
                        <a:xfrm>
                          <a:off x="6804720" y="1775160"/>
                          <a:ext cx="124560" cy="7920"/>
                          <a:chOff x="6804720" y="1775160"/>
                          <a:chExt cx="124560" cy="7920"/>
                        </a:xfrm>
                      </p:grpSpPr>
                      <p:grpSp>
                        <p:nvGrpSpPr>
                          <p:cNvPr id="5305" name=""/>
                          <p:cNvGrpSpPr/>
                          <p:nvPr/>
                        </p:nvGrpSpPr>
                        <p:grpSpPr>
                          <a:xfrm>
                            <a:off x="6804720" y="1775160"/>
                            <a:ext cx="61560" cy="7920"/>
                            <a:chOff x="6804720" y="1775160"/>
                            <a:chExt cx="61560" cy="7920"/>
                          </a:xfrm>
                        </p:grpSpPr>
                        <p:grpSp>
                          <p:nvGrpSpPr>
                            <p:cNvPr id="5306" name=""/>
                            <p:cNvGrpSpPr/>
                            <p:nvPr/>
                          </p:nvGrpSpPr>
                          <p:grpSpPr>
                            <a:xfrm>
                              <a:off x="6804720" y="1775160"/>
                              <a:ext cx="29880" cy="7920"/>
                              <a:chOff x="6804720" y="1775160"/>
                              <a:chExt cx="29880" cy="7920"/>
                            </a:xfrm>
                          </p:grpSpPr>
                          <p:grpSp>
                            <p:nvGrpSpPr>
                              <p:cNvPr id="5307" name=""/>
                              <p:cNvGrpSpPr/>
                              <p:nvPr/>
                            </p:nvGrpSpPr>
                            <p:grpSpPr>
                              <a:xfrm>
                                <a:off x="6804720" y="1775160"/>
                                <a:ext cx="14400" cy="7920"/>
                                <a:chOff x="6804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0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1775160"/>
                                  <a:ext cx="6840" cy="7920"/>
                                  <a:chOff x="6804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1775160"/>
                                    <a:ext cx="2520" cy="7920"/>
                                    <a:chOff x="6804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1775160"/>
                                    <a:ext cx="3960" cy="7920"/>
                                    <a:chOff x="6807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1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1775160"/>
                                  <a:ext cx="6840" cy="7920"/>
                                  <a:chOff x="6812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1775160"/>
                                    <a:ext cx="2520" cy="7920"/>
                                    <a:chOff x="6812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1775160"/>
                                    <a:ext cx="3960" cy="7920"/>
                                    <a:chOff x="6815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22" name=""/>
                              <p:cNvGrpSpPr/>
                              <p:nvPr/>
                            </p:nvGrpSpPr>
                            <p:grpSpPr>
                              <a:xfrm>
                                <a:off x="6820200" y="1775160"/>
                                <a:ext cx="14400" cy="7920"/>
                                <a:chOff x="6820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2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1775160"/>
                                  <a:ext cx="6840" cy="7920"/>
                                  <a:chOff x="6820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1775160"/>
                                    <a:ext cx="2520" cy="7920"/>
                                    <a:chOff x="6820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1775160"/>
                                    <a:ext cx="3960" cy="7920"/>
                                    <a:chOff x="6823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3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1775160"/>
                                  <a:ext cx="6840" cy="7920"/>
                                  <a:chOff x="682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1775160"/>
                                    <a:ext cx="2520" cy="7920"/>
                                    <a:chOff x="6827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1775160"/>
                                    <a:ext cx="3960" cy="7920"/>
                                    <a:chOff x="6830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337" name=""/>
                            <p:cNvGrpSpPr/>
                            <p:nvPr/>
                          </p:nvGrpSpPr>
                          <p:grpSpPr>
                            <a:xfrm>
                              <a:off x="6836040" y="1775160"/>
                              <a:ext cx="30240" cy="7920"/>
                              <a:chOff x="6836040" y="1775160"/>
                              <a:chExt cx="30240" cy="7920"/>
                            </a:xfrm>
                          </p:grpSpPr>
                          <p:grpSp>
                            <p:nvGrpSpPr>
                              <p:cNvPr id="5338" name=""/>
                              <p:cNvGrpSpPr/>
                              <p:nvPr/>
                            </p:nvGrpSpPr>
                            <p:grpSpPr>
                              <a:xfrm>
                                <a:off x="6836040" y="1775160"/>
                                <a:ext cx="14760" cy="7920"/>
                                <a:chOff x="6836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533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1775160"/>
                                  <a:ext cx="7200" cy="7920"/>
                                  <a:chOff x="6836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3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1775160"/>
                                    <a:ext cx="2520" cy="7920"/>
                                    <a:chOff x="6836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1775160"/>
                                    <a:ext cx="2520" cy="7920"/>
                                    <a:chOff x="684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4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1775160"/>
                                  <a:ext cx="6840" cy="7920"/>
                                  <a:chOff x="684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1775160"/>
                                    <a:ext cx="2160" cy="7920"/>
                                    <a:chOff x="6843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1775160"/>
                                    <a:ext cx="2520" cy="7920"/>
                                    <a:chOff x="6848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53" name=""/>
                              <p:cNvGrpSpPr/>
                              <p:nvPr/>
                            </p:nvGrpSpPr>
                            <p:grpSpPr>
                              <a:xfrm>
                                <a:off x="6851880" y="1775160"/>
                                <a:ext cx="14400" cy="7920"/>
                                <a:chOff x="685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5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1775160"/>
                                  <a:ext cx="6840" cy="7920"/>
                                  <a:chOff x="685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1775160"/>
                                    <a:ext cx="2160" cy="7920"/>
                                    <a:chOff x="6851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1775160"/>
                                    <a:ext cx="2520" cy="7920"/>
                                    <a:chOff x="685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6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1775160"/>
                                  <a:ext cx="6840" cy="7920"/>
                                  <a:chOff x="685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1775160"/>
                                    <a:ext cx="2160" cy="7920"/>
                                    <a:chOff x="6859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1775160"/>
                                    <a:ext cx="4320" cy="7920"/>
                                    <a:chOff x="6861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368" name=""/>
                          <p:cNvGrpSpPr/>
                          <p:nvPr/>
                        </p:nvGrpSpPr>
                        <p:grpSpPr>
                          <a:xfrm>
                            <a:off x="6868080" y="1775160"/>
                            <a:ext cx="61200" cy="7920"/>
                            <a:chOff x="6868080" y="1775160"/>
                            <a:chExt cx="61200" cy="7920"/>
                          </a:xfrm>
                        </p:grpSpPr>
                        <p:grpSp>
                          <p:nvGrpSpPr>
                            <p:cNvPr id="5369" name=""/>
                            <p:cNvGrpSpPr/>
                            <p:nvPr/>
                          </p:nvGrpSpPr>
                          <p:grpSpPr>
                            <a:xfrm>
                              <a:off x="6868080" y="1775160"/>
                              <a:ext cx="29880" cy="7920"/>
                              <a:chOff x="6868080" y="1775160"/>
                              <a:chExt cx="29880" cy="7920"/>
                            </a:xfrm>
                          </p:grpSpPr>
                          <p:grpSp>
                            <p:nvGrpSpPr>
                              <p:cNvPr id="5370" name=""/>
                              <p:cNvGrpSpPr/>
                              <p:nvPr/>
                            </p:nvGrpSpPr>
                            <p:grpSpPr>
                              <a:xfrm>
                                <a:off x="6868080" y="1775160"/>
                                <a:ext cx="14400" cy="7920"/>
                                <a:chOff x="6868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7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1775160"/>
                                  <a:ext cx="6840" cy="7920"/>
                                  <a:chOff x="6868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1775160"/>
                                    <a:ext cx="2520" cy="7920"/>
                                    <a:chOff x="6868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1775160"/>
                                    <a:ext cx="3960" cy="7920"/>
                                    <a:chOff x="6870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7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1775160"/>
                                  <a:ext cx="6840" cy="7920"/>
                                  <a:chOff x="6875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1775160"/>
                                    <a:ext cx="2520" cy="7920"/>
                                    <a:chOff x="6875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1775160"/>
                                    <a:ext cx="2520" cy="7920"/>
                                    <a:chOff x="6879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85" name=""/>
                              <p:cNvGrpSpPr/>
                              <p:nvPr/>
                            </p:nvGrpSpPr>
                            <p:grpSpPr>
                              <a:xfrm>
                                <a:off x="6883560" y="1775160"/>
                                <a:ext cx="14400" cy="7920"/>
                                <a:chOff x="6883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8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1775160"/>
                                  <a:ext cx="6840" cy="7920"/>
                                  <a:chOff x="6883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1775160"/>
                                    <a:ext cx="2520" cy="7920"/>
                                    <a:chOff x="6883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1775160"/>
                                    <a:ext cx="2520" cy="7920"/>
                                    <a:chOff x="6887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9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1775160"/>
                                  <a:ext cx="6840" cy="7920"/>
                                  <a:chOff x="6891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1775160"/>
                                    <a:ext cx="2520" cy="7920"/>
                                    <a:chOff x="6891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1775160"/>
                                    <a:ext cx="3960" cy="7920"/>
                                    <a:chOff x="6894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400" name=""/>
                            <p:cNvGrpSpPr/>
                            <p:nvPr/>
                          </p:nvGrpSpPr>
                          <p:grpSpPr>
                            <a:xfrm>
                              <a:off x="6899400" y="1775160"/>
                              <a:ext cx="29880" cy="7920"/>
                              <a:chOff x="6899400" y="1775160"/>
                              <a:chExt cx="29880" cy="7920"/>
                            </a:xfrm>
                          </p:grpSpPr>
                          <p:grpSp>
                            <p:nvGrpSpPr>
                              <p:cNvPr id="5401" name=""/>
                              <p:cNvGrpSpPr/>
                              <p:nvPr/>
                            </p:nvGrpSpPr>
                            <p:grpSpPr>
                              <a:xfrm>
                                <a:off x="6899400" y="1775160"/>
                                <a:ext cx="14400" cy="7920"/>
                                <a:chOff x="6899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0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1775160"/>
                                  <a:ext cx="6840" cy="7920"/>
                                  <a:chOff x="6899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1775160"/>
                                    <a:ext cx="2520" cy="7920"/>
                                    <a:chOff x="6899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1775160"/>
                                    <a:ext cx="2520" cy="7920"/>
                                    <a:chOff x="6903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0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1775160"/>
                                  <a:ext cx="6840" cy="7920"/>
                                  <a:chOff x="6906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1775160"/>
                                    <a:ext cx="2520" cy="7920"/>
                                    <a:chOff x="690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1775160"/>
                                    <a:ext cx="3960" cy="7920"/>
                                    <a:chOff x="6909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416" name=""/>
                              <p:cNvGrpSpPr/>
                              <p:nvPr/>
                            </p:nvGrpSpPr>
                            <p:grpSpPr>
                              <a:xfrm>
                                <a:off x="6914880" y="1775160"/>
                                <a:ext cx="14400" cy="7920"/>
                                <a:chOff x="6914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1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1775160"/>
                                  <a:ext cx="6840" cy="7920"/>
                                  <a:chOff x="6914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1775160"/>
                                    <a:ext cx="2520" cy="7920"/>
                                    <a:chOff x="691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1775160"/>
                                    <a:ext cx="2520" cy="7920"/>
                                    <a:chOff x="6919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2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1775160"/>
                                  <a:ext cx="6840" cy="7920"/>
                                  <a:chOff x="6922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1775160"/>
                                    <a:ext cx="2520" cy="7920"/>
                                    <a:chOff x="6922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1775160"/>
                                    <a:ext cx="2520" cy="7920"/>
                                    <a:chOff x="6926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431" name=""/>
                      <p:cNvGrpSpPr/>
                      <p:nvPr/>
                    </p:nvGrpSpPr>
                    <p:grpSpPr>
                      <a:xfrm>
                        <a:off x="6801480" y="1746360"/>
                        <a:ext cx="128160" cy="22320"/>
                        <a:chOff x="6801480" y="1746360"/>
                        <a:chExt cx="128160" cy="22320"/>
                      </a:xfrm>
                    </p:grpSpPr>
                    <p:sp>
                      <p:nvSpPr>
                        <p:cNvPr id="5432" name=""/>
                        <p:cNvSpPr/>
                        <p:nvPr/>
                      </p:nvSpPr>
                      <p:spPr>
                        <a:xfrm>
                          <a:off x="6801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3" name=""/>
                        <p:cNvSpPr/>
                        <p:nvPr/>
                      </p:nvSpPr>
                      <p:spPr>
                        <a:xfrm>
                          <a:off x="6829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4" name=""/>
                        <p:cNvSpPr/>
                        <p:nvPr/>
                      </p:nvSpPr>
                      <p:spPr>
                        <a:xfrm>
                          <a:off x="6869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5" name=""/>
                        <p:cNvSpPr/>
                        <p:nvPr/>
                      </p:nvSpPr>
                      <p:spPr>
                        <a:xfrm>
                          <a:off x="6910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6" name=""/>
                    <p:cNvGrpSpPr/>
                    <p:nvPr/>
                  </p:nvGrpSpPr>
                  <p:grpSpPr>
                    <a:xfrm>
                      <a:off x="6914520" y="1749600"/>
                      <a:ext cx="11880" cy="11160"/>
                      <a:chOff x="6914520" y="1749600"/>
                      <a:chExt cx="11880" cy="11160"/>
                    </a:xfrm>
                  </p:grpSpPr>
                  <p:sp>
                    <p:nvSpPr>
                      <p:cNvPr id="5437" name=""/>
                      <p:cNvSpPr/>
                      <p:nvPr/>
                    </p:nvSpPr>
                    <p:spPr>
                      <a:xfrm>
                        <a:off x="6918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8" name=""/>
                      <p:cNvSpPr/>
                      <p:nvPr/>
                    </p:nvSpPr>
                    <p:spPr>
                      <a:xfrm>
                        <a:off x="6920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39" name=""/>
                      <p:cNvGrpSpPr/>
                      <p:nvPr/>
                    </p:nvGrpSpPr>
                    <p:grpSpPr>
                      <a:xfrm>
                        <a:off x="6914520" y="1751400"/>
                        <a:ext cx="2520" cy="6120"/>
                        <a:chOff x="6914520" y="1751400"/>
                        <a:chExt cx="2520" cy="6120"/>
                      </a:xfrm>
                    </p:grpSpPr>
                    <p:sp>
                      <p:nvSpPr>
                        <p:cNvPr id="5440" name=""/>
                        <p:cNvSpPr/>
                        <p:nvPr/>
                      </p:nvSpPr>
                      <p:spPr>
                        <a:xfrm>
                          <a:off x="6914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1" name=""/>
                        <p:cNvSpPr/>
                        <p:nvPr/>
                      </p:nvSpPr>
                      <p:spPr>
                        <a:xfrm>
                          <a:off x="6914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42" name=""/>
                    <p:cNvGrpSpPr/>
                    <p:nvPr/>
                  </p:nvGrpSpPr>
                  <p:grpSpPr>
                    <a:xfrm>
                      <a:off x="6831720" y="1749600"/>
                      <a:ext cx="36000" cy="14400"/>
                      <a:chOff x="6831720" y="1749600"/>
                      <a:chExt cx="36000" cy="14400"/>
                    </a:xfrm>
                  </p:grpSpPr>
                  <p:grpSp>
                    <p:nvGrpSpPr>
                      <p:cNvPr id="5443" name=""/>
                      <p:cNvGrpSpPr/>
                      <p:nvPr/>
                    </p:nvGrpSpPr>
                    <p:grpSpPr>
                      <a:xfrm>
                        <a:off x="6833160" y="1749600"/>
                        <a:ext cx="34560" cy="7920"/>
                        <a:chOff x="6833160" y="1749600"/>
                        <a:chExt cx="34560" cy="7920"/>
                      </a:xfrm>
                    </p:grpSpPr>
                    <p:sp>
                      <p:nvSpPr>
                        <p:cNvPr id="5444" name=""/>
                        <p:cNvSpPr/>
                        <p:nvPr/>
                      </p:nvSpPr>
                      <p:spPr>
                        <a:xfrm>
                          <a:off x="6842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5" name=""/>
                        <p:cNvSpPr/>
                        <p:nvPr/>
                      </p:nvSpPr>
                      <p:spPr>
                        <a:xfrm>
                          <a:off x="6842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6" name=""/>
                        <p:cNvSpPr/>
                        <p:nvPr/>
                      </p:nvSpPr>
                      <p:spPr>
                        <a:xfrm>
                          <a:off x="6833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47" name=""/>
                      <p:cNvSpPr/>
                      <p:nvPr/>
                    </p:nvSpPr>
                    <p:spPr>
                      <a:xfrm>
                        <a:off x="6831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8" name=""/>
                      <p:cNvSpPr/>
                      <p:nvPr/>
                    </p:nvSpPr>
                    <p:spPr>
                      <a:xfrm>
                        <a:off x="6860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49" name=""/>
                    <p:cNvGrpSpPr/>
                    <p:nvPr/>
                  </p:nvGrpSpPr>
                  <p:grpSpPr>
                    <a:xfrm>
                      <a:off x="6804720" y="1762560"/>
                      <a:ext cx="21960" cy="4680"/>
                      <a:chOff x="6804720" y="1762560"/>
                      <a:chExt cx="21960" cy="4680"/>
                    </a:xfrm>
                  </p:grpSpPr>
                  <p:grpSp>
                    <p:nvGrpSpPr>
                      <p:cNvPr id="5450" name=""/>
                      <p:cNvGrpSpPr/>
                      <p:nvPr/>
                    </p:nvGrpSpPr>
                    <p:grpSpPr>
                      <a:xfrm>
                        <a:off x="6804720" y="1762560"/>
                        <a:ext cx="11520" cy="4680"/>
                        <a:chOff x="6804720" y="1762560"/>
                        <a:chExt cx="11520" cy="4680"/>
                      </a:xfrm>
                    </p:grpSpPr>
                    <p:grpSp>
                      <p:nvGrpSpPr>
                        <p:cNvPr id="5451" name=""/>
                        <p:cNvGrpSpPr/>
                        <p:nvPr/>
                      </p:nvGrpSpPr>
                      <p:grpSpPr>
                        <a:xfrm>
                          <a:off x="6804720" y="1762560"/>
                          <a:ext cx="5400" cy="4680"/>
                          <a:chOff x="6804720" y="1762560"/>
                          <a:chExt cx="5400" cy="4680"/>
                        </a:xfrm>
                      </p:grpSpPr>
                      <p:grpSp>
                        <p:nvGrpSpPr>
                          <p:cNvPr id="5452" name=""/>
                          <p:cNvGrpSpPr/>
                          <p:nvPr/>
                        </p:nvGrpSpPr>
                        <p:grpSpPr>
                          <a:xfrm>
                            <a:off x="6804720" y="1762560"/>
                            <a:ext cx="2520" cy="4680"/>
                            <a:chOff x="6804720" y="1762560"/>
                            <a:chExt cx="2520" cy="4680"/>
                          </a:xfrm>
                        </p:grpSpPr>
                        <p:sp>
                          <p:nvSpPr>
                            <p:cNvPr id="5453" name=""/>
                            <p:cNvSpPr/>
                            <p:nvPr/>
                          </p:nvSpPr>
                          <p:spPr>
                            <a:xfrm>
                              <a:off x="6804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4" name=""/>
                            <p:cNvSpPr/>
                            <p:nvPr/>
                          </p:nvSpPr>
                          <p:spPr>
                            <a:xfrm>
                              <a:off x="6806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5" name=""/>
                          <p:cNvGrpSpPr/>
                          <p:nvPr/>
                        </p:nvGrpSpPr>
                        <p:grpSpPr>
                          <a:xfrm>
                            <a:off x="6807600" y="1762560"/>
                            <a:ext cx="2520" cy="4680"/>
                            <a:chOff x="6807600" y="1762560"/>
                            <a:chExt cx="2520" cy="4680"/>
                          </a:xfrm>
                        </p:grpSpPr>
                        <p:sp>
                          <p:nvSpPr>
                            <p:cNvPr id="5456" name=""/>
                            <p:cNvSpPr/>
                            <p:nvPr/>
                          </p:nvSpPr>
                          <p:spPr>
                            <a:xfrm>
                              <a:off x="6807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7" name=""/>
                            <p:cNvSpPr/>
                            <p:nvPr/>
                          </p:nvSpPr>
                          <p:spPr>
                            <a:xfrm>
                              <a:off x="6809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58" name=""/>
                        <p:cNvGrpSpPr/>
                        <p:nvPr/>
                      </p:nvGrpSpPr>
                      <p:grpSpPr>
                        <a:xfrm>
                          <a:off x="6810840" y="1762560"/>
                          <a:ext cx="5400" cy="4680"/>
                          <a:chOff x="6810840" y="1762560"/>
                          <a:chExt cx="5400" cy="4680"/>
                        </a:xfrm>
                      </p:grpSpPr>
                      <p:grpSp>
                        <p:nvGrpSpPr>
                          <p:cNvPr id="5459" name=""/>
                          <p:cNvGrpSpPr/>
                          <p:nvPr/>
                        </p:nvGrpSpPr>
                        <p:grpSpPr>
                          <a:xfrm>
                            <a:off x="6810840" y="1762560"/>
                            <a:ext cx="2520" cy="4680"/>
                            <a:chOff x="6810840" y="1762560"/>
                            <a:chExt cx="2520" cy="4680"/>
                          </a:xfrm>
                        </p:grpSpPr>
                        <p:sp>
                          <p:nvSpPr>
                            <p:cNvPr id="5460" name=""/>
                            <p:cNvSpPr/>
                            <p:nvPr/>
                          </p:nvSpPr>
                          <p:spPr>
                            <a:xfrm>
                              <a:off x="6810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1" name=""/>
                            <p:cNvSpPr/>
                            <p:nvPr/>
                          </p:nvSpPr>
                          <p:spPr>
                            <a:xfrm>
                              <a:off x="6811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62" name=""/>
                          <p:cNvGrpSpPr/>
                          <p:nvPr/>
                        </p:nvGrpSpPr>
                        <p:grpSpPr>
                          <a:xfrm>
                            <a:off x="6813720" y="1762560"/>
                            <a:ext cx="2520" cy="4680"/>
                            <a:chOff x="6813720" y="1762560"/>
                            <a:chExt cx="2520" cy="4680"/>
                          </a:xfrm>
                        </p:grpSpPr>
                        <p:sp>
                          <p:nvSpPr>
                            <p:cNvPr id="5463" name=""/>
                            <p:cNvSpPr/>
                            <p:nvPr/>
                          </p:nvSpPr>
                          <p:spPr>
                            <a:xfrm>
                              <a:off x="6813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4" name=""/>
                            <p:cNvSpPr/>
                            <p:nvPr/>
                          </p:nvSpPr>
                          <p:spPr>
                            <a:xfrm>
                              <a:off x="6814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65" name=""/>
                      <p:cNvGrpSpPr/>
                      <p:nvPr/>
                    </p:nvGrpSpPr>
                    <p:grpSpPr>
                      <a:xfrm>
                        <a:off x="6817320" y="1762560"/>
                        <a:ext cx="9360" cy="4680"/>
                        <a:chOff x="6817320" y="1762560"/>
                        <a:chExt cx="9360" cy="4680"/>
                      </a:xfrm>
                    </p:grpSpPr>
                    <p:grpSp>
                      <p:nvGrpSpPr>
                        <p:cNvPr id="5466" name=""/>
                        <p:cNvGrpSpPr/>
                        <p:nvPr/>
                      </p:nvGrpSpPr>
                      <p:grpSpPr>
                        <a:xfrm>
                          <a:off x="6817320" y="1762560"/>
                          <a:ext cx="5040" cy="4680"/>
                          <a:chOff x="6817320" y="1762560"/>
                          <a:chExt cx="5040" cy="4680"/>
                        </a:xfrm>
                      </p:grpSpPr>
                      <p:grpSp>
                        <p:nvGrpSpPr>
                          <p:cNvPr id="5467" name=""/>
                          <p:cNvGrpSpPr/>
                          <p:nvPr/>
                        </p:nvGrpSpPr>
                        <p:grpSpPr>
                          <a:xfrm>
                            <a:off x="6817320" y="1762560"/>
                            <a:ext cx="2160" cy="4680"/>
                            <a:chOff x="6817320" y="1762560"/>
                            <a:chExt cx="2160" cy="4680"/>
                          </a:xfrm>
                        </p:grpSpPr>
                        <p:sp>
                          <p:nvSpPr>
                            <p:cNvPr id="5468" name=""/>
                            <p:cNvSpPr/>
                            <p:nvPr/>
                          </p:nvSpPr>
                          <p:spPr>
                            <a:xfrm>
                              <a:off x="6817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9" name=""/>
                            <p:cNvSpPr/>
                            <p:nvPr/>
                          </p:nvSpPr>
                          <p:spPr>
                            <a:xfrm>
                              <a:off x="6818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0" name=""/>
                          <p:cNvGrpSpPr/>
                          <p:nvPr/>
                        </p:nvGrpSpPr>
                        <p:grpSpPr>
                          <a:xfrm>
                            <a:off x="6819840" y="1762560"/>
                            <a:ext cx="2520" cy="4680"/>
                            <a:chOff x="6819840" y="1762560"/>
                            <a:chExt cx="2520" cy="4680"/>
                          </a:xfrm>
                        </p:grpSpPr>
                        <p:sp>
                          <p:nvSpPr>
                            <p:cNvPr id="5471" name=""/>
                            <p:cNvSpPr/>
                            <p:nvPr/>
                          </p:nvSpPr>
                          <p:spPr>
                            <a:xfrm>
                              <a:off x="6819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2" name=""/>
                            <p:cNvSpPr/>
                            <p:nvPr/>
                          </p:nvSpPr>
                          <p:spPr>
                            <a:xfrm>
                              <a:off x="6821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73" name=""/>
                        <p:cNvGrpSpPr/>
                        <p:nvPr/>
                      </p:nvGrpSpPr>
                      <p:grpSpPr>
                        <a:xfrm>
                          <a:off x="6823080" y="1762560"/>
                          <a:ext cx="3600" cy="4680"/>
                          <a:chOff x="6823080" y="1762560"/>
                          <a:chExt cx="3600" cy="4680"/>
                        </a:xfrm>
                      </p:grpSpPr>
                      <p:grpSp>
                        <p:nvGrpSpPr>
                          <p:cNvPr id="5474" name=""/>
                          <p:cNvGrpSpPr/>
                          <p:nvPr/>
                        </p:nvGrpSpPr>
                        <p:grpSpPr>
                          <a:xfrm>
                            <a:off x="6823080" y="1762560"/>
                            <a:ext cx="1440" cy="4680"/>
                            <a:chOff x="6823080" y="1762560"/>
                            <a:chExt cx="1440" cy="4680"/>
                          </a:xfrm>
                        </p:grpSpPr>
                        <p:sp>
                          <p:nvSpPr>
                            <p:cNvPr id="5475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6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7" name=""/>
                          <p:cNvGrpSpPr/>
                          <p:nvPr/>
                        </p:nvGrpSpPr>
                        <p:grpSpPr>
                          <a:xfrm>
                            <a:off x="6824520" y="1762560"/>
                            <a:ext cx="2160" cy="4680"/>
                            <a:chOff x="6824520" y="1762560"/>
                            <a:chExt cx="2160" cy="4680"/>
                          </a:xfrm>
                        </p:grpSpPr>
                        <p:sp>
                          <p:nvSpPr>
                            <p:cNvPr id="5478" name=""/>
                            <p:cNvSpPr/>
                            <p:nvPr/>
                          </p:nvSpPr>
                          <p:spPr>
                            <a:xfrm>
                              <a:off x="6824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9" name=""/>
                            <p:cNvSpPr/>
                            <p:nvPr/>
                          </p:nvSpPr>
                          <p:spPr>
                            <a:xfrm>
                              <a:off x="6825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480" name=""/>
                    <p:cNvSpPr/>
                    <p:nvPr/>
                  </p:nvSpPr>
                  <p:spPr>
                    <a:xfrm>
                      <a:off x="6803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1" name=""/>
                  <p:cNvGrpSpPr/>
                  <p:nvPr/>
                </p:nvGrpSpPr>
                <p:grpSpPr>
                  <a:xfrm>
                    <a:off x="6759360" y="1781640"/>
                    <a:ext cx="210960" cy="29880"/>
                    <a:chOff x="6759360" y="1781640"/>
                    <a:chExt cx="210960" cy="29880"/>
                  </a:xfrm>
                </p:grpSpPr>
                <p:grpSp>
                  <p:nvGrpSpPr>
                    <p:cNvPr id="5482" name=""/>
                    <p:cNvGrpSpPr/>
                    <p:nvPr/>
                  </p:nvGrpSpPr>
                  <p:grpSpPr>
                    <a:xfrm>
                      <a:off x="6759360" y="1781640"/>
                      <a:ext cx="210960" cy="29880"/>
                      <a:chOff x="6759360" y="1781640"/>
                      <a:chExt cx="210960" cy="29880"/>
                    </a:xfrm>
                  </p:grpSpPr>
                  <p:sp>
                    <p:nvSpPr>
                      <p:cNvPr id="5483" name=""/>
                      <p:cNvSpPr/>
                      <p:nvPr/>
                    </p:nvSpPr>
                    <p:spPr>
                      <a:xfrm>
                        <a:off x="6759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4" name=""/>
                      <p:cNvSpPr/>
                      <p:nvPr/>
                    </p:nvSpPr>
                    <p:spPr>
                      <a:xfrm>
                        <a:off x="6759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5" name=""/>
                      <p:cNvSpPr/>
                      <p:nvPr/>
                    </p:nvSpPr>
                    <p:spPr>
                      <a:xfrm>
                        <a:off x="6765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6" name=""/>
                    <p:cNvGrpSpPr/>
                    <p:nvPr/>
                  </p:nvGrpSpPr>
                  <p:grpSpPr>
                    <a:xfrm>
                      <a:off x="6781320" y="1784520"/>
                      <a:ext cx="165960" cy="5040"/>
                      <a:chOff x="6781320" y="1784520"/>
                      <a:chExt cx="165960" cy="5040"/>
                    </a:xfrm>
                  </p:grpSpPr>
                  <p:sp>
                    <p:nvSpPr>
                      <p:cNvPr id="5487" name=""/>
                      <p:cNvSpPr/>
                      <p:nvPr/>
                    </p:nvSpPr>
                    <p:spPr>
                      <a:xfrm>
                        <a:off x="6781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8" name=""/>
                      <p:cNvSpPr/>
                      <p:nvPr/>
                    </p:nvSpPr>
                    <p:spPr>
                      <a:xfrm>
                        <a:off x="6798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9" name=""/>
                      <p:cNvSpPr/>
                      <p:nvPr/>
                    </p:nvSpPr>
                    <p:spPr>
                      <a:xfrm>
                        <a:off x="6831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0" name=""/>
                      <p:cNvSpPr/>
                      <p:nvPr/>
                    </p:nvSpPr>
                    <p:spPr>
                      <a:xfrm>
                        <a:off x="6861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1" name=""/>
                      <p:cNvSpPr/>
                      <p:nvPr/>
                    </p:nvSpPr>
                    <p:spPr>
                      <a:xfrm>
                        <a:off x="6892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2" name=""/>
                      <p:cNvSpPr/>
                      <p:nvPr/>
                    </p:nvSpPr>
                    <p:spPr>
                      <a:xfrm>
                        <a:off x="6920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93" name=""/>
                    <p:cNvGrpSpPr/>
                    <p:nvPr/>
                  </p:nvGrpSpPr>
                  <p:grpSpPr>
                    <a:xfrm>
                      <a:off x="6775200" y="1791000"/>
                      <a:ext cx="174960" cy="11160"/>
                      <a:chOff x="6775200" y="1791000"/>
                      <a:chExt cx="174960" cy="11160"/>
                    </a:xfrm>
                  </p:grpSpPr>
                  <p:grpSp>
                    <p:nvGrpSpPr>
                      <p:cNvPr id="5494" name=""/>
                      <p:cNvGrpSpPr/>
                      <p:nvPr/>
                    </p:nvGrpSpPr>
                    <p:grpSpPr>
                      <a:xfrm>
                        <a:off x="6790680" y="1791000"/>
                        <a:ext cx="84960" cy="9360"/>
                        <a:chOff x="6790680" y="1791000"/>
                        <a:chExt cx="84960" cy="9360"/>
                      </a:xfrm>
                    </p:grpSpPr>
                    <p:sp>
                      <p:nvSpPr>
                        <p:cNvPr id="5495" name=""/>
                        <p:cNvSpPr/>
                        <p:nvPr/>
                      </p:nvSpPr>
                      <p:spPr>
                        <a:xfrm>
                          <a:off x="6790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6" name=""/>
                        <p:cNvSpPr/>
                        <p:nvPr/>
                      </p:nvSpPr>
                      <p:spPr>
                        <a:xfrm>
                          <a:off x="6793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7" name=""/>
                        <p:cNvSpPr/>
                        <p:nvPr/>
                      </p:nvSpPr>
                      <p:spPr>
                        <a:xfrm>
                          <a:off x="6795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8" name=""/>
                        <p:cNvSpPr/>
                        <p:nvPr/>
                      </p:nvSpPr>
                      <p:spPr>
                        <a:xfrm>
                          <a:off x="6796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99" name=""/>
                      <p:cNvGrpSpPr/>
                      <p:nvPr/>
                    </p:nvGrpSpPr>
                    <p:grpSpPr>
                      <a:xfrm>
                        <a:off x="6775200" y="1792440"/>
                        <a:ext cx="15480" cy="6480"/>
                        <a:chOff x="6775200" y="1792440"/>
                        <a:chExt cx="15480" cy="6480"/>
                      </a:xfrm>
                    </p:grpSpPr>
                    <p:sp>
                      <p:nvSpPr>
                        <p:cNvPr id="5500" name=""/>
                        <p:cNvSpPr/>
                        <p:nvPr/>
                      </p:nvSpPr>
                      <p:spPr>
                        <a:xfrm>
                          <a:off x="6779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1" name=""/>
                        <p:cNvSpPr/>
                        <p:nvPr/>
                      </p:nvSpPr>
                      <p:spPr>
                        <a:xfrm>
                          <a:off x="6777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2" name=""/>
                        <p:cNvSpPr/>
                        <p:nvPr/>
                      </p:nvSpPr>
                      <p:spPr>
                        <a:xfrm>
                          <a:off x="6775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03" name=""/>
                      <p:cNvGrpSpPr/>
                      <p:nvPr/>
                    </p:nvGrpSpPr>
                    <p:grpSpPr>
                      <a:xfrm>
                        <a:off x="6809760" y="1791000"/>
                        <a:ext cx="78480" cy="9360"/>
                        <a:chOff x="6809760" y="1791000"/>
                        <a:chExt cx="78480" cy="9360"/>
                      </a:xfrm>
                    </p:grpSpPr>
                    <p:sp>
                      <p:nvSpPr>
                        <p:cNvPr id="5504" name=""/>
                        <p:cNvSpPr/>
                        <p:nvPr/>
                      </p:nvSpPr>
                      <p:spPr>
                        <a:xfrm>
                          <a:off x="6809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5" name=""/>
                        <p:cNvSpPr/>
                        <p:nvPr/>
                      </p:nvSpPr>
                      <p:spPr>
                        <a:xfrm>
                          <a:off x="6876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6" name=""/>
                        <p:cNvSpPr/>
                        <p:nvPr/>
                      </p:nvSpPr>
                      <p:spPr>
                        <a:xfrm>
                          <a:off x="6879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7" name=""/>
                        <p:cNvSpPr/>
                        <p:nvPr/>
                      </p:nvSpPr>
                      <p:spPr>
                        <a:xfrm>
                          <a:off x="6872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8" name=""/>
                        <p:cNvSpPr/>
                        <p:nvPr/>
                      </p:nvSpPr>
                      <p:spPr>
                        <a:xfrm>
                          <a:off x="6860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9" name=""/>
                        <p:cNvSpPr/>
                        <p:nvPr/>
                      </p:nvSpPr>
                      <p:spPr>
                        <a:xfrm>
                          <a:off x="6869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0" name=""/>
                      <p:cNvGrpSpPr/>
                      <p:nvPr/>
                    </p:nvGrpSpPr>
                    <p:grpSpPr>
                      <a:xfrm>
                        <a:off x="6892200" y="1792440"/>
                        <a:ext cx="24480" cy="7920"/>
                        <a:chOff x="6892200" y="1792440"/>
                        <a:chExt cx="24480" cy="7920"/>
                      </a:xfrm>
                    </p:grpSpPr>
                    <p:sp>
                      <p:nvSpPr>
                        <p:cNvPr id="5511" name=""/>
                        <p:cNvSpPr/>
                        <p:nvPr/>
                      </p:nvSpPr>
                      <p:spPr>
                        <a:xfrm>
                          <a:off x="6892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2" name=""/>
                        <p:cNvSpPr/>
                        <p:nvPr/>
                      </p:nvSpPr>
                      <p:spPr>
                        <a:xfrm>
                          <a:off x="6895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3" name=""/>
                        <p:cNvSpPr/>
                        <p:nvPr/>
                      </p:nvSpPr>
                      <p:spPr>
                        <a:xfrm>
                          <a:off x="6895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4" name=""/>
                      <p:cNvGrpSpPr/>
                      <p:nvPr/>
                    </p:nvGrpSpPr>
                    <p:grpSpPr>
                      <a:xfrm>
                        <a:off x="6920640" y="1792440"/>
                        <a:ext cx="29520" cy="9720"/>
                        <a:chOff x="6920640" y="1792440"/>
                        <a:chExt cx="29520" cy="9720"/>
                      </a:xfrm>
                    </p:grpSpPr>
                    <p:sp>
                      <p:nvSpPr>
                        <p:cNvPr id="5515" name=""/>
                        <p:cNvSpPr/>
                        <p:nvPr/>
                      </p:nvSpPr>
                      <p:spPr>
                        <a:xfrm>
                          <a:off x="6923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6" name=""/>
                        <p:cNvSpPr/>
                        <p:nvPr/>
                      </p:nvSpPr>
                      <p:spPr>
                        <a:xfrm>
                          <a:off x="6920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7" name=""/>
                        <p:cNvSpPr/>
                        <p:nvPr/>
                      </p:nvSpPr>
                      <p:spPr>
                        <a:xfrm>
                          <a:off x="6923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8" name=""/>
                        <p:cNvSpPr/>
                        <p:nvPr/>
                      </p:nvSpPr>
                      <p:spPr>
                        <a:xfrm>
                          <a:off x="6922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9" name=""/>
                        <p:cNvSpPr/>
                        <p:nvPr/>
                      </p:nvSpPr>
                      <p:spPr>
                        <a:xfrm>
                          <a:off x="6942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0" name=""/>
                        <p:cNvSpPr/>
                        <p:nvPr/>
                      </p:nvSpPr>
                      <p:spPr>
                        <a:xfrm>
                          <a:off x="6944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521" name=""/>
                  <p:cNvGrpSpPr/>
                  <p:nvPr/>
                </p:nvGrpSpPr>
                <p:grpSpPr>
                  <a:xfrm>
                    <a:off x="6820920" y="1722600"/>
                    <a:ext cx="91800" cy="19080"/>
                    <a:chOff x="6820920" y="1722600"/>
                    <a:chExt cx="91800" cy="19080"/>
                  </a:xfrm>
                </p:grpSpPr>
                <p:grpSp>
                  <p:nvGrpSpPr>
                    <p:cNvPr id="5522" name=""/>
                    <p:cNvGrpSpPr/>
                    <p:nvPr/>
                  </p:nvGrpSpPr>
                  <p:grpSpPr>
                    <a:xfrm>
                      <a:off x="6820920" y="1727640"/>
                      <a:ext cx="91800" cy="14040"/>
                      <a:chOff x="6820920" y="1727640"/>
                      <a:chExt cx="91800" cy="14040"/>
                    </a:xfrm>
                  </p:grpSpPr>
                  <p:sp>
                    <p:nvSpPr>
                      <p:cNvPr id="5523" name=""/>
                      <p:cNvSpPr/>
                      <p:nvPr/>
                    </p:nvSpPr>
                    <p:spPr>
                      <a:xfrm>
                        <a:off x="6820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24" name=""/>
                      <p:cNvSpPr/>
                      <p:nvPr/>
                    </p:nvSpPr>
                    <p:spPr>
                      <a:xfrm>
                        <a:off x="6820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6841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26" name=""/>
                  <p:cNvSpPr/>
                  <p:nvPr/>
                </p:nvSpPr>
                <p:spPr>
                  <a:xfrm>
                    <a:off x="6810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>
                    <a:off x="6822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"/>
                  <p:cNvSpPr/>
                  <p:nvPr/>
                </p:nvSpPr>
                <p:spPr>
                  <a:xfrm>
                    <a:off x="6827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"/>
                  <p:cNvSpPr/>
                  <p:nvPr/>
                </p:nvSpPr>
                <p:spPr>
                  <a:xfrm>
                    <a:off x="6905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530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7368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531" name=""/>
            <p:cNvGrpSpPr/>
            <p:nvPr/>
          </p:nvGrpSpPr>
          <p:grpSpPr>
            <a:xfrm>
              <a:off x="7905600" y="5638680"/>
              <a:ext cx="1086120" cy="752400"/>
              <a:chOff x="7905600" y="5638680"/>
              <a:chExt cx="1086120" cy="752400"/>
            </a:xfrm>
          </p:grpSpPr>
          <p:sp>
            <p:nvSpPr>
              <p:cNvPr id="5532" name=""/>
              <p:cNvSpPr/>
              <p:nvPr/>
            </p:nvSpPr>
            <p:spPr>
              <a:xfrm>
                <a:off x="79056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9534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6 Xico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534" name=""/>
              <p:cNvGrpSpPr/>
              <p:nvPr/>
            </p:nvGrpSpPr>
            <p:grpSpPr>
              <a:xfrm>
                <a:off x="7978680" y="5694120"/>
                <a:ext cx="822600" cy="488880"/>
                <a:chOff x="7978680" y="5694120"/>
                <a:chExt cx="822600" cy="488880"/>
              </a:xfrm>
            </p:grpSpPr>
            <p:sp>
              <p:nvSpPr>
                <p:cNvPr id="5535" name=""/>
                <p:cNvSpPr/>
                <p:nvPr/>
              </p:nvSpPr>
              <p:spPr>
                <a:xfrm>
                  <a:off x="81216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84074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83408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538" name="pbx" descr=""/>
                <p:cNvPicPr/>
                <p:nvPr/>
              </p:nvPicPr>
              <p:blipFill>
                <a:blip r:embed="rId66"/>
                <a:srcRect l="37594" t="74298" r="28339" b="4834"/>
                <a:stretch/>
              </p:blipFill>
              <p:spPr>
                <a:xfrm>
                  <a:off x="82836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9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06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40" name=""/>
                <p:cNvGrpSpPr/>
                <p:nvPr/>
              </p:nvGrpSpPr>
              <p:grpSpPr>
                <a:xfrm>
                  <a:off x="7978680" y="5832360"/>
                  <a:ext cx="211320" cy="169920"/>
                  <a:chOff x="7978680" y="5832360"/>
                  <a:chExt cx="211320" cy="169920"/>
                </a:xfrm>
              </p:grpSpPr>
              <p:grpSp>
                <p:nvGrpSpPr>
                  <p:cNvPr id="5541" name=""/>
                  <p:cNvGrpSpPr/>
                  <p:nvPr/>
                </p:nvGrpSpPr>
                <p:grpSpPr>
                  <a:xfrm>
                    <a:off x="8018640" y="5923080"/>
                    <a:ext cx="134640" cy="52200"/>
                    <a:chOff x="8018640" y="5923080"/>
                    <a:chExt cx="134640" cy="52200"/>
                  </a:xfrm>
                </p:grpSpPr>
                <p:grpSp>
                  <p:nvGrpSpPr>
                    <p:cNvPr id="5542" name=""/>
                    <p:cNvGrpSpPr/>
                    <p:nvPr/>
                  </p:nvGrpSpPr>
                  <p:grpSpPr>
                    <a:xfrm>
                      <a:off x="8018640" y="5923080"/>
                      <a:ext cx="134640" cy="52200"/>
                      <a:chOff x="8018640" y="5923080"/>
                      <a:chExt cx="134640" cy="52200"/>
                    </a:xfrm>
                  </p:grpSpPr>
                  <p:grpSp>
                    <p:nvGrpSpPr>
                      <p:cNvPr id="5543" name=""/>
                      <p:cNvGrpSpPr/>
                      <p:nvPr/>
                    </p:nvGrpSpPr>
                    <p:grpSpPr>
                      <a:xfrm>
                        <a:off x="8018640" y="5923080"/>
                        <a:ext cx="134640" cy="52200"/>
                        <a:chOff x="8018640" y="5923080"/>
                        <a:chExt cx="134640" cy="52200"/>
                      </a:xfrm>
                    </p:grpSpPr>
                    <p:grpSp>
                      <p:nvGrpSpPr>
                        <p:cNvPr id="5544" name=""/>
                        <p:cNvGrpSpPr/>
                        <p:nvPr/>
                      </p:nvGrpSpPr>
                      <p:grpSpPr>
                        <a:xfrm>
                          <a:off x="8018640" y="5923080"/>
                          <a:ext cx="134640" cy="52200"/>
                          <a:chOff x="8018640" y="5923080"/>
                          <a:chExt cx="134640" cy="52200"/>
                        </a:xfrm>
                      </p:grpSpPr>
                      <p:grpSp>
                        <p:nvGrpSpPr>
                          <p:cNvPr id="5545" name=""/>
                          <p:cNvGrpSpPr/>
                          <p:nvPr/>
                        </p:nvGrpSpPr>
                        <p:grpSpPr>
                          <a:xfrm>
                            <a:off x="8018640" y="5923080"/>
                            <a:ext cx="134640" cy="52200"/>
                            <a:chOff x="8018640" y="5923080"/>
                            <a:chExt cx="134640" cy="52200"/>
                          </a:xfrm>
                        </p:grpSpPr>
                        <p:sp>
                          <p:nvSpPr>
                            <p:cNvPr id="5546" name=""/>
                            <p:cNvSpPr/>
                            <p:nvPr/>
                          </p:nvSpPr>
                          <p:spPr>
                            <a:xfrm>
                              <a:off x="80186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47" name=""/>
                            <p:cNvSpPr/>
                            <p:nvPr/>
                          </p:nvSpPr>
                          <p:spPr>
                            <a:xfrm>
                              <a:off x="80200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48" name=""/>
                          <p:cNvSpPr/>
                          <p:nvPr/>
                        </p:nvSpPr>
                        <p:spPr>
                          <a:xfrm>
                            <a:off x="80215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49" name=""/>
                        <p:cNvGrpSpPr/>
                        <p:nvPr/>
                      </p:nvGrpSpPr>
                      <p:grpSpPr>
                        <a:xfrm>
                          <a:off x="8024760" y="5965920"/>
                          <a:ext cx="127080" cy="7920"/>
                          <a:chOff x="8024760" y="5965920"/>
                          <a:chExt cx="127080" cy="7920"/>
                        </a:xfrm>
                      </p:grpSpPr>
                      <p:grpSp>
                        <p:nvGrpSpPr>
                          <p:cNvPr id="5550" name=""/>
                          <p:cNvGrpSpPr/>
                          <p:nvPr/>
                        </p:nvGrpSpPr>
                        <p:grpSpPr>
                          <a:xfrm>
                            <a:off x="8024760" y="5965920"/>
                            <a:ext cx="63720" cy="7920"/>
                            <a:chOff x="8024760" y="5965920"/>
                            <a:chExt cx="63720" cy="7920"/>
                          </a:xfrm>
                        </p:grpSpPr>
                        <p:grpSp>
                          <p:nvGrpSpPr>
                            <p:cNvPr id="5551" name=""/>
                            <p:cNvGrpSpPr/>
                            <p:nvPr/>
                          </p:nvGrpSpPr>
                          <p:grpSpPr>
                            <a:xfrm>
                              <a:off x="8024760" y="5965920"/>
                              <a:ext cx="31680" cy="7920"/>
                              <a:chOff x="8024760" y="5965920"/>
                              <a:chExt cx="31680" cy="7920"/>
                            </a:xfrm>
                          </p:grpSpPr>
                          <p:grpSp>
                            <p:nvGrpSpPr>
                              <p:cNvPr id="5552" name=""/>
                              <p:cNvGrpSpPr/>
                              <p:nvPr/>
                            </p:nvGrpSpPr>
                            <p:grpSpPr>
                              <a:xfrm>
                                <a:off x="8024760" y="5965920"/>
                                <a:ext cx="15840" cy="7920"/>
                                <a:chOff x="8024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965920"/>
                                  <a:ext cx="7920" cy="7920"/>
                                  <a:chOff x="8024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965920"/>
                                    <a:ext cx="3240" cy="7920"/>
                                    <a:chOff x="8024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965920"/>
                                    <a:ext cx="4680" cy="7920"/>
                                    <a:chOff x="80280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965920"/>
                                  <a:ext cx="7920" cy="7920"/>
                                  <a:chOff x="8032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965920"/>
                                    <a:ext cx="3240" cy="7920"/>
                                    <a:chOff x="8032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965920"/>
                                    <a:ext cx="4680" cy="7920"/>
                                    <a:chOff x="8035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67" name=""/>
                              <p:cNvGrpSpPr/>
                              <p:nvPr/>
                            </p:nvGrpSpPr>
                            <p:grpSpPr>
                              <a:xfrm>
                                <a:off x="8040600" y="5965920"/>
                                <a:ext cx="15840" cy="7920"/>
                                <a:chOff x="8040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965920"/>
                                  <a:ext cx="7920" cy="7920"/>
                                  <a:chOff x="8040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965920"/>
                                    <a:ext cx="3240" cy="7920"/>
                                    <a:chOff x="8040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965920"/>
                                    <a:ext cx="4680" cy="7920"/>
                                    <a:chOff x="80438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965920"/>
                                  <a:ext cx="7920" cy="7920"/>
                                  <a:chOff x="8048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965920"/>
                                    <a:ext cx="3240" cy="7920"/>
                                    <a:chOff x="8048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965920"/>
                                    <a:ext cx="4680" cy="7920"/>
                                    <a:chOff x="80517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582" name=""/>
                            <p:cNvGrpSpPr/>
                            <p:nvPr/>
                          </p:nvGrpSpPr>
                          <p:grpSpPr>
                            <a:xfrm>
                              <a:off x="8056440" y="5965920"/>
                              <a:ext cx="32040" cy="7920"/>
                              <a:chOff x="8056440" y="5965920"/>
                              <a:chExt cx="32040" cy="7920"/>
                            </a:xfrm>
                          </p:grpSpPr>
                          <p:grpSp>
                            <p:nvGrpSpPr>
                              <p:cNvPr id="5583" name=""/>
                              <p:cNvGrpSpPr/>
                              <p:nvPr/>
                            </p:nvGrpSpPr>
                            <p:grpSpPr>
                              <a:xfrm>
                                <a:off x="8056440" y="5965920"/>
                                <a:ext cx="16200" cy="7920"/>
                                <a:chOff x="80564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55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965920"/>
                                  <a:ext cx="8280" cy="7920"/>
                                  <a:chOff x="80564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5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965920"/>
                                    <a:ext cx="3240" cy="7920"/>
                                    <a:chOff x="8056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965920"/>
                                    <a:ext cx="3240" cy="7920"/>
                                    <a:chOff x="8061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965920"/>
                                  <a:ext cx="7920" cy="7920"/>
                                  <a:chOff x="80647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965920"/>
                                    <a:ext cx="2880" cy="7920"/>
                                    <a:chOff x="80647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965920"/>
                                    <a:ext cx="3240" cy="7920"/>
                                    <a:chOff x="8069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98" name=""/>
                              <p:cNvGrpSpPr/>
                              <p:nvPr/>
                            </p:nvGrpSpPr>
                            <p:grpSpPr>
                              <a:xfrm>
                                <a:off x="8072640" y="5965920"/>
                                <a:ext cx="15840" cy="7920"/>
                                <a:chOff x="80726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965920"/>
                                  <a:ext cx="7920" cy="7920"/>
                                  <a:chOff x="80726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965920"/>
                                    <a:ext cx="2880" cy="7920"/>
                                    <a:chOff x="80726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965920"/>
                                    <a:ext cx="3240" cy="7920"/>
                                    <a:chOff x="8077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965920"/>
                                  <a:ext cx="7920" cy="7920"/>
                                  <a:chOff x="80805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965920"/>
                                    <a:ext cx="2880" cy="7920"/>
                                    <a:chOff x="80805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965920"/>
                                    <a:ext cx="5040" cy="7920"/>
                                    <a:chOff x="80834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613" name=""/>
                          <p:cNvGrpSpPr/>
                          <p:nvPr/>
                        </p:nvGrpSpPr>
                        <p:grpSpPr>
                          <a:xfrm>
                            <a:off x="8088480" y="5965920"/>
                            <a:ext cx="63360" cy="7920"/>
                            <a:chOff x="8088480" y="5965920"/>
                            <a:chExt cx="63360" cy="7920"/>
                          </a:xfrm>
                        </p:grpSpPr>
                        <p:grpSp>
                          <p:nvGrpSpPr>
                            <p:cNvPr id="5614" name=""/>
                            <p:cNvGrpSpPr/>
                            <p:nvPr/>
                          </p:nvGrpSpPr>
                          <p:grpSpPr>
                            <a:xfrm>
                              <a:off x="8088480" y="5965920"/>
                              <a:ext cx="31680" cy="7920"/>
                              <a:chOff x="8088480" y="5965920"/>
                              <a:chExt cx="31680" cy="7920"/>
                            </a:xfrm>
                          </p:grpSpPr>
                          <p:grpSp>
                            <p:nvGrpSpPr>
                              <p:cNvPr id="5615" name=""/>
                              <p:cNvGrpSpPr/>
                              <p:nvPr/>
                            </p:nvGrpSpPr>
                            <p:grpSpPr>
                              <a:xfrm>
                                <a:off x="8088480" y="5965920"/>
                                <a:ext cx="15840" cy="7920"/>
                                <a:chOff x="80884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965920"/>
                                  <a:ext cx="7920" cy="7920"/>
                                  <a:chOff x="80884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965920"/>
                                    <a:ext cx="3240" cy="7920"/>
                                    <a:chOff x="8088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965920"/>
                                    <a:ext cx="4680" cy="7920"/>
                                    <a:chOff x="80917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965920"/>
                                  <a:ext cx="7920" cy="7920"/>
                                  <a:chOff x="80964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965920"/>
                                    <a:ext cx="3240" cy="7920"/>
                                    <a:chOff x="8096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965920"/>
                                    <a:ext cx="3240" cy="7920"/>
                                    <a:chOff x="8101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30" name=""/>
                              <p:cNvGrpSpPr/>
                              <p:nvPr/>
                            </p:nvGrpSpPr>
                            <p:grpSpPr>
                              <a:xfrm>
                                <a:off x="8104320" y="5965920"/>
                                <a:ext cx="15840" cy="7920"/>
                                <a:chOff x="81043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965920"/>
                                  <a:ext cx="7920" cy="7920"/>
                                  <a:chOff x="8104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965920"/>
                                    <a:ext cx="3240" cy="7920"/>
                                    <a:chOff x="8104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965920"/>
                                    <a:ext cx="3240" cy="7920"/>
                                    <a:chOff x="8109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965920"/>
                                  <a:ext cx="7920" cy="7920"/>
                                  <a:chOff x="8112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965920"/>
                                    <a:ext cx="3240" cy="7920"/>
                                    <a:chOff x="81122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965920"/>
                                    <a:ext cx="4680" cy="7920"/>
                                    <a:chOff x="81154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645" name=""/>
                            <p:cNvGrpSpPr/>
                            <p:nvPr/>
                          </p:nvGrpSpPr>
                          <p:grpSpPr>
                            <a:xfrm>
                              <a:off x="8120160" y="5965920"/>
                              <a:ext cx="31680" cy="7920"/>
                              <a:chOff x="8120160" y="5965920"/>
                              <a:chExt cx="31680" cy="7920"/>
                            </a:xfrm>
                          </p:grpSpPr>
                          <p:grpSp>
                            <p:nvGrpSpPr>
                              <p:cNvPr id="5646" name=""/>
                              <p:cNvGrpSpPr/>
                              <p:nvPr/>
                            </p:nvGrpSpPr>
                            <p:grpSpPr>
                              <a:xfrm>
                                <a:off x="8120160" y="5965920"/>
                                <a:ext cx="15840" cy="7920"/>
                                <a:chOff x="81201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965920"/>
                                  <a:ext cx="7920" cy="7920"/>
                                  <a:chOff x="8120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965920"/>
                                    <a:ext cx="3240" cy="7920"/>
                                    <a:chOff x="81201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965920"/>
                                    <a:ext cx="3240" cy="7920"/>
                                    <a:chOff x="8124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965920"/>
                                  <a:ext cx="7920" cy="7920"/>
                                  <a:chOff x="8128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965920"/>
                                    <a:ext cx="3240" cy="7920"/>
                                    <a:chOff x="8128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965920"/>
                                    <a:ext cx="4680" cy="7920"/>
                                    <a:chOff x="8131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61" name=""/>
                              <p:cNvGrpSpPr/>
                              <p:nvPr/>
                            </p:nvGrpSpPr>
                            <p:grpSpPr>
                              <a:xfrm>
                                <a:off x="8136000" y="5965920"/>
                                <a:ext cx="15840" cy="7920"/>
                                <a:chOff x="81360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965920"/>
                                  <a:ext cx="7920" cy="7920"/>
                                  <a:chOff x="8136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965920"/>
                                    <a:ext cx="3240" cy="7920"/>
                                    <a:chOff x="8136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965920"/>
                                    <a:ext cx="3240" cy="7920"/>
                                    <a:chOff x="8140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965920"/>
                                  <a:ext cx="7920" cy="7920"/>
                                  <a:chOff x="8143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965920"/>
                                    <a:ext cx="3240" cy="7920"/>
                                    <a:chOff x="8143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965920"/>
                                    <a:ext cx="3240" cy="7920"/>
                                    <a:chOff x="8148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676" name=""/>
                      <p:cNvGrpSpPr/>
                      <p:nvPr/>
                    </p:nvGrpSpPr>
                    <p:grpSpPr>
                      <a:xfrm>
                        <a:off x="8021520" y="5937120"/>
                        <a:ext cx="128880" cy="22320"/>
                        <a:chOff x="8021520" y="5937120"/>
                        <a:chExt cx="128880" cy="22320"/>
                      </a:xfrm>
                    </p:grpSpPr>
                    <p:sp>
                      <p:nvSpPr>
                        <p:cNvPr id="5677" name=""/>
                        <p:cNvSpPr/>
                        <p:nvPr/>
                      </p:nvSpPr>
                      <p:spPr>
                        <a:xfrm>
                          <a:off x="80215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8" name=""/>
                        <p:cNvSpPr/>
                        <p:nvPr/>
                      </p:nvSpPr>
                      <p:spPr>
                        <a:xfrm>
                          <a:off x="80503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9" name=""/>
                        <p:cNvSpPr/>
                        <p:nvPr/>
                      </p:nvSpPr>
                      <p:spPr>
                        <a:xfrm>
                          <a:off x="80899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0" name=""/>
                        <p:cNvSpPr/>
                        <p:nvPr/>
                      </p:nvSpPr>
                      <p:spPr>
                        <a:xfrm>
                          <a:off x="81313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1" name=""/>
                    <p:cNvGrpSpPr/>
                    <p:nvPr/>
                  </p:nvGrpSpPr>
                  <p:grpSpPr>
                    <a:xfrm>
                      <a:off x="8134560" y="5940360"/>
                      <a:ext cx="12600" cy="11160"/>
                      <a:chOff x="8134560" y="5940360"/>
                      <a:chExt cx="12600" cy="11160"/>
                    </a:xfrm>
                  </p:grpSpPr>
                  <p:sp>
                    <p:nvSpPr>
                      <p:cNvPr id="5682" name=""/>
                      <p:cNvSpPr/>
                      <p:nvPr/>
                    </p:nvSpPr>
                    <p:spPr>
                      <a:xfrm>
                        <a:off x="81392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3" name=""/>
                      <p:cNvSpPr/>
                      <p:nvPr/>
                    </p:nvSpPr>
                    <p:spPr>
                      <a:xfrm>
                        <a:off x="81406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84" name=""/>
                      <p:cNvGrpSpPr/>
                      <p:nvPr/>
                    </p:nvGrpSpPr>
                    <p:grpSpPr>
                      <a:xfrm>
                        <a:off x="8134560" y="5942160"/>
                        <a:ext cx="2880" cy="6120"/>
                        <a:chOff x="8134560" y="5942160"/>
                        <a:chExt cx="2880" cy="6120"/>
                      </a:xfrm>
                    </p:grpSpPr>
                    <p:sp>
                      <p:nvSpPr>
                        <p:cNvPr id="5685" name=""/>
                        <p:cNvSpPr/>
                        <p:nvPr/>
                      </p:nvSpPr>
                      <p:spPr>
                        <a:xfrm>
                          <a:off x="81345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6" name=""/>
                        <p:cNvSpPr/>
                        <p:nvPr/>
                      </p:nvSpPr>
                      <p:spPr>
                        <a:xfrm>
                          <a:off x="81345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7" name=""/>
                    <p:cNvGrpSpPr/>
                    <p:nvPr/>
                  </p:nvGrpSpPr>
                  <p:grpSpPr>
                    <a:xfrm>
                      <a:off x="8051760" y="5940360"/>
                      <a:ext cx="36720" cy="14400"/>
                      <a:chOff x="8051760" y="5940360"/>
                      <a:chExt cx="36720" cy="14400"/>
                    </a:xfrm>
                  </p:grpSpPr>
                  <p:grpSp>
                    <p:nvGrpSpPr>
                      <p:cNvPr id="5688" name=""/>
                      <p:cNvGrpSpPr/>
                      <p:nvPr/>
                    </p:nvGrpSpPr>
                    <p:grpSpPr>
                      <a:xfrm>
                        <a:off x="8053560" y="5940360"/>
                        <a:ext cx="34920" cy="7920"/>
                        <a:chOff x="8053560" y="5940360"/>
                        <a:chExt cx="34920" cy="7920"/>
                      </a:xfrm>
                    </p:grpSpPr>
                    <p:sp>
                      <p:nvSpPr>
                        <p:cNvPr id="5689" name=""/>
                        <p:cNvSpPr/>
                        <p:nvPr/>
                      </p:nvSpPr>
                      <p:spPr>
                        <a:xfrm>
                          <a:off x="80629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0" name=""/>
                        <p:cNvSpPr/>
                        <p:nvPr/>
                      </p:nvSpPr>
                      <p:spPr>
                        <a:xfrm>
                          <a:off x="80629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1" name=""/>
                        <p:cNvSpPr/>
                        <p:nvPr/>
                      </p:nvSpPr>
                      <p:spPr>
                        <a:xfrm>
                          <a:off x="80535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92" name=""/>
                      <p:cNvSpPr/>
                      <p:nvPr/>
                    </p:nvSpPr>
                    <p:spPr>
                      <a:xfrm>
                        <a:off x="80517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3" name=""/>
                      <p:cNvSpPr/>
                      <p:nvPr/>
                    </p:nvSpPr>
                    <p:spPr>
                      <a:xfrm>
                        <a:off x="80805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94" name=""/>
                    <p:cNvGrpSpPr/>
                    <p:nvPr/>
                  </p:nvGrpSpPr>
                  <p:grpSpPr>
                    <a:xfrm>
                      <a:off x="8024760" y="5953320"/>
                      <a:ext cx="23760" cy="4680"/>
                      <a:chOff x="8024760" y="5953320"/>
                      <a:chExt cx="23760" cy="4680"/>
                    </a:xfrm>
                  </p:grpSpPr>
                  <p:grpSp>
                    <p:nvGrpSpPr>
                      <p:cNvPr id="5695" name=""/>
                      <p:cNvGrpSpPr/>
                      <p:nvPr/>
                    </p:nvGrpSpPr>
                    <p:grpSpPr>
                      <a:xfrm>
                        <a:off x="8024760" y="5953320"/>
                        <a:ext cx="12960" cy="4680"/>
                        <a:chOff x="8024760" y="5953320"/>
                        <a:chExt cx="12960" cy="4680"/>
                      </a:xfrm>
                    </p:grpSpPr>
                    <p:grpSp>
                      <p:nvGrpSpPr>
                        <p:cNvPr id="5696" name=""/>
                        <p:cNvGrpSpPr/>
                        <p:nvPr/>
                      </p:nvGrpSpPr>
                      <p:grpSpPr>
                        <a:xfrm>
                          <a:off x="8024760" y="5953320"/>
                          <a:ext cx="6480" cy="4680"/>
                          <a:chOff x="8024760" y="5953320"/>
                          <a:chExt cx="6480" cy="4680"/>
                        </a:xfrm>
                      </p:grpSpPr>
                      <p:grpSp>
                        <p:nvGrpSpPr>
                          <p:cNvPr id="5697" name=""/>
                          <p:cNvGrpSpPr/>
                          <p:nvPr/>
                        </p:nvGrpSpPr>
                        <p:grpSpPr>
                          <a:xfrm>
                            <a:off x="8024760" y="5953320"/>
                            <a:ext cx="3240" cy="4680"/>
                            <a:chOff x="8024760" y="5953320"/>
                            <a:chExt cx="3240" cy="4680"/>
                          </a:xfrm>
                        </p:grpSpPr>
                        <p:sp>
                          <p:nvSpPr>
                            <p:cNvPr id="5698" name=""/>
                            <p:cNvSpPr/>
                            <p:nvPr/>
                          </p:nvSpPr>
                          <p:spPr>
                            <a:xfrm>
                              <a:off x="80247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9" name=""/>
                            <p:cNvSpPr/>
                            <p:nvPr/>
                          </p:nvSpPr>
                          <p:spPr>
                            <a:xfrm>
                              <a:off x="80265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0" name=""/>
                          <p:cNvGrpSpPr/>
                          <p:nvPr/>
                        </p:nvGrpSpPr>
                        <p:grpSpPr>
                          <a:xfrm>
                            <a:off x="8028000" y="5953320"/>
                            <a:ext cx="3240" cy="4680"/>
                            <a:chOff x="8028000" y="5953320"/>
                            <a:chExt cx="3240" cy="4680"/>
                          </a:xfrm>
                        </p:grpSpPr>
                        <p:sp>
                          <p:nvSpPr>
                            <p:cNvPr id="5701" name=""/>
                            <p:cNvSpPr/>
                            <p:nvPr/>
                          </p:nvSpPr>
                          <p:spPr>
                            <a:xfrm>
                              <a:off x="80280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2" name=""/>
                            <p:cNvSpPr/>
                            <p:nvPr/>
                          </p:nvSpPr>
                          <p:spPr>
                            <a:xfrm>
                              <a:off x="8029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03" name=""/>
                        <p:cNvGrpSpPr/>
                        <p:nvPr/>
                      </p:nvGrpSpPr>
                      <p:grpSpPr>
                        <a:xfrm>
                          <a:off x="8031240" y="5953320"/>
                          <a:ext cx="6480" cy="4680"/>
                          <a:chOff x="8031240" y="5953320"/>
                          <a:chExt cx="6480" cy="4680"/>
                        </a:xfrm>
                      </p:grpSpPr>
                      <p:grpSp>
                        <p:nvGrpSpPr>
                          <p:cNvPr id="5704" name=""/>
                          <p:cNvGrpSpPr/>
                          <p:nvPr/>
                        </p:nvGrpSpPr>
                        <p:grpSpPr>
                          <a:xfrm>
                            <a:off x="8031240" y="5953320"/>
                            <a:ext cx="3240" cy="4680"/>
                            <a:chOff x="8031240" y="5953320"/>
                            <a:chExt cx="3240" cy="4680"/>
                          </a:xfrm>
                        </p:grpSpPr>
                        <p:sp>
                          <p:nvSpPr>
                            <p:cNvPr id="5705" name=""/>
                            <p:cNvSpPr/>
                            <p:nvPr/>
                          </p:nvSpPr>
                          <p:spPr>
                            <a:xfrm>
                              <a:off x="8031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6" name=""/>
                            <p:cNvSpPr/>
                            <p:nvPr/>
                          </p:nvSpPr>
                          <p:spPr>
                            <a:xfrm>
                              <a:off x="80326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7" name=""/>
                          <p:cNvGrpSpPr/>
                          <p:nvPr/>
                        </p:nvGrpSpPr>
                        <p:grpSpPr>
                          <a:xfrm>
                            <a:off x="8034480" y="5953320"/>
                            <a:ext cx="3240" cy="4680"/>
                            <a:chOff x="8034480" y="5953320"/>
                            <a:chExt cx="3240" cy="4680"/>
                          </a:xfrm>
                        </p:grpSpPr>
                        <p:sp>
                          <p:nvSpPr>
                            <p:cNvPr id="5708" name=""/>
                            <p:cNvSpPr/>
                            <p:nvPr/>
                          </p:nvSpPr>
                          <p:spPr>
                            <a:xfrm>
                              <a:off x="8034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9" name=""/>
                            <p:cNvSpPr/>
                            <p:nvPr/>
                          </p:nvSpPr>
                          <p:spPr>
                            <a:xfrm>
                              <a:off x="80359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10" name=""/>
                      <p:cNvGrpSpPr/>
                      <p:nvPr/>
                    </p:nvGrpSpPr>
                    <p:grpSpPr>
                      <a:xfrm>
                        <a:off x="8037720" y="5953320"/>
                        <a:ext cx="10800" cy="4680"/>
                        <a:chOff x="8037720" y="5953320"/>
                        <a:chExt cx="10800" cy="4680"/>
                      </a:xfrm>
                    </p:grpSpPr>
                    <p:grpSp>
                      <p:nvGrpSpPr>
                        <p:cNvPr id="5711" name=""/>
                        <p:cNvGrpSpPr/>
                        <p:nvPr/>
                      </p:nvGrpSpPr>
                      <p:grpSpPr>
                        <a:xfrm>
                          <a:off x="8037720" y="5953320"/>
                          <a:ext cx="6120" cy="4680"/>
                          <a:chOff x="8037720" y="5953320"/>
                          <a:chExt cx="6120" cy="4680"/>
                        </a:xfrm>
                      </p:grpSpPr>
                      <p:grpSp>
                        <p:nvGrpSpPr>
                          <p:cNvPr id="5712" name=""/>
                          <p:cNvGrpSpPr/>
                          <p:nvPr/>
                        </p:nvGrpSpPr>
                        <p:grpSpPr>
                          <a:xfrm>
                            <a:off x="8037720" y="5953320"/>
                            <a:ext cx="2880" cy="4680"/>
                            <a:chOff x="8037720" y="5953320"/>
                            <a:chExt cx="2880" cy="4680"/>
                          </a:xfrm>
                        </p:grpSpPr>
                        <p:sp>
                          <p:nvSpPr>
                            <p:cNvPr id="5713" name=""/>
                            <p:cNvSpPr/>
                            <p:nvPr/>
                          </p:nvSpPr>
                          <p:spPr>
                            <a:xfrm>
                              <a:off x="8037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4" name=""/>
                            <p:cNvSpPr/>
                            <p:nvPr/>
                          </p:nvSpPr>
                          <p:spPr>
                            <a:xfrm>
                              <a:off x="8039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15" name=""/>
                          <p:cNvGrpSpPr/>
                          <p:nvPr/>
                        </p:nvGrpSpPr>
                        <p:grpSpPr>
                          <a:xfrm>
                            <a:off x="8040600" y="5953320"/>
                            <a:ext cx="3240" cy="4680"/>
                            <a:chOff x="8040600" y="5953320"/>
                            <a:chExt cx="3240" cy="4680"/>
                          </a:xfrm>
                        </p:grpSpPr>
                        <p:sp>
                          <p:nvSpPr>
                            <p:cNvPr id="5716" name=""/>
                            <p:cNvSpPr/>
                            <p:nvPr/>
                          </p:nvSpPr>
                          <p:spPr>
                            <a:xfrm>
                              <a:off x="8040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7" name=""/>
                            <p:cNvSpPr/>
                            <p:nvPr/>
                          </p:nvSpPr>
                          <p:spPr>
                            <a:xfrm>
                              <a:off x="8042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18" name=""/>
                        <p:cNvGrpSpPr/>
                        <p:nvPr/>
                      </p:nvGrpSpPr>
                      <p:grpSpPr>
                        <a:xfrm>
                          <a:off x="8043840" y="5953320"/>
                          <a:ext cx="4680" cy="4680"/>
                          <a:chOff x="8043840" y="5953320"/>
                          <a:chExt cx="4680" cy="4680"/>
                        </a:xfrm>
                      </p:grpSpPr>
                      <p:grpSp>
                        <p:nvGrpSpPr>
                          <p:cNvPr id="5719" name=""/>
                          <p:cNvGrpSpPr/>
                          <p:nvPr/>
                        </p:nvGrpSpPr>
                        <p:grpSpPr>
                          <a:xfrm>
                            <a:off x="8043840" y="5953320"/>
                            <a:ext cx="1800" cy="4680"/>
                            <a:chOff x="8043840" y="5953320"/>
                            <a:chExt cx="1800" cy="4680"/>
                          </a:xfrm>
                        </p:grpSpPr>
                        <p:sp>
                          <p:nvSpPr>
                            <p:cNvPr id="5720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1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2" name=""/>
                          <p:cNvGrpSpPr/>
                          <p:nvPr/>
                        </p:nvGrpSpPr>
                        <p:grpSpPr>
                          <a:xfrm>
                            <a:off x="8045640" y="5953320"/>
                            <a:ext cx="2880" cy="4680"/>
                            <a:chOff x="8045640" y="5953320"/>
                            <a:chExt cx="2880" cy="4680"/>
                          </a:xfrm>
                        </p:grpSpPr>
                        <p:sp>
                          <p:nvSpPr>
                            <p:cNvPr id="5723" name=""/>
                            <p:cNvSpPr/>
                            <p:nvPr/>
                          </p:nvSpPr>
                          <p:spPr>
                            <a:xfrm>
                              <a:off x="80456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4" name=""/>
                            <p:cNvSpPr/>
                            <p:nvPr/>
                          </p:nvSpPr>
                          <p:spPr>
                            <a:xfrm>
                              <a:off x="8047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25" name=""/>
                    <p:cNvSpPr/>
                    <p:nvPr/>
                  </p:nvSpPr>
                  <p:spPr>
                    <a:xfrm>
                      <a:off x="80233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6" name=""/>
                  <p:cNvGrpSpPr/>
                  <p:nvPr/>
                </p:nvGrpSpPr>
                <p:grpSpPr>
                  <a:xfrm>
                    <a:off x="7978680" y="5972400"/>
                    <a:ext cx="211320" cy="29880"/>
                    <a:chOff x="7978680" y="5972400"/>
                    <a:chExt cx="211320" cy="29880"/>
                  </a:xfrm>
                </p:grpSpPr>
                <p:grpSp>
                  <p:nvGrpSpPr>
                    <p:cNvPr id="5727" name=""/>
                    <p:cNvGrpSpPr/>
                    <p:nvPr/>
                  </p:nvGrpSpPr>
                  <p:grpSpPr>
                    <a:xfrm>
                      <a:off x="7978680" y="5972400"/>
                      <a:ext cx="211320" cy="29880"/>
                      <a:chOff x="7978680" y="5972400"/>
                      <a:chExt cx="211320" cy="29880"/>
                    </a:xfrm>
                  </p:grpSpPr>
                  <p:sp>
                    <p:nvSpPr>
                      <p:cNvPr id="5728" name=""/>
                      <p:cNvSpPr/>
                      <p:nvPr/>
                    </p:nvSpPr>
                    <p:spPr>
                      <a:xfrm>
                        <a:off x="79786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9" name=""/>
                      <p:cNvSpPr/>
                      <p:nvPr/>
                    </p:nvSpPr>
                    <p:spPr>
                      <a:xfrm>
                        <a:off x="79786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0" name=""/>
                      <p:cNvSpPr/>
                      <p:nvPr/>
                    </p:nvSpPr>
                    <p:spPr>
                      <a:xfrm>
                        <a:off x="79851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1" name=""/>
                    <p:cNvGrpSpPr/>
                    <p:nvPr/>
                  </p:nvGrpSpPr>
                  <p:grpSpPr>
                    <a:xfrm>
                      <a:off x="8001000" y="5975280"/>
                      <a:ext cx="166680" cy="5040"/>
                      <a:chOff x="8001000" y="5975280"/>
                      <a:chExt cx="166680" cy="5040"/>
                    </a:xfrm>
                  </p:grpSpPr>
                  <p:sp>
                    <p:nvSpPr>
                      <p:cNvPr id="5732" name=""/>
                      <p:cNvSpPr/>
                      <p:nvPr/>
                    </p:nvSpPr>
                    <p:spPr>
                      <a:xfrm>
                        <a:off x="80010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3" name=""/>
                      <p:cNvSpPr/>
                      <p:nvPr/>
                    </p:nvSpPr>
                    <p:spPr>
                      <a:xfrm>
                        <a:off x="80186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4" name=""/>
                      <p:cNvSpPr/>
                      <p:nvPr/>
                    </p:nvSpPr>
                    <p:spPr>
                      <a:xfrm>
                        <a:off x="80517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5" name=""/>
                      <p:cNvSpPr/>
                      <p:nvPr/>
                    </p:nvSpPr>
                    <p:spPr>
                      <a:xfrm>
                        <a:off x="80820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6" name=""/>
                      <p:cNvSpPr/>
                      <p:nvPr/>
                    </p:nvSpPr>
                    <p:spPr>
                      <a:xfrm>
                        <a:off x="81122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7" name=""/>
                      <p:cNvSpPr/>
                      <p:nvPr/>
                    </p:nvSpPr>
                    <p:spPr>
                      <a:xfrm>
                        <a:off x="81406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8" name=""/>
                    <p:cNvGrpSpPr/>
                    <p:nvPr/>
                  </p:nvGrpSpPr>
                  <p:grpSpPr>
                    <a:xfrm>
                      <a:off x="7994880" y="5981760"/>
                      <a:ext cx="176040" cy="11160"/>
                      <a:chOff x="7994880" y="5981760"/>
                      <a:chExt cx="176040" cy="11160"/>
                    </a:xfrm>
                  </p:grpSpPr>
                  <p:grpSp>
                    <p:nvGrpSpPr>
                      <p:cNvPr id="5739" name=""/>
                      <p:cNvGrpSpPr/>
                      <p:nvPr/>
                    </p:nvGrpSpPr>
                    <p:grpSpPr>
                      <a:xfrm>
                        <a:off x="8010720" y="5981760"/>
                        <a:ext cx="85680" cy="9360"/>
                        <a:chOff x="8010720" y="5981760"/>
                        <a:chExt cx="85680" cy="9360"/>
                      </a:xfrm>
                    </p:grpSpPr>
                    <p:sp>
                      <p:nvSpPr>
                        <p:cNvPr id="5740" name=""/>
                        <p:cNvSpPr/>
                        <p:nvPr/>
                      </p:nvSpPr>
                      <p:spPr>
                        <a:xfrm>
                          <a:off x="80107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1" name=""/>
                        <p:cNvSpPr/>
                        <p:nvPr/>
                      </p:nvSpPr>
                      <p:spPr>
                        <a:xfrm>
                          <a:off x="80136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2" name=""/>
                        <p:cNvSpPr/>
                        <p:nvPr/>
                      </p:nvSpPr>
                      <p:spPr>
                        <a:xfrm>
                          <a:off x="80154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3" name=""/>
                        <p:cNvSpPr/>
                        <p:nvPr/>
                      </p:nvSpPr>
                      <p:spPr>
                        <a:xfrm>
                          <a:off x="80168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4" name=""/>
                      <p:cNvGrpSpPr/>
                      <p:nvPr/>
                    </p:nvGrpSpPr>
                    <p:grpSpPr>
                      <a:xfrm>
                        <a:off x="7994880" y="5983200"/>
                        <a:ext cx="15840" cy="6480"/>
                        <a:chOff x="7994880" y="5983200"/>
                        <a:chExt cx="15840" cy="6480"/>
                      </a:xfrm>
                    </p:grpSpPr>
                    <p:sp>
                      <p:nvSpPr>
                        <p:cNvPr id="5745" name=""/>
                        <p:cNvSpPr/>
                        <p:nvPr/>
                      </p:nvSpPr>
                      <p:spPr>
                        <a:xfrm>
                          <a:off x="79995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6" name=""/>
                        <p:cNvSpPr/>
                        <p:nvPr/>
                      </p:nvSpPr>
                      <p:spPr>
                        <a:xfrm>
                          <a:off x="79977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7" name=""/>
                        <p:cNvSpPr/>
                        <p:nvPr/>
                      </p:nvSpPr>
                      <p:spPr>
                        <a:xfrm>
                          <a:off x="79948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8" name=""/>
                      <p:cNvGrpSpPr/>
                      <p:nvPr/>
                    </p:nvGrpSpPr>
                    <p:grpSpPr>
                      <a:xfrm>
                        <a:off x="8029800" y="5981760"/>
                        <a:ext cx="79200" cy="9360"/>
                        <a:chOff x="8029800" y="5981760"/>
                        <a:chExt cx="79200" cy="9360"/>
                      </a:xfrm>
                    </p:grpSpPr>
                    <p:sp>
                      <p:nvSpPr>
                        <p:cNvPr id="5749" name=""/>
                        <p:cNvSpPr/>
                        <p:nvPr/>
                      </p:nvSpPr>
                      <p:spPr>
                        <a:xfrm>
                          <a:off x="80298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0" name=""/>
                        <p:cNvSpPr/>
                        <p:nvPr/>
                      </p:nvSpPr>
                      <p:spPr>
                        <a:xfrm>
                          <a:off x="80964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1" name=""/>
                        <p:cNvSpPr/>
                        <p:nvPr/>
                      </p:nvSpPr>
                      <p:spPr>
                        <a:xfrm>
                          <a:off x="80996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2" name=""/>
                        <p:cNvSpPr/>
                        <p:nvPr/>
                      </p:nvSpPr>
                      <p:spPr>
                        <a:xfrm>
                          <a:off x="80931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3" name=""/>
                        <p:cNvSpPr/>
                        <p:nvPr/>
                      </p:nvSpPr>
                      <p:spPr>
                        <a:xfrm>
                          <a:off x="80805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4" name=""/>
                        <p:cNvSpPr/>
                        <p:nvPr/>
                      </p:nvSpPr>
                      <p:spPr>
                        <a:xfrm>
                          <a:off x="80899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5" name=""/>
                      <p:cNvGrpSpPr/>
                      <p:nvPr/>
                    </p:nvGrpSpPr>
                    <p:grpSpPr>
                      <a:xfrm>
                        <a:off x="8112240" y="5983200"/>
                        <a:ext cx="25200" cy="7920"/>
                        <a:chOff x="8112240" y="5983200"/>
                        <a:chExt cx="25200" cy="7920"/>
                      </a:xfrm>
                    </p:grpSpPr>
                    <p:sp>
                      <p:nvSpPr>
                        <p:cNvPr id="5756" name=""/>
                        <p:cNvSpPr/>
                        <p:nvPr/>
                      </p:nvSpPr>
                      <p:spPr>
                        <a:xfrm>
                          <a:off x="81122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7" name=""/>
                        <p:cNvSpPr/>
                        <p:nvPr/>
                      </p:nvSpPr>
                      <p:spPr>
                        <a:xfrm>
                          <a:off x="81154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8" name=""/>
                        <p:cNvSpPr/>
                        <p:nvPr/>
                      </p:nvSpPr>
                      <p:spPr>
                        <a:xfrm>
                          <a:off x="81154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9" name=""/>
                      <p:cNvGrpSpPr/>
                      <p:nvPr/>
                    </p:nvGrpSpPr>
                    <p:grpSpPr>
                      <a:xfrm>
                        <a:off x="8140680" y="5983200"/>
                        <a:ext cx="30240" cy="9720"/>
                        <a:chOff x="8140680" y="5983200"/>
                        <a:chExt cx="30240" cy="9720"/>
                      </a:xfrm>
                    </p:grpSpPr>
                    <p:sp>
                      <p:nvSpPr>
                        <p:cNvPr id="5760" name=""/>
                        <p:cNvSpPr/>
                        <p:nvPr/>
                      </p:nvSpPr>
                      <p:spPr>
                        <a:xfrm>
                          <a:off x="81439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1" name=""/>
                        <p:cNvSpPr/>
                        <p:nvPr/>
                      </p:nvSpPr>
                      <p:spPr>
                        <a:xfrm>
                          <a:off x="81406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2" name=""/>
                        <p:cNvSpPr/>
                        <p:nvPr/>
                      </p:nvSpPr>
                      <p:spPr>
                        <a:xfrm>
                          <a:off x="81439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3" name=""/>
                        <p:cNvSpPr/>
                        <p:nvPr/>
                      </p:nvSpPr>
                      <p:spPr>
                        <a:xfrm>
                          <a:off x="81424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4" name=""/>
                        <p:cNvSpPr/>
                        <p:nvPr/>
                      </p:nvSpPr>
                      <p:spPr>
                        <a:xfrm>
                          <a:off x="81630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5" name=""/>
                        <p:cNvSpPr/>
                        <p:nvPr/>
                      </p:nvSpPr>
                      <p:spPr>
                        <a:xfrm>
                          <a:off x="81644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766" name=""/>
                  <p:cNvGrpSpPr/>
                  <p:nvPr/>
                </p:nvGrpSpPr>
                <p:grpSpPr>
                  <a:xfrm>
                    <a:off x="8040600" y="5913360"/>
                    <a:ext cx="92160" cy="19080"/>
                    <a:chOff x="8040600" y="5913360"/>
                    <a:chExt cx="92160" cy="19080"/>
                  </a:xfrm>
                </p:grpSpPr>
                <p:grpSp>
                  <p:nvGrpSpPr>
                    <p:cNvPr id="5767" name=""/>
                    <p:cNvGrpSpPr/>
                    <p:nvPr/>
                  </p:nvGrpSpPr>
                  <p:grpSpPr>
                    <a:xfrm>
                      <a:off x="8040600" y="5918400"/>
                      <a:ext cx="92160" cy="14040"/>
                      <a:chOff x="8040600" y="5918400"/>
                      <a:chExt cx="92160" cy="14040"/>
                    </a:xfrm>
                  </p:grpSpPr>
                  <p:sp>
                    <p:nvSpPr>
                      <p:cNvPr id="5768" name=""/>
                      <p:cNvSpPr/>
                      <p:nvPr/>
                    </p:nvSpPr>
                    <p:spPr>
                      <a:xfrm>
                        <a:off x="80406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9" name=""/>
                      <p:cNvSpPr/>
                      <p:nvPr/>
                    </p:nvSpPr>
                    <p:spPr>
                      <a:xfrm>
                        <a:off x="80406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70" name=""/>
                    <p:cNvSpPr/>
                    <p:nvPr/>
                  </p:nvSpPr>
                  <p:spPr>
                    <a:xfrm>
                      <a:off x="80614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1" name=""/>
                  <p:cNvSpPr/>
                  <p:nvPr/>
                </p:nvSpPr>
                <p:spPr>
                  <a:xfrm>
                    <a:off x="80298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80424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>
                    <a:off x="80470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81248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75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5885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776" name=""/>
            <p:cNvGrpSpPr/>
            <p:nvPr/>
          </p:nvGrpSpPr>
          <p:grpSpPr>
            <a:xfrm>
              <a:off x="7905600" y="4800600"/>
              <a:ext cx="1086120" cy="752400"/>
              <a:chOff x="7905600" y="4800600"/>
              <a:chExt cx="1086120" cy="752400"/>
            </a:xfrm>
          </p:grpSpPr>
          <p:sp>
            <p:nvSpPr>
              <p:cNvPr id="5777" name=""/>
              <p:cNvSpPr/>
              <p:nvPr/>
            </p:nvSpPr>
            <p:spPr>
              <a:xfrm>
                <a:off x="79056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79534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4 Zaca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779" name=""/>
              <p:cNvGrpSpPr/>
              <p:nvPr/>
            </p:nvGrpSpPr>
            <p:grpSpPr>
              <a:xfrm>
                <a:off x="7978680" y="4856040"/>
                <a:ext cx="822600" cy="488880"/>
                <a:chOff x="7978680" y="4856040"/>
                <a:chExt cx="822600" cy="488880"/>
              </a:xfrm>
            </p:grpSpPr>
            <p:sp>
              <p:nvSpPr>
                <p:cNvPr id="5780" name=""/>
                <p:cNvSpPr/>
                <p:nvPr/>
              </p:nvSpPr>
              <p:spPr>
                <a:xfrm>
                  <a:off x="81216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84074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83408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783" name="pbx" descr=""/>
                <p:cNvPicPr/>
                <p:nvPr/>
              </p:nvPicPr>
              <p:blipFill>
                <a:blip r:embed="rId69"/>
                <a:srcRect l="37594" t="74298" r="28339" b="4834"/>
                <a:stretch/>
              </p:blipFill>
              <p:spPr>
                <a:xfrm>
                  <a:off x="82836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4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106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785" name=""/>
                <p:cNvGrpSpPr/>
                <p:nvPr/>
              </p:nvGrpSpPr>
              <p:grpSpPr>
                <a:xfrm>
                  <a:off x="7978680" y="4994280"/>
                  <a:ext cx="211320" cy="169920"/>
                  <a:chOff x="7978680" y="4994280"/>
                  <a:chExt cx="211320" cy="169920"/>
                </a:xfrm>
              </p:grpSpPr>
              <p:grpSp>
                <p:nvGrpSpPr>
                  <p:cNvPr id="5786" name=""/>
                  <p:cNvGrpSpPr/>
                  <p:nvPr/>
                </p:nvGrpSpPr>
                <p:grpSpPr>
                  <a:xfrm>
                    <a:off x="8018640" y="5085000"/>
                    <a:ext cx="134640" cy="52200"/>
                    <a:chOff x="8018640" y="5085000"/>
                    <a:chExt cx="134640" cy="52200"/>
                  </a:xfrm>
                </p:grpSpPr>
                <p:grpSp>
                  <p:nvGrpSpPr>
                    <p:cNvPr id="5787" name=""/>
                    <p:cNvGrpSpPr/>
                    <p:nvPr/>
                  </p:nvGrpSpPr>
                  <p:grpSpPr>
                    <a:xfrm>
                      <a:off x="8018640" y="5085000"/>
                      <a:ext cx="134640" cy="52200"/>
                      <a:chOff x="8018640" y="5085000"/>
                      <a:chExt cx="134640" cy="52200"/>
                    </a:xfrm>
                  </p:grpSpPr>
                  <p:grpSp>
                    <p:nvGrpSpPr>
                      <p:cNvPr id="5788" name=""/>
                      <p:cNvGrpSpPr/>
                      <p:nvPr/>
                    </p:nvGrpSpPr>
                    <p:grpSpPr>
                      <a:xfrm>
                        <a:off x="8018640" y="5085000"/>
                        <a:ext cx="134640" cy="52200"/>
                        <a:chOff x="8018640" y="5085000"/>
                        <a:chExt cx="134640" cy="52200"/>
                      </a:xfrm>
                    </p:grpSpPr>
                    <p:grpSp>
                      <p:nvGrpSpPr>
                        <p:cNvPr id="5789" name=""/>
                        <p:cNvGrpSpPr/>
                        <p:nvPr/>
                      </p:nvGrpSpPr>
                      <p:grpSpPr>
                        <a:xfrm>
                          <a:off x="8018640" y="5085000"/>
                          <a:ext cx="134640" cy="52200"/>
                          <a:chOff x="8018640" y="5085000"/>
                          <a:chExt cx="134640" cy="52200"/>
                        </a:xfrm>
                      </p:grpSpPr>
                      <p:grpSp>
                        <p:nvGrpSpPr>
                          <p:cNvPr id="5790" name=""/>
                          <p:cNvGrpSpPr/>
                          <p:nvPr/>
                        </p:nvGrpSpPr>
                        <p:grpSpPr>
                          <a:xfrm>
                            <a:off x="8018640" y="5085000"/>
                            <a:ext cx="134640" cy="52200"/>
                            <a:chOff x="8018640" y="5085000"/>
                            <a:chExt cx="134640" cy="52200"/>
                          </a:xfrm>
                        </p:grpSpPr>
                        <p:sp>
                          <p:nvSpPr>
                            <p:cNvPr id="5791" name=""/>
                            <p:cNvSpPr/>
                            <p:nvPr/>
                          </p:nvSpPr>
                          <p:spPr>
                            <a:xfrm>
                              <a:off x="80186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92" name=""/>
                            <p:cNvSpPr/>
                            <p:nvPr/>
                          </p:nvSpPr>
                          <p:spPr>
                            <a:xfrm>
                              <a:off x="80200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93" name=""/>
                          <p:cNvSpPr/>
                          <p:nvPr/>
                        </p:nvSpPr>
                        <p:spPr>
                          <a:xfrm>
                            <a:off x="80215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94" name=""/>
                        <p:cNvGrpSpPr/>
                        <p:nvPr/>
                      </p:nvGrpSpPr>
                      <p:grpSpPr>
                        <a:xfrm>
                          <a:off x="8024760" y="5127840"/>
                          <a:ext cx="127080" cy="7920"/>
                          <a:chOff x="8024760" y="5127840"/>
                          <a:chExt cx="127080" cy="7920"/>
                        </a:xfrm>
                      </p:grpSpPr>
                      <p:grpSp>
                        <p:nvGrpSpPr>
                          <p:cNvPr id="5795" name=""/>
                          <p:cNvGrpSpPr/>
                          <p:nvPr/>
                        </p:nvGrpSpPr>
                        <p:grpSpPr>
                          <a:xfrm>
                            <a:off x="8024760" y="5127840"/>
                            <a:ext cx="63720" cy="7920"/>
                            <a:chOff x="8024760" y="5127840"/>
                            <a:chExt cx="63720" cy="7920"/>
                          </a:xfrm>
                        </p:grpSpPr>
                        <p:grpSp>
                          <p:nvGrpSpPr>
                            <p:cNvPr id="5796" name=""/>
                            <p:cNvGrpSpPr/>
                            <p:nvPr/>
                          </p:nvGrpSpPr>
                          <p:grpSpPr>
                            <a:xfrm>
                              <a:off x="8024760" y="5127840"/>
                              <a:ext cx="31680" cy="7920"/>
                              <a:chOff x="8024760" y="5127840"/>
                              <a:chExt cx="31680" cy="7920"/>
                            </a:xfrm>
                          </p:grpSpPr>
                          <p:grpSp>
                            <p:nvGrpSpPr>
                              <p:cNvPr id="5797" name=""/>
                              <p:cNvGrpSpPr/>
                              <p:nvPr/>
                            </p:nvGrpSpPr>
                            <p:grpSpPr>
                              <a:xfrm>
                                <a:off x="8024760" y="5127840"/>
                                <a:ext cx="15840" cy="7920"/>
                                <a:chOff x="8024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79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127840"/>
                                  <a:ext cx="7920" cy="7920"/>
                                  <a:chOff x="8024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7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127840"/>
                                    <a:ext cx="3240" cy="7920"/>
                                    <a:chOff x="8024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127840"/>
                                    <a:ext cx="4680" cy="7920"/>
                                    <a:chOff x="80280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0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127840"/>
                                  <a:ext cx="7920" cy="7920"/>
                                  <a:chOff x="8032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127840"/>
                                    <a:ext cx="3240" cy="7920"/>
                                    <a:chOff x="8032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127840"/>
                                    <a:ext cx="4680" cy="7920"/>
                                    <a:chOff x="8035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12" name=""/>
                              <p:cNvGrpSpPr/>
                              <p:nvPr/>
                            </p:nvGrpSpPr>
                            <p:grpSpPr>
                              <a:xfrm>
                                <a:off x="8040600" y="5127840"/>
                                <a:ext cx="15840" cy="7920"/>
                                <a:chOff x="8040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1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127840"/>
                                  <a:ext cx="7920" cy="7920"/>
                                  <a:chOff x="8040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127840"/>
                                    <a:ext cx="3240" cy="7920"/>
                                    <a:chOff x="8040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127840"/>
                                    <a:ext cx="4680" cy="7920"/>
                                    <a:chOff x="80438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2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127840"/>
                                  <a:ext cx="7920" cy="7920"/>
                                  <a:chOff x="8048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127840"/>
                                    <a:ext cx="3240" cy="7920"/>
                                    <a:chOff x="8048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127840"/>
                                    <a:ext cx="4680" cy="7920"/>
                                    <a:chOff x="80517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27" name=""/>
                            <p:cNvGrpSpPr/>
                            <p:nvPr/>
                          </p:nvGrpSpPr>
                          <p:grpSpPr>
                            <a:xfrm>
                              <a:off x="8056440" y="5127840"/>
                              <a:ext cx="32040" cy="7920"/>
                              <a:chOff x="8056440" y="5127840"/>
                              <a:chExt cx="32040" cy="7920"/>
                            </a:xfrm>
                          </p:grpSpPr>
                          <p:grpSp>
                            <p:nvGrpSpPr>
                              <p:cNvPr id="5828" name=""/>
                              <p:cNvGrpSpPr/>
                              <p:nvPr/>
                            </p:nvGrpSpPr>
                            <p:grpSpPr>
                              <a:xfrm>
                                <a:off x="8056440" y="5127840"/>
                                <a:ext cx="16200" cy="7920"/>
                                <a:chOff x="80564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582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127840"/>
                                  <a:ext cx="8280" cy="7920"/>
                                  <a:chOff x="80564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8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127840"/>
                                    <a:ext cx="3240" cy="7920"/>
                                    <a:chOff x="8056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127840"/>
                                    <a:ext cx="3240" cy="7920"/>
                                    <a:chOff x="8061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3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127840"/>
                                  <a:ext cx="7920" cy="7920"/>
                                  <a:chOff x="80647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127840"/>
                                    <a:ext cx="2880" cy="7920"/>
                                    <a:chOff x="80647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127840"/>
                                    <a:ext cx="3240" cy="7920"/>
                                    <a:chOff x="8069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43" name=""/>
                              <p:cNvGrpSpPr/>
                              <p:nvPr/>
                            </p:nvGrpSpPr>
                            <p:grpSpPr>
                              <a:xfrm>
                                <a:off x="8072640" y="5127840"/>
                                <a:ext cx="15840" cy="7920"/>
                                <a:chOff x="80726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4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127840"/>
                                  <a:ext cx="7920" cy="7920"/>
                                  <a:chOff x="80726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127840"/>
                                    <a:ext cx="2880" cy="7920"/>
                                    <a:chOff x="80726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127840"/>
                                    <a:ext cx="3240" cy="7920"/>
                                    <a:chOff x="8077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5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127840"/>
                                  <a:ext cx="7920" cy="7920"/>
                                  <a:chOff x="80805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127840"/>
                                    <a:ext cx="2880" cy="7920"/>
                                    <a:chOff x="80805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127840"/>
                                    <a:ext cx="5040" cy="7920"/>
                                    <a:chOff x="80834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858" name=""/>
                          <p:cNvGrpSpPr/>
                          <p:nvPr/>
                        </p:nvGrpSpPr>
                        <p:grpSpPr>
                          <a:xfrm>
                            <a:off x="8088480" y="5127840"/>
                            <a:ext cx="63360" cy="7920"/>
                            <a:chOff x="8088480" y="5127840"/>
                            <a:chExt cx="63360" cy="7920"/>
                          </a:xfrm>
                        </p:grpSpPr>
                        <p:grpSp>
                          <p:nvGrpSpPr>
                            <p:cNvPr id="5859" name=""/>
                            <p:cNvGrpSpPr/>
                            <p:nvPr/>
                          </p:nvGrpSpPr>
                          <p:grpSpPr>
                            <a:xfrm>
                              <a:off x="8088480" y="5127840"/>
                              <a:ext cx="31680" cy="7920"/>
                              <a:chOff x="8088480" y="5127840"/>
                              <a:chExt cx="31680" cy="7920"/>
                            </a:xfrm>
                          </p:grpSpPr>
                          <p:grpSp>
                            <p:nvGrpSpPr>
                              <p:cNvPr id="5860" name=""/>
                              <p:cNvGrpSpPr/>
                              <p:nvPr/>
                            </p:nvGrpSpPr>
                            <p:grpSpPr>
                              <a:xfrm>
                                <a:off x="8088480" y="5127840"/>
                                <a:ext cx="15840" cy="7920"/>
                                <a:chOff x="80884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6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127840"/>
                                  <a:ext cx="7920" cy="7920"/>
                                  <a:chOff x="80884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127840"/>
                                    <a:ext cx="3240" cy="7920"/>
                                    <a:chOff x="8088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127840"/>
                                    <a:ext cx="4680" cy="7920"/>
                                    <a:chOff x="80917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6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127840"/>
                                  <a:ext cx="7920" cy="7920"/>
                                  <a:chOff x="80964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127840"/>
                                    <a:ext cx="3240" cy="7920"/>
                                    <a:chOff x="8096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127840"/>
                                    <a:ext cx="3240" cy="7920"/>
                                    <a:chOff x="8101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75" name=""/>
                              <p:cNvGrpSpPr/>
                              <p:nvPr/>
                            </p:nvGrpSpPr>
                            <p:grpSpPr>
                              <a:xfrm>
                                <a:off x="8104320" y="5127840"/>
                                <a:ext cx="15840" cy="7920"/>
                                <a:chOff x="81043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7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127840"/>
                                  <a:ext cx="7920" cy="7920"/>
                                  <a:chOff x="8104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127840"/>
                                    <a:ext cx="3240" cy="7920"/>
                                    <a:chOff x="8104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127840"/>
                                    <a:ext cx="3240" cy="7920"/>
                                    <a:chOff x="8109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8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127840"/>
                                  <a:ext cx="7920" cy="7920"/>
                                  <a:chOff x="8112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127840"/>
                                    <a:ext cx="3240" cy="7920"/>
                                    <a:chOff x="81122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127840"/>
                                    <a:ext cx="4680" cy="7920"/>
                                    <a:chOff x="81154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90" name=""/>
                            <p:cNvGrpSpPr/>
                            <p:nvPr/>
                          </p:nvGrpSpPr>
                          <p:grpSpPr>
                            <a:xfrm>
                              <a:off x="8120160" y="5127840"/>
                              <a:ext cx="31680" cy="7920"/>
                              <a:chOff x="8120160" y="5127840"/>
                              <a:chExt cx="31680" cy="7920"/>
                            </a:xfrm>
                          </p:grpSpPr>
                          <p:grpSp>
                            <p:nvGrpSpPr>
                              <p:cNvPr id="5891" name=""/>
                              <p:cNvGrpSpPr/>
                              <p:nvPr/>
                            </p:nvGrpSpPr>
                            <p:grpSpPr>
                              <a:xfrm>
                                <a:off x="8120160" y="5127840"/>
                                <a:ext cx="15840" cy="7920"/>
                                <a:chOff x="81201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9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127840"/>
                                  <a:ext cx="7920" cy="7920"/>
                                  <a:chOff x="8120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127840"/>
                                    <a:ext cx="3240" cy="7920"/>
                                    <a:chOff x="81201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127840"/>
                                    <a:ext cx="3240" cy="7920"/>
                                    <a:chOff x="8124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9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127840"/>
                                  <a:ext cx="7920" cy="7920"/>
                                  <a:chOff x="8128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127840"/>
                                    <a:ext cx="3240" cy="7920"/>
                                    <a:chOff x="8128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127840"/>
                                    <a:ext cx="4680" cy="7920"/>
                                    <a:chOff x="8131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906" name=""/>
                              <p:cNvGrpSpPr/>
                              <p:nvPr/>
                            </p:nvGrpSpPr>
                            <p:grpSpPr>
                              <a:xfrm>
                                <a:off x="8136000" y="5127840"/>
                                <a:ext cx="15840" cy="7920"/>
                                <a:chOff x="81360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90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127840"/>
                                  <a:ext cx="7920" cy="7920"/>
                                  <a:chOff x="8136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127840"/>
                                    <a:ext cx="3240" cy="7920"/>
                                    <a:chOff x="8136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127840"/>
                                    <a:ext cx="3240" cy="7920"/>
                                    <a:chOff x="8140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91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127840"/>
                                  <a:ext cx="7920" cy="7920"/>
                                  <a:chOff x="8143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127840"/>
                                    <a:ext cx="3240" cy="7920"/>
                                    <a:chOff x="8143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127840"/>
                                    <a:ext cx="3240" cy="7920"/>
                                    <a:chOff x="8148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921" name=""/>
                      <p:cNvGrpSpPr/>
                      <p:nvPr/>
                    </p:nvGrpSpPr>
                    <p:grpSpPr>
                      <a:xfrm>
                        <a:off x="8021520" y="5099040"/>
                        <a:ext cx="128880" cy="22320"/>
                        <a:chOff x="8021520" y="5099040"/>
                        <a:chExt cx="128880" cy="22320"/>
                      </a:xfrm>
                    </p:grpSpPr>
                    <p:sp>
                      <p:nvSpPr>
                        <p:cNvPr id="5922" name=""/>
                        <p:cNvSpPr/>
                        <p:nvPr/>
                      </p:nvSpPr>
                      <p:spPr>
                        <a:xfrm>
                          <a:off x="80215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3" name=""/>
                        <p:cNvSpPr/>
                        <p:nvPr/>
                      </p:nvSpPr>
                      <p:spPr>
                        <a:xfrm>
                          <a:off x="80503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4" name=""/>
                        <p:cNvSpPr/>
                        <p:nvPr/>
                      </p:nvSpPr>
                      <p:spPr>
                        <a:xfrm>
                          <a:off x="80899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5" name=""/>
                        <p:cNvSpPr/>
                        <p:nvPr/>
                      </p:nvSpPr>
                      <p:spPr>
                        <a:xfrm>
                          <a:off x="81313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26" name=""/>
                    <p:cNvGrpSpPr/>
                    <p:nvPr/>
                  </p:nvGrpSpPr>
                  <p:grpSpPr>
                    <a:xfrm>
                      <a:off x="8134560" y="5102280"/>
                      <a:ext cx="12600" cy="11160"/>
                      <a:chOff x="8134560" y="5102280"/>
                      <a:chExt cx="12600" cy="11160"/>
                    </a:xfrm>
                  </p:grpSpPr>
                  <p:sp>
                    <p:nvSpPr>
                      <p:cNvPr id="5927" name=""/>
                      <p:cNvSpPr/>
                      <p:nvPr/>
                    </p:nvSpPr>
                    <p:spPr>
                      <a:xfrm>
                        <a:off x="81392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8" name=""/>
                      <p:cNvSpPr/>
                      <p:nvPr/>
                    </p:nvSpPr>
                    <p:spPr>
                      <a:xfrm>
                        <a:off x="81406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29" name=""/>
                      <p:cNvGrpSpPr/>
                      <p:nvPr/>
                    </p:nvGrpSpPr>
                    <p:grpSpPr>
                      <a:xfrm>
                        <a:off x="8134560" y="5104080"/>
                        <a:ext cx="2880" cy="6120"/>
                        <a:chOff x="8134560" y="5104080"/>
                        <a:chExt cx="2880" cy="6120"/>
                      </a:xfrm>
                    </p:grpSpPr>
                    <p:sp>
                      <p:nvSpPr>
                        <p:cNvPr id="5930" name=""/>
                        <p:cNvSpPr/>
                        <p:nvPr/>
                      </p:nvSpPr>
                      <p:spPr>
                        <a:xfrm>
                          <a:off x="81345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1" name=""/>
                        <p:cNvSpPr/>
                        <p:nvPr/>
                      </p:nvSpPr>
                      <p:spPr>
                        <a:xfrm>
                          <a:off x="81345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32" name=""/>
                    <p:cNvGrpSpPr/>
                    <p:nvPr/>
                  </p:nvGrpSpPr>
                  <p:grpSpPr>
                    <a:xfrm>
                      <a:off x="8051760" y="5102280"/>
                      <a:ext cx="36720" cy="14400"/>
                      <a:chOff x="8051760" y="5102280"/>
                      <a:chExt cx="36720" cy="14400"/>
                    </a:xfrm>
                  </p:grpSpPr>
                  <p:grpSp>
                    <p:nvGrpSpPr>
                      <p:cNvPr id="5933" name=""/>
                      <p:cNvGrpSpPr/>
                      <p:nvPr/>
                    </p:nvGrpSpPr>
                    <p:grpSpPr>
                      <a:xfrm>
                        <a:off x="8053560" y="5102280"/>
                        <a:ext cx="34920" cy="7920"/>
                        <a:chOff x="8053560" y="5102280"/>
                        <a:chExt cx="34920" cy="7920"/>
                      </a:xfrm>
                    </p:grpSpPr>
                    <p:sp>
                      <p:nvSpPr>
                        <p:cNvPr id="5934" name=""/>
                        <p:cNvSpPr/>
                        <p:nvPr/>
                      </p:nvSpPr>
                      <p:spPr>
                        <a:xfrm>
                          <a:off x="80629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5" name=""/>
                        <p:cNvSpPr/>
                        <p:nvPr/>
                      </p:nvSpPr>
                      <p:spPr>
                        <a:xfrm>
                          <a:off x="80629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6" name=""/>
                        <p:cNvSpPr/>
                        <p:nvPr/>
                      </p:nvSpPr>
                      <p:spPr>
                        <a:xfrm>
                          <a:off x="80535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937" name=""/>
                      <p:cNvSpPr/>
                      <p:nvPr/>
                    </p:nvSpPr>
                    <p:spPr>
                      <a:xfrm>
                        <a:off x="80517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8" name=""/>
                      <p:cNvSpPr/>
                      <p:nvPr/>
                    </p:nvSpPr>
                    <p:spPr>
                      <a:xfrm>
                        <a:off x="80805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39" name=""/>
                    <p:cNvGrpSpPr/>
                    <p:nvPr/>
                  </p:nvGrpSpPr>
                  <p:grpSpPr>
                    <a:xfrm>
                      <a:off x="8024760" y="5115240"/>
                      <a:ext cx="23760" cy="4680"/>
                      <a:chOff x="8024760" y="5115240"/>
                      <a:chExt cx="23760" cy="4680"/>
                    </a:xfrm>
                  </p:grpSpPr>
                  <p:grpSp>
                    <p:nvGrpSpPr>
                      <p:cNvPr id="5940" name=""/>
                      <p:cNvGrpSpPr/>
                      <p:nvPr/>
                    </p:nvGrpSpPr>
                    <p:grpSpPr>
                      <a:xfrm>
                        <a:off x="8024760" y="5115240"/>
                        <a:ext cx="12960" cy="4680"/>
                        <a:chOff x="8024760" y="5115240"/>
                        <a:chExt cx="12960" cy="4680"/>
                      </a:xfrm>
                    </p:grpSpPr>
                    <p:grpSp>
                      <p:nvGrpSpPr>
                        <p:cNvPr id="5941" name=""/>
                        <p:cNvGrpSpPr/>
                        <p:nvPr/>
                      </p:nvGrpSpPr>
                      <p:grpSpPr>
                        <a:xfrm>
                          <a:off x="8024760" y="5115240"/>
                          <a:ext cx="6480" cy="4680"/>
                          <a:chOff x="8024760" y="5115240"/>
                          <a:chExt cx="6480" cy="4680"/>
                        </a:xfrm>
                      </p:grpSpPr>
                      <p:grpSp>
                        <p:nvGrpSpPr>
                          <p:cNvPr id="5942" name=""/>
                          <p:cNvGrpSpPr/>
                          <p:nvPr/>
                        </p:nvGrpSpPr>
                        <p:grpSpPr>
                          <a:xfrm>
                            <a:off x="8024760" y="5115240"/>
                            <a:ext cx="3240" cy="4680"/>
                            <a:chOff x="8024760" y="5115240"/>
                            <a:chExt cx="3240" cy="4680"/>
                          </a:xfrm>
                        </p:grpSpPr>
                        <p:sp>
                          <p:nvSpPr>
                            <p:cNvPr id="5943" name=""/>
                            <p:cNvSpPr/>
                            <p:nvPr/>
                          </p:nvSpPr>
                          <p:spPr>
                            <a:xfrm>
                              <a:off x="80247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4" name=""/>
                            <p:cNvSpPr/>
                            <p:nvPr/>
                          </p:nvSpPr>
                          <p:spPr>
                            <a:xfrm>
                              <a:off x="80265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45" name=""/>
                          <p:cNvGrpSpPr/>
                          <p:nvPr/>
                        </p:nvGrpSpPr>
                        <p:grpSpPr>
                          <a:xfrm>
                            <a:off x="8028000" y="5115240"/>
                            <a:ext cx="3240" cy="4680"/>
                            <a:chOff x="8028000" y="5115240"/>
                            <a:chExt cx="3240" cy="4680"/>
                          </a:xfrm>
                        </p:grpSpPr>
                        <p:sp>
                          <p:nvSpPr>
                            <p:cNvPr id="5946" name=""/>
                            <p:cNvSpPr/>
                            <p:nvPr/>
                          </p:nvSpPr>
                          <p:spPr>
                            <a:xfrm>
                              <a:off x="80280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7" name=""/>
                            <p:cNvSpPr/>
                            <p:nvPr/>
                          </p:nvSpPr>
                          <p:spPr>
                            <a:xfrm>
                              <a:off x="8029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48" name=""/>
                        <p:cNvGrpSpPr/>
                        <p:nvPr/>
                      </p:nvGrpSpPr>
                      <p:grpSpPr>
                        <a:xfrm>
                          <a:off x="8031240" y="5115240"/>
                          <a:ext cx="6480" cy="4680"/>
                          <a:chOff x="8031240" y="5115240"/>
                          <a:chExt cx="6480" cy="4680"/>
                        </a:xfrm>
                      </p:grpSpPr>
                      <p:grpSp>
                        <p:nvGrpSpPr>
                          <p:cNvPr id="5949" name=""/>
                          <p:cNvGrpSpPr/>
                          <p:nvPr/>
                        </p:nvGrpSpPr>
                        <p:grpSpPr>
                          <a:xfrm>
                            <a:off x="8031240" y="5115240"/>
                            <a:ext cx="3240" cy="4680"/>
                            <a:chOff x="8031240" y="5115240"/>
                            <a:chExt cx="3240" cy="4680"/>
                          </a:xfrm>
                        </p:grpSpPr>
                        <p:sp>
                          <p:nvSpPr>
                            <p:cNvPr id="5950" name=""/>
                            <p:cNvSpPr/>
                            <p:nvPr/>
                          </p:nvSpPr>
                          <p:spPr>
                            <a:xfrm>
                              <a:off x="8031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1" name=""/>
                            <p:cNvSpPr/>
                            <p:nvPr/>
                          </p:nvSpPr>
                          <p:spPr>
                            <a:xfrm>
                              <a:off x="80326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52" name=""/>
                          <p:cNvGrpSpPr/>
                          <p:nvPr/>
                        </p:nvGrpSpPr>
                        <p:grpSpPr>
                          <a:xfrm>
                            <a:off x="8034480" y="5115240"/>
                            <a:ext cx="3240" cy="4680"/>
                            <a:chOff x="8034480" y="5115240"/>
                            <a:chExt cx="3240" cy="4680"/>
                          </a:xfrm>
                        </p:grpSpPr>
                        <p:sp>
                          <p:nvSpPr>
                            <p:cNvPr id="5953" name=""/>
                            <p:cNvSpPr/>
                            <p:nvPr/>
                          </p:nvSpPr>
                          <p:spPr>
                            <a:xfrm>
                              <a:off x="8034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4" name=""/>
                            <p:cNvSpPr/>
                            <p:nvPr/>
                          </p:nvSpPr>
                          <p:spPr>
                            <a:xfrm>
                              <a:off x="80359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955" name=""/>
                      <p:cNvGrpSpPr/>
                      <p:nvPr/>
                    </p:nvGrpSpPr>
                    <p:grpSpPr>
                      <a:xfrm>
                        <a:off x="8037720" y="5115240"/>
                        <a:ext cx="10800" cy="4680"/>
                        <a:chOff x="8037720" y="5115240"/>
                        <a:chExt cx="10800" cy="4680"/>
                      </a:xfrm>
                    </p:grpSpPr>
                    <p:grpSp>
                      <p:nvGrpSpPr>
                        <p:cNvPr id="5956" name=""/>
                        <p:cNvGrpSpPr/>
                        <p:nvPr/>
                      </p:nvGrpSpPr>
                      <p:grpSpPr>
                        <a:xfrm>
                          <a:off x="8037720" y="5115240"/>
                          <a:ext cx="6120" cy="4680"/>
                          <a:chOff x="8037720" y="5115240"/>
                          <a:chExt cx="6120" cy="4680"/>
                        </a:xfrm>
                      </p:grpSpPr>
                      <p:grpSp>
                        <p:nvGrpSpPr>
                          <p:cNvPr id="5957" name=""/>
                          <p:cNvGrpSpPr/>
                          <p:nvPr/>
                        </p:nvGrpSpPr>
                        <p:grpSpPr>
                          <a:xfrm>
                            <a:off x="8037720" y="5115240"/>
                            <a:ext cx="2880" cy="4680"/>
                            <a:chOff x="8037720" y="5115240"/>
                            <a:chExt cx="2880" cy="4680"/>
                          </a:xfrm>
                        </p:grpSpPr>
                        <p:sp>
                          <p:nvSpPr>
                            <p:cNvPr id="5958" name=""/>
                            <p:cNvSpPr/>
                            <p:nvPr/>
                          </p:nvSpPr>
                          <p:spPr>
                            <a:xfrm>
                              <a:off x="8037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9" name=""/>
                            <p:cNvSpPr/>
                            <p:nvPr/>
                          </p:nvSpPr>
                          <p:spPr>
                            <a:xfrm>
                              <a:off x="8039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0" name=""/>
                          <p:cNvGrpSpPr/>
                          <p:nvPr/>
                        </p:nvGrpSpPr>
                        <p:grpSpPr>
                          <a:xfrm>
                            <a:off x="8040600" y="5115240"/>
                            <a:ext cx="3240" cy="4680"/>
                            <a:chOff x="8040600" y="5115240"/>
                            <a:chExt cx="3240" cy="4680"/>
                          </a:xfrm>
                        </p:grpSpPr>
                        <p:sp>
                          <p:nvSpPr>
                            <p:cNvPr id="5961" name=""/>
                            <p:cNvSpPr/>
                            <p:nvPr/>
                          </p:nvSpPr>
                          <p:spPr>
                            <a:xfrm>
                              <a:off x="8040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2" name=""/>
                            <p:cNvSpPr/>
                            <p:nvPr/>
                          </p:nvSpPr>
                          <p:spPr>
                            <a:xfrm>
                              <a:off x="8042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63" name=""/>
                        <p:cNvGrpSpPr/>
                        <p:nvPr/>
                      </p:nvGrpSpPr>
                      <p:grpSpPr>
                        <a:xfrm>
                          <a:off x="8043840" y="5115240"/>
                          <a:ext cx="4680" cy="4680"/>
                          <a:chOff x="8043840" y="5115240"/>
                          <a:chExt cx="4680" cy="4680"/>
                        </a:xfrm>
                      </p:grpSpPr>
                      <p:grpSp>
                        <p:nvGrpSpPr>
                          <p:cNvPr id="5964" name=""/>
                          <p:cNvGrpSpPr/>
                          <p:nvPr/>
                        </p:nvGrpSpPr>
                        <p:grpSpPr>
                          <a:xfrm>
                            <a:off x="8043840" y="5115240"/>
                            <a:ext cx="1800" cy="4680"/>
                            <a:chOff x="8043840" y="5115240"/>
                            <a:chExt cx="1800" cy="4680"/>
                          </a:xfrm>
                        </p:grpSpPr>
                        <p:sp>
                          <p:nvSpPr>
                            <p:cNvPr id="5965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6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7" name=""/>
                          <p:cNvGrpSpPr/>
                          <p:nvPr/>
                        </p:nvGrpSpPr>
                        <p:grpSpPr>
                          <a:xfrm>
                            <a:off x="8045640" y="5115240"/>
                            <a:ext cx="2880" cy="4680"/>
                            <a:chOff x="8045640" y="5115240"/>
                            <a:chExt cx="2880" cy="4680"/>
                          </a:xfrm>
                        </p:grpSpPr>
                        <p:sp>
                          <p:nvSpPr>
                            <p:cNvPr id="5968" name=""/>
                            <p:cNvSpPr/>
                            <p:nvPr/>
                          </p:nvSpPr>
                          <p:spPr>
                            <a:xfrm>
                              <a:off x="80456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9" name=""/>
                            <p:cNvSpPr/>
                            <p:nvPr/>
                          </p:nvSpPr>
                          <p:spPr>
                            <a:xfrm>
                              <a:off x="8047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970" name=""/>
                    <p:cNvSpPr/>
                    <p:nvPr/>
                  </p:nvSpPr>
                  <p:spPr>
                    <a:xfrm>
                      <a:off x="80233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71" name=""/>
                  <p:cNvGrpSpPr/>
                  <p:nvPr/>
                </p:nvGrpSpPr>
                <p:grpSpPr>
                  <a:xfrm>
                    <a:off x="7978680" y="5134320"/>
                    <a:ext cx="211320" cy="29880"/>
                    <a:chOff x="7978680" y="5134320"/>
                    <a:chExt cx="211320" cy="29880"/>
                  </a:xfrm>
                </p:grpSpPr>
                <p:grpSp>
                  <p:nvGrpSpPr>
                    <p:cNvPr id="5972" name=""/>
                    <p:cNvGrpSpPr/>
                    <p:nvPr/>
                  </p:nvGrpSpPr>
                  <p:grpSpPr>
                    <a:xfrm>
                      <a:off x="7978680" y="5134320"/>
                      <a:ext cx="211320" cy="29880"/>
                      <a:chOff x="7978680" y="5134320"/>
                      <a:chExt cx="211320" cy="29880"/>
                    </a:xfrm>
                  </p:grpSpPr>
                  <p:sp>
                    <p:nvSpPr>
                      <p:cNvPr id="5973" name=""/>
                      <p:cNvSpPr/>
                      <p:nvPr/>
                    </p:nvSpPr>
                    <p:spPr>
                      <a:xfrm>
                        <a:off x="79786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4" name=""/>
                      <p:cNvSpPr/>
                      <p:nvPr/>
                    </p:nvSpPr>
                    <p:spPr>
                      <a:xfrm>
                        <a:off x="79786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5" name=""/>
                      <p:cNvSpPr/>
                      <p:nvPr/>
                    </p:nvSpPr>
                    <p:spPr>
                      <a:xfrm>
                        <a:off x="79851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76" name=""/>
                    <p:cNvGrpSpPr/>
                    <p:nvPr/>
                  </p:nvGrpSpPr>
                  <p:grpSpPr>
                    <a:xfrm>
                      <a:off x="8001000" y="5137200"/>
                      <a:ext cx="166680" cy="5040"/>
                      <a:chOff x="8001000" y="5137200"/>
                      <a:chExt cx="166680" cy="5040"/>
                    </a:xfrm>
                  </p:grpSpPr>
                  <p:sp>
                    <p:nvSpPr>
                      <p:cNvPr id="5977" name=""/>
                      <p:cNvSpPr/>
                      <p:nvPr/>
                    </p:nvSpPr>
                    <p:spPr>
                      <a:xfrm>
                        <a:off x="80010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8" name=""/>
                      <p:cNvSpPr/>
                      <p:nvPr/>
                    </p:nvSpPr>
                    <p:spPr>
                      <a:xfrm>
                        <a:off x="80186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9" name=""/>
                      <p:cNvSpPr/>
                      <p:nvPr/>
                    </p:nvSpPr>
                    <p:spPr>
                      <a:xfrm>
                        <a:off x="80517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0" name=""/>
                      <p:cNvSpPr/>
                      <p:nvPr/>
                    </p:nvSpPr>
                    <p:spPr>
                      <a:xfrm>
                        <a:off x="80820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1" name=""/>
                      <p:cNvSpPr/>
                      <p:nvPr/>
                    </p:nvSpPr>
                    <p:spPr>
                      <a:xfrm>
                        <a:off x="81122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2" name=""/>
                      <p:cNvSpPr/>
                      <p:nvPr/>
                    </p:nvSpPr>
                    <p:spPr>
                      <a:xfrm>
                        <a:off x="81406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83" name=""/>
                    <p:cNvGrpSpPr/>
                    <p:nvPr/>
                  </p:nvGrpSpPr>
                  <p:grpSpPr>
                    <a:xfrm>
                      <a:off x="7994880" y="5143680"/>
                      <a:ext cx="176040" cy="11160"/>
                      <a:chOff x="7994880" y="5143680"/>
                      <a:chExt cx="176040" cy="11160"/>
                    </a:xfrm>
                  </p:grpSpPr>
                  <p:grpSp>
                    <p:nvGrpSpPr>
                      <p:cNvPr id="5984" name=""/>
                      <p:cNvGrpSpPr/>
                      <p:nvPr/>
                    </p:nvGrpSpPr>
                    <p:grpSpPr>
                      <a:xfrm>
                        <a:off x="8010720" y="5143680"/>
                        <a:ext cx="85680" cy="9360"/>
                        <a:chOff x="8010720" y="5143680"/>
                        <a:chExt cx="85680" cy="9360"/>
                      </a:xfrm>
                    </p:grpSpPr>
                    <p:sp>
                      <p:nvSpPr>
                        <p:cNvPr id="5985" name=""/>
                        <p:cNvSpPr/>
                        <p:nvPr/>
                      </p:nvSpPr>
                      <p:spPr>
                        <a:xfrm>
                          <a:off x="80107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6" name=""/>
                        <p:cNvSpPr/>
                        <p:nvPr/>
                      </p:nvSpPr>
                      <p:spPr>
                        <a:xfrm>
                          <a:off x="80136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7" name=""/>
                        <p:cNvSpPr/>
                        <p:nvPr/>
                      </p:nvSpPr>
                      <p:spPr>
                        <a:xfrm>
                          <a:off x="80154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8" name=""/>
                        <p:cNvSpPr/>
                        <p:nvPr/>
                      </p:nvSpPr>
                      <p:spPr>
                        <a:xfrm>
                          <a:off x="80168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9" name=""/>
                      <p:cNvGrpSpPr/>
                      <p:nvPr/>
                    </p:nvGrpSpPr>
                    <p:grpSpPr>
                      <a:xfrm>
                        <a:off x="7994880" y="5145120"/>
                        <a:ext cx="15840" cy="6480"/>
                        <a:chOff x="7994880" y="5145120"/>
                        <a:chExt cx="15840" cy="6480"/>
                      </a:xfrm>
                    </p:grpSpPr>
                    <p:sp>
                      <p:nvSpPr>
                        <p:cNvPr id="5990" name=""/>
                        <p:cNvSpPr/>
                        <p:nvPr/>
                      </p:nvSpPr>
                      <p:spPr>
                        <a:xfrm>
                          <a:off x="79995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1" name=""/>
                        <p:cNvSpPr/>
                        <p:nvPr/>
                      </p:nvSpPr>
                      <p:spPr>
                        <a:xfrm>
                          <a:off x="79977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2" name=""/>
                        <p:cNvSpPr/>
                        <p:nvPr/>
                      </p:nvSpPr>
                      <p:spPr>
                        <a:xfrm>
                          <a:off x="79948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3" name=""/>
                      <p:cNvGrpSpPr/>
                      <p:nvPr/>
                    </p:nvGrpSpPr>
                    <p:grpSpPr>
                      <a:xfrm>
                        <a:off x="8029800" y="5143680"/>
                        <a:ext cx="79200" cy="9360"/>
                        <a:chOff x="8029800" y="5143680"/>
                        <a:chExt cx="79200" cy="9360"/>
                      </a:xfrm>
                    </p:grpSpPr>
                    <p:sp>
                      <p:nvSpPr>
                        <p:cNvPr id="5994" name=""/>
                        <p:cNvSpPr/>
                        <p:nvPr/>
                      </p:nvSpPr>
                      <p:spPr>
                        <a:xfrm>
                          <a:off x="80298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5" name=""/>
                        <p:cNvSpPr/>
                        <p:nvPr/>
                      </p:nvSpPr>
                      <p:spPr>
                        <a:xfrm>
                          <a:off x="80964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6" name=""/>
                        <p:cNvSpPr/>
                        <p:nvPr/>
                      </p:nvSpPr>
                      <p:spPr>
                        <a:xfrm>
                          <a:off x="80996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7" name=""/>
                        <p:cNvSpPr/>
                        <p:nvPr/>
                      </p:nvSpPr>
                      <p:spPr>
                        <a:xfrm>
                          <a:off x="80931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8" name=""/>
                        <p:cNvSpPr/>
                        <p:nvPr/>
                      </p:nvSpPr>
                      <p:spPr>
                        <a:xfrm>
                          <a:off x="80805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9" name=""/>
                        <p:cNvSpPr/>
                        <p:nvPr/>
                      </p:nvSpPr>
                      <p:spPr>
                        <a:xfrm>
                          <a:off x="80899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0" name=""/>
                      <p:cNvGrpSpPr/>
                      <p:nvPr/>
                    </p:nvGrpSpPr>
                    <p:grpSpPr>
                      <a:xfrm>
                        <a:off x="8112240" y="5145120"/>
                        <a:ext cx="25200" cy="7920"/>
                        <a:chOff x="8112240" y="5145120"/>
                        <a:chExt cx="25200" cy="7920"/>
                      </a:xfrm>
                    </p:grpSpPr>
                    <p:sp>
                      <p:nvSpPr>
                        <p:cNvPr id="6001" name=""/>
                        <p:cNvSpPr/>
                        <p:nvPr/>
                      </p:nvSpPr>
                      <p:spPr>
                        <a:xfrm>
                          <a:off x="81122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2" name=""/>
                        <p:cNvSpPr/>
                        <p:nvPr/>
                      </p:nvSpPr>
                      <p:spPr>
                        <a:xfrm>
                          <a:off x="81154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3" name=""/>
                        <p:cNvSpPr/>
                        <p:nvPr/>
                      </p:nvSpPr>
                      <p:spPr>
                        <a:xfrm>
                          <a:off x="81154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4" name=""/>
                      <p:cNvGrpSpPr/>
                      <p:nvPr/>
                    </p:nvGrpSpPr>
                    <p:grpSpPr>
                      <a:xfrm>
                        <a:off x="8140680" y="5145120"/>
                        <a:ext cx="30240" cy="9720"/>
                        <a:chOff x="8140680" y="5145120"/>
                        <a:chExt cx="30240" cy="9720"/>
                      </a:xfrm>
                    </p:grpSpPr>
                    <p:sp>
                      <p:nvSpPr>
                        <p:cNvPr id="6005" name=""/>
                        <p:cNvSpPr/>
                        <p:nvPr/>
                      </p:nvSpPr>
                      <p:spPr>
                        <a:xfrm>
                          <a:off x="81439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6" name=""/>
                        <p:cNvSpPr/>
                        <p:nvPr/>
                      </p:nvSpPr>
                      <p:spPr>
                        <a:xfrm>
                          <a:off x="81406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7" name=""/>
                        <p:cNvSpPr/>
                        <p:nvPr/>
                      </p:nvSpPr>
                      <p:spPr>
                        <a:xfrm>
                          <a:off x="81439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8" name=""/>
                        <p:cNvSpPr/>
                        <p:nvPr/>
                      </p:nvSpPr>
                      <p:spPr>
                        <a:xfrm>
                          <a:off x="81424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9" name=""/>
                        <p:cNvSpPr/>
                        <p:nvPr/>
                      </p:nvSpPr>
                      <p:spPr>
                        <a:xfrm>
                          <a:off x="81630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0" name=""/>
                        <p:cNvSpPr/>
                        <p:nvPr/>
                      </p:nvSpPr>
                      <p:spPr>
                        <a:xfrm>
                          <a:off x="81644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011" name=""/>
                  <p:cNvGrpSpPr/>
                  <p:nvPr/>
                </p:nvGrpSpPr>
                <p:grpSpPr>
                  <a:xfrm>
                    <a:off x="8040600" y="5075280"/>
                    <a:ext cx="92160" cy="19080"/>
                    <a:chOff x="8040600" y="5075280"/>
                    <a:chExt cx="92160" cy="19080"/>
                  </a:xfrm>
                </p:grpSpPr>
                <p:grpSp>
                  <p:nvGrpSpPr>
                    <p:cNvPr id="6012" name=""/>
                    <p:cNvGrpSpPr/>
                    <p:nvPr/>
                  </p:nvGrpSpPr>
                  <p:grpSpPr>
                    <a:xfrm>
                      <a:off x="8040600" y="5080320"/>
                      <a:ext cx="92160" cy="14040"/>
                      <a:chOff x="8040600" y="5080320"/>
                      <a:chExt cx="92160" cy="14040"/>
                    </a:xfrm>
                  </p:grpSpPr>
                  <p:sp>
                    <p:nvSpPr>
                      <p:cNvPr id="6013" name=""/>
                      <p:cNvSpPr/>
                      <p:nvPr/>
                    </p:nvSpPr>
                    <p:spPr>
                      <a:xfrm>
                        <a:off x="80406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14" name=""/>
                      <p:cNvSpPr/>
                      <p:nvPr/>
                    </p:nvSpPr>
                    <p:spPr>
                      <a:xfrm>
                        <a:off x="80406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15" name=""/>
                    <p:cNvSpPr/>
                    <p:nvPr/>
                  </p:nvSpPr>
                  <p:spPr>
                    <a:xfrm>
                      <a:off x="80614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6" name=""/>
                  <p:cNvSpPr/>
                  <p:nvPr/>
                </p:nvSpPr>
                <p:spPr>
                  <a:xfrm>
                    <a:off x="80298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80424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80470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81248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020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85885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021" name=""/>
            <p:cNvGrpSpPr/>
            <p:nvPr/>
          </p:nvGrpSpPr>
          <p:grpSpPr>
            <a:xfrm>
              <a:off x="7905600" y="3962520"/>
              <a:ext cx="1086120" cy="752400"/>
              <a:chOff x="7905600" y="3962520"/>
              <a:chExt cx="1086120" cy="752400"/>
            </a:xfrm>
          </p:grpSpPr>
          <p:sp>
            <p:nvSpPr>
              <p:cNvPr id="6022" name=""/>
              <p:cNvSpPr/>
              <p:nvPr/>
            </p:nvSpPr>
            <p:spPr>
              <a:xfrm>
                <a:off x="79056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79534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2 Zacapoax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024" name=""/>
              <p:cNvGrpSpPr/>
              <p:nvPr/>
            </p:nvGrpSpPr>
            <p:grpSpPr>
              <a:xfrm>
                <a:off x="7978680" y="4017960"/>
                <a:ext cx="822600" cy="488880"/>
                <a:chOff x="7978680" y="4017960"/>
                <a:chExt cx="822600" cy="488880"/>
              </a:xfrm>
            </p:grpSpPr>
            <p:sp>
              <p:nvSpPr>
                <p:cNvPr id="6025" name=""/>
                <p:cNvSpPr/>
                <p:nvPr/>
              </p:nvSpPr>
              <p:spPr>
                <a:xfrm>
                  <a:off x="81216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84074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>
                  <a:off x="83408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028" name="pbx" descr=""/>
                <p:cNvPicPr/>
                <p:nvPr/>
              </p:nvPicPr>
              <p:blipFill>
                <a:blip r:embed="rId72"/>
                <a:srcRect l="37594" t="74298" r="28339" b="4834"/>
                <a:stretch/>
              </p:blipFill>
              <p:spPr>
                <a:xfrm>
                  <a:off x="82836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9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3106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30" name=""/>
                <p:cNvGrpSpPr/>
                <p:nvPr/>
              </p:nvGrpSpPr>
              <p:grpSpPr>
                <a:xfrm>
                  <a:off x="7978680" y="4156200"/>
                  <a:ext cx="211320" cy="169920"/>
                  <a:chOff x="7978680" y="4156200"/>
                  <a:chExt cx="211320" cy="169920"/>
                </a:xfrm>
              </p:grpSpPr>
              <p:grpSp>
                <p:nvGrpSpPr>
                  <p:cNvPr id="6031" name=""/>
                  <p:cNvGrpSpPr/>
                  <p:nvPr/>
                </p:nvGrpSpPr>
                <p:grpSpPr>
                  <a:xfrm>
                    <a:off x="8018640" y="4246920"/>
                    <a:ext cx="134640" cy="52200"/>
                    <a:chOff x="8018640" y="4246920"/>
                    <a:chExt cx="134640" cy="52200"/>
                  </a:xfrm>
                </p:grpSpPr>
                <p:grpSp>
                  <p:nvGrpSpPr>
                    <p:cNvPr id="6032" name=""/>
                    <p:cNvGrpSpPr/>
                    <p:nvPr/>
                  </p:nvGrpSpPr>
                  <p:grpSpPr>
                    <a:xfrm>
                      <a:off x="8018640" y="4246920"/>
                      <a:ext cx="134640" cy="52200"/>
                      <a:chOff x="8018640" y="4246920"/>
                      <a:chExt cx="134640" cy="52200"/>
                    </a:xfrm>
                  </p:grpSpPr>
                  <p:grpSp>
                    <p:nvGrpSpPr>
                      <p:cNvPr id="6033" name=""/>
                      <p:cNvGrpSpPr/>
                      <p:nvPr/>
                    </p:nvGrpSpPr>
                    <p:grpSpPr>
                      <a:xfrm>
                        <a:off x="8018640" y="4246920"/>
                        <a:ext cx="134640" cy="52200"/>
                        <a:chOff x="8018640" y="4246920"/>
                        <a:chExt cx="134640" cy="52200"/>
                      </a:xfrm>
                    </p:grpSpPr>
                    <p:grpSp>
                      <p:nvGrpSpPr>
                        <p:cNvPr id="6034" name=""/>
                        <p:cNvGrpSpPr/>
                        <p:nvPr/>
                      </p:nvGrpSpPr>
                      <p:grpSpPr>
                        <a:xfrm>
                          <a:off x="8018640" y="4246920"/>
                          <a:ext cx="134640" cy="52200"/>
                          <a:chOff x="8018640" y="4246920"/>
                          <a:chExt cx="134640" cy="52200"/>
                        </a:xfrm>
                      </p:grpSpPr>
                      <p:grpSp>
                        <p:nvGrpSpPr>
                          <p:cNvPr id="6035" name=""/>
                          <p:cNvGrpSpPr/>
                          <p:nvPr/>
                        </p:nvGrpSpPr>
                        <p:grpSpPr>
                          <a:xfrm>
                            <a:off x="8018640" y="4246920"/>
                            <a:ext cx="134640" cy="52200"/>
                            <a:chOff x="8018640" y="4246920"/>
                            <a:chExt cx="134640" cy="52200"/>
                          </a:xfrm>
                        </p:grpSpPr>
                        <p:sp>
                          <p:nvSpPr>
                            <p:cNvPr id="6036" name=""/>
                            <p:cNvSpPr/>
                            <p:nvPr/>
                          </p:nvSpPr>
                          <p:spPr>
                            <a:xfrm>
                              <a:off x="80186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7" name=""/>
                            <p:cNvSpPr/>
                            <p:nvPr/>
                          </p:nvSpPr>
                          <p:spPr>
                            <a:xfrm>
                              <a:off x="80200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038" name=""/>
                          <p:cNvSpPr/>
                          <p:nvPr/>
                        </p:nvSpPr>
                        <p:spPr>
                          <a:xfrm>
                            <a:off x="80215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39" name=""/>
                        <p:cNvGrpSpPr/>
                        <p:nvPr/>
                      </p:nvGrpSpPr>
                      <p:grpSpPr>
                        <a:xfrm>
                          <a:off x="8024760" y="4289760"/>
                          <a:ext cx="127080" cy="7920"/>
                          <a:chOff x="8024760" y="4289760"/>
                          <a:chExt cx="127080" cy="7920"/>
                        </a:xfrm>
                      </p:grpSpPr>
                      <p:grpSp>
                        <p:nvGrpSpPr>
                          <p:cNvPr id="6040" name=""/>
                          <p:cNvGrpSpPr/>
                          <p:nvPr/>
                        </p:nvGrpSpPr>
                        <p:grpSpPr>
                          <a:xfrm>
                            <a:off x="8024760" y="4289760"/>
                            <a:ext cx="63720" cy="7920"/>
                            <a:chOff x="8024760" y="4289760"/>
                            <a:chExt cx="63720" cy="7920"/>
                          </a:xfrm>
                        </p:grpSpPr>
                        <p:grpSp>
                          <p:nvGrpSpPr>
                            <p:cNvPr id="6041" name=""/>
                            <p:cNvGrpSpPr/>
                            <p:nvPr/>
                          </p:nvGrpSpPr>
                          <p:grpSpPr>
                            <a:xfrm>
                              <a:off x="8024760" y="4289760"/>
                              <a:ext cx="31680" cy="7920"/>
                              <a:chOff x="8024760" y="4289760"/>
                              <a:chExt cx="31680" cy="7920"/>
                            </a:xfrm>
                          </p:grpSpPr>
                          <p:grpSp>
                            <p:nvGrpSpPr>
                              <p:cNvPr id="6042" name=""/>
                              <p:cNvGrpSpPr/>
                              <p:nvPr/>
                            </p:nvGrpSpPr>
                            <p:grpSpPr>
                              <a:xfrm>
                                <a:off x="8024760" y="4289760"/>
                                <a:ext cx="15840" cy="7920"/>
                                <a:chOff x="8024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4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4289760"/>
                                  <a:ext cx="7920" cy="7920"/>
                                  <a:chOff x="8024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4289760"/>
                                    <a:ext cx="3240" cy="7920"/>
                                    <a:chOff x="8024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4289760"/>
                                    <a:ext cx="4680" cy="7920"/>
                                    <a:chOff x="80280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5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4289760"/>
                                  <a:ext cx="7920" cy="7920"/>
                                  <a:chOff x="8032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4289760"/>
                                    <a:ext cx="3240" cy="7920"/>
                                    <a:chOff x="8032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4289760"/>
                                    <a:ext cx="4680" cy="7920"/>
                                    <a:chOff x="8035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57" name=""/>
                              <p:cNvGrpSpPr/>
                              <p:nvPr/>
                            </p:nvGrpSpPr>
                            <p:grpSpPr>
                              <a:xfrm>
                                <a:off x="8040600" y="4289760"/>
                                <a:ext cx="15840" cy="7920"/>
                                <a:chOff x="8040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5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4289760"/>
                                  <a:ext cx="7920" cy="7920"/>
                                  <a:chOff x="8040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4289760"/>
                                    <a:ext cx="3240" cy="7920"/>
                                    <a:chOff x="8040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4289760"/>
                                    <a:ext cx="4680" cy="7920"/>
                                    <a:chOff x="80438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6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4289760"/>
                                  <a:ext cx="7920" cy="7920"/>
                                  <a:chOff x="8048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4289760"/>
                                    <a:ext cx="3240" cy="7920"/>
                                    <a:chOff x="8048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4289760"/>
                                    <a:ext cx="4680" cy="7920"/>
                                    <a:chOff x="80517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072" name=""/>
                            <p:cNvGrpSpPr/>
                            <p:nvPr/>
                          </p:nvGrpSpPr>
                          <p:grpSpPr>
                            <a:xfrm>
                              <a:off x="8056440" y="4289760"/>
                              <a:ext cx="32040" cy="7920"/>
                              <a:chOff x="8056440" y="4289760"/>
                              <a:chExt cx="32040" cy="7920"/>
                            </a:xfrm>
                          </p:grpSpPr>
                          <p:grpSp>
                            <p:nvGrpSpPr>
                              <p:cNvPr id="6073" name=""/>
                              <p:cNvGrpSpPr/>
                              <p:nvPr/>
                            </p:nvGrpSpPr>
                            <p:grpSpPr>
                              <a:xfrm>
                                <a:off x="8056440" y="4289760"/>
                                <a:ext cx="16200" cy="7920"/>
                                <a:chOff x="80564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607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4289760"/>
                                  <a:ext cx="8280" cy="7920"/>
                                  <a:chOff x="80564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0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4289760"/>
                                    <a:ext cx="3240" cy="7920"/>
                                    <a:chOff x="8056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4289760"/>
                                    <a:ext cx="3240" cy="7920"/>
                                    <a:chOff x="8061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8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4289760"/>
                                  <a:ext cx="7920" cy="7920"/>
                                  <a:chOff x="80647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4289760"/>
                                    <a:ext cx="2880" cy="7920"/>
                                    <a:chOff x="80647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4289760"/>
                                    <a:ext cx="3240" cy="7920"/>
                                    <a:chOff x="8069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88" name=""/>
                              <p:cNvGrpSpPr/>
                              <p:nvPr/>
                            </p:nvGrpSpPr>
                            <p:grpSpPr>
                              <a:xfrm>
                                <a:off x="8072640" y="4289760"/>
                                <a:ext cx="15840" cy="7920"/>
                                <a:chOff x="80726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8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4289760"/>
                                  <a:ext cx="7920" cy="7920"/>
                                  <a:chOff x="80726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4289760"/>
                                    <a:ext cx="2880" cy="7920"/>
                                    <a:chOff x="80726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4289760"/>
                                    <a:ext cx="3240" cy="7920"/>
                                    <a:chOff x="8077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9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4289760"/>
                                  <a:ext cx="7920" cy="7920"/>
                                  <a:chOff x="80805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4289760"/>
                                    <a:ext cx="2880" cy="7920"/>
                                    <a:chOff x="80805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4289760"/>
                                    <a:ext cx="5040" cy="7920"/>
                                    <a:chOff x="80834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103" name=""/>
                          <p:cNvGrpSpPr/>
                          <p:nvPr/>
                        </p:nvGrpSpPr>
                        <p:grpSpPr>
                          <a:xfrm>
                            <a:off x="8088480" y="4289760"/>
                            <a:ext cx="63360" cy="7920"/>
                            <a:chOff x="8088480" y="4289760"/>
                            <a:chExt cx="63360" cy="7920"/>
                          </a:xfrm>
                        </p:grpSpPr>
                        <p:grpSp>
                          <p:nvGrpSpPr>
                            <p:cNvPr id="6104" name=""/>
                            <p:cNvGrpSpPr/>
                            <p:nvPr/>
                          </p:nvGrpSpPr>
                          <p:grpSpPr>
                            <a:xfrm>
                              <a:off x="8088480" y="4289760"/>
                              <a:ext cx="31680" cy="7920"/>
                              <a:chOff x="8088480" y="4289760"/>
                              <a:chExt cx="31680" cy="7920"/>
                            </a:xfrm>
                          </p:grpSpPr>
                          <p:grpSp>
                            <p:nvGrpSpPr>
                              <p:cNvPr id="6105" name=""/>
                              <p:cNvGrpSpPr/>
                              <p:nvPr/>
                            </p:nvGrpSpPr>
                            <p:grpSpPr>
                              <a:xfrm>
                                <a:off x="8088480" y="4289760"/>
                                <a:ext cx="15840" cy="7920"/>
                                <a:chOff x="80884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0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4289760"/>
                                  <a:ext cx="7920" cy="7920"/>
                                  <a:chOff x="80884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4289760"/>
                                    <a:ext cx="3240" cy="7920"/>
                                    <a:chOff x="8088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4289760"/>
                                    <a:ext cx="4680" cy="7920"/>
                                    <a:chOff x="80917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1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4289760"/>
                                  <a:ext cx="7920" cy="7920"/>
                                  <a:chOff x="80964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4289760"/>
                                    <a:ext cx="3240" cy="7920"/>
                                    <a:chOff x="8096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4289760"/>
                                    <a:ext cx="3240" cy="7920"/>
                                    <a:chOff x="8101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20" name=""/>
                              <p:cNvGrpSpPr/>
                              <p:nvPr/>
                            </p:nvGrpSpPr>
                            <p:grpSpPr>
                              <a:xfrm>
                                <a:off x="8104320" y="4289760"/>
                                <a:ext cx="15840" cy="7920"/>
                                <a:chOff x="81043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2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4289760"/>
                                  <a:ext cx="7920" cy="7920"/>
                                  <a:chOff x="8104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4289760"/>
                                    <a:ext cx="3240" cy="7920"/>
                                    <a:chOff x="8104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4289760"/>
                                    <a:ext cx="3240" cy="7920"/>
                                    <a:chOff x="8109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2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4289760"/>
                                  <a:ext cx="7920" cy="7920"/>
                                  <a:chOff x="8112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4289760"/>
                                    <a:ext cx="3240" cy="7920"/>
                                    <a:chOff x="81122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4289760"/>
                                    <a:ext cx="4680" cy="7920"/>
                                    <a:chOff x="81154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135" name=""/>
                            <p:cNvGrpSpPr/>
                            <p:nvPr/>
                          </p:nvGrpSpPr>
                          <p:grpSpPr>
                            <a:xfrm>
                              <a:off x="8120160" y="4289760"/>
                              <a:ext cx="31680" cy="7920"/>
                              <a:chOff x="8120160" y="4289760"/>
                              <a:chExt cx="31680" cy="7920"/>
                            </a:xfrm>
                          </p:grpSpPr>
                          <p:grpSp>
                            <p:nvGrpSpPr>
                              <p:cNvPr id="6136" name=""/>
                              <p:cNvGrpSpPr/>
                              <p:nvPr/>
                            </p:nvGrpSpPr>
                            <p:grpSpPr>
                              <a:xfrm>
                                <a:off x="8120160" y="4289760"/>
                                <a:ext cx="15840" cy="7920"/>
                                <a:chOff x="81201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3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4289760"/>
                                  <a:ext cx="7920" cy="7920"/>
                                  <a:chOff x="8120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4289760"/>
                                    <a:ext cx="3240" cy="7920"/>
                                    <a:chOff x="81201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4289760"/>
                                    <a:ext cx="3240" cy="7920"/>
                                    <a:chOff x="8124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4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4289760"/>
                                  <a:ext cx="7920" cy="7920"/>
                                  <a:chOff x="8128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4289760"/>
                                    <a:ext cx="3240" cy="7920"/>
                                    <a:chOff x="8128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4289760"/>
                                    <a:ext cx="4680" cy="7920"/>
                                    <a:chOff x="8131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51" name=""/>
                              <p:cNvGrpSpPr/>
                              <p:nvPr/>
                            </p:nvGrpSpPr>
                            <p:grpSpPr>
                              <a:xfrm>
                                <a:off x="8136000" y="4289760"/>
                                <a:ext cx="15840" cy="7920"/>
                                <a:chOff x="81360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5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4289760"/>
                                  <a:ext cx="7920" cy="7920"/>
                                  <a:chOff x="8136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4289760"/>
                                    <a:ext cx="3240" cy="7920"/>
                                    <a:chOff x="8136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4289760"/>
                                    <a:ext cx="3240" cy="7920"/>
                                    <a:chOff x="8140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5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4289760"/>
                                  <a:ext cx="7920" cy="7920"/>
                                  <a:chOff x="8143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4289760"/>
                                    <a:ext cx="3240" cy="7920"/>
                                    <a:chOff x="8143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4289760"/>
                                    <a:ext cx="3240" cy="7920"/>
                                    <a:chOff x="8148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166" name=""/>
                      <p:cNvGrpSpPr/>
                      <p:nvPr/>
                    </p:nvGrpSpPr>
                    <p:grpSpPr>
                      <a:xfrm>
                        <a:off x="8021520" y="4260960"/>
                        <a:ext cx="128880" cy="22320"/>
                        <a:chOff x="8021520" y="4260960"/>
                        <a:chExt cx="128880" cy="22320"/>
                      </a:xfrm>
                    </p:grpSpPr>
                    <p:sp>
                      <p:nvSpPr>
                        <p:cNvPr id="6167" name=""/>
                        <p:cNvSpPr/>
                        <p:nvPr/>
                      </p:nvSpPr>
                      <p:spPr>
                        <a:xfrm>
                          <a:off x="80215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8" name=""/>
                        <p:cNvSpPr/>
                        <p:nvPr/>
                      </p:nvSpPr>
                      <p:spPr>
                        <a:xfrm>
                          <a:off x="80503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9" name=""/>
                        <p:cNvSpPr/>
                        <p:nvPr/>
                      </p:nvSpPr>
                      <p:spPr>
                        <a:xfrm>
                          <a:off x="80899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0" name=""/>
                        <p:cNvSpPr/>
                        <p:nvPr/>
                      </p:nvSpPr>
                      <p:spPr>
                        <a:xfrm>
                          <a:off x="81313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1" name=""/>
                    <p:cNvGrpSpPr/>
                    <p:nvPr/>
                  </p:nvGrpSpPr>
                  <p:grpSpPr>
                    <a:xfrm>
                      <a:off x="8134560" y="4264200"/>
                      <a:ext cx="12600" cy="11160"/>
                      <a:chOff x="8134560" y="4264200"/>
                      <a:chExt cx="12600" cy="11160"/>
                    </a:xfrm>
                  </p:grpSpPr>
                  <p:sp>
                    <p:nvSpPr>
                      <p:cNvPr id="6172" name=""/>
                      <p:cNvSpPr/>
                      <p:nvPr/>
                    </p:nvSpPr>
                    <p:spPr>
                      <a:xfrm>
                        <a:off x="81392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3" name=""/>
                      <p:cNvSpPr/>
                      <p:nvPr/>
                    </p:nvSpPr>
                    <p:spPr>
                      <a:xfrm>
                        <a:off x="81406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74" name=""/>
                      <p:cNvGrpSpPr/>
                      <p:nvPr/>
                    </p:nvGrpSpPr>
                    <p:grpSpPr>
                      <a:xfrm>
                        <a:off x="8134560" y="4266000"/>
                        <a:ext cx="2880" cy="6120"/>
                        <a:chOff x="8134560" y="4266000"/>
                        <a:chExt cx="2880" cy="6120"/>
                      </a:xfrm>
                    </p:grpSpPr>
                    <p:sp>
                      <p:nvSpPr>
                        <p:cNvPr id="6175" name=""/>
                        <p:cNvSpPr/>
                        <p:nvPr/>
                      </p:nvSpPr>
                      <p:spPr>
                        <a:xfrm>
                          <a:off x="81345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6" name=""/>
                        <p:cNvSpPr/>
                        <p:nvPr/>
                      </p:nvSpPr>
                      <p:spPr>
                        <a:xfrm>
                          <a:off x="81345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7" name=""/>
                    <p:cNvGrpSpPr/>
                    <p:nvPr/>
                  </p:nvGrpSpPr>
                  <p:grpSpPr>
                    <a:xfrm>
                      <a:off x="8051760" y="4264200"/>
                      <a:ext cx="36720" cy="14400"/>
                      <a:chOff x="8051760" y="4264200"/>
                      <a:chExt cx="36720" cy="14400"/>
                    </a:xfrm>
                  </p:grpSpPr>
                  <p:grpSp>
                    <p:nvGrpSpPr>
                      <p:cNvPr id="6178" name=""/>
                      <p:cNvGrpSpPr/>
                      <p:nvPr/>
                    </p:nvGrpSpPr>
                    <p:grpSpPr>
                      <a:xfrm>
                        <a:off x="8053560" y="4264200"/>
                        <a:ext cx="34920" cy="7920"/>
                        <a:chOff x="8053560" y="4264200"/>
                        <a:chExt cx="34920" cy="7920"/>
                      </a:xfrm>
                    </p:grpSpPr>
                    <p:sp>
                      <p:nvSpPr>
                        <p:cNvPr id="6179" name=""/>
                        <p:cNvSpPr/>
                        <p:nvPr/>
                      </p:nvSpPr>
                      <p:spPr>
                        <a:xfrm>
                          <a:off x="80629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0" name=""/>
                        <p:cNvSpPr/>
                        <p:nvPr/>
                      </p:nvSpPr>
                      <p:spPr>
                        <a:xfrm>
                          <a:off x="80629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1" name=""/>
                        <p:cNvSpPr/>
                        <p:nvPr/>
                      </p:nvSpPr>
                      <p:spPr>
                        <a:xfrm>
                          <a:off x="80535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82" name=""/>
                      <p:cNvSpPr/>
                      <p:nvPr/>
                    </p:nvSpPr>
                    <p:spPr>
                      <a:xfrm>
                        <a:off x="80517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3" name=""/>
                      <p:cNvSpPr/>
                      <p:nvPr/>
                    </p:nvSpPr>
                    <p:spPr>
                      <a:xfrm>
                        <a:off x="80805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84" name=""/>
                    <p:cNvGrpSpPr/>
                    <p:nvPr/>
                  </p:nvGrpSpPr>
                  <p:grpSpPr>
                    <a:xfrm>
                      <a:off x="8024760" y="4277160"/>
                      <a:ext cx="23760" cy="4680"/>
                      <a:chOff x="8024760" y="4277160"/>
                      <a:chExt cx="23760" cy="4680"/>
                    </a:xfrm>
                  </p:grpSpPr>
                  <p:grpSp>
                    <p:nvGrpSpPr>
                      <p:cNvPr id="6185" name=""/>
                      <p:cNvGrpSpPr/>
                      <p:nvPr/>
                    </p:nvGrpSpPr>
                    <p:grpSpPr>
                      <a:xfrm>
                        <a:off x="8024760" y="4277160"/>
                        <a:ext cx="12960" cy="4680"/>
                        <a:chOff x="8024760" y="4277160"/>
                        <a:chExt cx="12960" cy="4680"/>
                      </a:xfrm>
                    </p:grpSpPr>
                    <p:grpSp>
                      <p:nvGrpSpPr>
                        <p:cNvPr id="6186" name=""/>
                        <p:cNvGrpSpPr/>
                        <p:nvPr/>
                      </p:nvGrpSpPr>
                      <p:grpSpPr>
                        <a:xfrm>
                          <a:off x="8024760" y="4277160"/>
                          <a:ext cx="6480" cy="4680"/>
                          <a:chOff x="8024760" y="4277160"/>
                          <a:chExt cx="6480" cy="4680"/>
                        </a:xfrm>
                      </p:grpSpPr>
                      <p:grpSp>
                        <p:nvGrpSpPr>
                          <p:cNvPr id="6187" name=""/>
                          <p:cNvGrpSpPr/>
                          <p:nvPr/>
                        </p:nvGrpSpPr>
                        <p:grpSpPr>
                          <a:xfrm>
                            <a:off x="8024760" y="4277160"/>
                            <a:ext cx="3240" cy="4680"/>
                            <a:chOff x="8024760" y="4277160"/>
                            <a:chExt cx="3240" cy="4680"/>
                          </a:xfrm>
                        </p:grpSpPr>
                        <p:sp>
                          <p:nvSpPr>
                            <p:cNvPr id="6188" name=""/>
                            <p:cNvSpPr/>
                            <p:nvPr/>
                          </p:nvSpPr>
                          <p:spPr>
                            <a:xfrm>
                              <a:off x="80247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89" name=""/>
                            <p:cNvSpPr/>
                            <p:nvPr/>
                          </p:nvSpPr>
                          <p:spPr>
                            <a:xfrm>
                              <a:off x="80265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0" name=""/>
                          <p:cNvGrpSpPr/>
                          <p:nvPr/>
                        </p:nvGrpSpPr>
                        <p:grpSpPr>
                          <a:xfrm>
                            <a:off x="8028000" y="4277160"/>
                            <a:ext cx="3240" cy="4680"/>
                            <a:chOff x="8028000" y="4277160"/>
                            <a:chExt cx="3240" cy="4680"/>
                          </a:xfrm>
                        </p:grpSpPr>
                        <p:sp>
                          <p:nvSpPr>
                            <p:cNvPr id="6191" name=""/>
                            <p:cNvSpPr/>
                            <p:nvPr/>
                          </p:nvSpPr>
                          <p:spPr>
                            <a:xfrm>
                              <a:off x="80280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2" name=""/>
                            <p:cNvSpPr/>
                            <p:nvPr/>
                          </p:nvSpPr>
                          <p:spPr>
                            <a:xfrm>
                              <a:off x="8029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93" name=""/>
                        <p:cNvGrpSpPr/>
                        <p:nvPr/>
                      </p:nvGrpSpPr>
                      <p:grpSpPr>
                        <a:xfrm>
                          <a:off x="8031240" y="4277160"/>
                          <a:ext cx="6480" cy="4680"/>
                          <a:chOff x="8031240" y="4277160"/>
                          <a:chExt cx="6480" cy="4680"/>
                        </a:xfrm>
                      </p:grpSpPr>
                      <p:grpSp>
                        <p:nvGrpSpPr>
                          <p:cNvPr id="6194" name=""/>
                          <p:cNvGrpSpPr/>
                          <p:nvPr/>
                        </p:nvGrpSpPr>
                        <p:grpSpPr>
                          <a:xfrm>
                            <a:off x="8031240" y="4277160"/>
                            <a:ext cx="3240" cy="4680"/>
                            <a:chOff x="8031240" y="4277160"/>
                            <a:chExt cx="3240" cy="4680"/>
                          </a:xfrm>
                        </p:grpSpPr>
                        <p:sp>
                          <p:nvSpPr>
                            <p:cNvPr id="6195" name=""/>
                            <p:cNvSpPr/>
                            <p:nvPr/>
                          </p:nvSpPr>
                          <p:spPr>
                            <a:xfrm>
                              <a:off x="8031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6" name=""/>
                            <p:cNvSpPr/>
                            <p:nvPr/>
                          </p:nvSpPr>
                          <p:spPr>
                            <a:xfrm>
                              <a:off x="80326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7" name=""/>
                          <p:cNvGrpSpPr/>
                          <p:nvPr/>
                        </p:nvGrpSpPr>
                        <p:grpSpPr>
                          <a:xfrm>
                            <a:off x="8034480" y="4277160"/>
                            <a:ext cx="3240" cy="4680"/>
                            <a:chOff x="8034480" y="4277160"/>
                            <a:chExt cx="3240" cy="4680"/>
                          </a:xfrm>
                        </p:grpSpPr>
                        <p:sp>
                          <p:nvSpPr>
                            <p:cNvPr id="6198" name=""/>
                            <p:cNvSpPr/>
                            <p:nvPr/>
                          </p:nvSpPr>
                          <p:spPr>
                            <a:xfrm>
                              <a:off x="8034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9" name=""/>
                            <p:cNvSpPr/>
                            <p:nvPr/>
                          </p:nvSpPr>
                          <p:spPr>
                            <a:xfrm>
                              <a:off x="80359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200" name=""/>
                      <p:cNvGrpSpPr/>
                      <p:nvPr/>
                    </p:nvGrpSpPr>
                    <p:grpSpPr>
                      <a:xfrm>
                        <a:off x="8037720" y="4277160"/>
                        <a:ext cx="10800" cy="4680"/>
                        <a:chOff x="8037720" y="4277160"/>
                        <a:chExt cx="10800" cy="4680"/>
                      </a:xfrm>
                    </p:grpSpPr>
                    <p:grpSp>
                      <p:nvGrpSpPr>
                        <p:cNvPr id="6201" name=""/>
                        <p:cNvGrpSpPr/>
                        <p:nvPr/>
                      </p:nvGrpSpPr>
                      <p:grpSpPr>
                        <a:xfrm>
                          <a:off x="8037720" y="4277160"/>
                          <a:ext cx="6120" cy="4680"/>
                          <a:chOff x="8037720" y="4277160"/>
                          <a:chExt cx="6120" cy="4680"/>
                        </a:xfrm>
                      </p:grpSpPr>
                      <p:grpSp>
                        <p:nvGrpSpPr>
                          <p:cNvPr id="6202" name=""/>
                          <p:cNvGrpSpPr/>
                          <p:nvPr/>
                        </p:nvGrpSpPr>
                        <p:grpSpPr>
                          <a:xfrm>
                            <a:off x="8037720" y="4277160"/>
                            <a:ext cx="2880" cy="4680"/>
                            <a:chOff x="8037720" y="4277160"/>
                            <a:chExt cx="2880" cy="4680"/>
                          </a:xfrm>
                        </p:grpSpPr>
                        <p:sp>
                          <p:nvSpPr>
                            <p:cNvPr id="6203" name=""/>
                            <p:cNvSpPr/>
                            <p:nvPr/>
                          </p:nvSpPr>
                          <p:spPr>
                            <a:xfrm>
                              <a:off x="8037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4" name=""/>
                            <p:cNvSpPr/>
                            <p:nvPr/>
                          </p:nvSpPr>
                          <p:spPr>
                            <a:xfrm>
                              <a:off x="8039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05" name=""/>
                          <p:cNvGrpSpPr/>
                          <p:nvPr/>
                        </p:nvGrpSpPr>
                        <p:grpSpPr>
                          <a:xfrm>
                            <a:off x="8040600" y="4277160"/>
                            <a:ext cx="3240" cy="4680"/>
                            <a:chOff x="8040600" y="4277160"/>
                            <a:chExt cx="3240" cy="4680"/>
                          </a:xfrm>
                        </p:grpSpPr>
                        <p:sp>
                          <p:nvSpPr>
                            <p:cNvPr id="6206" name=""/>
                            <p:cNvSpPr/>
                            <p:nvPr/>
                          </p:nvSpPr>
                          <p:spPr>
                            <a:xfrm>
                              <a:off x="8040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7" name=""/>
                            <p:cNvSpPr/>
                            <p:nvPr/>
                          </p:nvSpPr>
                          <p:spPr>
                            <a:xfrm>
                              <a:off x="8042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208" name=""/>
                        <p:cNvGrpSpPr/>
                        <p:nvPr/>
                      </p:nvGrpSpPr>
                      <p:grpSpPr>
                        <a:xfrm>
                          <a:off x="8043840" y="4277160"/>
                          <a:ext cx="4680" cy="4680"/>
                          <a:chOff x="8043840" y="4277160"/>
                          <a:chExt cx="4680" cy="4680"/>
                        </a:xfrm>
                      </p:grpSpPr>
                      <p:grpSp>
                        <p:nvGrpSpPr>
                          <p:cNvPr id="6209" name=""/>
                          <p:cNvGrpSpPr/>
                          <p:nvPr/>
                        </p:nvGrpSpPr>
                        <p:grpSpPr>
                          <a:xfrm>
                            <a:off x="8043840" y="4277160"/>
                            <a:ext cx="1800" cy="4680"/>
                            <a:chOff x="8043840" y="4277160"/>
                            <a:chExt cx="1800" cy="4680"/>
                          </a:xfrm>
                        </p:grpSpPr>
                        <p:sp>
                          <p:nvSpPr>
                            <p:cNvPr id="6210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1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12" name=""/>
                          <p:cNvGrpSpPr/>
                          <p:nvPr/>
                        </p:nvGrpSpPr>
                        <p:grpSpPr>
                          <a:xfrm>
                            <a:off x="8045640" y="4277160"/>
                            <a:ext cx="2880" cy="4680"/>
                            <a:chOff x="8045640" y="4277160"/>
                            <a:chExt cx="2880" cy="4680"/>
                          </a:xfrm>
                        </p:grpSpPr>
                        <p:sp>
                          <p:nvSpPr>
                            <p:cNvPr id="6213" name=""/>
                            <p:cNvSpPr/>
                            <p:nvPr/>
                          </p:nvSpPr>
                          <p:spPr>
                            <a:xfrm>
                              <a:off x="80456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4" name=""/>
                            <p:cNvSpPr/>
                            <p:nvPr/>
                          </p:nvSpPr>
                          <p:spPr>
                            <a:xfrm>
                              <a:off x="8047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215" name=""/>
                    <p:cNvSpPr/>
                    <p:nvPr/>
                  </p:nvSpPr>
                  <p:spPr>
                    <a:xfrm>
                      <a:off x="80233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16" name=""/>
                  <p:cNvGrpSpPr/>
                  <p:nvPr/>
                </p:nvGrpSpPr>
                <p:grpSpPr>
                  <a:xfrm>
                    <a:off x="7978680" y="4296240"/>
                    <a:ext cx="211320" cy="29880"/>
                    <a:chOff x="7978680" y="4296240"/>
                    <a:chExt cx="211320" cy="29880"/>
                  </a:xfrm>
                </p:grpSpPr>
                <p:grpSp>
                  <p:nvGrpSpPr>
                    <p:cNvPr id="6217" name=""/>
                    <p:cNvGrpSpPr/>
                    <p:nvPr/>
                  </p:nvGrpSpPr>
                  <p:grpSpPr>
                    <a:xfrm>
                      <a:off x="7978680" y="4296240"/>
                      <a:ext cx="211320" cy="29880"/>
                      <a:chOff x="7978680" y="4296240"/>
                      <a:chExt cx="211320" cy="29880"/>
                    </a:xfrm>
                  </p:grpSpPr>
                  <p:sp>
                    <p:nvSpPr>
                      <p:cNvPr id="6218" name=""/>
                      <p:cNvSpPr/>
                      <p:nvPr/>
                    </p:nvSpPr>
                    <p:spPr>
                      <a:xfrm>
                        <a:off x="79786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19" name=""/>
                      <p:cNvSpPr/>
                      <p:nvPr/>
                    </p:nvSpPr>
                    <p:spPr>
                      <a:xfrm>
                        <a:off x="79786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0" name=""/>
                      <p:cNvSpPr/>
                      <p:nvPr/>
                    </p:nvSpPr>
                    <p:spPr>
                      <a:xfrm>
                        <a:off x="79851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1" name=""/>
                    <p:cNvGrpSpPr/>
                    <p:nvPr/>
                  </p:nvGrpSpPr>
                  <p:grpSpPr>
                    <a:xfrm>
                      <a:off x="8001000" y="4299120"/>
                      <a:ext cx="166680" cy="5040"/>
                      <a:chOff x="8001000" y="4299120"/>
                      <a:chExt cx="166680" cy="5040"/>
                    </a:xfrm>
                  </p:grpSpPr>
                  <p:sp>
                    <p:nvSpPr>
                      <p:cNvPr id="6222" name=""/>
                      <p:cNvSpPr/>
                      <p:nvPr/>
                    </p:nvSpPr>
                    <p:spPr>
                      <a:xfrm>
                        <a:off x="80010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3" name=""/>
                      <p:cNvSpPr/>
                      <p:nvPr/>
                    </p:nvSpPr>
                    <p:spPr>
                      <a:xfrm>
                        <a:off x="80186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4" name=""/>
                      <p:cNvSpPr/>
                      <p:nvPr/>
                    </p:nvSpPr>
                    <p:spPr>
                      <a:xfrm>
                        <a:off x="80517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5" name=""/>
                      <p:cNvSpPr/>
                      <p:nvPr/>
                    </p:nvSpPr>
                    <p:spPr>
                      <a:xfrm>
                        <a:off x="80820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6" name=""/>
                      <p:cNvSpPr/>
                      <p:nvPr/>
                    </p:nvSpPr>
                    <p:spPr>
                      <a:xfrm>
                        <a:off x="81122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7" name=""/>
                      <p:cNvSpPr/>
                      <p:nvPr/>
                    </p:nvSpPr>
                    <p:spPr>
                      <a:xfrm>
                        <a:off x="81406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8" name=""/>
                    <p:cNvGrpSpPr/>
                    <p:nvPr/>
                  </p:nvGrpSpPr>
                  <p:grpSpPr>
                    <a:xfrm>
                      <a:off x="7994880" y="4305600"/>
                      <a:ext cx="176040" cy="11160"/>
                      <a:chOff x="7994880" y="4305600"/>
                      <a:chExt cx="176040" cy="11160"/>
                    </a:xfrm>
                  </p:grpSpPr>
                  <p:grpSp>
                    <p:nvGrpSpPr>
                      <p:cNvPr id="6229" name=""/>
                      <p:cNvGrpSpPr/>
                      <p:nvPr/>
                    </p:nvGrpSpPr>
                    <p:grpSpPr>
                      <a:xfrm>
                        <a:off x="8010720" y="4305600"/>
                        <a:ext cx="85680" cy="9360"/>
                        <a:chOff x="8010720" y="4305600"/>
                        <a:chExt cx="85680" cy="9360"/>
                      </a:xfrm>
                    </p:grpSpPr>
                    <p:sp>
                      <p:nvSpPr>
                        <p:cNvPr id="6230" name=""/>
                        <p:cNvSpPr/>
                        <p:nvPr/>
                      </p:nvSpPr>
                      <p:spPr>
                        <a:xfrm>
                          <a:off x="80107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1" name=""/>
                        <p:cNvSpPr/>
                        <p:nvPr/>
                      </p:nvSpPr>
                      <p:spPr>
                        <a:xfrm>
                          <a:off x="80136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2" name=""/>
                        <p:cNvSpPr/>
                        <p:nvPr/>
                      </p:nvSpPr>
                      <p:spPr>
                        <a:xfrm>
                          <a:off x="80154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3" name=""/>
                        <p:cNvSpPr/>
                        <p:nvPr/>
                      </p:nvSpPr>
                      <p:spPr>
                        <a:xfrm>
                          <a:off x="80168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4" name=""/>
                      <p:cNvGrpSpPr/>
                      <p:nvPr/>
                    </p:nvGrpSpPr>
                    <p:grpSpPr>
                      <a:xfrm>
                        <a:off x="7994880" y="4307040"/>
                        <a:ext cx="15840" cy="6480"/>
                        <a:chOff x="7994880" y="4307040"/>
                        <a:chExt cx="15840" cy="6480"/>
                      </a:xfrm>
                    </p:grpSpPr>
                    <p:sp>
                      <p:nvSpPr>
                        <p:cNvPr id="6235" name=""/>
                        <p:cNvSpPr/>
                        <p:nvPr/>
                      </p:nvSpPr>
                      <p:spPr>
                        <a:xfrm>
                          <a:off x="79995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6" name=""/>
                        <p:cNvSpPr/>
                        <p:nvPr/>
                      </p:nvSpPr>
                      <p:spPr>
                        <a:xfrm>
                          <a:off x="79977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7" name=""/>
                        <p:cNvSpPr/>
                        <p:nvPr/>
                      </p:nvSpPr>
                      <p:spPr>
                        <a:xfrm>
                          <a:off x="79948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8" name=""/>
                      <p:cNvGrpSpPr/>
                      <p:nvPr/>
                    </p:nvGrpSpPr>
                    <p:grpSpPr>
                      <a:xfrm>
                        <a:off x="8029800" y="4305600"/>
                        <a:ext cx="79200" cy="9360"/>
                        <a:chOff x="8029800" y="4305600"/>
                        <a:chExt cx="79200" cy="9360"/>
                      </a:xfrm>
                    </p:grpSpPr>
                    <p:sp>
                      <p:nvSpPr>
                        <p:cNvPr id="6239" name=""/>
                        <p:cNvSpPr/>
                        <p:nvPr/>
                      </p:nvSpPr>
                      <p:spPr>
                        <a:xfrm>
                          <a:off x="80298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0" name=""/>
                        <p:cNvSpPr/>
                        <p:nvPr/>
                      </p:nvSpPr>
                      <p:spPr>
                        <a:xfrm>
                          <a:off x="80964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1" name=""/>
                        <p:cNvSpPr/>
                        <p:nvPr/>
                      </p:nvSpPr>
                      <p:spPr>
                        <a:xfrm>
                          <a:off x="80996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2" name=""/>
                        <p:cNvSpPr/>
                        <p:nvPr/>
                      </p:nvSpPr>
                      <p:spPr>
                        <a:xfrm>
                          <a:off x="80931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3" name=""/>
                        <p:cNvSpPr/>
                        <p:nvPr/>
                      </p:nvSpPr>
                      <p:spPr>
                        <a:xfrm>
                          <a:off x="80805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4" name=""/>
                        <p:cNvSpPr/>
                        <p:nvPr/>
                      </p:nvSpPr>
                      <p:spPr>
                        <a:xfrm>
                          <a:off x="80899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5" name=""/>
                      <p:cNvGrpSpPr/>
                      <p:nvPr/>
                    </p:nvGrpSpPr>
                    <p:grpSpPr>
                      <a:xfrm>
                        <a:off x="8112240" y="4307040"/>
                        <a:ext cx="25200" cy="7920"/>
                        <a:chOff x="8112240" y="4307040"/>
                        <a:chExt cx="25200" cy="7920"/>
                      </a:xfrm>
                    </p:grpSpPr>
                    <p:sp>
                      <p:nvSpPr>
                        <p:cNvPr id="6246" name=""/>
                        <p:cNvSpPr/>
                        <p:nvPr/>
                      </p:nvSpPr>
                      <p:spPr>
                        <a:xfrm>
                          <a:off x="81122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7" name=""/>
                        <p:cNvSpPr/>
                        <p:nvPr/>
                      </p:nvSpPr>
                      <p:spPr>
                        <a:xfrm>
                          <a:off x="81154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8" name=""/>
                        <p:cNvSpPr/>
                        <p:nvPr/>
                      </p:nvSpPr>
                      <p:spPr>
                        <a:xfrm>
                          <a:off x="81154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9" name=""/>
                      <p:cNvGrpSpPr/>
                      <p:nvPr/>
                    </p:nvGrpSpPr>
                    <p:grpSpPr>
                      <a:xfrm>
                        <a:off x="8140680" y="4307040"/>
                        <a:ext cx="30240" cy="9720"/>
                        <a:chOff x="8140680" y="4307040"/>
                        <a:chExt cx="30240" cy="9720"/>
                      </a:xfrm>
                    </p:grpSpPr>
                    <p:sp>
                      <p:nvSpPr>
                        <p:cNvPr id="6250" name=""/>
                        <p:cNvSpPr/>
                        <p:nvPr/>
                      </p:nvSpPr>
                      <p:spPr>
                        <a:xfrm>
                          <a:off x="81439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1" name=""/>
                        <p:cNvSpPr/>
                        <p:nvPr/>
                      </p:nvSpPr>
                      <p:spPr>
                        <a:xfrm>
                          <a:off x="81406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2" name=""/>
                        <p:cNvSpPr/>
                        <p:nvPr/>
                      </p:nvSpPr>
                      <p:spPr>
                        <a:xfrm>
                          <a:off x="81439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3" name=""/>
                        <p:cNvSpPr/>
                        <p:nvPr/>
                      </p:nvSpPr>
                      <p:spPr>
                        <a:xfrm>
                          <a:off x="81424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4" name=""/>
                        <p:cNvSpPr/>
                        <p:nvPr/>
                      </p:nvSpPr>
                      <p:spPr>
                        <a:xfrm>
                          <a:off x="81630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5" name=""/>
                        <p:cNvSpPr/>
                        <p:nvPr/>
                      </p:nvSpPr>
                      <p:spPr>
                        <a:xfrm>
                          <a:off x="81644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56" name=""/>
                  <p:cNvGrpSpPr/>
                  <p:nvPr/>
                </p:nvGrpSpPr>
                <p:grpSpPr>
                  <a:xfrm>
                    <a:off x="8040600" y="4237200"/>
                    <a:ext cx="92160" cy="19080"/>
                    <a:chOff x="8040600" y="4237200"/>
                    <a:chExt cx="92160" cy="19080"/>
                  </a:xfrm>
                </p:grpSpPr>
                <p:grpSp>
                  <p:nvGrpSpPr>
                    <p:cNvPr id="6257" name=""/>
                    <p:cNvGrpSpPr/>
                    <p:nvPr/>
                  </p:nvGrpSpPr>
                  <p:grpSpPr>
                    <a:xfrm>
                      <a:off x="8040600" y="4242240"/>
                      <a:ext cx="92160" cy="14040"/>
                      <a:chOff x="8040600" y="4242240"/>
                      <a:chExt cx="92160" cy="14040"/>
                    </a:xfrm>
                  </p:grpSpPr>
                  <p:sp>
                    <p:nvSpPr>
                      <p:cNvPr id="6258" name=""/>
                      <p:cNvSpPr/>
                      <p:nvPr/>
                    </p:nvSpPr>
                    <p:spPr>
                      <a:xfrm>
                        <a:off x="80406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9" name=""/>
                      <p:cNvSpPr/>
                      <p:nvPr/>
                    </p:nvSpPr>
                    <p:spPr>
                      <a:xfrm>
                        <a:off x="80406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60" name=""/>
                    <p:cNvSpPr/>
                    <p:nvPr/>
                  </p:nvSpPr>
                  <p:spPr>
                    <a:xfrm>
                      <a:off x="80614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61" name=""/>
                  <p:cNvSpPr/>
                  <p:nvPr/>
                </p:nvSpPr>
                <p:spPr>
                  <a:xfrm>
                    <a:off x="80298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2" name=""/>
                  <p:cNvSpPr/>
                  <p:nvPr/>
                </p:nvSpPr>
                <p:spPr>
                  <a:xfrm>
                    <a:off x="80424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3" name=""/>
                  <p:cNvSpPr/>
                  <p:nvPr/>
                </p:nvSpPr>
                <p:spPr>
                  <a:xfrm>
                    <a:off x="80470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>
                    <a:off x="81248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65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5885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66" name=""/>
            <p:cNvGrpSpPr/>
            <p:nvPr/>
          </p:nvGrpSpPr>
          <p:grpSpPr>
            <a:xfrm>
              <a:off x="7905600" y="3124080"/>
              <a:ext cx="1086120" cy="752400"/>
              <a:chOff x="7905600" y="3124080"/>
              <a:chExt cx="1086120" cy="752400"/>
            </a:xfrm>
          </p:grpSpPr>
          <p:sp>
            <p:nvSpPr>
              <p:cNvPr id="6267" name=""/>
              <p:cNvSpPr/>
              <p:nvPr/>
            </p:nvSpPr>
            <p:spPr>
              <a:xfrm>
                <a:off x="7905600" y="31240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953480" y="37144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0 Tlatlauqui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269" name=""/>
              <p:cNvGrpSpPr/>
              <p:nvPr/>
            </p:nvGrpSpPr>
            <p:grpSpPr>
              <a:xfrm>
                <a:off x="7978680" y="3179520"/>
                <a:ext cx="822600" cy="488880"/>
                <a:chOff x="7978680" y="3179520"/>
                <a:chExt cx="822600" cy="488880"/>
              </a:xfrm>
            </p:grpSpPr>
            <p:sp>
              <p:nvSpPr>
                <p:cNvPr id="6270" name=""/>
                <p:cNvSpPr/>
                <p:nvPr/>
              </p:nvSpPr>
              <p:spPr>
                <a:xfrm>
                  <a:off x="8121600" y="33699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840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8340840" y="31892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273" name="pbx" descr=""/>
                <p:cNvPicPr/>
                <p:nvPr/>
              </p:nvPicPr>
              <p:blipFill>
                <a:blip r:embed="rId75"/>
                <a:srcRect l="37594" t="74298" r="28339" b="4834"/>
                <a:stretch/>
              </p:blipFill>
              <p:spPr>
                <a:xfrm>
                  <a:off x="8283600" y="33177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4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8310600" y="34970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275" name=""/>
                <p:cNvGrpSpPr/>
                <p:nvPr/>
              </p:nvGrpSpPr>
              <p:grpSpPr>
                <a:xfrm>
                  <a:off x="7978680" y="3317760"/>
                  <a:ext cx="211320" cy="169920"/>
                  <a:chOff x="7978680" y="3317760"/>
                  <a:chExt cx="211320" cy="169920"/>
                </a:xfrm>
              </p:grpSpPr>
              <p:grpSp>
                <p:nvGrpSpPr>
                  <p:cNvPr id="6276" name=""/>
                  <p:cNvGrpSpPr/>
                  <p:nvPr/>
                </p:nvGrpSpPr>
                <p:grpSpPr>
                  <a:xfrm>
                    <a:off x="8018640" y="3408480"/>
                    <a:ext cx="134640" cy="52200"/>
                    <a:chOff x="8018640" y="3408480"/>
                    <a:chExt cx="134640" cy="52200"/>
                  </a:xfrm>
                </p:grpSpPr>
                <p:grpSp>
                  <p:nvGrpSpPr>
                    <p:cNvPr id="6277" name=""/>
                    <p:cNvGrpSpPr/>
                    <p:nvPr/>
                  </p:nvGrpSpPr>
                  <p:grpSpPr>
                    <a:xfrm>
                      <a:off x="8018640" y="3408480"/>
                      <a:ext cx="134640" cy="52200"/>
                      <a:chOff x="8018640" y="3408480"/>
                      <a:chExt cx="134640" cy="52200"/>
                    </a:xfrm>
                  </p:grpSpPr>
                  <p:grpSp>
                    <p:nvGrpSpPr>
                      <p:cNvPr id="6278" name=""/>
                      <p:cNvGrpSpPr/>
                      <p:nvPr/>
                    </p:nvGrpSpPr>
                    <p:grpSpPr>
                      <a:xfrm>
                        <a:off x="8018640" y="3408480"/>
                        <a:ext cx="134640" cy="52200"/>
                        <a:chOff x="8018640" y="3408480"/>
                        <a:chExt cx="134640" cy="52200"/>
                      </a:xfrm>
                    </p:grpSpPr>
                    <p:grpSp>
                      <p:nvGrpSpPr>
                        <p:cNvPr id="6279" name=""/>
                        <p:cNvGrpSpPr/>
                        <p:nvPr/>
                      </p:nvGrpSpPr>
                      <p:grpSpPr>
                        <a:xfrm>
                          <a:off x="8018640" y="3408480"/>
                          <a:ext cx="134640" cy="52200"/>
                          <a:chOff x="8018640" y="3408480"/>
                          <a:chExt cx="134640" cy="52200"/>
                        </a:xfrm>
                      </p:grpSpPr>
                      <p:grpSp>
                        <p:nvGrpSpPr>
                          <p:cNvPr id="6280" name=""/>
                          <p:cNvGrpSpPr/>
                          <p:nvPr/>
                        </p:nvGrpSpPr>
                        <p:grpSpPr>
                          <a:xfrm>
                            <a:off x="8018640" y="3408480"/>
                            <a:ext cx="134640" cy="52200"/>
                            <a:chOff x="8018640" y="3408480"/>
                            <a:chExt cx="134640" cy="52200"/>
                          </a:xfrm>
                        </p:grpSpPr>
                        <p:sp>
                          <p:nvSpPr>
                            <p:cNvPr id="6281" name=""/>
                            <p:cNvSpPr/>
                            <p:nvPr/>
                          </p:nvSpPr>
                          <p:spPr>
                            <a:xfrm>
                              <a:off x="8018640" y="34196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82" name=""/>
                            <p:cNvSpPr/>
                            <p:nvPr/>
                          </p:nvSpPr>
                          <p:spPr>
                            <a:xfrm>
                              <a:off x="8020080" y="34084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283" name=""/>
                          <p:cNvSpPr/>
                          <p:nvPr/>
                        </p:nvSpPr>
                        <p:spPr>
                          <a:xfrm>
                            <a:off x="8021520" y="34178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84" name=""/>
                        <p:cNvGrpSpPr/>
                        <p:nvPr/>
                      </p:nvGrpSpPr>
                      <p:grpSpPr>
                        <a:xfrm>
                          <a:off x="8024760" y="3451320"/>
                          <a:ext cx="127080" cy="7920"/>
                          <a:chOff x="8024760" y="3451320"/>
                          <a:chExt cx="127080" cy="7920"/>
                        </a:xfrm>
                      </p:grpSpPr>
                      <p:grpSp>
                        <p:nvGrpSpPr>
                          <p:cNvPr id="6285" name=""/>
                          <p:cNvGrpSpPr/>
                          <p:nvPr/>
                        </p:nvGrpSpPr>
                        <p:grpSpPr>
                          <a:xfrm>
                            <a:off x="8024760" y="3451320"/>
                            <a:ext cx="63720" cy="7920"/>
                            <a:chOff x="8024760" y="3451320"/>
                            <a:chExt cx="63720" cy="7920"/>
                          </a:xfrm>
                        </p:grpSpPr>
                        <p:grpSp>
                          <p:nvGrpSpPr>
                            <p:cNvPr id="6286" name=""/>
                            <p:cNvGrpSpPr/>
                            <p:nvPr/>
                          </p:nvGrpSpPr>
                          <p:grpSpPr>
                            <a:xfrm>
                              <a:off x="8024760" y="3451320"/>
                              <a:ext cx="31680" cy="7920"/>
                              <a:chOff x="8024760" y="3451320"/>
                              <a:chExt cx="31680" cy="7920"/>
                            </a:xfrm>
                          </p:grpSpPr>
                          <p:grpSp>
                            <p:nvGrpSpPr>
                              <p:cNvPr id="6287" name=""/>
                              <p:cNvGrpSpPr/>
                              <p:nvPr/>
                            </p:nvGrpSpPr>
                            <p:grpSpPr>
                              <a:xfrm>
                                <a:off x="8024760" y="3451320"/>
                                <a:ext cx="15840" cy="7920"/>
                                <a:chOff x="80247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28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3451320"/>
                                  <a:ext cx="7920" cy="7920"/>
                                  <a:chOff x="80247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3451320"/>
                                    <a:ext cx="3240" cy="7920"/>
                                    <a:chOff x="80247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3451320"/>
                                    <a:ext cx="4680" cy="7920"/>
                                    <a:chOff x="802800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2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29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3451320"/>
                                  <a:ext cx="7920" cy="7920"/>
                                  <a:chOff x="80326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3451320"/>
                                    <a:ext cx="3240" cy="7920"/>
                                    <a:chOff x="8032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3451320"/>
                                    <a:ext cx="4680" cy="7920"/>
                                    <a:chOff x="80359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02" name=""/>
                              <p:cNvGrpSpPr/>
                              <p:nvPr/>
                            </p:nvGrpSpPr>
                            <p:grpSpPr>
                              <a:xfrm>
                                <a:off x="8040600" y="3451320"/>
                                <a:ext cx="15840" cy="7920"/>
                                <a:chOff x="80406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0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3451320"/>
                                  <a:ext cx="7920" cy="7920"/>
                                  <a:chOff x="80406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3451320"/>
                                    <a:ext cx="3240" cy="7920"/>
                                    <a:chOff x="8040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3451320"/>
                                    <a:ext cx="4680" cy="7920"/>
                                    <a:chOff x="804384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1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3451320"/>
                                  <a:ext cx="7920" cy="7920"/>
                                  <a:chOff x="80485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3451320"/>
                                    <a:ext cx="3240" cy="7920"/>
                                    <a:chOff x="80485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3451320"/>
                                    <a:ext cx="4680" cy="7920"/>
                                    <a:chOff x="805176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17" name=""/>
                            <p:cNvGrpSpPr/>
                            <p:nvPr/>
                          </p:nvGrpSpPr>
                          <p:grpSpPr>
                            <a:xfrm>
                              <a:off x="8056440" y="3451320"/>
                              <a:ext cx="32040" cy="7920"/>
                              <a:chOff x="8056440" y="3451320"/>
                              <a:chExt cx="32040" cy="7920"/>
                            </a:xfrm>
                          </p:grpSpPr>
                          <p:grpSp>
                            <p:nvGrpSpPr>
                              <p:cNvPr id="6318" name=""/>
                              <p:cNvGrpSpPr/>
                              <p:nvPr/>
                            </p:nvGrpSpPr>
                            <p:grpSpPr>
                              <a:xfrm>
                                <a:off x="8056440" y="3451320"/>
                                <a:ext cx="16200" cy="7920"/>
                                <a:chOff x="8056440" y="3451320"/>
                                <a:chExt cx="16200" cy="7920"/>
                              </a:xfrm>
                            </p:grpSpPr>
                            <p:grpSp>
                              <p:nvGrpSpPr>
                                <p:cNvPr id="631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3451320"/>
                                  <a:ext cx="8280" cy="7920"/>
                                  <a:chOff x="8056440" y="34513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3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3451320"/>
                                    <a:ext cx="3240" cy="7920"/>
                                    <a:chOff x="80564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3451320"/>
                                    <a:ext cx="3240" cy="7920"/>
                                    <a:chOff x="8061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2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3451320"/>
                                  <a:ext cx="7920" cy="7920"/>
                                  <a:chOff x="80647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3451320"/>
                                    <a:ext cx="2880" cy="7920"/>
                                    <a:chOff x="806472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3451320"/>
                                    <a:ext cx="3240" cy="7920"/>
                                    <a:chOff x="8069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33" name=""/>
                              <p:cNvGrpSpPr/>
                              <p:nvPr/>
                            </p:nvGrpSpPr>
                            <p:grpSpPr>
                              <a:xfrm>
                                <a:off x="8072640" y="3451320"/>
                                <a:ext cx="15840" cy="7920"/>
                                <a:chOff x="807264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3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3451320"/>
                                  <a:ext cx="7920" cy="7920"/>
                                  <a:chOff x="80726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3451320"/>
                                    <a:ext cx="2880" cy="7920"/>
                                    <a:chOff x="807264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3451320"/>
                                    <a:ext cx="3240" cy="7920"/>
                                    <a:chOff x="8077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4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3451320"/>
                                  <a:ext cx="7920" cy="7920"/>
                                  <a:chOff x="80805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3451320"/>
                                    <a:ext cx="2880" cy="7920"/>
                                    <a:chOff x="808056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3451320"/>
                                    <a:ext cx="5040" cy="7920"/>
                                    <a:chOff x="8083440" y="34513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348" name=""/>
                          <p:cNvGrpSpPr/>
                          <p:nvPr/>
                        </p:nvGrpSpPr>
                        <p:grpSpPr>
                          <a:xfrm>
                            <a:off x="8088480" y="3451320"/>
                            <a:ext cx="63360" cy="7920"/>
                            <a:chOff x="8088480" y="3451320"/>
                            <a:chExt cx="63360" cy="7920"/>
                          </a:xfrm>
                        </p:grpSpPr>
                        <p:grpSp>
                          <p:nvGrpSpPr>
                            <p:cNvPr id="6349" name=""/>
                            <p:cNvGrpSpPr/>
                            <p:nvPr/>
                          </p:nvGrpSpPr>
                          <p:grpSpPr>
                            <a:xfrm>
                              <a:off x="8088480" y="3451320"/>
                              <a:ext cx="31680" cy="7920"/>
                              <a:chOff x="8088480" y="3451320"/>
                              <a:chExt cx="31680" cy="7920"/>
                            </a:xfrm>
                          </p:grpSpPr>
                          <p:grpSp>
                            <p:nvGrpSpPr>
                              <p:cNvPr id="6350" name=""/>
                              <p:cNvGrpSpPr/>
                              <p:nvPr/>
                            </p:nvGrpSpPr>
                            <p:grpSpPr>
                              <a:xfrm>
                                <a:off x="8088480" y="3451320"/>
                                <a:ext cx="15840" cy="7920"/>
                                <a:chOff x="808848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5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3451320"/>
                                  <a:ext cx="7920" cy="7920"/>
                                  <a:chOff x="80884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3451320"/>
                                    <a:ext cx="3240" cy="7920"/>
                                    <a:chOff x="8088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3451320"/>
                                    <a:ext cx="4680" cy="7920"/>
                                    <a:chOff x="80917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5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3451320"/>
                                  <a:ext cx="7920" cy="7920"/>
                                  <a:chOff x="80964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3451320"/>
                                    <a:ext cx="3240" cy="7920"/>
                                    <a:chOff x="8096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3451320"/>
                                    <a:ext cx="3240" cy="7920"/>
                                    <a:chOff x="8101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65" name=""/>
                              <p:cNvGrpSpPr/>
                              <p:nvPr/>
                            </p:nvGrpSpPr>
                            <p:grpSpPr>
                              <a:xfrm>
                                <a:off x="8104320" y="3451320"/>
                                <a:ext cx="15840" cy="7920"/>
                                <a:chOff x="810432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6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3451320"/>
                                  <a:ext cx="7920" cy="7920"/>
                                  <a:chOff x="81043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3451320"/>
                                    <a:ext cx="3240" cy="7920"/>
                                    <a:chOff x="8104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3451320"/>
                                    <a:ext cx="3240" cy="7920"/>
                                    <a:chOff x="8109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7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3451320"/>
                                  <a:ext cx="7920" cy="7920"/>
                                  <a:chOff x="81122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3451320"/>
                                    <a:ext cx="3240" cy="7920"/>
                                    <a:chOff x="81122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3451320"/>
                                    <a:ext cx="4680" cy="7920"/>
                                    <a:chOff x="811548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80" name=""/>
                            <p:cNvGrpSpPr/>
                            <p:nvPr/>
                          </p:nvGrpSpPr>
                          <p:grpSpPr>
                            <a:xfrm>
                              <a:off x="8120160" y="3451320"/>
                              <a:ext cx="31680" cy="7920"/>
                              <a:chOff x="8120160" y="3451320"/>
                              <a:chExt cx="31680" cy="7920"/>
                            </a:xfrm>
                          </p:grpSpPr>
                          <p:grpSp>
                            <p:nvGrpSpPr>
                              <p:cNvPr id="6381" name=""/>
                              <p:cNvGrpSpPr/>
                              <p:nvPr/>
                            </p:nvGrpSpPr>
                            <p:grpSpPr>
                              <a:xfrm>
                                <a:off x="8120160" y="3451320"/>
                                <a:ext cx="15840" cy="7920"/>
                                <a:chOff x="81201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8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3451320"/>
                                  <a:ext cx="7920" cy="7920"/>
                                  <a:chOff x="81201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3451320"/>
                                    <a:ext cx="3240" cy="7920"/>
                                    <a:chOff x="81201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3451320"/>
                                    <a:ext cx="3240" cy="7920"/>
                                    <a:chOff x="81248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8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3451320"/>
                                  <a:ext cx="7920" cy="7920"/>
                                  <a:chOff x="81280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3451320"/>
                                    <a:ext cx="3240" cy="7920"/>
                                    <a:chOff x="8128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3451320"/>
                                    <a:ext cx="4680" cy="7920"/>
                                    <a:chOff x="81313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96" name=""/>
                              <p:cNvGrpSpPr/>
                              <p:nvPr/>
                            </p:nvGrpSpPr>
                            <p:grpSpPr>
                              <a:xfrm>
                                <a:off x="8136000" y="3451320"/>
                                <a:ext cx="15840" cy="7920"/>
                                <a:chOff x="81360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9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3451320"/>
                                  <a:ext cx="7920" cy="7920"/>
                                  <a:chOff x="81360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3451320"/>
                                    <a:ext cx="3240" cy="7920"/>
                                    <a:chOff x="8136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3451320"/>
                                    <a:ext cx="3240" cy="7920"/>
                                    <a:chOff x="8140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40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3451320"/>
                                  <a:ext cx="7920" cy="7920"/>
                                  <a:chOff x="81439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3451320"/>
                                    <a:ext cx="3240" cy="7920"/>
                                    <a:chOff x="81439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3451320"/>
                                    <a:ext cx="3240" cy="7920"/>
                                    <a:chOff x="8148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411" name=""/>
                      <p:cNvGrpSpPr/>
                      <p:nvPr/>
                    </p:nvGrpSpPr>
                    <p:grpSpPr>
                      <a:xfrm>
                        <a:off x="8021520" y="3422520"/>
                        <a:ext cx="128880" cy="22320"/>
                        <a:chOff x="8021520" y="3422520"/>
                        <a:chExt cx="128880" cy="22320"/>
                      </a:xfrm>
                    </p:grpSpPr>
                    <p:sp>
                      <p:nvSpPr>
                        <p:cNvPr id="6412" name=""/>
                        <p:cNvSpPr/>
                        <p:nvPr/>
                      </p:nvSpPr>
                      <p:spPr>
                        <a:xfrm>
                          <a:off x="8021520" y="34225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3" name=""/>
                        <p:cNvSpPr/>
                        <p:nvPr/>
                      </p:nvSpPr>
                      <p:spPr>
                        <a:xfrm>
                          <a:off x="8050320" y="34225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4" name=""/>
                        <p:cNvSpPr/>
                        <p:nvPr/>
                      </p:nvSpPr>
                      <p:spPr>
                        <a:xfrm>
                          <a:off x="8089920" y="34225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5" name=""/>
                        <p:cNvSpPr/>
                        <p:nvPr/>
                      </p:nvSpPr>
                      <p:spPr>
                        <a:xfrm>
                          <a:off x="8131320" y="34225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16" name=""/>
                    <p:cNvGrpSpPr/>
                    <p:nvPr/>
                  </p:nvGrpSpPr>
                  <p:grpSpPr>
                    <a:xfrm>
                      <a:off x="8134560" y="3425760"/>
                      <a:ext cx="12600" cy="11160"/>
                      <a:chOff x="8134560" y="3425760"/>
                      <a:chExt cx="12600" cy="11160"/>
                    </a:xfrm>
                  </p:grpSpPr>
                  <p:sp>
                    <p:nvSpPr>
                      <p:cNvPr id="6417" name=""/>
                      <p:cNvSpPr/>
                      <p:nvPr/>
                    </p:nvSpPr>
                    <p:spPr>
                      <a:xfrm>
                        <a:off x="8139240" y="34257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8" name=""/>
                      <p:cNvSpPr/>
                      <p:nvPr/>
                    </p:nvSpPr>
                    <p:spPr>
                      <a:xfrm>
                        <a:off x="8140680" y="34290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19" name=""/>
                      <p:cNvGrpSpPr/>
                      <p:nvPr/>
                    </p:nvGrpSpPr>
                    <p:grpSpPr>
                      <a:xfrm>
                        <a:off x="8134560" y="3427560"/>
                        <a:ext cx="2880" cy="6120"/>
                        <a:chOff x="8134560" y="3427560"/>
                        <a:chExt cx="2880" cy="6120"/>
                      </a:xfrm>
                    </p:grpSpPr>
                    <p:sp>
                      <p:nvSpPr>
                        <p:cNvPr id="6420" name=""/>
                        <p:cNvSpPr/>
                        <p:nvPr/>
                      </p:nvSpPr>
                      <p:spPr>
                        <a:xfrm>
                          <a:off x="8134560" y="34275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1" name=""/>
                        <p:cNvSpPr/>
                        <p:nvPr/>
                      </p:nvSpPr>
                      <p:spPr>
                        <a:xfrm>
                          <a:off x="8134560" y="34322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22" name=""/>
                    <p:cNvGrpSpPr/>
                    <p:nvPr/>
                  </p:nvGrpSpPr>
                  <p:grpSpPr>
                    <a:xfrm>
                      <a:off x="8051760" y="3425760"/>
                      <a:ext cx="36720" cy="14400"/>
                      <a:chOff x="8051760" y="3425760"/>
                      <a:chExt cx="36720" cy="14400"/>
                    </a:xfrm>
                  </p:grpSpPr>
                  <p:grpSp>
                    <p:nvGrpSpPr>
                      <p:cNvPr id="6423" name=""/>
                      <p:cNvGrpSpPr/>
                      <p:nvPr/>
                    </p:nvGrpSpPr>
                    <p:grpSpPr>
                      <a:xfrm>
                        <a:off x="8053560" y="3425760"/>
                        <a:ext cx="34920" cy="7920"/>
                        <a:chOff x="8053560" y="3425760"/>
                        <a:chExt cx="34920" cy="7920"/>
                      </a:xfrm>
                    </p:grpSpPr>
                    <p:sp>
                      <p:nvSpPr>
                        <p:cNvPr id="6424" name=""/>
                        <p:cNvSpPr/>
                        <p:nvPr/>
                      </p:nvSpPr>
                      <p:spPr>
                        <a:xfrm>
                          <a:off x="8062920" y="34257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5" name=""/>
                        <p:cNvSpPr/>
                        <p:nvPr/>
                      </p:nvSpPr>
                      <p:spPr>
                        <a:xfrm>
                          <a:off x="8062920" y="34290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6" name=""/>
                        <p:cNvSpPr/>
                        <p:nvPr/>
                      </p:nvSpPr>
                      <p:spPr>
                        <a:xfrm>
                          <a:off x="8053560" y="34308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27" name=""/>
                      <p:cNvSpPr/>
                      <p:nvPr/>
                    </p:nvSpPr>
                    <p:spPr>
                      <a:xfrm>
                        <a:off x="8051760" y="34257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8" name=""/>
                      <p:cNvSpPr/>
                      <p:nvPr/>
                    </p:nvSpPr>
                    <p:spPr>
                      <a:xfrm>
                        <a:off x="8080560" y="34369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9" name=""/>
                    <p:cNvGrpSpPr/>
                    <p:nvPr/>
                  </p:nvGrpSpPr>
                  <p:grpSpPr>
                    <a:xfrm>
                      <a:off x="8024760" y="3438720"/>
                      <a:ext cx="23760" cy="4680"/>
                      <a:chOff x="8024760" y="3438720"/>
                      <a:chExt cx="23760" cy="4680"/>
                    </a:xfrm>
                  </p:grpSpPr>
                  <p:grpSp>
                    <p:nvGrpSpPr>
                      <p:cNvPr id="6430" name=""/>
                      <p:cNvGrpSpPr/>
                      <p:nvPr/>
                    </p:nvGrpSpPr>
                    <p:grpSpPr>
                      <a:xfrm>
                        <a:off x="8024760" y="3438720"/>
                        <a:ext cx="12960" cy="4680"/>
                        <a:chOff x="8024760" y="3438720"/>
                        <a:chExt cx="12960" cy="4680"/>
                      </a:xfrm>
                    </p:grpSpPr>
                    <p:grpSp>
                      <p:nvGrpSpPr>
                        <p:cNvPr id="6431" name=""/>
                        <p:cNvGrpSpPr/>
                        <p:nvPr/>
                      </p:nvGrpSpPr>
                      <p:grpSpPr>
                        <a:xfrm>
                          <a:off x="8024760" y="3438720"/>
                          <a:ext cx="6480" cy="4680"/>
                          <a:chOff x="8024760" y="3438720"/>
                          <a:chExt cx="6480" cy="4680"/>
                        </a:xfrm>
                      </p:grpSpPr>
                      <p:grpSp>
                        <p:nvGrpSpPr>
                          <p:cNvPr id="6432" name=""/>
                          <p:cNvGrpSpPr/>
                          <p:nvPr/>
                        </p:nvGrpSpPr>
                        <p:grpSpPr>
                          <a:xfrm>
                            <a:off x="8024760" y="3438720"/>
                            <a:ext cx="3240" cy="4680"/>
                            <a:chOff x="8024760" y="3438720"/>
                            <a:chExt cx="3240" cy="4680"/>
                          </a:xfrm>
                        </p:grpSpPr>
                        <p:sp>
                          <p:nvSpPr>
                            <p:cNvPr id="6433" name=""/>
                            <p:cNvSpPr/>
                            <p:nvPr/>
                          </p:nvSpPr>
                          <p:spPr>
                            <a:xfrm>
                              <a:off x="802476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4" name=""/>
                            <p:cNvSpPr/>
                            <p:nvPr/>
                          </p:nvSpPr>
                          <p:spPr>
                            <a:xfrm>
                              <a:off x="80265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35" name=""/>
                          <p:cNvGrpSpPr/>
                          <p:nvPr/>
                        </p:nvGrpSpPr>
                        <p:grpSpPr>
                          <a:xfrm>
                            <a:off x="8028000" y="3438720"/>
                            <a:ext cx="3240" cy="4680"/>
                            <a:chOff x="8028000" y="3438720"/>
                            <a:chExt cx="3240" cy="4680"/>
                          </a:xfrm>
                        </p:grpSpPr>
                        <p:sp>
                          <p:nvSpPr>
                            <p:cNvPr id="6436" name=""/>
                            <p:cNvSpPr/>
                            <p:nvPr/>
                          </p:nvSpPr>
                          <p:spPr>
                            <a:xfrm>
                              <a:off x="80280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7" name=""/>
                            <p:cNvSpPr/>
                            <p:nvPr/>
                          </p:nvSpPr>
                          <p:spPr>
                            <a:xfrm>
                              <a:off x="8029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38" name=""/>
                        <p:cNvGrpSpPr/>
                        <p:nvPr/>
                      </p:nvGrpSpPr>
                      <p:grpSpPr>
                        <a:xfrm>
                          <a:off x="8031240" y="3438720"/>
                          <a:ext cx="6480" cy="4680"/>
                          <a:chOff x="8031240" y="3438720"/>
                          <a:chExt cx="6480" cy="4680"/>
                        </a:xfrm>
                      </p:grpSpPr>
                      <p:grpSp>
                        <p:nvGrpSpPr>
                          <p:cNvPr id="6439" name=""/>
                          <p:cNvGrpSpPr/>
                          <p:nvPr/>
                        </p:nvGrpSpPr>
                        <p:grpSpPr>
                          <a:xfrm>
                            <a:off x="8031240" y="3438720"/>
                            <a:ext cx="3240" cy="4680"/>
                            <a:chOff x="8031240" y="3438720"/>
                            <a:chExt cx="3240" cy="4680"/>
                          </a:xfrm>
                        </p:grpSpPr>
                        <p:sp>
                          <p:nvSpPr>
                            <p:cNvPr id="6440" name=""/>
                            <p:cNvSpPr/>
                            <p:nvPr/>
                          </p:nvSpPr>
                          <p:spPr>
                            <a:xfrm>
                              <a:off x="80312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1" name=""/>
                            <p:cNvSpPr/>
                            <p:nvPr/>
                          </p:nvSpPr>
                          <p:spPr>
                            <a:xfrm>
                              <a:off x="803268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42" name=""/>
                          <p:cNvGrpSpPr/>
                          <p:nvPr/>
                        </p:nvGrpSpPr>
                        <p:grpSpPr>
                          <a:xfrm>
                            <a:off x="8034480" y="3438720"/>
                            <a:ext cx="3240" cy="4680"/>
                            <a:chOff x="8034480" y="3438720"/>
                            <a:chExt cx="3240" cy="4680"/>
                          </a:xfrm>
                        </p:grpSpPr>
                        <p:sp>
                          <p:nvSpPr>
                            <p:cNvPr id="6443" name=""/>
                            <p:cNvSpPr/>
                            <p:nvPr/>
                          </p:nvSpPr>
                          <p:spPr>
                            <a:xfrm>
                              <a:off x="803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4" name=""/>
                            <p:cNvSpPr/>
                            <p:nvPr/>
                          </p:nvSpPr>
                          <p:spPr>
                            <a:xfrm>
                              <a:off x="803592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445" name=""/>
                      <p:cNvGrpSpPr/>
                      <p:nvPr/>
                    </p:nvGrpSpPr>
                    <p:grpSpPr>
                      <a:xfrm>
                        <a:off x="8037720" y="3438720"/>
                        <a:ext cx="10800" cy="4680"/>
                        <a:chOff x="8037720" y="3438720"/>
                        <a:chExt cx="10800" cy="4680"/>
                      </a:xfrm>
                    </p:grpSpPr>
                    <p:grpSp>
                      <p:nvGrpSpPr>
                        <p:cNvPr id="6446" name=""/>
                        <p:cNvGrpSpPr/>
                        <p:nvPr/>
                      </p:nvGrpSpPr>
                      <p:grpSpPr>
                        <a:xfrm>
                          <a:off x="8037720" y="3438720"/>
                          <a:ext cx="6120" cy="4680"/>
                          <a:chOff x="8037720" y="3438720"/>
                          <a:chExt cx="6120" cy="4680"/>
                        </a:xfrm>
                      </p:grpSpPr>
                      <p:grpSp>
                        <p:nvGrpSpPr>
                          <p:cNvPr id="6447" name=""/>
                          <p:cNvGrpSpPr/>
                          <p:nvPr/>
                        </p:nvGrpSpPr>
                        <p:grpSpPr>
                          <a:xfrm>
                            <a:off x="8037720" y="3438720"/>
                            <a:ext cx="2880" cy="4680"/>
                            <a:chOff x="8037720" y="3438720"/>
                            <a:chExt cx="2880" cy="4680"/>
                          </a:xfrm>
                        </p:grpSpPr>
                        <p:sp>
                          <p:nvSpPr>
                            <p:cNvPr id="6448" name=""/>
                            <p:cNvSpPr/>
                            <p:nvPr/>
                          </p:nvSpPr>
                          <p:spPr>
                            <a:xfrm>
                              <a:off x="8037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9" name=""/>
                            <p:cNvSpPr/>
                            <p:nvPr/>
                          </p:nvSpPr>
                          <p:spPr>
                            <a:xfrm>
                              <a:off x="80391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0" name=""/>
                          <p:cNvGrpSpPr/>
                          <p:nvPr/>
                        </p:nvGrpSpPr>
                        <p:grpSpPr>
                          <a:xfrm>
                            <a:off x="8040600" y="3438720"/>
                            <a:ext cx="3240" cy="4680"/>
                            <a:chOff x="8040600" y="3438720"/>
                            <a:chExt cx="3240" cy="4680"/>
                          </a:xfrm>
                        </p:grpSpPr>
                        <p:sp>
                          <p:nvSpPr>
                            <p:cNvPr id="6451" name=""/>
                            <p:cNvSpPr/>
                            <p:nvPr/>
                          </p:nvSpPr>
                          <p:spPr>
                            <a:xfrm>
                              <a:off x="80406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2" name=""/>
                            <p:cNvSpPr/>
                            <p:nvPr/>
                          </p:nvSpPr>
                          <p:spPr>
                            <a:xfrm>
                              <a:off x="8042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3" name=""/>
                        <p:cNvGrpSpPr/>
                        <p:nvPr/>
                      </p:nvGrpSpPr>
                      <p:grpSpPr>
                        <a:xfrm>
                          <a:off x="8043840" y="3438720"/>
                          <a:ext cx="4680" cy="4680"/>
                          <a:chOff x="8043840" y="3438720"/>
                          <a:chExt cx="4680" cy="4680"/>
                        </a:xfrm>
                      </p:grpSpPr>
                      <p:grpSp>
                        <p:nvGrpSpPr>
                          <p:cNvPr id="6454" name=""/>
                          <p:cNvGrpSpPr/>
                          <p:nvPr/>
                        </p:nvGrpSpPr>
                        <p:grpSpPr>
                          <a:xfrm>
                            <a:off x="8043840" y="3438720"/>
                            <a:ext cx="1800" cy="4680"/>
                            <a:chOff x="8043840" y="3438720"/>
                            <a:chExt cx="1800" cy="4680"/>
                          </a:xfrm>
                        </p:grpSpPr>
                        <p:sp>
                          <p:nvSpPr>
                            <p:cNvPr id="6455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6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7" name=""/>
                          <p:cNvGrpSpPr/>
                          <p:nvPr/>
                        </p:nvGrpSpPr>
                        <p:grpSpPr>
                          <a:xfrm>
                            <a:off x="8045640" y="3438720"/>
                            <a:ext cx="2880" cy="4680"/>
                            <a:chOff x="8045640" y="3438720"/>
                            <a:chExt cx="2880" cy="4680"/>
                          </a:xfrm>
                        </p:grpSpPr>
                        <p:sp>
                          <p:nvSpPr>
                            <p:cNvPr id="6458" name=""/>
                            <p:cNvSpPr/>
                            <p:nvPr/>
                          </p:nvSpPr>
                          <p:spPr>
                            <a:xfrm>
                              <a:off x="80456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9" name=""/>
                            <p:cNvSpPr/>
                            <p:nvPr/>
                          </p:nvSpPr>
                          <p:spPr>
                            <a:xfrm>
                              <a:off x="8047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460" name=""/>
                    <p:cNvSpPr/>
                    <p:nvPr/>
                  </p:nvSpPr>
                  <p:spPr>
                    <a:xfrm>
                      <a:off x="8023320" y="34354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61" name=""/>
                  <p:cNvGrpSpPr/>
                  <p:nvPr/>
                </p:nvGrpSpPr>
                <p:grpSpPr>
                  <a:xfrm>
                    <a:off x="7978680" y="3457800"/>
                    <a:ext cx="211320" cy="29880"/>
                    <a:chOff x="7978680" y="3457800"/>
                    <a:chExt cx="211320" cy="29880"/>
                  </a:xfrm>
                </p:grpSpPr>
                <p:grpSp>
                  <p:nvGrpSpPr>
                    <p:cNvPr id="6462" name=""/>
                    <p:cNvGrpSpPr/>
                    <p:nvPr/>
                  </p:nvGrpSpPr>
                  <p:grpSpPr>
                    <a:xfrm>
                      <a:off x="7978680" y="3457800"/>
                      <a:ext cx="211320" cy="29880"/>
                      <a:chOff x="7978680" y="3457800"/>
                      <a:chExt cx="211320" cy="29880"/>
                    </a:xfrm>
                  </p:grpSpPr>
                  <p:sp>
                    <p:nvSpPr>
                      <p:cNvPr id="6463" name=""/>
                      <p:cNvSpPr/>
                      <p:nvPr/>
                    </p:nvSpPr>
                    <p:spPr>
                      <a:xfrm>
                        <a:off x="7978680" y="34815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4" name=""/>
                      <p:cNvSpPr/>
                      <p:nvPr/>
                    </p:nvSpPr>
                    <p:spPr>
                      <a:xfrm>
                        <a:off x="7978680" y="34578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5" name=""/>
                      <p:cNvSpPr/>
                      <p:nvPr/>
                    </p:nvSpPr>
                    <p:spPr>
                      <a:xfrm>
                        <a:off x="7985160" y="34606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66" name=""/>
                    <p:cNvGrpSpPr/>
                    <p:nvPr/>
                  </p:nvGrpSpPr>
                  <p:grpSpPr>
                    <a:xfrm>
                      <a:off x="8001000" y="3460680"/>
                      <a:ext cx="166680" cy="5040"/>
                      <a:chOff x="8001000" y="3460680"/>
                      <a:chExt cx="166680" cy="5040"/>
                    </a:xfrm>
                  </p:grpSpPr>
                  <p:sp>
                    <p:nvSpPr>
                      <p:cNvPr id="6467" name=""/>
                      <p:cNvSpPr/>
                      <p:nvPr/>
                    </p:nvSpPr>
                    <p:spPr>
                      <a:xfrm>
                        <a:off x="8001000" y="34606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8" name=""/>
                      <p:cNvSpPr/>
                      <p:nvPr/>
                    </p:nvSpPr>
                    <p:spPr>
                      <a:xfrm>
                        <a:off x="8018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9" name=""/>
                      <p:cNvSpPr/>
                      <p:nvPr/>
                    </p:nvSpPr>
                    <p:spPr>
                      <a:xfrm>
                        <a:off x="805176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0" name=""/>
                      <p:cNvSpPr/>
                      <p:nvPr/>
                    </p:nvSpPr>
                    <p:spPr>
                      <a:xfrm>
                        <a:off x="808200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1" name=""/>
                      <p:cNvSpPr/>
                      <p:nvPr/>
                    </p:nvSpPr>
                    <p:spPr>
                      <a:xfrm>
                        <a:off x="8112240" y="34606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2" name=""/>
                      <p:cNvSpPr/>
                      <p:nvPr/>
                    </p:nvSpPr>
                    <p:spPr>
                      <a:xfrm>
                        <a:off x="8140680" y="34624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73" name=""/>
                    <p:cNvGrpSpPr/>
                    <p:nvPr/>
                  </p:nvGrpSpPr>
                  <p:grpSpPr>
                    <a:xfrm>
                      <a:off x="7994880" y="3467160"/>
                      <a:ext cx="176040" cy="11160"/>
                      <a:chOff x="7994880" y="3467160"/>
                      <a:chExt cx="176040" cy="11160"/>
                    </a:xfrm>
                  </p:grpSpPr>
                  <p:grpSp>
                    <p:nvGrpSpPr>
                      <p:cNvPr id="6474" name=""/>
                      <p:cNvGrpSpPr/>
                      <p:nvPr/>
                    </p:nvGrpSpPr>
                    <p:grpSpPr>
                      <a:xfrm>
                        <a:off x="8010720" y="3467160"/>
                        <a:ext cx="85680" cy="9360"/>
                        <a:chOff x="8010720" y="3467160"/>
                        <a:chExt cx="85680" cy="9360"/>
                      </a:xfrm>
                    </p:grpSpPr>
                    <p:sp>
                      <p:nvSpPr>
                        <p:cNvPr id="6475" name=""/>
                        <p:cNvSpPr/>
                        <p:nvPr/>
                      </p:nvSpPr>
                      <p:spPr>
                        <a:xfrm>
                          <a:off x="8010720" y="34671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6" name=""/>
                        <p:cNvSpPr/>
                        <p:nvPr/>
                      </p:nvSpPr>
                      <p:spPr>
                        <a:xfrm>
                          <a:off x="8013600" y="34704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7" name=""/>
                        <p:cNvSpPr/>
                        <p:nvPr/>
                      </p:nvSpPr>
                      <p:spPr>
                        <a:xfrm>
                          <a:off x="8015400" y="34718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8" name=""/>
                        <p:cNvSpPr/>
                        <p:nvPr/>
                      </p:nvSpPr>
                      <p:spPr>
                        <a:xfrm>
                          <a:off x="8016840" y="34750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79" name=""/>
                      <p:cNvGrpSpPr/>
                      <p:nvPr/>
                    </p:nvGrpSpPr>
                    <p:grpSpPr>
                      <a:xfrm>
                        <a:off x="7994880" y="3468600"/>
                        <a:ext cx="15840" cy="6480"/>
                        <a:chOff x="7994880" y="3468600"/>
                        <a:chExt cx="15840" cy="6480"/>
                      </a:xfrm>
                    </p:grpSpPr>
                    <p:sp>
                      <p:nvSpPr>
                        <p:cNvPr id="6480" name=""/>
                        <p:cNvSpPr/>
                        <p:nvPr/>
                      </p:nvSpPr>
                      <p:spPr>
                        <a:xfrm>
                          <a:off x="7999560" y="34686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1" name=""/>
                        <p:cNvSpPr/>
                        <p:nvPr/>
                      </p:nvSpPr>
                      <p:spPr>
                        <a:xfrm>
                          <a:off x="7997760" y="34704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2" name=""/>
                        <p:cNvSpPr/>
                        <p:nvPr/>
                      </p:nvSpPr>
                      <p:spPr>
                        <a:xfrm>
                          <a:off x="799488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83" name=""/>
                      <p:cNvGrpSpPr/>
                      <p:nvPr/>
                    </p:nvGrpSpPr>
                    <p:grpSpPr>
                      <a:xfrm>
                        <a:off x="8029800" y="3467160"/>
                        <a:ext cx="79200" cy="9360"/>
                        <a:chOff x="8029800" y="3467160"/>
                        <a:chExt cx="79200" cy="9360"/>
                      </a:xfrm>
                    </p:grpSpPr>
                    <p:sp>
                      <p:nvSpPr>
                        <p:cNvPr id="6484" name=""/>
                        <p:cNvSpPr/>
                        <p:nvPr/>
                      </p:nvSpPr>
                      <p:spPr>
                        <a:xfrm>
                          <a:off x="8029800" y="34750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5" name=""/>
                        <p:cNvSpPr/>
                        <p:nvPr/>
                      </p:nvSpPr>
                      <p:spPr>
                        <a:xfrm>
                          <a:off x="8096400" y="34671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6" name=""/>
                        <p:cNvSpPr/>
                        <p:nvPr/>
                      </p:nvSpPr>
                      <p:spPr>
                        <a:xfrm>
                          <a:off x="8099640" y="34704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7" name=""/>
                        <p:cNvSpPr/>
                        <p:nvPr/>
                      </p:nvSpPr>
                      <p:spPr>
                        <a:xfrm>
                          <a:off x="8093160" y="34718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8" name=""/>
                        <p:cNvSpPr/>
                        <p:nvPr/>
                      </p:nvSpPr>
                      <p:spPr>
                        <a:xfrm>
                          <a:off x="8080560" y="34750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9" name=""/>
                        <p:cNvSpPr/>
                        <p:nvPr/>
                      </p:nvSpPr>
                      <p:spPr>
                        <a:xfrm>
                          <a:off x="8089920" y="34750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0" name=""/>
                      <p:cNvGrpSpPr/>
                      <p:nvPr/>
                    </p:nvGrpSpPr>
                    <p:grpSpPr>
                      <a:xfrm>
                        <a:off x="8112240" y="3468600"/>
                        <a:ext cx="25200" cy="7920"/>
                        <a:chOff x="8112240" y="3468600"/>
                        <a:chExt cx="25200" cy="7920"/>
                      </a:xfrm>
                    </p:grpSpPr>
                    <p:sp>
                      <p:nvSpPr>
                        <p:cNvPr id="6491" name=""/>
                        <p:cNvSpPr/>
                        <p:nvPr/>
                      </p:nvSpPr>
                      <p:spPr>
                        <a:xfrm>
                          <a:off x="8112240" y="34686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2" name=""/>
                        <p:cNvSpPr/>
                        <p:nvPr/>
                      </p:nvSpPr>
                      <p:spPr>
                        <a:xfrm>
                          <a:off x="8115480" y="34718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3" name=""/>
                        <p:cNvSpPr/>
                        <p:nvPr/>
                      </p:nvSpPr>
                      <p:spPr>
                        <a:xfrm>
                          <a:off x="8115480" y="34750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4" name=""/>
                      <p:cNvGrpSpPr/>
                      <p:nvPr/>
                    </p:nvGrpSpPr>
                    <p:grpSpPr>
                      <a:xfrm>
                        <a:off x="8140680" y="3468600"/>
                        <a:ext cx="30240" cy="9720"/>
                        <a:chOff x="8140680" y="3468600"/>
                        <a:chExt cx="30240" cy="9720"/>
                      </a:xfrm>
                    </p:grpSpPr>
                    <p:sp>
                      <p:nvSpPr>
                        <p:cNvPr id="6495" name=""/>
                        <p:cNvSpPr/>
                        <p:nvPr/>
                      </p:nvSpPr>
                      <p:spPr>
                        <a:xfrm>
                          <a:off x="8143920" y="34686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6" name=""/>
                        <p:cNvSpPr/>
                        <p:nvPr/>
                      </p:nvSpPr>
                      <p:spPr>
                        <a:xfrm>
                          <a:off x="8140680" y="34718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7" name=""/>
                        <p:cNvSpPr/>
                        <p:nvPr/>
                      </p:nvSpPr>
                      <p:spPr>
                        <a:xfrm>
                          <a:off x="814392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8" name=""/>
                        <p:cNvSpPr/>
                        <p:nvPr/>
                      </p:nvSpPr>
                      <p:spPr>
                        <a:xfrm>
                          <a:off x="8142480" y="3476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9" name=""/>
                        <p:cNvSpPr/>
                        <p:nvPr/>
                      </p:nvSpPr>
                      <p:spPr>
                        <a:xfrm>
                          <a:off x="8163000" y="34718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00" name=""/>
                        <p:cNvSpPr/>
                        <p:nvPr/>
                      </p:nvSpPr>
                      <p:spPr>
                        <a:xfrm>
                          <a:off x="8164440" y="34750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501" name=""/>
                  <p:cNvGrpSpPr/>
                  <p:nvPr/>
                </p:nvGrpSpPr>
                <p:grpSpPr>
                  <a:xfrm>
                    <a:off x="8040600" y="3398760"/>
                    <a:ext cx="92160" cy="19080"/>
                    <a:chOff x="8040600" y="3398760"/>
                    <a:chExt cx="92160" cy="19080"/>
                  </a:xfrm>
                </p:grpSpPr>
                <p:grpSp>
                  <p:nvGrpSpPr>
                    <p:cNvPr id="6502" name=""/>
                    <p:cNvGrpSpPr/>
                    <p:nvPr/>
                  </p:nvGrpSpPr>
                  <p:grpSpPr>
                    <a:xfrm>
                      <a:off x="8040600" y="3403800"/>
                      <a:ext cx="92160" cy="14040"/>
                      <a:chOff x="8040600" y="3403800"/>
                      <a:chExt cx="92160" cy="14040"/>
                    </a:xfrm>
                  </p:grpSpPr>
                  <p:sp>
                    <p:nvSpPr>
                      <p:cNvPr id="6503" name=""/>
                      <p:cNvSpPr/>
                      <p:nvPr/>
                    </p:nvSpPr>
                    <p:spPr>
                      <a:xfrm>
                        <a:off x="8040600" y="34038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4" name=""/>
                      <p:cNvSpPr/>
                      <p:nvPr/>
                    </p:nvSpPr>
                    <p:spPr>
                      <a:xfrm>
                        <a:off x="8040600" y="34099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05" name=""/>
                    <p:cNvSpPr/>
                    <p:nvPr/>
                  </p:nvSpPr>
                  <p:spPr>
                    <a:xfrm>
                      <a:off x="8061480" y="33987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06" name=""/>
                  <p:cNvSpPr/>
                  <p:nvPr/>
                </p:nvSpPr>
                <p:spPr>
                  <a:xfrm>
                    <a:off x="8029800" y="33177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7" name=""/>
                  <p:cNvSpPr/>
                  <p:nvPr/>
                </p:nvSpPr>
                <p:spPr>
                  <a:xfrm>
                    <a:off x="8042400" y="33256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>
                    <a:off x="8047080" y="33307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>
                    <a:off x="8124840" y="33958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510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8588520" y="33177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511" name=""/>
            <p:cNvGrpSpPr/>
            <p:nvPr/>
          </p:nvGrpSpPr>
          <p:grpSpPr>
            <a:xfrm>
              <a:off x="6781680" y="2286000"/>
              <a:ext cx="1086120" cy="752400"/>
              <a:chOff x="6781680" y="2286000"/>
              <a:chExt cx="1086120" cy="752400"/>
            </a:xfrm>
          </p:grpSpPr>
          <p:sp>
            <p:nvSpPr>
              <p:cNvPr id="6512" name=""/>
              <p:cNvSpPr/>
              <p:nvPr/>
            </p:nvSpPr>
            <p:spPr>
              <a:xfrm>
                <a:off x="678168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82956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514" name=""/>
              <p:cNvGrpSpPr/>
              <p:nvPr/>
            </p:nvGrpSpPr>
            <p:grpSpPr>
              <a:xfrm>
                <a:off x="6854760" y="2341440"/>
                <a:ext cx="822600" cy="488880"/>
                <a:chOff x="6854760" y="2341440"/>
                <a:chExt cx="822600" cy="488880"/>
              </a:xfrm>
            </p:grpSpPr>
            <p:sp>
              <p:nvSpPr>
                <p:cNvPr id="6515" name=""/>
                <p:cNvSpPr/>
                <p:nvPr/>
              </p:nvSpPr>
              <p:spPr>
                <a:xfrm>
                  <a:off x="699768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728352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721692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518" name="pbx" descr=""/>
                <p:cNvPicPr/>
                <p:nvPr/>
              </p:nvPicPr>
              <p:blipFill>
                <a:blip r:embed="rId78"/>
                <a:srcRect l="37594" t="74298" r="28339" b="4834"/>
                <a:stretch/>
              </p:blipFill>
              <p:spPr>
                <a:xfrm>
                  <a:off x="715968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9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18668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520" name=""/>
                <p:cNvGrpSpPr/>
                <p:nvPr/>
              </p:nvGrpSpPr>
              <p:grpSpPr>
                <a:xfrm>
                  <a:off x="6854760" y="2479680"/>
                  <a:ext cx="211320" cy="169920"/>
                  <a:chOff x="6854760" y="2479680"/>
                  <a:chExt cx="211320" cy="169920"/>
                </a:xfrm>
              </p:grpSpPr>
              <p:grpSp>
                <p:nvGrpSpPr>
                  <p:cNvPr id="6521" name=""/>
                  <p:cNvGrpSpPr/>
                  <p:nvPr/>
                </p:nvGrpSpPr>
                <p:grpSpPr>
                  <a:xfrm>
                    <a:off x="6894720" y="2570400"/>
                    <a:ext cx="134640" cy="52200"/>
                    <a:chOff x="6894720" y="2570400"/>
                    <a:chExt cx="134640" cy="52200"/>
                  </a:xfrm>
                </p:grpSpPr>
                <p:grpSp>
                  <p:nvGrpSpPr>
                    <p:cNvPr id="6522" name=""/>
                    <p:cNvGrpSpPr/>
                    <p:nvPr/>
                  </p:nvGrpSpPr>
                  <p:grpSpPr>
                    <a:xfrm>
                      <a:off x="6894720" y="2570400"/>
                      <a:ext cx="134640" cy="52200"/>
                      <a:chOff x="6894720" y="2570400"/>
                      <a:chExt cx="134640" cy="52200"/>
                    </a:xfrm>
                  </p:grpSpPr>
                  <p:grpSp>
                    <p:nvGrpSpPr>
                      <p:cNvPr id="6523" name=""/>
                      <p:cNvGrpSpPr/>
                      <p:nvPr/>
                    </p:nvGrpSpPr>
                    <p:grpSpPr>
                      <a:xfrm>
                        <a:off x="6894720" y="2570400"/>
                        <a:ext cx="134640" cy="52200"/>
                        <a:chOff x="6894720" y="2570400"/>
                        <a:chExt cx="134640" cy="52200"/>
                      </a:xfrm>
                    </p:grpSpPr>
                    <p:grpSp>
                      <p:nvGrpSpPr>
                        <p:cNvPr id="6524" name=""/>
                        <p:cNvGrpSpPr/>
                        <p:nvPr/>
                      </p:nvGrpSpPr>
                      <p:grpSpPr>
                        <a:xfrm>
                          <a:off x="6894720" y="2570400"/>
                          <a:ext cx="134640" cy="52200"/>
                          <a:chOff x="6894720" y="2570400"/>
                          <a:chExt cx="134640" cy="52200"/>
                        </a:xfrm>
                      </p:grpSpPr>
                      <p:grpSp>
                        <p:nvGrpSpPr>
                          <p:cNvPr id="6525" name=""/>
                          <p:cNvGrpSpPr/>
                          <p:nvPr/>
                        </p:nvGrpSpPr>
                        <p:grpSpPr>
                          <a:xfrm>
                            <a:off x="6894720" y="2570400"/>
                            <a:ext cx="134640" cy="52200"/>
                            <a:chOff x="6894720" y="2570400"/>
                            <a:chExt cx="134640" cy="52200"/>
                          </a:xfrm>
                        </p:grpSpPr>
                        <p:sp>
                          <p:nvSpPr>
                            <p:cNvPr id="6526" name=""/>
                            <p:cNvSpPr/>
                            <p:nvPr/>
                          </p:nvSpPr>
                          <p:spPr>
                            <a:xfrm>
                              <a:off x="689472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27" name=""/>
                            <p:cNvSpPr/>
                            <p:nvPr/>
                          </p:nvSpPr>
                          <p:spPr>
                            <a:xfrm>
                              <a:off x="689616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28" name=""/>
                          <p:cNvSpPr/>
                          <p:nvPr/>
                        </p:nvSpPr>
                        <p:spPr>
                          <a:xfrm>
                            <a:off x="689760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29" name=""/>
                        <p:cNvGrpSpPr/>
                        <p:nvPr/>
                      </p:nvGrpSpPr>
                      <p:grpSpPr>
                        <a:xfrm>
                          <a:off x="6900840" y="2613240"/>
                          <a:ext cx="127080" cy="7920"/>
                          <a:chOff x="6900840" y="2613240"/>
                          <a:chExt cx="127080" cy="7920"/>
                        </a:xfrm>
                      </p:grpSpPr>
                      <p:grpSp>
                        <p:nvGrpSpPr>
                          <p:cNvPr id="6530" name=""/>
                          <p:cNvGrpSpPr/>
                          <p:nvPr/>
                        </p:nvGrpSpPr>
                        <p:grpSpPr>
                          <a:xfrm>
                            <a:off x="6900840" y="2613240"/>
                            <a:ext cx="63720" cy="7920"/>
                            <a:chOff x="6900840" y="2613240"/>
                            <a:chExt cx="63720" cy="7920"/>
                          </a:xfrm>
                        </p:grpSpPr>
                        <p:grpSp>
                          <p:nvGrpSpPr>
                            <p:cNvPr id="6531" name=""/>
                            <p:cNvGrpSpPr/>
                            <p:nvPr/>
                          </p:nvGrpSpPr>
                          <p:grpSpPr>
                            <a:xfrm>
                              <a:off x="6900840" y="2613240"/>
                              <a:ext cx="31680" cy="7920"/>
                              <a:chOff x="6900840" y="2613240"/>
                              <a:chExt cx="31680" cy="7920"/>
                            </a:xfrm>
                          </p:grpSpPr>
                          <p:grpSp>
                            <p:nvGrpSpPr>
                              <p:cNvPr id="6532" name=""/>
                              <p:cNvGrpSpPr/>
                              <p:nvPr/>
                            </p:nvGrpSpPr>
                            <p:grpSpPr>
                              <a:xfrm>
                                <a:off x="6900840" y="2613240"/>
                                <a:ext cx="15840" cy="7920"/>
                                <a:chOff x="69008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3" name=""/>
                                <p:cNvGrpSpPr/>
                                <p:nvPr/>
                              </p:nvGrpSpPr>
                              <p:grpSpPr>
                                <a:xfrm>
                                  <a:off x="6900840" y="2613240"/>
                                  <a:ext cx="7920" cy="7920"/>
                                  <a:chOff x="6900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0840" y="2613240"/>
                                    <a:ext cx="3240" cy="7920"/>
                                    <a:chOff x="6900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4080" y="2613240"/>
                                    <a:ext cx="4680" cy="7920"/>
                                    <a:chOff x="6904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40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7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40" name=""/>
                                <p:cNvGrpSpPr/>
                                <p:nvPr/>
                              </p:nvGrpSpPr>
                              <p:grpSpPr>
                                <a:xfrm>
                                  <a:off x="6908760" y="2613240"/>
                                  <a:ext cx="7920" cy="7920"/>
                                  <a:chOff x="6908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8760" y="2613240"/>
                                    <a:ext cx="3240" cy="7920"/>
                                    <a:chOff x="6908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0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2000" y="2613240"/>
                                    <a:ext cx="4680" cy="7920"/>
                                    <a:chOff x="69120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47" name=""/>
                              <p:cNvGrpSpPr/>
                              <p:nvPr/>
                            </p:nvGrpSpPr>
                            <p:grpSpPr>
                              <a:xfrm>
                                <a:off x="6916680" y="2613240"/>
                                <a:ext cx="15840" cy="7920"/>
                                <a:chOff x="69166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48" name=""/>
                                <p:cNvGrpSpPr/>
                                <p:nvPr/>
                              </p:nvGrpSpPr>
                              <p:grpSpPr>
                                <a:xfrm>
                                  <a:off x="6916680" y="2613240"/>
                                  <a:ext cx="7920" cy="7920"/>
                                  <a:chOff x="6916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6680" y="2613240"/>
                                    <a:ext cx="3240" cy="7920"/>
                                    <a:chOff x="6916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6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8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920" y="2613240"/>
                                    <a:ext cx="4680" cy="7920"/>
                                    <a:chOff x="6919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55" name=""/>
                                <p:cNvGrpSpPr/>
                                <p:nvPr/>
                              </p:nvGrpSpPr>
                              <p:grpSpPr>
                                <a:xfrm>
                                  <a:off x="6924600" y="2613240"/>
                                  <a:ext cx="7920" cy="7920"/>
                                  <a:chOff x="6924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4600" y="2613240"/>
                                    <a:ext cx="3240" cy="7920"/>
                                    <a:chOff x="6924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4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7840" y="2613240"/>
                                    <a:ext cx="4680" cy="7920"/>
                                    <a:chOff x="69278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7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1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562" name=""/>
                            <p:cNvGrpSpPr/>
                            <p:nvPr/>
                          </p:nvGrpSpPr>
                          <p:grpSpPr>
                            <a:xfrm>
                              <a:off x="6932520" y="2613240"/>
                              <a:ext cx="32040" cy="7920"/>
                              <a:chOff x="6932520" y="2613240"/>
                              <a:chExt cx="32040" cy="7920"/>
                            </a:xfrm>
                          </p:grpSpPr>
                          <p:grpSp>
                            <p:nvGrpSpPr>
                              <p:cNvPr id="6563" name=""/>
                              <p:cNvGrpSpPr/>
                              <p:nvPr/>
                            </p:nvGrpSpPr>
                            <p:grpSpPr>
                              <a:xfrm>
                                <a:off x="6932520" y="2613240"/>
                                <a:ext cx="16200" cy="7920"/>
                                <a:chOff x="693252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6564" name=""/>
                                <p:cNvGrpSpPr/>
                                <p:nvPr/>
                              </p:nvGrpSpPr>
                              <p:grpSpPr>
                                <a:xfrm>
                                  <a:off x="6932520" y="2613240"/>
                                  <a:ext cx="8280" cy="7920"/>
                                  <a:chOff x="693252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5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2520" y="2613240"/>
                                    <a:ext cx="3240" cy="7920"/>
                                    <a:chOff x="6932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2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4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7560" y="2613240"/>
                                    <a:ext cx="3240" cy="7920"/>
                                    <a:chOff x="6937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7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9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71" name=""/>
                                <p:cNvGrpSpPr/>
                                <p:nvPr/>
                              </p:nvGrpSpPr>
                              <p:grpSpPr>
                                <a:xfrm>
                                  <a:off x="6940800" y="2613240"/>
                                  <a:ext cx="7920" cy="7920"/>
                                  <a:chOff x="69408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0800" y="2613240"/>
                                    <a:ext cx="2880" cy="7920"/>
                                    <a:chOff x="694080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2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5480" y="2613240"/>
                                    <a:ext cx="3240" cy="7920"/>
                                    <a:chOff x="6945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5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6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78" name=""/>
                              <p:cNvGrpSpPr/>
                              <p:nvPr/>
                            </p:nvGrpSpPr>
                            <p:grpSpPr>
                              <a:xfrm>
                                <a:off x="6948720" y="2613240"/>
                                <a:ext cx="15840" cy="7920"/>
                                <a:chOff x="69487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79" name=""/>
                                <p:cNvGrpSpPr/>
                                <p:nvPr/>
                              </p:nvGrpSpPr>
                              <p:grpSpPr>
                                <a:xfrm>
                                  <a:off x="6948720" y="2613240"/>
                                  <a:ext cx="7920" cy="7920"/>
                                  <a:chOff x="69487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8720" y="2613240"/>
                                    <a:ext cx="2880" cy="7920"/>
                                    <a:chOff x="69487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8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0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3400" y="2613240"/>
                                    <a:ext cx="3240" cy="7920"/>
                                    <a:chOff x="6953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3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4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86" name=""/>
                                <p:cNvGrpSpPr/>
                                <p:nvPr/>
                              </p:nvGrpSpPr>
                              <p:grpSpPr>
                                <a:xfrm>
                                  <a:off x="6956640" y="2613240"/>
                                  <a:ext cx="7920" cy="7920"/>
                                  <a:chOff x="69566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6640" y="2613240"/>
                                    <a:ext cx="2880" cy="7920"/>
                                    <a:chOff x="69566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6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9520" y="2613240"/>
                                    <a:ext cx="5040" cy="7920"/>
                                    <a:chOff x="695952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9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2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593" name=""/>
                          <p:cNvGrpSpPr/>
                          <p:nvPr/>
                        </p:nvGrpSpPr>
                        <p:grpSpPr>
                          <a:xfrm>
                            <a:off x="6964560" y="2613240"/>
                            <a:ext cx="63360" cy="7920"/>
                            <a:chOff x="6964560" y="2613240"/>
                            <a:chExt cx="63360" cy="7920"/>
                          </a:xfrm>
                        </p:grpSpPr>
                        <p:grpSp>
                          <p:nvGrpSpPr>
                            <p:cNvPr id="6594" name=""/>
                            <p:cNvGrpSpPr/>
                            <p:nvPr/>
                          </p:nvGrpSpPr>
                          <p:grpSpPr>
                            <a:xfrm>
                              <a:off x="6964560" y="2613240"/>
                              <a:ext cx="31680" cy="7920"/>
                              <a:chOff x="6964560" y="2613240"/>
                              <a:chExt cx="31680" cy="7920"/>
                            </a:xfrm>
                          </p:grpSpPr>
                          <p:grpSp>
                            <p:nvGrpSpPr>
                              <p:cNvPr id="6595" name=""/>
                              <p:cNvGrpSpPr/>
                              <p:nvPr/>
                            </p:nvGrpSpPr>
                            <p:grpSpPr>
                              <a:xfrm>
                                <a:off x="6964560" y="2613240"/>
                                <a:ext cx="15840" cy="7920"/>
                                <a:chOff x="69645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96" name=""/>
                                <p:cNvGrpSpPr/>
                                <p:nvPr/>
                              </p:nvGrpSpPr>
                              <p:grpSpPr>
                                <a:xfrm>
                                  <a:off x="6964560" y="2613240"/>
                                  <a:ext cx="7920" cy="7920"/>
                                  <a:chOff x="69645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4560" y="2613240"/>
                                    <a:ext cx="3240" cy="7920"/>
                                    <a:chOff x="6964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4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6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7800" y="2613240"/>
                                    <a:ext cx="4680" cy="7920"/>
                                    <a:chOff x="69678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0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3" name=""/>
                                <p:cNvGrpSpPr/>
                                <p:nvPr/>
                              </p:nvGrpSpPr>
                              <p:grpSpPr>
                                <a:xfrm>
                                  <a:off x="6972480" y="2613240"/>
                                  <a:ext cx="7920" cy="7920"/>
                                  <a:chOff x="69724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2480" y="2613240"/>
                                    <a:ext cx="3240" cy="7920"/>
                                    <a:chOff x="6972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2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3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7160" y="2613240"/>
                                    <a:ext cx="3240" cy="7920"/>
                                    <a:chOff x="6977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7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8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10" name=""/>
                              <p:cNvGrpSpPr/>
                              <p:nvPr/>
                            </p:nvGrpSpPr>
                            <p:grpSpPr>
                              <a:xfrm>
                                <a:off x="6980400" y="2613240"/>
                                <a:ext cx="15840" cy="7920"/>
                                <a:chOff x="69804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11" name=""/>
                                <p:cNvGrpSpPr/>
                                <p:nvPr/>
                              </p:nvGrpSpPr>
                              <p:grpSpPr>
                                <a:xfrm>
                                  <a:off x="6980400" y="2613240"/>
                                  <a:ext cx="7920" cy="7920"/>
                                  <a:chOff x="69804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0400" y="2613240"/>
                                    <a:ext cx="3240" cy="7920"/>
                                    <a:chOff x="6980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0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1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5080" y="2613240"/>
                                    <a:ext cx="3240" cy="7920"/>
                                    <a:chOff x="6985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6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18" name=""/>
                                <p:cNvGrpSpPr/>
                                <p:nvPr/>
                              </p:nvGrpSpPr>
                              <p:grpSpPr>
                                <a:xfrm>
                                  <a:off x="6988320" y="2613240"/>
                                  <a:ext cx="7920" cy="7920"/>
                                  <a:chOff x="6988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8320" y="2613240"/>
                                    <a:ext cx="3240" cy="7920"/>
                                    <a:chOff x="69883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8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9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1560" y="2613240"/>
                                    <a:ext cx="4680" cy="7920"/>
                                    <a:chOff x="69915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4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625" name=""/>
                            <p:cNvGrpSpPr/>
                            <p:nvPr/>
                          </p:nvGrpSpPr>
                          <p:grpSpPr>
                            <a:xfrm>
                              <a:off x="6996240" y="2613240"/>
                              <a:ext cx="31680" cy="7920"/>
                              <a:chOff x="6996240" y="2613240"/>
                              <a:chExt cx="31680" cy="7920"/>
                            </a:xfrm>
                          </p:grpSpPr>
                          <p:grpSp>
                            <p:nvGrpSpPr>
                              <p:cNvPr id="6626" name=""/>
                              <p:cNvGrpSpPr/>
                              <p:nvPr/>
                            </p:nvGrpSpPr>
                            <p:grpSpPr>
                              <a:xfrm>
                                <a:off x="6996240" y="2613240"/>
                                <a:ext cx="15840" cy="7920"/>
                                <a:chOff x="6996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27" name=""/>
                                <p:cNvGrpSpPr/>
                                <p:nvPr/>
                              </p:nvGrpSpPr>
                              <p:grpSpPr>
                                <a:xfrm>
                                  <a:off x="6996240" y="2613240"/>
                                  <a:ext cx="7920" cy="7920"/>
                                  <a:chOff x="6996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6240" y="2613240"/>
                                    <a:ext cx="3240" cy="7920"/>
                                    <a:chOff x="69962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7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0920" y="2613240"/>
                                    <a:ext cx="3240" cy="7920"/>
                                    <a:chOff x="7000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0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2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34" name=""/>
                                <p:cNvGrpSpPr/>
                                <p:nvPr/>
                              </p:nvGrpSpPr>
                              <p:grpSpPr>
                                <a:xfrm>
                                  <a:off x="7004160" y="2613240"/>
                                  <a:ext cx="7920" cy="7920"/>
                                  <a:chOff x="7004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4160" y="2613240"/>
                                    <a:ext cx="3240" cy="7920"/>
                                    <a:chOff x="7004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7400" y="2613240"/>
                                    <a:ext cx="4680" cy="7920"/>
                                    <a:chOff x="70074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7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0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41" name=""/>
                              <p:cNvGrpSpPr/>
                              <p:nvPr/>
                            </p:nvGrpSpPr>
                            <p:grpSpPr>
                              <a:xfrm>
                                <a:off x="7012080" y="2613240"/>
                                <a:ext cx="15840" cy="7920"/>
                                <a:chOff x="7012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42" name=""/>
                                <p:cNvGrpSpPr/>
                                <p:nvPr/>
                              </p:nvGrpSpPr>
                              <p:grpSpPr>
                                <a:xfrm>
                                  <a:off x="7012080" y="2613240"/>
                                  <a:ext cx="7920" cy="7920"/>
                                  <a:chOff x="7012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2080" y="2613240"/>
                                    <a:ext cx="3240" cy="7920"/>
                                    <a:chOff x="7012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6760" y="2613240"/>
                                    <a:ext cx="3240" cy="7920"/>
                                    <a:chOff x="7016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6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8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49" name=""/>
                                <p:cNvGrpSpPr/>
                                <p:nvPr/>
                              </p:nvGrpSpPr>
                              <p:grpSpPr>
                                <a:xfrm>
                                  <a:off x="7020000" y="2613240"/>
                                  <a:ext cx="7920" cy="7920"/>
                                  <a:chOff x="7020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0000" y="2613240"/>
                                    <a:ext cx="3240" cy="7920"/>
                                    <a:chOff x="7020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4680" y="2613240"/>
                                    <a:ext cx="3240" cy="7920"/>
                                    <a:chOff x="7024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4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656" name=""/>
                      <p:cNvGrpSpPr/>
                      <p:nvPr/>
                    </p:nvGrpSpPr>
                    <p:grpSpPr>
                      <a:xfrm>
                        <a:off x="6897600" y="2584440"/>
                        <a:ext cx="128880" cy="22320"/>
                        <a:chOff x="6897600" y="2584440"/>
                        <a:chExt cx="128880" cy="22320"/>
                      </a:xfrm>
                    </p:grpSpPr>
                    <p:sp>
                      <p:nvSpPr>
                        <p:cNvPr id="6657" name=""/>
                        <p:cNvSpPr/>
                        <p:nvPr/>
                      </p:nvSpPr>
                      <p:spPr>
                        <a:xfrm>
                          <a:off x="689760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8" name=""/>
                        <p:cNvSpPr/>
                        <p:nvPr/>
                      </p:nvSpPr>
                      <p:spPr>
                        <a:xfrm>
                          <a:off x="692640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9" name=""/>
                        <p:cNvSpPr/>
                        <p:nvPr/>
                      </p:nvSpPr>
                      <p:spPr>
                        <a:xfrm>
                          <a:off x="696600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0" name=""/>
                        <p:cNvSpPr/>
                        <p:nvPr/>
                      </p:nvSpPr>
                      <p:spPr>
                        <a:xfrm>
                          <a:off x="700740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1" name=""/>
                    <p:cNvGrpSpPr/>
                    <p:nvPr/>
                  </p:nvGrpSpPr>
                  <p:grpSpPr>
                    <a:xfrm>
                      <a:off x="7010640" y="2587680"/>
                      <a:ext cx="12600" cy="11160"/>
                      <a:chOff x="7010640" y="2587680"/>
                      <a:chExt cx="12600" cy="11160"/>
                    </a:xfrm>
                  </p:grpSpPr>
                  <p:sp>
                    <p:nvSpPr>
                      <p:cNvPr id="6662" name=""/>
                      <p:cNvSpPr/>
                      <p:nvPr/>
                    </p:nvSpPr>
                    <p:spPr>
                      <a:xfrm>
                        <a:off x="701532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3" name=""/>
                      <p:cNvSpPr/>
                      <p:nvPr/>
                    </p:nvSpPr>
                    <p:spPr>
                      <a:xfrm>
                        <a:off x="701676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64" name=""/>
                      <p:cNvGrpSpPr/>
                      <p:nvPr/>
                    </p:nvGrpSpPr>
                    <p:grpSpPr>
                      <a:xfrm>
                        <a:off x="7010640" y="2589480"/>
                        <a:ext cx="2880" cy="6120"/>
                        <a:chOff x="7010640" y="2589480"/>
                        <a:chExt cx="2880" cy="6120"/>
                      </a:xfrm>
                    </p:grpSpPr>
                    <p:sp>
                      <p:nvSpPr>
                        <p:cNvPr id="6665" name=""/>
                        <p:cNvSpPr/>
                        <p:nvPr/>
                      </p:nvSpPr>
                      <p:spPr>
                        <a:xfrm>
                          <a:off x="701064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6" name=""/>
                        <p:cNvSpPr/>
                        <p:nvPr/>
                      </p:nvSpPr>
                      <p:spPr>
                        <a:xfrm>
                          <a:off x="701064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7" name=""/>
                    <p:cNvGrpSpPr/>
                    <p:nvPr/>
                  </p:nvGrpSpPr>
                  <p:grpSpPr>
                    <a:xfrm>
                      <a:off x="6927840" y="2587680"/>
                      <a:ext cx="36720" cy="14400"/>
                      <a:chOff x="6927840" y="2587680"/>
                      <a:chExt cx="36720" cy="14400"/>
                    </a:xfrm>
                  </p:grpSpPr>
                  <p:grpSp>
                    <p:nvGrpSpPr>
                      <p:cNvPr id="6668" name=""/>
                      <p:cNvGrpSpPr/>
                      <p:nvPr/>
                    </p:nvGrpSpPr>
                    <p:grpSpPr>
                      <a:xfrm>
                        <a:off x="6929640" y="2587680"/>
                        <a:ext cx="34920" cy="7920"/>
                        <a:chOff x="6929640" y="2587680"/>
                        <a:chExt cx="34920" cy="7920"/>
                      </a:xfrm>
                    </p:grpSpPr>
                    <p:sp>
                      <p:nvSpPr>
                        <p:cNvPr id="6669" name=""/>
                        <p:cNvSpPr/>
                        <p:nvPr/>
                      </p:nvSpPr>
                      <p:spPr>
                        <a:xfrm>
                          <a:off x="693900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0" name=""/>
                        <p:cNvSpPr/>
                        <p:nvPr/>
                      </p:nvSpPr>
                      <p:spPr>
                        <a:xfrm>
                          <a:off x="693900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1" name=""/>
                        <p:cNvSpPr/>
                        <p:nvPr/>
                      </p:nvSpPr>
                      <p:spPr>
                        <a:xfrm>
                          <a:off x="692964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72" name=""/>
                      <p:cNvSpPr/>
                      <p:nvPr/>
                    </p:nvSpPr>
                    <p:spPr>
                      <a:xfrm>
                        <a:off x="692784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3" name=""/>
                      <p:cNvSpPr/>
                      <p:nvPr/>
                    </p:nvSpPr>
                    <p:spPr>
                      <a:xfrm>
                        <a:off x="695664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4" name=""/>
                    <p:cNvGrpSpPr/>
                    <p:nvPr/>
                  </p:nvGrpSpPr>
                  <p:grpSpPr>
                    <a:xfrm>
                      <a:off x="6900840" y="2600640"/>
                      <a:ext cx="23760" cy="4680"/>
                      <a:chOff x="6900840" y="2600640"/>
                      <a:chExt cx="23760" cy="4680"/>
                    </a:xfrm>
                  </p:grpSpPr>
                  <p:grpSp>
                    <p:nvGrpSpPr>
                      <p:cNvPr id="6675" name=""/>
                      <p:cNvGrpSpPr/>
                      <p:nvPr/>
                    </p:nvGrpSpPr>
                    <p:grpSpPr>
                      <a:xfrm>
                        <a:off x="6900840" y="2600640"/>
                        <a:ext cx="12960" cy="4680"/>
                        <a:chOff x="6900840" y="2600640"/>
                        <a:chExt cx="12960" cy="4680"/>
                      </a:xfrm>
                    </p:grpSpPr>
                    <p:grpSp>
                      <p:nvGrpSpPr>
                        <p:cNvPr id="6676" name=""/>
                        <p:cNvGrpSpPr/>
                        <p:nvPr/>
                      </p:nvGrpSpPr>
                      <p:grpSpPr>
                        <a:xfrm>
                          <a:off x="6900840" y="2600640"/>
                          <a:ext cx="6480" cy="4680"/>
                          <a:chOff x="6900840" y="2600640"/>
                          <a:chExt cx="6480" cy="4680"/>
                        </a:xfrm>
                      </p:grpSpPr>
                      <p:grpSp>
                        <p:nvGrpSpPr>
                          <p:cNvPr id="6677" name=""/>
                          <p:cNvGrpSpPr/>
                          <p:nvPr/>
                        </p:nvGrpSpPr>
                        <p:grpSpPr>
                          <a:xfrm>
                            <a:off x="6900840" y="2600640"/>
                            <a:ext cx="3240" cy="4680"/>
                            <a:chOff x="6900840" y="2600640"/>
                            <a:chExt cx="3240" cy="4680"/>
                          </a:xfrm>
                        </p:grpSpPr>
                        <p:sp>
                          <p:nvSpPr>
                            <p:cNvPr id="6678" name=""/>
                            <p:cNvSpPr/>
                            <p:nvPr/>
                          </p:nvSpPr>
                          <p:spPr>
                            <a:xfrm>
                              <a:off x="69008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79" name=""/>
                            <p:cNvSpPr/>
                            <p:nvPr/>
                          </p:nvSpPr>
                          <p:spPr>
                            <a:xfrm>
                              <a:off x="69026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0" name=""/>
                          <p:cNvGrpSpPr/>
                          <p:nvPr/>
                        </p:nvGrpSpPr>
                        <p:grpSpPr>
                          <a:xfrm>
                            <a:off x="6904080" y="2600640"/>
                            <a:ext cx="3240" cy="4680"/>
                            <a:chOff x="6904080" y="2600640"/>
                            <a:chExt cx="3240" cy="4680"/>
                          </a:xfrm>
                        </p:grpSpPr>
                        <p:sp>
                          <p:nvSpPr>
                            <p:cNvPr id="6681" name=""/>
                            <p:cNvSpPr/>
                            <p:nvPr/>
                          </p:nvSpPr>
                          <p:spPr>
                            <a:xfrm>
                              <a:off x="69040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2" name=""/>
                            <p:cNvSpPr/>
                            <p:nvPr/>
                          </p:nvSpPr>
                          <p:spPr>
                            <a:xfrm>
                              <a:off x="6905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83" name=""/>
                        <p:cNvGrpSpPr/>
                        <p:nvPr/>
                      </p:nvGrpSpPr>
                      <p:grpSpPr>
                        <a:xfrm>
                          <a:off x="6907320" y="2600640"/>
                          <a:ext cx="6480" cy="4680"/>
                          <a:chOff x="6907320" y="2600640"/>
                          <a:chExt cx="6480" cy="4680"/>
                        </a:xfrm>
                      </p:grpSpPr>
                      <p:grpSp>
                        <p:nvGrpSpPr>
                          <p:cNvPr id="6684" name=""/>
                          <p:cNvGrpSpPr/>
                          <p:nvPr/>
                        </p:nvGrpSpPr>
                        <p:grpSpPr>
                          <a:xfrm>
                            <a:off x="6907320" y="2600640"/>
                            <a:ext cx="3240" cy="4680"/>
                            <a:chOff x="6907320" y="2600640"/>
                            <a:chExt cx="3240" cy="4680"/>
                          </a:xfrm>
                        </p:grpSpPr>
                        <p:sp>
                          <p:nvSpPr>
                            <p:cNvPr id="6685" name=""/>
                            <p:cNvSpPr/>
                            <p:nvPr/>
                          </p:nvSpPr>
                          <p:spPr>
                            <a:xfrm>
                              <a:off x="6907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6" name=""/>
                            <p:cNvSpPr/>
                            <p:nvPr/>
                          </p:nvSpPr>
                          <p:spPr>
                            <a:xfrm>
                              <a:off x="69087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7" name=""/>
                          <p:cNvGrpSpPr/>
                          <p:nvPr/>
                        </p:nvGrpSpPr>
                        <p:grpSpPr>
                          <a:xfrm>
                            <a:off x="6910560" y="2600640"/>
                            <a:ext cx="3240" cy="4680"/>
                            <a:chOff x="6910560" y="2600640"/>
                            <a:chExt cx="3240" cy="4680"/>
                          </a:xfrm>
                        </p:grpSpPr>
                        <p:sp>
                          <p:nvSpPr>
                            <p:cNvPr id="6688" name=""/>
                            <p:cNvSpPr/>
                            <p:nvPr/>
                          </p:nvSpPr>
                          <p:spPr>
                            <a:xfrm>
                              <a:off x="69105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9" name=""/>
                            <p:cNvSpPr/>
                            <p:nvPr/>
                          </p:nvSpPr>
                          <p:spPr>
                            <a:xfrm>
                              <a:off x="69120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690" name=""/>
                      <p:cNvGrpSpPr/>
                      <p:nvPr/>
                    </p:nvGrpSpPr>
                    <p:grpSpPr>
                      <a:xfrm>
                        <a:off x="6913800" y="2600640"/>
                        <a:ext cx="10800" cy="4680"/>
                        <a:chOff x="6913800" y="2600640"/>
                        <a:chExt cx="10800" cy="4680"/>
                      </a:xfrm>
                    </p:grpSpPr>
                    <p:grpSp>
                      <p:nvGrpSpPr>
                        <p:cNvPr id="6691" name=""/>
                        <p:cNvGrpSpPr/>
                        <p:nvPr/>
                      </p:nvGrpSpPr>
                      <p:grpSpPr>
                        <a:xfrm>
                          <a:off x="6913800" y="2600640"/>
                          <a:ext cx="6120" cy="4680"/>
                          <a:chOff x="6913800" y="2600640"/>
                          <a:chExt cx="6120" cy="4680"/>
                        </a:xfrm>
                      </p:grpSpPr>
                      <p:grpSp>
                        <p:nvGrpSpPr>
                          <p:cNvPr id="6692" name=""/>
                          <p:cNvGrpSpPr/>
                          <p:nvPr/>
                        </p:nvGrpSpPr>
                        <p:grpSpPr>
                          <a:xfrm>
                            <a:off x="6913800" y="2600640"/>
                            <a:ext cx="2880" cy="4680"/>
                            <a:chOff x="6913800" y="2600640"/>
                            <a:chExt cx="2880" cy="4680"/>
                          </a:xfrm>
                        </p:grpSpPr>
                        <p:sp>
                          <p:nvSpPr>
                            <p:cNvPr id="6693" name=""/>
                            <p:cNvSpPr/>
                            <p:nvPr/>
                          </p:nvSpPr>
                          <p:spPr>
                            <a:xfrm>
                              <a:off x="6913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4" name=""/>
                            <p:cNvSpPr/>
                            <p:nvPr/>
                          </p:nvSpPr>
                          <p:spPr>
                            <a:xfrm>
                              <a:off x="6915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95" name=""/>
                          <p:cNvGrpSpPr/>
                          <p:nvPr/>
                        </p:nvGrpSpPr>
                        <p:grpSpPr>
                          <a:xfrm>
                            <a:off x="6916680" y="2600640"/>
                            <a:ext cx="3240" cy="4680"/>
                            <a:chOff x="6916680" y="2600640"/>
                            <a:chExt cx="3240" cy="4680"/>
                          </a:xfrm>
                        </p:grpSpPr>
                        <p:sp>
                          <p:nvSpPr>
                            <p:cNvPr id="6696" name=""/>
                            <p:cNvSpPr/>
                            <p:nvPr/>
                          </p:nvSpPr>
                          <p:spPr>
                            <a:xfrm>
                              <a:off x="69166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7" name=""/>
                            <p:cNvSpPr/>
                            <p:nvPr/>
                          </p:nvSpPr>
                          <p:spPr>
                            <a:xfrm>
                              <a:off x="6918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98" name=""/>
                        <p:cNvGrpSpPr/>
                        <p:nvPr/>
                      </p:nvGrpSpPr>
                      <p:grpSpPr>
                        <a:xfrm>
                          <a:off x="6919920" y="2600640"/>
                          <a:ext cx="4680" cy="4680"/>
                          <a:chOff x="6919920" y="2600640"/>
                          <a:chExt cx="4680" cy="4680"/>
                        </a:xfrm>
                      </p:grpSpPr>
                      <p:grpSp>
                        <p:nvGrpSpPr>
                          <p:cNvPr id="6699" name=""/>
                          <p:cNvGrpSpPr/>
                          <p:nvPr/>
                        </p:nvGrpSpPr>
                        <p:grpSpPr>
                          <a:xfrm>
                            <a:off x="6919920" y="2600640"/>
                            <a:ext cx="1800" cy="4680"/>
                            <a:chOff x="6919920" y="2600640"/>
                            <a:chExt cx="1800" cy="4680"/>
                          </a:xfrm>
                        </p:grpSpPr>
                        <p:sp>
                          <p:nvSpPr>
                            <p:cNvPr id="6700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1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02" name=""/>
                          <p:cNvGrpSpPr/>
                          <p:nvPr/>
                        </p:nvGrpSpPr>
                        <p:grpSpPr>
                          <a:xfrm>
                            <a:off x="6921720" y="2600640"/>
                            <a:ext cx="2880" cy="4680"/>
                            <a:chOff x="6921720" y="2600640"/>
                            <a:chExt cx="2880" cy="4680"/>
                          </a:xfrm>
                        </p:grpSpPr>
                        <p:sp>
                          <p:nvSpPr>
                            <p:cNvPr id="6703" name=""/>
                            <p:cNvSpPr/>
                            <p:nvPr/>
                          </p:nvSpPr>
                          <p:spPr>
                            <a:xfrm>
                              <a:off x="6921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4" name=""/>
                            <p:cNvSpPr/>
                            <p:nvPr/>
                          </p:nvSpPr>
                          <p:spPr>
                            <a:xfrm>
                              <a:off x="6923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705" name=""/>
                    <p:cNvSpPr/>
                    <p:nvPr/>
                  </p:nvSpPr>
                  <p:spPr>
                    <a:xfrm>
                      <a:off x="689940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06" name=""/>
                  <p:cNvGrpSpPr/>
                  <p:nvPr/>
                </p:nvGrpSpPr>
                <p:grpSpPr>
                  <a:xfrm>
                    <a:off x="6854760" y="2619720"/>
                    <a:ext cx="211320" cy="29880"/>
                    <a:chOff x="6854760" y="2619720"/>
                    <a:chExt cx="211320" cy="29880"/>
                  </a:xfrm>
                </p:grpSpPr>
                <p:grpSp>
                  <p:nvGrpSpPr>
                    <p:cNvPr id="6707" name=""/>
                    <p:cNvGrpSpPr/>
                    <p:nvPr/>
                  </p:nvGrpSpPr>
                  <p:grpSpPr>
                    <a:xfrm>
                      <a:off x="6854760" y="2619720"/>
                      <a:ext cx="211320" cy="29880"/>
                      <a:chOff x="6854760" y="2619720"/>
                      <a:chExt cx="211320" cy="29880"/>
                    </a:xfrm>
                  </p:grpSpPr>
                  <p:sp>
                    <p:nvSpPr>
                      <p:cNvPr id="6708" name=""/>
                      <p:cNvSpPr/>
                      <p:nvPr/>
                    </p:nvSpPr>
                    <p:spPr>
                      <a:xfrm>
                        <a:off x="685476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9" name=""/>
                      <p:cNvSpPr/>
                      <p:nvPr/>
                    </p:nvSpPr>
                    <p:spPr>
                      <a:xfrm>
                        <a:off x="685476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0" name=""/>
                      <p:cNvSpPr/>
                      <p:nvPr/>
                    </p:nvSpPr>
                    <p:spPr>
                      <a:xfrm>
                        <a:off x="686124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1" name=""/>
                    <p:cNvGrpSpPr/>
                    <p:nvPr/>
                  </p:nvGrpSpPr>
                  <p:grpSpPr>
                    <a:xfrm>
                      <a:off x="6877080" y="2622600"/>
                      <a:ext cx="166680" cy="5040"/>
                      <a:chOff x="6877080" y="2622600"/>
                      <a:chExt cx="166680" cy="5040"/>
                    </a:xfrm>
                  </p:grpSpPr>
                  <p:sp>
                    <p:nvSpPr>
                      <p:cNvPr id="6712" name=""/>
                      <p:cNvSpPr/>
                      <p:nvPr/>
                    </p:nvSpPr>
                    <p:spPr>
                      <a:xfrm>
                        <a:off x="687708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3" name=""/>
                      <p:cNvSpPr/>
                      <p:nvPr/>
                    </p:nvSpPr>
                    <p:spPr>
                      <a:xfrm>
                        <a:off x="689472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4" name=""/>
                      <p:cNvSpPr/>
                      <p:nvPr/>
                    </p:nvSpPr>
                    <p:spPr>
                      <a:xfrm>
                        <a:off x="692784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5" name=""/>
                      <p:cNvSpPr/>
                      <p:nvPr/>
                    </p:nvSpPr>
                    <p:spPr>
                      <a:xfrm>
                        <a:off x="695808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6" name=""/>
                      <p:cNvSpPr/>
                      <p:nvPr/>
                    </p:nvSpPr>
                    <p:spPr>
                      <a:xfrm>
                        <a:off x="698832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7" name=""/>
                      <p:cNvSpPr/>
                      <p:nvPr/>
                    </p:nvSpPr>
                    <p:spPr>
                      <a:xfrm>
                        <a:off x="701676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8" name=""/>
                    <p:cNvGrpSpPr/>
                    <p:nvPr/>
                  </p:nvGrpSpPr>
                  <p:grpSpPr>
                    <a:xfrm>
                      <a:off x="6870960" y="2629080"/>
                      <a:ext cx="176040" cy="11160"/>
                      <a:chOff x="6870960" y="2629080"/>
                      <a:chExt cx="176040" cy="11160"/>
                    </a:xfrm>
                  </p:grpSpPr>
                  <p:grpSp>
                    <p:nvGrpSpPr>
                      <p:cNvPr id="6719" name=""/>
                      <p:cNvGrpSpPr/>
                      <p:nvPr/>
                    </p:nvGrpSpPr>
                    <p:grpSpPr>
                      <a:xfrm>
                        <a:off x="6886800" y="2629080"/>
                        <a:ext cx="85680" cy="9360"/>
                        <a:chOff x="6886800" y="2629080"/>
                        <a:chExt cx="85680" cy="9360"/>
                      </a:xfrm>
                    </p:grpSpPr>
                    <p:sp>
                      <p:nvSpPr>
                        <p:cNvPr id="6720" name=""/>
                        <p:cNvSpPr/>
                        <p:nvPr/>
                      </p:nvSpPr>
                      <p:spPr>
                        <a:xfrm>
                          <a:off x="688680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1" name=""/>
                        <p:cNvSpPr/>
                        <p:nvPr/>
                      </p:nvSpPr>
                      <p:spPr>
                        <a:xfrm>
                          <a:off x="688968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2" name=""/>
                        <p:cNvSpPr/>
                        <p:nvPr/>
                      </p:nvSpPr>
                      <p:spPr>
                        <a:xfrm>
                          <a:off x="689148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3" name=""/>
                        <p:cNvSpPr/>
                        <p:nvPr/>
                      </p:nvSpPr>
                      <p:spPr>
                        <a:xfrm>
                          <a:off x="689292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4" name=""/>
                      <p:cNvGrpSpPr/>
                      <p:nvPr/>
                    </p:nvGrpSpPr>
                    <p:grpSpPr>
                      <a:xfrm>
                        <a:off x="6870960" y="2630520"/>
                        <a:ext cx="15840" cy="6480"/>
                        <a:chOff x="6870960" y="2630520"/>
                        <a:chExt cx="15840" cy="6480"/>
                      </a:xfrm>
                    </p:grpSpPr>
                    <p:sp>
                      <p:nvSpPr>
                        <p:cNvPr id="6725" name=""/>
                        <p:cNvSpPr/>
                        <p:nvPr/>
                      </p:nvSpPr>
                      <p:spPr>
                        <a:xfrm>
                          <a:off x="687564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6" name=""/>
                        <p:cNvSpPr/>
                        <p:nvPr/>
                      </p:nvSpPr>
                      <p:spPr>
                        <a:xfrm>
                          <a:off x="687384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7" name=""/>
                        <p:cNvSpPr/>
                        <p:nvPr/>
                      </p:nvSpPr>
                      <p:spPr>
                        <a:xfrm>
                          <a:off x="687096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8" name=""/>
                      <p:cNvGrpSpPr/>
                      <p:nvPr/>
                    </p:nvGrpSpPr>
                    <p:grpSpPr>
                      <a:xfrm>
                        <a:off x="6905880" y="2629080"/>
                        <a:ext cx="79200" cy="9360"/>
                        <a:chOff x="6905880" y="2629080"/>
                        <a:chExt cx="79200" cy="9360"/>
                      </a:xfrm>
                    </p:grpSpPr>
                    <p:sp>
                      <p:nvSpPr>
                        <p:cNvPr id="6729" name=""/>
                        <p:cNvSpPr/>
                        <p:nvPr/>
                      </p:nvSpPr>
                      <p:spPr>
                        <a:xfrm>
                          <a:off x="690588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0" name=""/>
                        <p:cNvSpPr/>
                        <p:nvPr/>
                      </p:nvSpPr>
                      <p:spPr>
                        <a:xfrm>
                          <a:off x="697248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1" name=""/>
                        <p:cNvSpPr/>
                        <p:nvPr/>
                      </p:nvSpPr>
                      <p:spPr>
                        <a:xfrm>
                          <a:off x="697572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2" name=""/>
                        <p:cNvSpPr/>
                        <p:nvPr/>
                      </p:nvSpPr>
                      <p:spPr>
                        <a:xfrm>
                          <a:off x="696924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3" name=""/>
                        <p:cNvSpPr/>
                        <p:nvPr/>
                      </p:nvSpPr>
                      <p:spPr>
                        <a:xfrm>
                          <a:off x="695664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4" name=""/>
                        <p:cNvSpPr/>
                        <p:nvPr/>
                      </p:nvSpPr>
                      <p:spPr>
                        <a:xfrm>
                          <a:off x="696600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5" name=""/>
                      <p:cNvGrpSpPr/>
                      <p:nvPr/>
                    </p:nvGrpSpPr>
                    <p:grpSpPr>
                      <a:xfrm>
                        <a:off x="6988320" y="2630520"/>
                        <a:ext cx="25200" cy="7920"/>
                        <a:chOff x="6988320" y="2630520"/>
                        <a:chExt cx="25200" cy="7920"/>
                      </a:xfrm>
                    </p:grpSpPr>
                    <p:sp>
                      <p:nvSpPr>
                        <p:cNvPr id="6736" name=""/>
                        <p:cNvSpPr/>
                        <p:nvPr/>
                      </p:nvSpPr>
                      <p:spPr>
                        <a:xfrm>
                          <a:off x="698832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7" name=""/>
                        <p:cNvSpPr/>
                        <p:nvPr/>
                      </p:nvSpPr>
                      <p:spPr>
                        <a:xfrm>
                          <a:off x="699156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8" name=""/>
                        <p:cNvSpPr/>
                        <p:nvPr/>
                      </p:nvSpPr>
                      <p:spPr>
                        <a:xfrm>
                          <a:off x="699156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9" name=""/>
                      <p:cNvGrpSpPr/>
                      <p:nvPr/>
                    </p:nvGrpSpPr>
                    <p:grpSpPr>
                      <a:xfrm>
                        <a:off x="7016760" y="2630520"/>
                        <a:ext cx="30240" cy="9720"/>
                        <a:chOff x="7016760" y="2630520"/>
                        <a:chExt cx="30240" cy="9720"/>
                      </a:xfrm>
                    </p:grpSpPr>
                    <p:sp>
                      <p:nvSpPr>
                        <p:cNvPr id="6740" name=""/>
                        <p:cNvSpPr/>
                        <p:nvPr/>
                      </p:nvSpPr>
                      <p:spPr>
                        <a:xfrm>
                          <a:off x="702000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1" name=""/>
                        <p:cNvSpPr/>
                        <p:nvPr/>
                      </p:nvSpPr>
                      <p:spPr>
                        <a:xfrm>
                          <a:off x="701676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2" name=""/>
                        <p:cNvSpPr/>
                        <p:nvPr/>
                      </p:nvSpPr>
                      <p:spPr>
                        <a:xfrm>
                          <a:off x="702000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3" name=""/>
                        <p:cNvSpPr/>
                        <p:nvPr/>
                      </p:nvSpPr>
                      <p:spPr>
                        <a:xfrm>
                          <a:off x="701856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4" name=""/>
                        <p:cNvSpPr/>
                        <p:nvPr/>
                      </p:nvSpPr>
                      <p:spPr>
                        <a:xfrm>
                          <a:off x="703908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5" name=""/>
                        <p:cNvSpPr/>
                        <p:nvPr/>
                      </p:nvSpPr>
                      <p:spPr>
                        <a:xfrm>
                          <a:off x="704052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746" name=""/>
                  <p:cNvGrpSpPr/>
                  <p:nvPr/>
                </p:nvGrpSpPr>
                <p:grpSpPr>
                  <a:xfrm>
                    <a:off x="6916680" y="2560680"/>
                    <a:ext cx="92160" cy="19080"/>
                    <a:chOff x="6916680" y="2560680"/>
                    <a:chExt cx="92160" cy="19080"/>
                  </a:xfrm>
                </p:grpSpPr>
                <p:grpSp>
                  <p:nvGrpSpPr>
                    <p:cNvPr id="6747" name=""/>
                    <p:cNvGrpSpPr/>
                    <p:nvPr/>
                  </p:nvGrpSpPr>
                  <p:grpSpPr>
                    <a:xfrm>
                      <a:off x="6916680" y="2565720"/>
                      <a:ext cx="92160" cy="14040"/>
                      <a:chOff x="6916680" y="2565720"/>
                      <a:chExt cx="92160" cy="14040"/>
                    </a:xfrm>
                  </p:grpSpPr>
                  <p:sp>
                    <p:nvSpPr>
                      <p:cNvPr id="6748" name=""/>
                      <p:cNvSpPr/>
                      <p:nvPr/>
                    </p:nvSpPr>
                    <p:spPr>
                      <a:xfrm>
                        <a:off x="691668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9" name=""/>
                      <p:cNvSpPr/>
                      <p:nvPr/>
                    </p:nvSpPr>
                    <p:spPr>
                      <a:xfrm>
                        <a:off x="691668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50" name=""/>
                    <p:cNvSpPr/>
                    <p:nvPr/>
                  </p:nvSpPr>
                  <p:spPr>
                    <a:xfrm>
                      <a:off x="693756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51" name=""/>
                  <p:cNvSpPr/>
                  <p:nvPr/>
                </p:nvSpPr>
                <p:spPr>
                  <a:xfrm>
                    <a:off x="690588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2" name=""/>
                  <p:cNvSpPr/>
                  <p:nvPr/>
                </p:nvSpPr>
                <p:spPr>
                  <a:xfrm>
                    <a:off x="691848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3" name=""/>
                  <p:cNvSpPr/>
                  <p:nvPr/>
                </p:nvSpPr>
                <p:spPr>
                  <a:xfrm>
                    <a:off x="692316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>
                    <a:off x="700092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755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46460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56" name=""/>
            <p:cNvSpPr/>
            <p:nvPr/>
          </p:nvSpPr>
          <p:spPr>
            <a:xfrm>
              <a:off x="3886200" y="5943600"/>
              <a:ext cx="23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3 Pcs              = 78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9038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1 LAN modem = 26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6758" name=""/>
            <p:cNvGrpSpPr/>
            <p:nvPr/>
          </p:nvGrpSpPr>
          <p:grpSpPr>
            <a:xfrm>
              <a:off x="152280" y="1447920"/>
              <a:ext cx="1067040" cy="126720"/>
              <a:chOff x="152280" y="1447920"/>
              <a:chExt cx="1067040" cy="126720"/>
            </a:xfrm>
          </p:grpSpPr>
          <p:pic>
            <p:nvPicPr>
              <p:cNvPr id="6759" name="ringing1" descr=""/>
              <p:cNvPicPr/>
              <p:nvPr/>
            </p:nvPicPr>
            <p:blipFill>
              <a:blip r:embed="rId81"/>
              <a:stretch/>
            </p:blipFill>
            <p:spPr>
              <a:xfrm>
                <a:off x="1522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0" name="ringing1" descr=""/>
              <p:cNvPicPr/>
              <p:nvPr/>
            </p:nvPicPr>
            <p:blipFill>
              <a:blip r:embed="rId82"/>
              <a:stretch/>
            </p:blipFill>
            <p:spPr>
              <a:xfrm>
                <a:off x="1066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1" name=""/>
            <p:cNvGrpSpPr/>
            <p:nvPr/>
          </p:nvGrpSpPr>
          <p:grpSpPr>
            <a:xfrm>
              <a:off x="2590920" y="1447920"/>
              <a:ext cx="1066320" cy="126720"/>
              <a:chOff x="2590920" y="1447920"/>
              <a:chExt cx="1066320" cy="126720"/>
            </a:xfrm>
          </p:grpSpPr>
          <p:pic>
            <p:nvPicPr>
              <p:cNvPr id="6762" name="ringing1" descr=""/>
              <p:cNvPicPr/>
              <p:nvPr/>
            </p:nvPicPr>
            <p:blipFill>
              <a:blip r:embed="rId83"/>
              <a:stretch/>
            </p:blipFill>
            <p:spPr>
              <a:xfrm>
                <a:off x="25909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3" name="ringing1" descr=""/>
              <p:cNvPicPr/>
              <p:nvPr/>
            </p:nvPicPr>
            <p:blipFill>
              <a:blip r:embed="rId84"/>
              <a:stretch/>
            </p:blipFill>
            <p:spPr>
              <a:xfrm>
                <a:off x="35049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4" name=""/>
            <p:cNvGrpSpPr/>
            <p:nvPr/>
          </p:nvGrpSpPr>
          <p:grpSpPr>
            <a:xfrm>
              <a:off x="1371600" y="1447920"/>
              <a:ext cx="1066320" cy="126720"/>
              <a:chOff x="1371600" y="1447920"/>
              <a:chExt cx="1066320" cy="126720"/>
            </a:xfrm>
          </p:grpSpPr>
          <p:pic>
            <p:nvPicPr>
              <p:cNvPr id="6765" name="ringing1" descr=""/>
              <p:cNvPicPr/>
              <p:nvPr/>
            </p:nvPicPr>
            <p:blipFill>
              <a:blip r:embed="rId85"/>
              <a:stretch/>
            </p:blipFill>
            <p:spPr>
              <a:xfrm>
                <a:off x="137160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6" name="ringing1" descr=""/>
              <p:cNvPicPr/>
              <p:nvPr/>
            </p:nvPicPr>
            <p:blipFill>
              <a:blip r:embed="rId86"/>
              <a:stretch/>
            </p:blipFill>
            <p:spPr>
              <a:xfrm>
                <a:off x="228564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7" name=""/>
            <p:cNvGrpSpPr/>
            <p:nvPr/>
          </p:nvGrpSpPr>
          <p:grpSpPr>
            <a:xfrm>
              <a:off x="152280" y="2286000"/>
              <a:ext cx="1067040" cy="126720"/>
              <a:chOff x="152280" y="2286000"/>
              <a:chExt cx="1067040" cy="126720"/>
            </a:xfrm>
          </p:grpSpPr>
          <p:pic>
            <p:nvPicPr>
              <p:cNvPr id="6768" name="ringing1" descr=""/>
              <p:cNvPicPr/>
              <p:nvPr/>
            </p:nvPicPr>
            <p:blipFill>
              <a:blip r:embed="rId87"/>
              <a:stretch/>
            </p:blipFill>
            <p:spPr>
              <a:xfrm>
                <a:off x="1522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9" name="ringing1" descr=""/>
              <p:cNvPicPr/>
              <p:nvPr/>
            </p:nvPicPr>
            <p:blipFill>
              <a:blip r:embed="rId88"/>
              <a:stretch/>
            </p:blipFill>
            <p:spPr>
              <a:xfrm>
                <a:off x="1066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0" name=""/>
            <p:cNvGrpSpPr/>
            <p:nvPr/>
          </p:nvGrpSpPr>
          <p:grpSpPr>
            <a:xfrm>
              <a:off x="2590920" y="2286000"/>
              <a:ext cx="1066320" cy="126720"/>
              <a:chOff x="2590920" y="2286000"/>
              <a:chExt cx="1066320" cy="126720"/>
            </a:xfrm>
          </p:grpSpPr>
          <p:pic>
            <p:nvPicPr>
              <p:cNvPr id="6771" name="ringing1" descr=""/>
              <p:cNvPicPr/>
              <p:nvPr/>
            </p:nvPicPr>
            <p:blipFill>
              <a:blip r:embed="rId89"/>
              <a:stretch/>
            </p:blipFill>
            <p:spPr>
              <a:xfrm>
                <a:off x="25909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2" name="ringing1" descr=""/>
              <p:cNvPicPr/>
              <p:nvPr/>
            </p:nvPicPr>
            <p:blipFill>
              <a:blip r:embed="rId90"/>
              <a:stretch/>
            </p:blipFill>
            <p:spPr>
              <a:xfrm>
                <a:off x="35049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3" name=""/>
            <p:cNvGrpSpPr/>
            <p:nvPr/>
          </p:nvGrpSpPr>
          <p:grpSpPr>
            <a:xfrm>
              <a:off x="76320" y="3124080"/>
              <a:ext cx="1066320" cy="126720"/>
              <a:chOff x="76320" y="3124080"/>
              <a:chExt cx="1066320" cy="126720"/>
            </a:xfrm>
          </p:grpSpPr>
          <p:pic>
            <p:nvPicPr>
              <p:cNvPr id="6774" name="ringing1" descr=""/>
              <p:cNvPicPr/>
              <p:nvPr/>
            </p:nvPicPr>
            <p:blipFill>
              <a:blip r:embed="rId91"/>
              <a:stretch/>
            </p:blipFill>
            <p:spPr>
              <a:xfrm>
                <a:off x="763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5" name="ringing1" descr=""/>
              <p:cNvPicPr/>
              <p:nvPr/>
            </p:nvPicPr>
            <p:blipFill>
              <a:blip r:embed="rId92"/>
              <a:stretch/>
            </p:blipFill>
            <p:spPr>
              <a:xfrm>
                <a:off x="9903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6" name=""/>
            <p:cNvGrpSpPr/>
            <p:nvPr/>
          </p:nvGrpSpPr>
          <p:grpSpPr>
            <a:xfrm>
              <a:off x="152280" y="3962520"/>
              <a:ext cx="1067040" cy="126720"/>
              <a:chOff x="152280" y="3962520"/>
              <a:chExt cx="1067040" cy="126720"/>
            </a:xfrm>
          </p:grpSpPr>
          <p:pic>
            <p:nvPicPr>
              <p:cNvPr id="6777" name="ringing1" descr=""/>
              <p:cNvPicPr/>
              <p:nvPr/>
            </p:nvPicPr>
            <p:blipFill>
              <a:blip r:embed="rId93"/>
              <a:stretch/>
            </p:blipFill>
            <p:spPr>
              <a:xfrm>
                <a:off x="1522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8" name="ringing1" descr=""/>
              <p:cNvPicPr/>
              <p:nvPr/>
            </p:nvPicPr>
            <p:blipFill>
              <a:blip r:embed="rId94"/>
              <a:stretch/>
            </p:blipFill>
            <p:spPr>
              <a:xfrm>
                <a:off x="1066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9" name=""/>
            <p:cNvGrpSpPr/>
            <p:nvPr/>
          </p:nvGrpSpPr>
          <p:grpSpPr>
            <a:xfrm>
              <a:off x="1371600" y="2286000"/>
              <a:ext cx="1066320" cy="126720"/>
              <a:chOff x="1371600" y="2286000"/>
              <a:chExt cx="1066320" cy="126720"/>
            </a:xfrm>
          </p:grpSpPr>
          <p:pic>
            <p:nvPicPr>
              <p:cNvPr id="6780" name="ringing1" descr=""/>
              <p:cNvPicPr/>
              <p:nvPr/>
            </p:nvPicPr>
            <p:blipFill>
              <a:blip r:embed="rId95"/>
              <a:stretch/>
            </p:blipFill>
            <p:spPr>
              <a:xfrm>
                <a:off x="137160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1" name="ringing1" descr=""/>
              <p:cNvPicPr/>
              <p:nvPr/>
            </p:nvPicPr>
            <p:blipFill>
              <a:blip r:embed="rId96"/>
              <a:stretch/>
            </p:blipFill>
            <p:spPr>
              <a:xfrm>
                <a:off x="228564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2" name=""/>
            <p:cNvGrpSpPr/>
            <p:nvPr/>
          </p:nvGrpSpPr>
          <p:grpSpPr>
            <a:xfrm>
              <a:off x="1371600" y="3962520"/>
              <a:ext cx="1066320" cy="126720"/>
              <a:chOff x="1371600" y="3962520"/>
              <a:chExt cx="1066320" cy="126720"/>
            </a:xfrm>
          </p:grpSpPr>
          <p:pic>
            <p:nvPicPr>
              <p:cNvPr id="6783" name="ringing1" descr=""/>
              <p:cNvPicPr/>
              <p:nvPr/>
            </p:nvPicPr>
            <p:blipFill>
              <a:blip r:embed="rId97"/>
              <a:stretch/>
            </p:blipFill>
            <p:spPr>
              <a:xfrm>
                <a:off x="137160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4" name="ringing1" descr=""/>
              <p:cNvPicPr/>
              <p:nvPr/>
            </p:nvPicPr>
            <p:blipFill>
              <a:blip r:embed="rId98"/>
              <a:stretch/>
            </p:blipFill>
            <p:spPr>
              <a:xfrm>
                <a:off x="228564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5" name=""/>
            <p:cNvGrpSpPr/>
            <p:nvPr/>
          </p:nvGrpSpPr>
          <p:grpSpPr>
            <a:xfrm>
              <a:off x="152280" y="4800600"/>
              <a:ext cx="1067040" cy="126720"/>
              <a:chOff x="152280" y="4800600"/>
              <a:chExt cx="1067040" cy="126720"/>
            </a:xfrm>
          </p:grpSpPr>
          <p:pic>
            <p:nvPicPr>
              <p:cNvPr id="6786" name="ringing1" descr=""/>
              <p:cNvPicPr/>
              <p:nvPr/>
            </p:nvPicPr>
            <p:blipFill>
              <a:blip r:embed="rId99"/>
              <a:stretch/>
            </p:blipFill>
            <p:spPr>
              <a:xfrm>
                <a:off x="1522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7" name="ringing1" descr=""/>
              <p:cNvPicPr/>
              <p:nvPr/>
            </p:nvPicPr>
            <p:blipFill>
              <a:blip r:embed="rId100"/>
              <a:stretch/>
            </p:blipFill>
            <p:spPr>
              <a:xfrm>
                <a:off x="1066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8" name=""/>
            <p:cNvGrpSpPr/>
            <p:nvPr/>
          </p:nvGrpSpPr>
          <p:grpSpPr>
            <a:xfrm>
              <a:off x="1371600" y="4800600"/>
              <a:ext cx="1066320" cy="126720"/>
              <a:chOff x="1371600" y="4800600"/>
              <a:chExt cx="1066320" cy="126720"/>
            </a:xfrm>
          </p:grpSpPr>
          <p:pic>
            <p:nvPicPr>
              <p:cNvPr id="6789" name="ringing1" descr=""/>
              <p:cNvPicPr/>
              <p:nvPr/>
            </p:nvPicPr>
            <p:blipFill>
              <a:blip r:embed="rId101"/>
              <a:stretch/>
            </p:blipFill>
            <p:spPr>
              <a:xfrm>
                <a:off x="137160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0" name="ringing1" descr=""/>
              <p:cNvPicPr/>
              <p:nvPr/>
            </p:nvPicPr>
            <p:blipFill>
              <a:blip r:embed="rId102"/>
              <a:stretch/>
            </p:blipFill>
            <p:spPr>
              <a:xfrm>
                <a:off x="228564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1" name=""/>
            <p:cNvGrpSpPr/>
            <p:nvPr/>
          </p:nvGrpSpPr>
          <p:grpSpPr>
            <a:xfrm>
              <a:off x="7924680" y="1447920"/>
              <a:ext cx="1067040" cy="126720"/>
              <a:chOff x="7924680" y="1447920"/>
              <a:chExt cx="1067040" cy="126720"/>
            </a:xfrm>
          </p:grpSpPr>
          <p:pic>
            <p:nvPicPr>
              <p:cNvPr id="6792" name="ringing1" descr=""/>
              <p:cNvPicPr/>
              <p:nvPr/>
            </p:nvPicPr>
            <p:blipFill>
              <a:blip r:embed="rId103"/>
              <a:stretch/>
            </p:blipFill>
            <p:spPr>
              <a:xfrm>
                <a:off x="7924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3" name="ringing1" descr=""/>
              <p:cNvPicPr/>
              <p:nvPr/>
            </p:nvPicPr>
            <p:blipFill>
              <a:blip r:embed="rId104"/>
              <a:stretch/>
            </p:blipFill>
            <p:spPr>
              <a:xfrm>
                <a:off x="88390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4" name=""/>
            <p:cNvGrpSpPr/>
            <p:nvPr/>
          </p:nvGrpSpPr>
          <p:grpSpPr>
            <a:xfrm>
              <a:off x="7924680" y="3124080"/>
              <a:ext cx="1067040" cy="126720"/>
              <a:chOff x="7924680" y="3124080"/>
              <a:chExt cx="1067040" cy="126720"/>
            </a:xfrm>
          </p:grpSpPr>
          <p:pic>
            <p:nvPicPr>
              <p:cNvPr id="6795" name="ringing1" descr=""/>
              <p:cNvPicPr/>
              <p:nvPr/>
            </p:nvPicPr>
            <p:blipFill>
              <a:blip r:embed="rId105"/>
              <a:stretch/>
            </p:blipFill>
            <p:spPr>
              <a:xfrm>
                <a:off x="79246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6" name="ringing1" descr=""/>
              <p:cNvPicPr/>
              <p:nvPr/>
            </p:nvPicPr>
            <p:blipFill>
              <a:blip r:embed="rId106"/>
              <a:stretch/>
            </p:blipFill>
            <p:spPr>
              <a:xfrm>
                <a:off x="88390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7" name=""/>
            <p:cNvGrpSpPr/>
            <p:nvPr/>
          </p:nvGrpSpPr>
          <p:grpSpPr>
            <a:xfrm>
              <a:off x="7924680" y="3962520"/>
              <a:ext cx="1067040" cy="126720"/>
              <a:chOff x="7924680" y="3962520"/>
              <a:chExt cx="1067040" cy="126720"/>
            </a:xfrm>
          </p:grpSpPr>
          <p:pic>
            <p:nvPicPr>
              <p:cNvPr id="6798" name="ringing1" descr=""/>
              <p:cNvPicPr/>
              <p:nvPr/>
            </p:nvPicPr>
            <p:blipFill>
              <a:blip r:embed="rId107"/>
              <a:stretch/>
            </p:blipFill>
            <p:spPr>
              <a:xfrm>
                <a:off x="7924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9" name="ringing1" descr=""/>
              <p:cNvPicPr/>
              <p:nvPr/>
            </p:nvPicPr>
            <p:blipFill>
              <a:blip r:embed="rId108"/>
              <a:stretch/>
            </p:blipFill>
            <p:spPr>
              <a:xfrm>
                <a:off x="88390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0" name=""/>
            <p:cNvGrpSpPr/>
            <p:nvPr/>
          </p:nvGrpSpPr>
          <p:grpSpPr>
            <a:xfrm>
              <a:off x="7924680" y="4800600"/>
              <a:ext cx="1067040" cy="126720"/>
              <a:chOff x="7924680" y="4800600"/>
              <a:chExt cx="1067040" cy="126720"/>
            </a:xfrm>
          </p:grpSpPr>
          <p:pic>
            <p:nvPicPr>
              <p:cNvPr id="6801" name="ringing1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924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2" name="ringing1" descr=""/>
              <p:cNvPicPr/>
              <p:nvPr/>
            </p:nvPicPr>
            <p:blipFill>
              <a:blip r:embed="rId110"/>
              <a:stretch/>
            </p:blipFill>
            <p:spPr>
              <a:xfrm>
                <a:off x="88390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3" name=""/>
            <p:cNvGrpSpPr/>
            <p:nvPr/>
          </p:nvGrpSpPr>
          <p:grpSpPr>
            <a:xfrm>
              <a:off x="7924680" y="5638680"/>
              <a:ext cx="1067040" cy="126720"/>
              <a:chOff x="7924680" y="5638680"/>
              <a:chExt cx="1067040" cy="126720"/>
            </a:xfrm>
          </p:grpSpPr>
          <p:pic>
            <p:nvPicPr>
              <p:cNvPr id="6804" name="ringing1" descr=""/>
              <p:cNvPicPr/>
              <p:nvPr/>
            </p:nvPicPr>
            <p:blipFill>
              <a:blip r:embed="rId111"/>
              <a:stretch/>
            </p:blipFill>
            <p:spPr>
              <a:xfrm>
                <a:off x="7924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5" name="ringing1" descr=""/>
              <p:cNvPicPr/>
              <p:nvPr/>
            </p:nvPicPr>
            <p:blipFill>
              <a:blip r:embed="rId112"/>
              <a:stretch/>
            </p:blipFill>
            <p:spPr>
              <a:xfrm>
                <a:off x="88390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6" name=""/>
            <p:cNvGrpSpPr/>
            <p:nvPr/>
          </p:nvGrpSpPr>
          <p:grpSpPr>
            <a:xfrm>
              <a:off x="6705720" y="1447920"/>
              <a:ext cx="1066320" cy="126720"/>
              <a:chOff x="6705720" y="1447920"/>
              <a:chExt cx="1066320" cy="126720"/>
            </a:xfrm>
          </p:grpSpPr>
          <p:pic>
            <p:nvPicPr>
              <p:cNvPr id="6807" name="ringing1" descr=""/>
              <p:cNvPicPr/>
              <p:nvPr/>
            </p:nvPicPr>
            <p:blipFill>
              <a:blip r:embed="rId113"/>
              <a:stretch/>
            </p:blipFill>
            <p:spPr>
              <a:xfrm>
                <a:off x="6705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8" name="ringing1" descr=""/>
              <p:cNvPicPr/>
              <p:nvPr/>
            </p:nvPicPr>
            <p:blipFill>
              <a:blip r:embed="rId114"/>
              <a:stretch/>
            </p:blipFill>
            <p:spPr>
              <a:xfrm>
                <a:off x="7619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9" name=""/>
            <p:cNvGrpSpPr/>
            <p:nvPr/>
          </p:nvGrpSpPr>
          <p:grpSpPr>
            <a:xfrm>
              <a:off x="5562720" y="1447920"/>
              <a:ext cx="1066320" cy="126720"/>
              <a:chOff x="5562720" y="1447920"/>
              <a:chExt cx="1066320" cy="126720"/>
            </a:xfrm>
          </p:grpSpPr>
          <p:pic>
            <p:nvPicPr>
              <p:cNvPr id="6810" name="ringing1" descr=""/>
              <p:cNvPicPr/>
              <p:nvPr/>
            </p:nvPicPr>
            <p:blipFill>
              <a:blip r:embed="rId115"/>
              <a:stretch/>
            </p:blipFill>
            <p:spPr>
              <a:xfrm>
                <a:off x="5562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1" name="ringing1" descr=""/>
              <p:cNvPicPr/>
              <p:nvPr/>
            </p:nvPicPr>
            <p:blipFill>
              <a:blip r:embed="rId116"/>
              <a:stretch/>
            </p:blipFill>
            <p:spPr>
              <a:xfrm>
                <a:off x="6476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2" name=""/>
            <p:cNvGrpSpPr/>
            <p:nvPr/>
          </p:nvGrpSpPr>
          <p:grpSpPr>
            <a:xfrm>
              <a:off x="5562720" y="2286000"/>
              <a:ext cx="1066320" cy="126720"/>
              <a:chOff x="5562720" y="2286000"/>
              <a:chExt cx="1066320" cy="126720"/>
            </a:xfrm>
          </p:grpSpPr>
          <p:pic>
            <p:nvPicPr>
              <p:cNvPr id="6813" name="ringing1" descr=""/>
              <p:cNvPicPr/>
              <p:nvPr/>
            </p:nvPicPr>
            <p:blipFill>
              <a:blip r:embed="rId117"/>
              <a:stretch/>
            </p:blipFill>
            <p:spPr>
              <a:xfrm>
                <a:off x="55627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4" name="ringing1" descr=""/>
              <p:cNvPicPr/>
              <p:nvPr/>
            </p:nvPicPr>
            <p:blipFill>
              <a:blip r:embed="rId118"/>
              <a:stretch/>
            </p:blipFill>
            <p:spPr>
              <a:xfrm>
                <a:off x="64767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5" name=""/>
            <p:cNvGrpSpPr/>
            <p:nvPr/>
          </p:nvGrpSpPr>
          <p:grpSpPr>
            <a:xfrm>
              <a:off x="6781680" y="2286000"/>
              <a:ext cx="1067040" cy="126720"/>
              <a:chOff x="6781680" y="2286000"/>
              <a:chExt cx="1067040" cy="126720"/>
            </a:xfrm>
          </p:grpSpPr>
          <p:pic>
            <p:nvPicPr>
              <p:cNvPr id="6816" name="ringing1" descr=""/>
              <p:cNvPicPr/>
              <p:nvPr/>
            </p:nvPicPr>
            <p:blipFill>
              <a:blip r:embed="rId119"/>
              <a:stretch/>
            </p:blipFill>
            <p:spPr>
              <a:xfrm>
                <a:off x="6781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7" name="ringing1" descr=""/>
              <p:cNvPicPr/>
              <p:nvPr/>
            </p:nvPicPr>
            <p:blipFill>
              <a:blip r:embed="rId120"/>
              <a:stretch/>
            </p:blipFill>
            <p:spPr>
              <a:xfrm>
                <a:off x="76960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8" name=""/>
            <p:cNvGrpSpPr/>
            <p:nvPr/>
          </p:nvGrpSpPr>
          <p:grpSpPr>
            <a:xfrm>
              <a:off x="6705720" y="3124080"/>
              <a:ext cx="1066320" cy="126720"/>
              <a:chOff x="6705720" y="3124080"/>
              <a:chExt cx="1066320" cy="126720"/>
            </a:xfrm>
          </p:grpSpPr>
          <p:pic>
            <p:nvPicPr>
              <p:cNvPr id="6819" name="ringing1" descr=""/>
              <p:cNvPicPr/>
              <p:nvPr/>
            </p:nvPicPr>
            <p:blipFill>
              <a:blip r:embed="rId121"/>
              <a:stretch/>
            </p:blipFill>
            <p:spPr>
              <a:xfrm>
                <a:off x="67057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0" name="ringing1" descr=""/>
              <p:cNvPicPr/>
              <p:nvPr/>
            </p:nvPicPr>
            <p:blipFill>
              <a:blip r:embed="rId122"/>
              <a:stretch/>
            </p:blipFill>
            <p:spPr>
              <a:xfrm>
                <a:off x="76197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1" name=""/>
            <p:cNvGrpSpPr/>
            <p:nvPr/>
          </p:nvGrpSpPr>
          <p:grpSpPr>
            <a:xfrm>
              <a:off x="6705720" y="3962520"/>
              <a:ext cx="1066320" cy="126720"/>
              <a:chOff x="6705720" y="3962520"/>
              <a:chExt cx="1066320" cy="126720"/>
            </a:xfrm>
          </p:grpSpPr>
          <p:pic>
            <p:nvPicPr>
              <p:cNvPr id="6822" name="ringing1" descr=""/>
              <p:cNvPicPr/>
              <p:nvPr/>
            </p:nvPicPr>
            <p:blipFill>
              <a:blip r:embed="rId123"/>
              <a:stretch/>
            </p:blipFill>
            <p:spPr>
              <a:xfrm>
                <a:off x="670572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3" name="ringing1" descr=""/>
              <p:cNvPicPr/>
              <p:nvPr/>
            </p:nvPicPr>
            <p:blipFill>
              <a:blip r:embed="rId124"/>
              <a:stretch/>
            </p:blipFill>
            <p:spPr>
              <a:xfrm>
                <a:off x="761976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4" name=""/>
            <p:cNvGrpSpPr/>
            <p:nvPr/>
          </p:nvGrpSpPr>
          <p:grpSpPr>
            <a:xfrm>
              <a:off x="6705720" y="4800600"/>
              <a:ext cx="1066320" cy="126720"/>
              <a:chOff x="6705720" y="4800600"/>
              <a:chExt cx="1066320" cy="126720"/>
            </a:xfrm>
          </p:grpSpPr>
          <p:pic>
            <p:nvPicPr>
              <p:cNvPr id="6825" name="ringing1" descr=""/>
              <p:cNvPicPr/>
              <p:nvPr/>
            </p:nvPicPr>
            <p:blipFill>
              <a:blip r:embed="rId125"/>
              <a:stretch/>
            </p:blipFill>
            <p:spPr>
              <a:xfrm>
                <a:off x="670572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6" name="ringing1" descr=""/>
              <p:cNvPicPr/>
              <p:nvPr/>
            </p:nvPicPr>
            <p:blipFill>
              <a:blip r:embed="rId126"/>
              <a:stretch/>
            </p:blipFill>
            <p:spPr>
              <a:xfrm>
                <a:off x="761976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7" name=""/>
            <p:cNvGrpSpPr/>
            <p:nvPr/>
          </p:nvGrpSpPr>
          <p:grpSpPr>
            <a:xfrm>
              <a:off x="6705720" y="5638680"/>
              <a:ext cx="1066320" cy="126720"/>
              <a:chOff x="6705720" y="5638680"/>
              <a:chExt cx="1066320" cy="126720"/>
            </a:xfrm>
          </p:grpSpPr>
          <p:pic>
            <p:nvPicPr>
              <p:cNvPr id="6828" name="ringing1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70572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9" name="ringing1" descr=""/>
              <p:cNvPicPr/>
              <p:nvPr/>
            </p:nvPicPr>
            <p:blipFill>
              <a:blip r:embed="rId128"/>
              <a:stretch/>
            </p:blipFill>
            <p:spPr>
              <a:xfrm>
                <a:off x="761976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0" name=""/>
            <p:cNvGrpSpPr/>
            <p:nvPr/>
          </p:nvGrpSpPr>
          <p:grpSpPr>
            <a:xfrm>
              <a:off x="1371600" y="5638680"/>
              <a:ext cx="1066320" cy="126720"/>
              <a:chOff x="1371600" y="5638680"/>
              <a:chExt cx="1066320" cy="126720"/>
            </a:xfrm>
          </p:grpSpPr>
          <p:pic>
            <p:nvPicPr>
              <p:cNvPr id="6831" name="ringing1" descr=""/>
              <p:cNvPicPr/>
              <p:nvPr/>
            </p:nvPicPr>
            <p:blipFill>
              <a:blip r:embed="rId129"/>
              <a:stretch/>
            </p:blipFill>
            <p:spPr>
              <a:xfrm>
                <a:off x="137160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2" name="ringing1" descr=""/>
              <p:cNvPicPr/>
              <p:nvPr/>
            </p:nvPicPr>
            <p:blipFill>
              <a:blip r:embed="rId130"/>
              <a:stretch/>
            </p:blipFill>
            <p:spPr>
              <a:xfrm>
                <a:off x="228564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3" name=""/>
            <p:cNvGrpSpPr/>
            <p:nvPr/>
          </p:nvGrpSpPr>
          <p:grpSpPr>
            <a:xfrm>
              <a:off x="152280" y="5638680"/>
              <a:ext cx="1067040" cy="126720"/>
              <a:chOff x="152280" y="5638680"/>
              <a:chExt cx="1067040" cy="126720"/>
            </a:xfrm>
          </p:grpSpPr>
          <p:pic>
            <p:nvPicPr>
              <p:cNvPr id="6834" name="ringing1" descr=""/>
              <p:cNvPicPr/>
              <p:nvPr/>
            </p:nvPicPr>
            <p:blipFill>
              <a:blip r:embed="rId131"/>
              <a:stretch/>
            </p:blipFill>
            <p:spPr>
              <a:xfrm>
                <a:off x="1522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5" name="ringing1" descr=""/>
              <p:cNvPicPr/>
              <p:nvPr/>
            </p:nvPicPr>
            <p:blipFill>
              <a:blip r:embed="rId132"/>
              <a:stretch/>
            </p:blipFill>
            <p:spPr>
              <a:xfrm>
                <a:off x="1066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6" name=""/>
            <p:cNvSpPr/>
            <p:nvPr/>
          </p:nvSpPr>
          <p:spPr>
            <a:xfrm>
              <a:off x="3885840" y="643104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2 Tels              = 5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37" name="ringing1" descr=""/>
            <p:cNvPicPr/>
            <p:nvPr/>
          </p:nvPicPr>
          <p:blipFill>
            <a:blip r:embed="rId133"/>
            <a:stretch/>
          </p:blipFill>
          <p:spPr>
            <a:xfrm>
              <a:off x="626436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8" name="" descr=""/>
            <p:cNvPicPr/>
            <p:nvPr/>
          </p:nvPicPr>
          <p:blipFill>
            <a:blip r:embed="rId134"/>
            <a:stretch/>
          </p:blipFill>
          <p:spPr>
            <a:xfrm>
              <a:off x="626436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9" name=""/>
          <p:cNvSpPr/>
          <p:nvPr/>
        </p:nvSpPr>
        <p:spPr>
          <a:xfrm>
            <a:off x="1739880" y="1066680"/>
            <a:ext cx="57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Distrit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1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6842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68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6847" name=""/>
          <p:cNvSpPr/>
          <p:nvPr/>
        </p:nvSpPr>
        <p:spPr>
          <a:xfrm>
            <a:off x="1739880" y="1066680"/>
            <a:ext cx="58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Municip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48" name=""/>
          <p:cNvGrpSpPr/>
          <p:nvPr/>
        </p:nvGrpSpPr>
        <p:grpSpPr>
          <a:xfrm>
            <a:off x="76320" y="1600200"/>
            <a:ext cx="8915400" cy="5107320"/>
            <a:chOff x="76320" y="1600200"/>
            <a:chExt cx="8915400" cy="5107320"/>
          </a:xfrm>
        </p:grpSpPr>
        <p:pic>
          <p:nvPicPr>
            <p:cNvPr id="6849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0" name=""/>
            <p:cNvSpPr/>
            <p:nvPr/>
          </p:nvSpPr>
          <p:spPr>
            <a:xfrm>
              <a:off x="2571840" y="165096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2619360" y="224172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PUEB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787480" y="1897200"/>
              <a:ext cx="54324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073320" y="170640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006720" y="17161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55" name="pbx" descr=""/>
            <p:cNvPicPr/>
            <p:nvPr/>
          </p:nvPicPr>
          <p:blipFill>
            <a:blip r:embed="rId3"/>
            <a:srcRect l="37594" t="74298" r="28339" b="4834"/>
            <a:stretch/>
          </p:blipFill>
          <p:spPr>
            <a:xfrm>
              <a:off x="2949480" y="184464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6" name="" descr=""/>
            <p:cNvPicPr/>
            <p:nvPr/>
          </p:nvPicPr>
          <p:blipFill>
            <a:blip r:embed="rId4"/>
            <a:stretch/>
          </p:blipFill>
          <p:spPr>
            <a:xfrm>
              <a:off x="2976480" y="202392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7" name=""/>
            <p:cNvGrpSpPr/>
            <p:nvPr/>
          </p:nvGrpSpPr>
          <p:grpSpPr>
            <a:xfrm>
              <a:off x="2644920" y="1844640"/>
              <a:ext cx="210960" cy="169920"/>
              <a:chOff x="2644920" y="1844640"/>
              <a:chExt cx="210960" cy="169920"/>
            </a:xfrm>
          </p:grpSpPr>
          <p:grpSp>
            <p:nvGrpSpPr>
              <p:cNvPr id="6858" name=""/>
              <p:cNvGrpSpPr/>
              <p:nvPr/>
            </p:nvGrpSpPr>
            <p:grpSpPr>
              <a:xfrm>
                <a:off x="2684520" y="1935360"/>
                <a:ext cx="134280" cy="52200"/>
                <a:chOff x="2684520" y="1935360"/>
                <a:chExt cx="134280" cy="52200"/>
              </a:xfrm>
            </p:grpSpPr>
            <p:grpSp>
              <p:nvGrpSpPr>
                <p:cNvPr id="6859" name=""/>
                <p:cNvGrpSpPr/>
                <p:nvPr/>
              </p:nvGrpSpPr>
              <p:grpSpPr>
                <a:xfrm>
                  <a:off x="2684520" y="1935360"/>
                  <a:ext cx="134280" cy="52200"/>
                  <a:chOff x="2684520" y="1935360"/>
                  <a:chExt cx="134280" cy="52200"/>
                </a:xfrm>
              </p:grpSpPr>
              <p:grpSp>
                <p:nvGrpSpPr>
                  <p:cNvPr id="6860" name=""/>
                  <p:cNvGrpSpPr/>
                  <p:nvPr/>
                </p:nvGrpSpPr>
                <p:grpSpPr>
                  <a:xfrm>
                    <a:off x="2684520" y="1935360"/>
                    <a:ext cx="134280" cy="52200"/>
                    <a:chOff x="2684520" y="1935360"/>
                    <a:chExt cx="134280" cy="52200"/>
                  </a:xfrm>
                </p:grpSpPr>
                <p:grpSp>
                  <p:nvGrpSpPr>
                    <p:cNvPr id="6861" name=""/>
                    <p:cNvGrpSpPr/>
                    <p:nvPr/>
                  </p:nvGrpSpPr>
                  <p:grpSpPr>
                    <a:xfrm>
                      <a:off x="2684520" y="1935360"/>
                      <a:ext cx="134280" cy="52200"/>
                      <a:chOff x="2684520" y="1935360"/>
                      <a:chExt cx="134280" cy="52200"/>
                    </a:xfrm>
                  </p:grpSpPr>
                  <p:grpSp>
                    <p:nvGrpSpPr>
                      <p:cNvPr id="6862" name=""/>
                      <p:cNvGrpSpPr/>
                      <p:nvPr/>
                    </p:nvGrpSpPr>
                    <p:grpSpPr>
                      <a:xfrm>
                        <a:off x="2684520" y="1935360"/>
                        <a:ext cx="134280" cy="52200"/>
                        <a:chOff x="2684520" y="1935360"/>
                        <a:chExt cx="134280" cy="52200"/>
                      </a:xfrm>
                    </p:grpSpPr>
                    <p:sp>
                      <p:nvSpPr>
                        <p:cNvPr id="6863" name=""/>
                        <p:cNvSpPr/>
                        <p:nvPr/>
                      </p:nvSpPr>
                      <p:spPr>
                        <a:xfrm>
                          <a:off x="2684520" y="1946520"/>
                          <a:ext cx="134280" cy="410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4" name=""/>
                        <p:cNvSpPr/>
                        <p:nvPr/>
                      </p:nvSpPr>
                      <p:spPr>
                        <a:xfrm>
                          <a:off x="2685600" y="1935360"/>
                          <a:ext cx="13284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55">
                              <a:moveTo>
                                <a:pt x="0" y="55"/>
                              </a:moveTo>
                              <a:lnTo>
                                <a:pt x="592" y="55"/>
                              </a:lnTo>
                              <a:lnTo>
                                <a:pt x="536" y="0"/>
                              </a:lnTo>
                              <a:lnTo>
                                <a:pt x="62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65" name=""/>
                      <p:cNvSpPr/>
                      <p:nvPr/>
                    </p:nvSpPr>
                    <p:spPr>
                      <a:xfrm>
                        <a:off x="2687040" y="1944720"/>
                        <a:ext cx="12996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66" name=""/>
                    <p:cNvGrpSpPr/>
                    <p:nvPr/>
                  </p:nvGrpSpPr>
                  <p:grpSpPr>
                    <a:xfrm>
                      <a:off x="2690280" y="1978200"/>
                      <a:ext cx="124560" cy="7920"/>
                      <a:chOff x="2690280" y="1978200"/>
                      <a:chExt cx="124560" cy="7920"/>
                    </a:xfrm>
                  </p:grpSpPr>
                  <p:grpSp>
                    <p:nvGrpSpPr>
                      <p:cNvPr id="6867" name=""/>
                      <p:cNvGrpSpPr/>
                      <p:nvPr/>
                    </p:nvGrpSpPr>
                    <p:grpSpPr>
                      <a:xfrm>
                        <a:off x="2690280" y="1978200"/>
                        <a:ext cx="61560" cy="7920"/>
                        <a:chOff x="2690280" y="1978200"/>
                        <a:chExt cx="61560" cy="7920"/>
                      </a:xfrm>
                    </p:grpSpPr>
                    <p:grpSp>
                      <p:nvGrpSpPr>
                        <p:cNvPr id="6868" name=""/>
                        <p:cNvGrpSpPr/>
                        <p:nvPr/>
                      </p:nvGrpSpPr>
                      <p:grpSpPr>
                        <a:xfrm>
                          <a:off x="2690280" y="1978200"/>
                          <a:ext cx="29880" cy="7920"/>
                          <a:chOff x="2690280" y="1978200"/>
                          <a:chExt cx="29880" cy="7920"/>
                        </a:xfrm>
                      </p:grpSpPr>
                      <p:grpSp>
                        <p:nvGrpSpPr>
                          <p:cNvPr id="6869" name=""/>
                          <p:cNvGrpSpPr/>
                          <p:nvPr/>
                        </p:nvGrpSpPr>
                        <p:grpSpPr>
                          <a:xfrm>
                            <a:off x="2690280" y="1978200"/>
                            <a:ext cx="14400" cy="7920"/>
                            <a:chOff x="2690280" y="1978200"/>
                            <a:chExt cx="14400" cy="7920"/>
                          </a:xfrm>
                        </p:grpSpPr>
                        <p:grpSp>
                          <p:nvGrpSpPr>
                            <p:cNvPr id="6870" name=""/>
                            <p:cNvGrpSpPr/>
                            <p:nvPr/>
                          </p:nvGrpSpPr>
                          <p:grpSpPr>
                            <a:xfrm>
                              <a:off x="2690280" y="1978200"/>
                              <a:ext cx="6840" cy="7920"/>
                              <a:chOff x="2690280" y="1978200"/>
                              <a:chExt cx="6840" cy="7920"/>
                            </a:xfrm>
                          </p:grpSpPr>
                          <p:grpSp>
                            <p:nvGrpSpPr>
                              <p:cNvPr id="6871" name=""/>
                              <p:cNvGrpSpPr/>
                              <p:nvPr/>
                            </p:nvGrpSpPr>
                            <p:grpSpPr>
                              <a:xfrm>
                                <a:off x="2690280" y="1978200"/>
                                <a:ext cx="2520" cy="7920"/>
                                <a:chOff x="2690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2" name=""/>
                                <p:cNvSpPr/>
                                <p:nvPr/>
                              </p:nvSpPr>
                              <p:spPr>
                                <a:xfrm>
                                  <a:off x="2690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3" name=""/>
                                <p:cNvSpPr/>
                                <p:nvPr/>
                              </p:nvSpPr>
                              <p:spPr>
                                <a:xfrm>
                                  <a:off x="2691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74" name=""/>
                              <p:cNvGrpSpPr/>
                              <p:nvPr/>
                            </p:nvGrpSpPr>
                            <p:grpSpPr>
                              <a:xfrm>
                                <a:off x="2693160" y="1978200"/>
                                <a:ext cx="3960" cy="7920"/>
                                <a:chOff x="26931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75" name=""/>
                                <p:cNvSpPr/>
                                <p:nvPr/>
                              </p:nvSpPr>
                              <p:spPr>
                                <a:xfrm>
                                  <a:off x="26931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6" name=""/>
                                <p:cNvSpPr/>
                                <p:nvPr/>
                              </p:nvSpPr>
                              <p:spPr>
                                <a:xfrm>
                                  <a:off x="2696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77" name=""/>
                            <p:cNvGrpSpPr/>
                            <p:nvPr/>
                          </p:nvGrpSpPr>
                          <p:grpSpPr>
                            <a:xfrm>
                              <a:off x="2697840" y="1978200"/>
                              <a:ext cx="6840" cy="7920"/>
                              <a:chOff x="2697840" y="1978200"/>
                              <a:chExt cx="6840" cy="7920"/>
                            </a:xfrm>
                          </p:grpSpPr>
                          <p:grpSp>
                            <p:nvGrpSpPr>
                              <p:cNvPr id="6878" name=""/>
                              <p:cNvGrpSpPr/>
                              <p:nvPr/>
                            </p:nvGrpSpPr>
                            <p:grpSpPr>
                              <a:xfrm>
                                <a:off x="2697840" y="1978200"/>
                                <a:ext cx="2520" cy="7920"/>
                                <a:chOff x="2697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9" name=""/>
                                <p:cNvSpPr/>
                                <p:nvPr/>
                              </p:nvSpPr>
                              <p:spPr>
                                <a:xfrm>
                                  <a:off x="2697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0" name=""/>
                                <p:cNvSpPr/>
                                <p:nvPr/>
                              </p:nvSpPr>
                              <p:spPr>
                                <a:xfrm>
                                  <a:off x="2699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1" name=""/>
                              <p:cNvGrpSpPr/>
                              <p:nvPr/>
                            </p:nvGrpSpPr>
                            <p:grpSpPr>
                              <a:xfrm>
                                <a:off x="2700720" y="1978200"/>
                                <a:ext cx="3960" cy="7920"/>
                                <a:chOff x="27007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82" name=""/>
                                <p:cNvSpPr/>
                                <p:nvPr/>
                              </p:nvSpPr>
                              <p:spPr>
                                <a:xfrm>
                                  <a:off x="2700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3" name=""/>
                                <p:cNvSpPr/>
                                <p:nvPr/>
                              </p:nvSpPr>
                              <p:spPr>
                                <a:xfrm>
                                  <a:off x="2703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884" name=""/>
                          <p:cNvGrpSpPr/>
                          <p:nvPr/>
                        </p:nvGrpSpPr>
                        <p:grpSpPr>
                          <a:xfrm>
                            <a:off x="2705760" y="1978200"/>
                            <a:ext cx="14400" cy="7920"/>
                            <a:chOff x="2705760" y="1978200"/>
                            <a:chExt cx="14400" cy="7920"/>
                          </a:xfrm>
                        </p:grpSpPr>
                        <p:grpSp>
                          <p:nvGrpSpPr>
                            <p:cNvPr id="6885" name=""/>
                            <p:cNvGrpSpPr/>
                            <p:nvPr/>
                          </p:nvGrpSpPr>
                          <p:grpSpPr>
                            <a:xfrm>
                              <a:off x="2705760" y="1978200"/>
                              <a:ext cx="6840" cy="7920"/>
                              <a:chOff x="2705760" y="1978200"/>
                              <a:chExt cx="6840" cy="7920"/>
                            </a:xfrm>
                          </p:grpSpPr>
                          <p:grpSp>
                            <p:nvGrpSpPr>
                              <p:cNvPr id="6886" name=""/>
                              <p:cNvGrpSpPr/>
                              <p:nvPr/>
                            </p:nvGrpSpPr>
                            <p:grpSpPr>
                              <a:xfrm>
                                <a:off x="2705760" y="1978200"/>
                                <a:ext cx="2520" cy="7920"/>
                                <a:chOff x="2705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87" name=""/>
                                <p:cNvSpPr/>
                                <p:nvPr/>
                              </p:nvSpPr>
                              <p:spPr>
                                <a:xfrm>
                                  <a:off x="2705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8" name=""/>
                                <p:cNvSpPr/>
                                <p:nvPr/>
                              </p:nvSpPr>
                              <p:spPr>
                                <a:xfrm>
                                  <a:off x="2707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9" name=""/>
                              <p:cNvGrpSpPr/>
                              <p:nvPr/>
                            </p:nvGrpSpPr>
                            <p:grpSpPr>
                              <a:xfrm>
                                <a:off x="2708640" y="1978200"/>
                                <a:ext cx="3960" cy="7920"/>
                                <a:chOff x="270864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0" name=""/>
                                <p:cNvSpPr/>
                                <p:nvPr/>
                              </p:nvSpPr>
                              <p:spPr>
                                <a:xfrm>
                                  <a:off x="27086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1" name=""/>
                                <p:cNvSpPr/>
                                <p:nvPr/>
                              </p:nvSpPr>
                              <p:spPr>
                                <a:xfrm>
                                  <a:off x="2711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92" name=""/>
                            <p:cNvGrpSpPr/>
                            <p:nvPr/>
                          </p:nvGrpSpPr>
                          <p:grpSpPr>
                            <a:xfrm>
                              <a:off x="2713320" y="1978200"/>
                              <a:ext cx="6840" cy="7920"/>
                              <a:chOff x="2713320" y="1978200"/>
                              <a:chExt cx="6840" cy="7920"/>
                            </a:xfrm>
                          </p:grpSpPr>
                          <p:grpSp>
                            <p:nvGrpSpPr>
                              <p:cNvPr id="6893" name=""/>
                              <p:cNvGrpSpPr/>
                              <p:nvPr/>
                            </p:nvGrpSpPr>
                            <p:grpSpPr>
                              <a:xfrm>
                                <a:off x="2713320" y="1978200"/>
                                <a:ext cx="2520" cy="7920"/>
                                <a:chOff x="2713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94" name=""/>
                                <p:cNvSpPr/>
                                <p:nvPr/>
                              </p:nvSpPr>
                              <p:spPr>
                                <a:xfrm>
                                  <a:off x="2713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5" name=""/>
                                <p:cNvSpPr/>
                                <p:nvPr/>
                              </p:nvSpPr>
                              <p:spPr>
                                <a:xfrm>
                                  <a:off x="2714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96" name=""/>
                              <p:cNvGrpSpPr/>
                              <p:nvPr/>
                            </p:nvGrpSpPr>
                            <p:grpSpPr>
                              <a:xfrm>
                                <a:off x="2716200" y="1978200"/>
                                <a:ext cx="3960" cy="7920"/>
                                <a:chOff x="27162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7" name=""/>
                                <p:cNvSpPr/>
                                <p:nvPr/>
                              </p:nvSpPr>
                              <p:spPr>
                                <a:xfrm>
                                  <a:off x="2716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8" name=""/>
                                <p:cNvSpPr/>
                                <p:nvPr/>
                              </p:nvSpPr>
                              <p:spPr>
                                <a:xfrm>
                                  <a:off x="2719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899" name=""/>
                        <p:cNvGrpSpPr/>
                        <p:nvPr/>
                      </p:nvGrpSpPr>
                      <p:grpSpPr>
                        <a:xfrm>
                          <a:off x="2721600" y="1978200"/>
                          <a:ext cx="30240" cy="7920"/>
                          <a:chOff x="2721600" y="1978200"/>
                          <a:chExt cx="30240" cy="7920"/>
                        </a:xfrm>
                      </p:grpSpPr>
                      <p:grpSp>
                        <p:nvGrpSpPr>
                          <p:cNvPr id="6900" name=""/>
                          <p:cNvGrpSpPr/>
                          <p:nvPr/>
                        </p:nvGrpSpPr>
                        <p:grpSpPr>
                          <a:xfrm>
                            <a:off x="2721600" y="1978200"/>
                            <a:ext cx="14760" cy="7920"/>
                            <a:chOff x="2721600" y="1978200"/>
                            <a:chExt cx="14760" cy="7920"/>
                          </a:xfrm>
                        </p:grpSpPr>
                        <p:grpSp>
                          <p:nvGrpSpPr>
                            <p:cNvPr id="6901" name=""/>
                            <p:cNvGrpSpPr/>
                            <p:nvPr/>
                          </p:nvGrpSpPr>
                          <p:grpSpPr>
                            <a:xfrm>
                              <a:off x="2721600" y="1978200"/>
                              <a:ext cx="7200" cy="7920"/>
                              <a:chOff x="2721600" y="1978200"/>
                              <a:chExt cx="7200" cy="7920"/>
                            </a:xfrm>
                          </p:grpSpPr>
                          <p:grpSp>
                            <p:nvGrpSpPr>
                              <p:cNvPr id="6902" name=""/>
                              <p:cNvGrpSpPr/>
                              <p:nvPr/>
                            </p:nvGrpSpPr>
                            <p:grpSpPr>
                              <a:xfrm>
                                <a:off x="2721600" y="1978200"/>
                                <a:ext cx="2520" cy="7920"/>
                                <a:chOff x="27216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3" name=""/>
                                <p:cNvSpPr/>
                                <p:nvPr/>
                              </p:nvSpPr>
                              <p:spPr>
                                <a:xfrm>
                                  <a:off x="2721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4" name=""/>
                                <p:cNvSpPr/>
                                <p:nvPr/>
                              </p:nvSpPr>
                              <p:spPr>
                                <a:xfrm>
                                  <a:off x="2723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05" name=""/>
                              <p:cNvGrpSpPr/>
                              <p:nvPr/>
                            </p:nvGrpSpPr>
                            <p:grpSpPr>
                              <a:xfrm>
                                <a:off x="2726280" y="1978200"/>
                                <a:ext cx="2520" cy="7920"/>
                                <a:chOff x="2726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6" name=""/>
                                <p:cNvSpPr/>
                                <p:nvPr/>
                              </p:nvSpPr>
                              <p:spPr>
                                <a:xfrm>
                                  <a:off x="2726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7" name=""/>
                                <p:cNvSpPr/>
                                <p:nvPr/>
                              </p:nvSpPr>
                              <p:spPr>
                                <a:xfrm>
                                  <a:off x="27273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08" name=""/>
                            <p:cNvGrpSpPr/>
                            <p:nvPr/>
                          </p:nvGrpSpPr>
                          <p:grpSpPr>
                            <a:xfrm>
                              <a:off x="2729520" y="1978200"/>
                              <a:ext cx="6840" cy="7920"/>
                              <a:chOff x="2729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09" name=""/>
                              <p:cNvGrpSpPr/>
                              <p:nvPr/>
                            </p:nvGrpSpPr>
                            <p:grpSpPr>
                              <a:xfrm>
                                <a:off x="2729520" y="1978200"/>
                                <a:ext cx="2160" cy="7920"/>
                                <a:chOff x="272952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0" name=""/>
                                <p:cNvSpPr/>
                                <p:nvPr/>
                              </p:nvSpPr>
                              <p:spPr>
                                <a:xfrm>
                                  <a:off x="2729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1" name=""/>
                                <p:cNvSpPr/>
                                <p:nvPr/>
                              </p:nvSpPr>
                              <p:spPr>
                                <a:xfrm>
                                  <a:off x="2730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12" name=""/>
                              <p:cNvGrpSpPr/>
                              <p:nvPr/>
                            </p:nvGrpSpPr>
                            <p:grpSpPr>
                              <a:xfrm>
                                <a:off x="2733840" y="1978200"/>
                                <a:ext cx="2520" cy="7920"/>
                                <a:chOff x="2733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13" name=""/>
                                <p:cNvSpPr/>
                                <p:nvPr/>
                              </p:nvSpPr>
                              <p:spPr>
                                <a:xfrm>
                                  <a:off x="27338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4" name=""/>
                                <p:cNvSpPr/>
                                <p:nvPr/>
                              </p:nvSpPr>
                              <p:spPr>
                                <a:xfrm>
                                  <a:off x="27349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15" name=""/>
                          <p:cNvGrpSpPr/>
                          <p:nvPr/>
                        </p:nvGrpSpPr>
                        <p:grpSpPr>
                          <a:xfrm>
                            <a:off x="2737440" y="1978200"/>
                            <a:ext cx="14400" cy="7920"/>
                            <a:chOff x="2737440" y="1978200"/>
                            <a:chExt cx="14400" cy="7920"/>
                          </a:xfrm>
                        </p:grpSpPr>
                        <p:grpSp>
                          <p:nvGrpSpPr>
                            <p:cNvPr id="6916" name=""/>
                            <p:cNvGrpSpPr/>
                            <p:nvPr/>
                          </p:nvGrpSpPr>
                          <p:grpSpPr>
                            <a:xfrm>
                              <a:off x="2737440" y="1978200"/>
                              <a:ext cx="6840" cy="7920"/>
                              <a:chOff x="2737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17" name=""/>
                              <p:cNvGrpSpPr/>
                              <p:nvPr/>
                            </p:nvGrpSpPr>
                            <p:grpSpPr>
                              <a:xfrm>
                                <a:off x="2737440" y="1978200"/>
                                <a:ext cx="2160" cy="7920"/>
                                <a:chOff x="273744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8" name=""/>
                                <p:cNvSpPr/>
                                <p:nvPr/>
                              </p:nvSpPr>
                              <p:spPr>
                                <a:xfrm>
                                  <a:off x="2737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9" name=""/>
                                <p:cNvSpPr/>
                                <p:nvPr/>
                              </p:nvSpPr>
                              <p:spPr>
                                <a:xfrm>
                                  <a:off x="2738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0" name=""/>
                              <p:cNvGrpSpPr/>
                              <p:nvPr/>
                            </p:nvGrpSpPr>
                            <p:grpSpPr>
                              <a:xfrm>
                                <a:off x="2741760" y="1978200"/>
                                <a:ext cx="2520" cy="7920"/>
                                <a:chOff x="2741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21" name=""/>
                                <p:cNvSpPr/>
                                <p:nvPr/>
                              </p:nvSpPr>
                              <p:spPr>
                                <a:xfrm>
                                  <a:off x="2741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2" name=""/>
                                <p:cNvSpPr/>
                                <p:nvPr/>
                              </p:nvSpPr>
                              <p:spPr>
                                <a:xfrm>
                                  <a:off x="2742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23" name=""/>
                            <p:cNvGrpSpPr/>
                            <p:nvPr/>
                          </p:nvGrpSpPr>
                          <p:grpSpPr>
                            <a:xfrm>
                              <a:off x="2745000" y="1978200"/>
                              <a:ext cx="6840" cy="7920"/>
                              <a:chOff x="2745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24" name=""/>
                              <p:cNvGrpSpPr/>
                              <p:nvPr/>
                            </p:nvGrpSpPr>
                            <p:grpSpPr>
                              <a:xfrm>
                                <a:off x="2745000" y="1978200"/>
                                <a:ext cx="2160" cy="7920"/>
                                <a:chOff x="274500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25" name=""/>
                                <p:cNvSpPr/>
                                <p:nvPr/>
                              </p:nvSpPr>
                              <p:spPr>
                                <a:xfrm>
                                  <a:off x="2745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6" name=""/>
                                <p:cNvSpPr/>
                                <p:nvPr/>
                              </p:nvSpPr>
                              <p:spPr>
                                <a:xfrm>
                                  <a:off x="2746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7" name=""/>
                              <p:cNvGrpSpPr/>
                              <p:nvPr/>
                            </p:nvGrpSpPr>
                            <p:grpSpPr>
                              <a:xfrm>
                                <a:off x="2747520" y="1978200"/>
                                <a:ext cx="4320" cy="7920"/>
                                <a:chOff x="2747520" y="1978200"/>
                                <a:chExt cx="4320" cy="7920"/>
                              </a:xfrm>
                            </p:grpSpPr>
                            <p:sp>
                              <p:nvSpPr>
                                <p:cNvPr id="6928" name=""/>
                                <p:cNvSpPr/>
                                <p:nvPr/>
                              </p:nvSpPr>
                              <p:spPr>
                                <a:xfrm>
                                  <a:off x="2747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9" name=""/>
                                <p:cNvSpPr/>
                                <p:nvPr/>
                              </p:nvSpPr>
                              <p:spPr>
                                <a:xfrm>
                                  <a:off x="27504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6930" name=""/>
                      <p:cNvGrpSpPr/>
                      <p:nvPr/>
                    </p:nvGrpSpPr>
                    <p:grpSpPr>
                      <a:xfrm>
                        <a:off x="2753640" y="1978200"/>
                        <a:ext cx="61200" cy="7920"/>
                        <a:chOff x="2753640" y="1978200"/>
                        <a:chExt cx="61200" cy="7920"/>
                      </a:xfrm>
                    </p:grpSpPr>
                    <p:grpSp>
                      <p:nvGrpSpPr>
                        <p:cNvPr id="6931" name=""/>
                        <p:cNvGrpSpPr/>
                        <p:nvPr/>
                      </p:nvGrpSpPr>
                      <p:grpSpPr>
                        <a:xfrm>
                          <a:off x="2753640" y="1978200"/>
                          <a:ext cx="29880" cy="7920"/>
                          <a:chOff x="2753640" y="1978200"/>
                          <a:chExt cx="29880" cy="7920"/>
                        </a:xfrm>
                      </p:grpSpPr>
                      <p:grpSp>
                        <p:nvGrpSpPr>
                          <p:cNvPr id="6932" name=""/>
                          <p:cNvGrpSpPr/>
                          <p:nvPr/>
                        </p:nvGrpSpPr>
                        <p:grpSpPr>
                          <a:xfrm>
                            <a:off x="2753640" y="1978200"/>
                            <a:ext cx="14400" cy="7920"/>
                            <a:chOff x="2753640" y="1978200"/>
                            <a:chExt cx="14400" cy="7920"/>
                          </a:xfrm>
                        </p:grpSpPr>
                        <p:grpSp>
                          <p:nvGrpSpPr>
                            <p:cNvPr id="6933" name=""/>
                            <p:cNvGrpSpPr/>
                            <p:nvPr/>
                          </p:nvGrpSpPr>
                          <p:grpSpPr>
                            <a:xfrm>
                              <a:off x="2753640" y="1978200"/>
                              <a:ext cx="6840" cy="7920"/>
                              <a:chOff x="2753640" y="1978200"/>
                              <a:chExt cx="6840" cy="7920"/>
                            </a:xfrm>
                          </p:grpSpPr>
                          <p:grpSp>
                            <p:nvGrpSpPr>
                              <p:cNvPr id="6934" name=""/>
                              <p:cNvGrpSpPr/>
                              <p:nvPr/>
                            </p:nvGrpSpPr>
                            <p:grpSpPr>
                              <a:xfrm>
                                <a:off x="2753640" y="1978200"/>
                                <a:ext cx="2520" cy="7920"/>
                                <a:chOff x="27536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35" name=""/>
                                <p:cNvSpPr/>
                                <p:nvPr/>
                              </p:nvSpPr>
                              <p:spPr>
                                <a:xfrm>
                                  <a:off x="27536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6" name=""/>
                                <p:cNvSpPr/>
                                <p:nvPr/>
                              </p:nvSpPr>
                              <p:spPr>
                                <a:xfrm>
                                  <a:off x="2754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37" name=""/>
                              <p:cNvGrpSpPr/>
                              <p:nvPr/>
                            </p:nvGrpSpPr>
                            <p:grpSpPr>
                              <a:xfrm>
                                <a:off x="2756520" y="1978200"/>
                                <a:ext cx="3960" cy="7920"/>
                                <a:chOff x="27565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38" name=""/>
                                <p:cNvSpPr/>
                                <p:nvPr/>
                              </p:nvSpPr>
                              <p:spPr>
                                <a:xfrm>
                                  <a:off x="2756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9" name=""/>
                                <p:cNvSpPr/>
                                <p:nvPr/>
                              </p:nvSpPr>
                              <p:spPr>
                                <a:xfrm>
                                  <a:off x="2759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40" name=""/>
                            <p:cNvGrpSpPr/>
                            <p:nvPr/>
                          </p:nvGrpSpPr>
                          <p:grpSpPr>
                            <a:xfrm>
                              <a:off x="2761200" y="1978200"/>
                              <a:ext cx="6840" cy="7920"/>
                              <a:chOff x="2761200" y="1978200"/>
                              <a:chExt cx="6840" cy="7920"/>
                            </a:xfrm>
                          </p:grpSpPr>
                          <p:grpSp>
                            <p:nvGrpSpPr>
                              <p:cNvPr id="6941" name=""/>
                              <p:cNvGrpSpPr/>
                              <p:nvPr/>
                            </p:nvGrpSpPr>
                            <p:grpSpPr>
                              <a:xfrm>
                                <a:off x="2761200" y="1978200"/>
                                <a:ext cx="2520" cy="7920"/>
                                <a:chOff x="27612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2" name=""/>
                                <p:cNvSpPr/>
                                <p:nvPr/>
                              </p:nvSpPr>
                              <p:spPr>
                                <a:xfrm>
                                  <a:off x="2761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3" name=""/>
                                <p:cNvSpPr/>
                                <p:nvPr/>
                              </p:nvSpPr>
                              <p:spPr>
                                <a:xfrm>
                                  <a:off x="2762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44" name=""/>
                              <p:cNvGrpSpPr/>
                              <p:nvPr/>
                            </p:nvGrpSpPr>
                            <p:grpSpPr>
                              <a:xfrm>
                                <a:off x="2765520" y="1978200"/>
                                <a:ext cx="2520" cy="7920"/>
                                <a:chOff x="2765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5" name=""/>
                                <p:cNvSpPr/>
                                <p:nvPr/>
                              </p:nvSpPr>
                              <p:spPr>
                                <a:xfrm>
                                  <a:off x="2765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6" name=""/>
                                <p:cNvSpPr/>
                                <p:nvPr/>
                              </p:nvSpPr>
                              <p:spPr>
                                <a:xfrm>
                                  <a:off x="2766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47" name=""/>
                          <p:cNvGrpSpPr/>
                          <p:nvPr/>
                        </p:nvGrpSpPr>
                        <p:grpSpPr>
                          <a:xfrm>
                            <a:off x="2769120" y="1978200"/>
                            <a:ext cx="14400" cy="7920"/>
                            <a:chOff x="2769120" y="1978200"/>
                            <a:chExt cx="14400" cy="7920"/>
                          </a:xfrm>
                        </p:grpSpPr>
                        <p:grpSp>
                          <p:nvGrpSpPr>
                            <p:cNvPr id="6948" name=""/>
                            <p:cNvGrpSpPr/>
                            <p:nvPr/>
                          </p:nvGrpSpPr>
                          <p:grpSpPr>
                            <a:xfrm>
                              <a:off x="2769120" y="1978200"/>
                              <a:ext cx="6840" cy="7920"/>
                              <a:chOff x="2769120" y="1978200"/>
                              <a:chExt cx="6840" cy="7920"/>
                            </a:xfrm>
                          </p:grpSpPr>
                          <p:grpSp>
                            <p:nvGrpSpPr>
                              <p:cNvPr id="6949" name=""/>
                              <p:cNvGrpSpPr/>
                              <p:nvPr/>
                            </p:nvGrpSpPr>
                            <p:grpSpPr>
                              <a:xfrm>
                                <a:off x="2769120" y="1978200"/>
                                <a:ext cx="2520" cy="7920"/>
                                <a:chOff x="27691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0" name=""/>
                                <p:cNvSpPr/>
                                <p:nvPr/>
                              </p:nvSpPr>
                              <p:spPr>
                                <a:xfrm>
                                  <a:off x="27691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1" name=""/>
                                <p:cNvSpPr/>
                                <p:nvPr/>
                              </p:nvSpPr>
                              <p:spPr>
                                <a:xfrm>
                                  <a:off x="2770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2" name=""/>
                              <p:cNvGrpSpPr/>
                              <p:nvPr/>
                            </p:nvGrpSpPr>
                            <p:grpSpPr>
                              <a:xfrm>
                                <a:off x="2773440" y="1978200"/>
                                <a:ext cx="2520" cy="7920"/>
                                <a:chOff x="2773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3" name=""/>
                                <p:cNvSpPr/>
                                <p:nvPr/>
                              </p:nvSpPr>
                              <p:spPr>
                                <a:xfrm>
                                  <a:off x="2773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4" name=""/>
                                <p:cNvSpPr/>
                                <p:nvPr/>
                              </p:nvSpPr>
                              <p:spPr>
                                <a:xfrm>
                                  <a:off x="2774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55" name=""/>
                            <p:cNvGrpSpPr/>
                            <p:nvPr/>
                          </p:nvGrpSpPr>
                          <p:grpSpPr>
                            <a:xfrm>
                              <a:off x="2776680" y="1978200"/>
                              <a:ext cx="6840" cy="7920"/>
                              <a:chOff x="2776680" y="1978200"/>
                              <a:chExt cx="6840" cy="7920"/>
                            </a:xfrm>
                          </p:grpSpPr>
                          <p:grpSp>
                            <p:nvGrpSpPr>
                              <p:cNvPr id="6956" name=""/>
                              <p:cNvGrpSpPr/>
                              <p:nvPr/>
                            </p:nvGrpSpPr>
                            <p:grpSpPr>
                              <a:xfrm>
                                <a:off x="2776680" y="1978200"/>
                                <a:ext cx="2520" cy="7920"/>
                                <a:chOff x="27766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7" name=""/>
                                <p:cNvSpPr/>
                                <p:nvPr/>
                              </p:nvSpPr>
                              <p:spPr>
                                <a:xfrm>
                                  <a:off x="27766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8" name=""/>
                                <p:cNvSpPr/>
                                <p:nvPr/>
                              </p:nvSpPr>
                              <p:spPr>
                                <a:xfrm>
                                  <a:off x="2777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9" name=""/>
                              <p:cNvGrpSpPr/>
                              <p:nvPr/>
                            </p:nvGrpSpPr>
                            <p:grpSpPr>
                              <a:xfrm>
                                <a:off x="2779560" y="1978200"/>
                                <a:ext cx="3960" cy="7920"/>
                                <a:chOff x="27795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60" name=""/>
                                <p:cNvSpPr/>
                                <p:nvPr/>
                              </p:nvSpPr>
                              <p:spPr>
                                <a:xfrm>
                                  <a:off x="27795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1" name=""/>
                                <p:cNvSpPr/>
                                <p:nvPr/>
                              </p:nvSpPr>
                              <p:spPr>
                                <a:xfrm>
                                  <a:off x="2782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962" name=""/>
                        <p:cNvGrpSpPr/>
                        <p:nvPr/>
                      </p:nvGrpSpPr>
                      <p:grpSpPr>
                        <a:xfrm>
                          <a:off x="2784960" y="1978200"/>
                          <a:ext cx="29880" cy="7920"/>
                          <a:chOff x="2784960" y="1978200"/>
                          <a:chExt cx="29880" cy="7920"/>
                        </a:xfrm>
                      </p:grpSpPr>
                      <p:grpSp>
                        <p:nvGrpSpPr>
                          <p:cNvPr id="6963" name=""/>
                          <p:cNvGrpSpPr/>
                          <p:nvPr/>
                        </p:nvGrpSpPr>
                        <p:grpSpPr>
                          <a:xfrm>
                            <a:off x="2784960" y="1978200"/>
                            <a:ext cx="14400" cy="7920"/>
                            <a:chOff x="2784960" y="1978200"/>
                            <a:chExt cx="14400" cy="7920"/>
                          </a:xfrm>
                        </p:grpSpPr>
                        <p:grpSp>
                          <p:nvGrpSpPr>
                            <p:cNvPr id="6964" name=""/>
                            <p:cNvGrpSpPr/>
                            <p:nvPr/>
                          </p:nvGrpSpPr>
                          <p:grpSpPr>
                            <a:xfrm>
                              <a:off x="2784960" y="1978200"/>
                              <a:ext cx="6840" cy="7920"/>
                              <a:chOff x="2784960" y="1978200"/>
                              <a:chExt cx="6840" cy="7920"/>
                            </a:xfrm>
                          </p:grpSpPr>
                          <p:grpSp>
                            <p:nvGrpSpPr>
                              <p:cNvPr id="6965" name=""/>
                              <p:cNvGrpSpPr/>
                              <p:nvPr/>
                            </p:nvGrpSpPr>
                            <p:grpSpPr>
                              <a:xfrm>
                                <a:off x="2784960" y="1978200"/>
                                <a:ext cx="2520" cy="7920"/>
                                <a:chOff x="27849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6" name=""/>
                                <p:cNvSpPr/>
                                <p:nvPr/>
                              </p:nvSpPr>
                              <p:spPr>
                                <a:xfrm>
                                  <a:off x="27849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7" name=""/>
                                <p:cNvSpPr/>
                                <p:nvPr/>
                              </p:nvSpPr>
                              <p:spPr>
                                <a:xfrm>
                                  <a:off x="2786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68" name=""/>
                              <p:cNvGrpSpPr/>
                              <p:nvPr/>
                            </p:nvGrpSpPr>
                            <p:grpSpPr>
                              <a:xfrm>
                                <a:off x="2789280" y="1978200"/>
                                <a:ext cx="2520" cy="7920"/>
                                <a:chOff x="2789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9" name=""/>
                                <p:cNvSpPr/>
                                <p:nvPr/>
                              </p:nvSpPr>
                              <p:spPr>
                                <a:xfrm>
                                  <a:off x="2789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0" name=""/>
                                <p:cNvSpPr/>
                                <p:nvPr/>
                              </p:nvSpPr>
                              <p:spPr>
                                <a:xfrm>
                                  <a:off x="2790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71" name=""/>
                            <p:cNvGrpSpPr/>
                            <p:nvPr/>
                          </p:nvGrpSpPr>
                          <p:grpSpPr>
                            <a:xfrm>
                              <a:off x="2792520" y="1978200"/>
                              <a:ext cx="6840" cy="7920"/>
                              <a:chOff x="2792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72" name=""/>
                              <p:cNvGrpSpPr/>
                              <p:nvPr/>
                            </p:nvGrpSpPr>
                            <p:grpSpPr>
                              <a:xfrm>
                                <a:off x="2792520" y="1978200"/>
                                <a:ext cx="2520" cy="7920"/>
                                <a:chOff x="2792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73" name=""/>
                                <p:cNvSpPr/>
                                <p:nvPr/>
                              </p:nvSpPr>
                              <p:spPr>
                                <a:xfrm>
                                  <a:off x="2792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4" name=""/>
                                <p:cNvSpPr/>
                                <p:nvPr/>
                              </p:nvSpPr>
                              <p:spPr>
                                <a:xfrm>
                                  <a:off x="2793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75" name=""/>
                              <p:cNvGrpSpPr/>
                              <p:nvPr/>
                            </p:nvGrpSpPr>
                            <p:grpSpPr>
                              <a:xfrm>
                                <a:off x="2795400" y="1978200"/>
                                <a:ext cx="3960" cy="7920"/>
                                <a:chOff x="27954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76" name=""/>
                                <p:cNvSpPr/>
                                <p:nvPr/>
                              </p:nvSpPr>
                              <p:spPr>
                                <a:xfrm>
                                  <a:off x="27954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7" name=""/>
                                <p:cNvSpPr/>
                                <p:nvPr/>
                              </p:nvSpPr>
                              <p:spPr>
                                <a:xfrm>
                                  <a:off x="2798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78" name=""/>
                          <p:cNvGrpSpPr/>
                          <p:nvPr/>
                        </p:nvGrpSpPr>
                        <p:grpSpPr>
                          <a:xfrm>
                            <a:off x="2800440" y="1978200"/>
                            <a:ext cx="14400" cy="7920"/>
                            <a:chOff x="2800440" y="1978200"/>
                            <a:chExt cx="14400" cy="7920"/>
                          </a:xfrm>
                        </p:grpSpPr>
                        <p:grpSp>
                          <p:nvGrpSpPr>
                            <p:cNvPr id="6979" name=""/>
                            <p:cNvGrpSpPr/>
                            <p:nvPr/>
                          </p:nvGrpSpPr>
                          <p:grpSpPr>
                            <a:xfrm>
                              <a:off x="2800440" y="1978200"/>
                              <a:ext cx="6840" cy="7920"/>
                              <a:chOff x="2800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80" name=""/>
                              <p:cNvGrpSpPr/>
                              <p:nvPr/>
                            </p:nvGrpSpPr>
                            <p:grpSpPr>
                              <a:xfrm>
                                <a:off x="2800440" y="1978200"/>
                                <a:ext cx="2520" cy="7920"/>
                                <a:chOff x="2800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1" name=""/>
                                <p:cNvSpPr/>
                                <p:nvPr/>
                              </p:nvSpPr>
                              <p:spPr>
                                <a:xfrm>
                                  <a:off x="2800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2" name=""/>
                                <p:cNvSpPr/>
                                <p:nvPr/>
                              </p:nvSpPr>
                              <p:spPr>
                                <a:xfrm>
                                  <a:off x="2801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83" name=""/>
                              <p:cNvGrpSpPr/>
                              <p:nvPr/>
                            </p:nvGrpSpPr>
                            <p:grpSpPr>
                              <a:xfrm>
                                <a:off x="2804760" y="1978200"/>
                                <a:ext cx="2520" cy="7920"/>
                                <a:chOff x="2804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4" name=""/>
                                <p:cNvSpPr/>
                                <p:nvPr/>
                              </p:nvSpPr>
                              <p:spPr>
                                <a:xfrm>
                                  <a:off x="2804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5" name=""/>
                                <p:cNvSpPr/>
                                <p:nvPr/>
                              </p:nvSpPr>
                              <p:spPr>
                                <a:xfrm>
                                  <a:off x="2806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86" name=""/>
                            <p:cNvGrpSpPr/>
                            <p:nvPr/>
                          </p:nvGrpSpPr>
                          <p:grpSpPr>
                            <a:xfrm>
                              <a:off x="2808000" y="1978200"/>
                              <a:ext cx="6840" cy="7920"/>
                              <a:chOff x="2808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87" name=""/>
                              <p:cNvGrpSpPr/>
                              <p:nvPr/>
                            </p:nvGrpSpPr>
                            <p:grpSpPr>
                              <a:xfrm>
                                <a:off x="2808000" y="1978200"/>
                                <a:ext cx="2520" cy="7920"/>
                                <a:chOff x="28080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8" name=""/>
                                <p:cNvSpPr/>
                                <p:nvPr/>
                              </p:nvSpPr>
                              <p:spPr>
                                <a:xfrm>
                                  <a:off x="2808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9" name=""/>
                                <p:cNvSpPr/>
                                <p:nvPr/>
                              </p:nvSpPr>
                              <p:spPr>
                                <a:xfrm>
                                  <a:off x="2809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90" name=""/>
                              <p:cNvGrpSpPr/>
                              <p:nvPr/>
                            </p:nvGrpSpPr>
                            <p:grpSpPr>
                              <a:xfrm>
                                <a:off x="2812320" y="1978200"/>
                                <a:ext cx="2520" cy="7920"/>
                                <a:chOff x="2812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91" name=""/>
                                <p:cNvSpPr/>
                                <p:nvPr/>
                              </p:nvSpPr>
                              <p:spPr>
                                <a:xfrm>
                                  <a:off x="2812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92" name=""/>
                                <p:cNvSpPr/>
                                <p:nvPr/>
                              </p:nvSpPr>
                              <p:spPr>
                                <a:xfrm>
                                  <a:off x="2813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6993" name=""/>
                  <p:cNvGrpSpPr/>
                  <p:nvPr/>
                </p:nvGrpSpPr>
                <p:grpSpPr>
                  <a:xfrm>
                    <a:off x="2687040" y="1949400"/>
                    <a:ext cx="128160" cy="22320"/>
                    <a:chOff x="2687040" y="1949400"/>
                    <a:chExt cx="128160" cy="22320"/>
                  </a:xfrm>
                </p:grpSpPr>
                <p:sp>
                  <p:nvSpPr>
                    <p:cNvPr id="6994" name=""/>
                    <p:cNvSpPr/>
                    <p:nvPr/>
                  </p:nvSpPr>
                  <p:spPr>
                    <a:xfrm>
                      <a:off x="2687040" y="1949400"/>
                      <a:ext cx="284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5" name=""/>
                    <p:cNvSpPr/>
                    <p:nvPr/>
                  </p:nvSpPr>
                  <p:spPr>
                    <a:xfrm>
                      <a:off x="2715480" y="1949400"/>
                      <a:ext cx="392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6" name=""/>
                    <p:cNvSpPr/>
                    <p:nvPr/>
                  </p:nvSpPr>
                  <p:spPr>
                    <a:xfrm>
                      <a:off x="2755080" y="1949400"/>
                      <a:ext cx="4248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7" name=""/>
                    <p:cNvSpPr/>
                    <p:nvPr/>
                  </p:nvSpPr>
                  <p:spPr>
                    <a:xfrm>
                      <a:off x="2796480" y="1949400"/>
                      <a:ext cx="1872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98" name=""/>
                <p:cNvGrpSpPr/>
                <p:nvPr/>
              </p:nvGrpSpPr>
              <p:grpSpPr>
                <a:xfrm>
                  <a:off x="2800080" y="1952640"/>
                  <a:ext cx="11880" cy="11160"/>
                  <a:chOff x="2800080" y="1952640"/>
                  <a:chExt cx="11880" cy="11160"/>
                </a:xfrm>
              </p:grpSpPr>
              <p:sp>
                <p:nvSpPr>
                  <p:cNvPr id="6999" name=""/>
                  <p:cNvSpPr/>
                  <p:nvPr/>
                </p:nvSpPr>
                <p:spPr>
                  <a:xfrm>
                    <a:off x="2804400" y="1952640"/>
                    <a:ext cx="7560" cy="1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0" name=""/>
                  <p:cNvSpPr/>
                  <p:nvPr/>
                </p:nvSpPr>
                <p:spPr>
                  <a:xfrm>
                    <a:off x="2805840" y="195588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01" name=""/>
                  <p:cNvGrpSpPr/>
                  <p:nvPr/>
                </p:nvGrpSpPr>
                <p:grpSpPr>
                  <a:xfrm>
                    <a:off x="2800080" y="1954440"/>
                    <a:ext cx="2520" cy="6120"/>
                    <a:chOff x="2800080" y="1954440"/>
                    <a:chExt cx="2520" cy="6120"/>
                  </a:xfrm>
                </p:grpSpPr>
                <p:sp>
                  <p:nvSpPr>
                    <p:cNvPr id="7002" name=""/>
                    <p:cNvSpPr/>
                    <p:nvPr/>
                  </p:nvSpPr>
                  <p:spPr>
                    <a:xfrm>
                      <a:off x="2800080" y="195444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3" name=""/>
                    <p:cNvSpPr/>
                    <p:nvPr/>
                  </p:nvSpPr>
                  <p:spPr>
                    <a:xfrm>
                      <a:off x="2800080" y="195912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04" name=""/>
                <p:cNvGrpSpPr/>
                <p:nvPr/>
              </p:nvGrpSpPr>
              <p:grpSpPr>
                <a:xfrm>
                  <a:off x="2717280" y="1952640"/>
                  <a:ext cx="36000" cy="14400"/>
                  <a:chOff x="2717280" y="1952640"/>
                  <a:chExt cx="36000" cy="14400"/>
                </a:xfrm>
              </p:grpSpPr>
              <p:grpSp>
                <p:nvGrpSpPr>
                  <p:cNvPr id="7005" name=""/>
                  <p:cNvGrpSpPr/>
                  <p:nvPr/>
                </p:nvGrpSpPr>
                <p:grpSpPr>
                  <a:xfrm>
                    <a:off x="2718720" y="1952640"/>
                    <a:ext cx="34560" cy="7920"/>
                    <a:chOff x="2718720" y="1952640"/>
                    <a:chExt cx="34560" cy="7920"/>
                  </a:xfrm>
                </p:grpSpPr>
                <p:sp>
                  <p:nvSpPr>
                    <p:cNvPr id="7006" name=""/>
                    <p:cNvSpPr/>
                    <p:nvPr/>
                  </p:nvSpPr>
                  <p:spPr>
                    <a:xfrm>
                      <a:off x="2727720" y="1952640"/>
                      <a:ext cx="1404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7" name=""/>
                    <p:cNvSpPr/>
                    <p:nvPr/>
                  </p:nvSpPr>
                  <p:spPr>
                    <a:xfrm>
                      <a:off x="2727720" y="1955880"/>
                      <a:ext cx="14040" cy="46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8" name=""/>
                    <p:cNvSpPr/>
                    <p:nvPr/>
                  </p:nvSpPr>
                  <p:spPr>
                    <a:xfrm>
                      <a:off x="2718720" y="1957680"/>
                      <a:ext cx="345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09" name=""/>
                  <p:cNvSpPr/>
                  <p:nvPr/>
                </p:nvSpPr>
                <p:spPr>
                  <a:xfrm>
                    <a:off x="2717280" y="1952640"/>
                    <a:ext cx="2880" cy="180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0" name=""/>
                  <p:cNvSpPr/>
                  <p:nvPr/>
                </p:nvSpPr>
                <p:spPr>
                  <a:xfrm>
                    <a:off x="2745720" y="1963800"/>
                    <a:ext cx="43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1" name=""/>
                <p:cNvGrpSpPr/>
                <p:nvPr/>
              </p:nvGrpSpPr>
              <p:grpSpPr>
                <a:xfrm>
                  <a:off x="2690280" y="1965600"/>
                  <a:ext cx="21960" cy="4680"/>
                  <a:chOff x="2690280" y="1965600"/>
                  <a:chExt cx="21960" cy="4680"/>
                </a:xfrm>
              </p:grpSpPr>
              <p:grpSp>
                <p:nvGrpSpPr>
                  <p:cNvPr id="7012" name=""/>
                  <p:cNvGrpSpPr/>
                  <p:nvPr/>
                </p:nvGrpSpPr>
                <p:grpSpPr>
                  <a:xfrm>
                    <a:off x="2690280" y="1965600"/>
                    <a:ext cx="11520" cy="4680"/>
                    <a:chOff x="2690280" y="1965600"/>
                    <a:chExt cx="11520" cy="4680"/>
                  </a:xfrm>
                </p:grpSpPr>
                <p:grpSp>
                  <p:nvGrpSpPr>
                    <p:cNvPr id="7013" name=""/>
                    <p:cNvGrpSpPr/>
                    <p:nvPr/>
                  </p:nvGrpSpPr>
                  <p:grpSpPr>
                    <a:xfrm>
                      <a:off x="2690280" y="1965600"/>
                      <a:ext cx="5400" cy="4680"/>
                      <a:chOff x="2690280" y="1965600"/>
                      <a:chExt cx="5400" cy="4680"/>
                    </a:xfrm>
                  </p:grpSpPr>
                  <p:grpSp>
                    <p:nvGrpSpPr>
                      <p:cNvPr id="7014" name=""/>
                      <p:cNvGrpSpPr/>
                      <p:nvPr/>
                    </p:nvGrpSpPr>
                    <p:grpSpPr>
                      <a:xfrm>
                        <a:off x="2690280" y="1965600"/>
                        <a:ext cx="2520" cy="4680"/>
                        <a:chOff x="2690280" y="1965600"/>
                        <a:chExt cx="2520" cy="4680"/>
                      </a:xfrm>
                    </p:grpSpPr>
                    <p:sp>
                      <p:nvSpPr>
                        <p:cNvPr id="7015" name=""/>
                        <p:cNvSpPr/>
                        <p:nvPr/>
                      </p:nvSpPr>
                      <p:spPr>
                        <a:xfrm>
                          <a:off x="26902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6" name=""/>
                        <p:cNvSpPr/>
                        <p:nvPr/>
                      </p:nvSpPr>
                      <p:spPr>
                        <a:xfrm>
                          <a:off x="269172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17" name=""/>
                      <p:cNvGrpSpPr/>
                      <p:nvPr/>
                    </p:nvGrpSpPr>
                    <p:grpSpPr>
                      <a:xfrm>
                        <a:off x="2693160" y="1965600"/>
                        <a:ext cx="2520" cy="4680"/>
                        <a:chOff x="2693160" y="1965600"/>
                        <a:chExt cx="2520" cy="4680"/>
                      </a:xfrm>
                    </p:grpSpPr>
                    <p:sp>
                      <p:nvSpPr>
                        <p:cNvPr id="7018" name=""/>
                        <p:cNvSpPr/>
                        <p:nvPr/>
                      </p:nvSpPr>
                      <p:spPr>
                        <a:xfrm>
                          <a:off x="26931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9" name=""/>
                        <p:cNvSpPr/>
                        <p:nvPr/>
                      </p:nvSpPr>
                      <p:spPr>
                        <a:xfrm>
                          <a:off x="26946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20" name=""/>
                    <p:cNvGrpSpPr/>
                    <p:nvPr/>
                  </p:nvGrpSpPr>
                  <p:grpSpPr>
                    <a:xfrm>
                      <a:off x="2696400" y="1965600"/>
                      <a:ext cx="5400" cy="4680"/>
                      <a:chOff x="2696400" y="1965600"/>
                      <a:chExt cx="5400" cy="4680"/>
                    </a:xfrm>
                  </p:grpSpPr>
                  <p:grpSp>
                    <p:nvGrpSpPr>
                      <p:cNvPr id="7021" name=""/>
                      <p:cNvGrpSpPr/>
                      <p:nvPr/>
                    </p:nvGrpSpPr>
                    <p:grpSpPr>
                      <a:xfrm>
                        <a:off x="2696400" y="1965600"/>
                        <a:ext cx="2520" cy="4680"/>
                        <a:chOff x="2696400" y="1965600"/>
                        <a:chExt cx="2520" cy="4680"/>
                      </a:xfrm>
                    </p:grpSpPr>
                    <p:sp>
                      <p:nvSpPr>
                        <p:cNvPr id="7022" name=""/>
                        <p:cNvSpPr/>
                        <p:nvPr/>
                      </p:nvSpPr>
                      <p:spPr>
                        <a:xfrm>
                          <a:off x="26964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3" name=""/>
                        <p:cNvSpPr/>
                        <p:nvPr/>
                      </p:nvSpPr>
                      <p:spPr>
                        <a:xfrm>
                          <a:off x="26974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24" name=""/>
                      <p:cNvGrpSpPr/>
                      <p:nvPr/>
                    </p:nvGrpSpPr>
                    <p:grpSpPr>
                      <a:xfrm>
                        <a:off x="2699280" y="1965600"/>
                        <a:ext cx="2520" cy="4680"/>
                        <a:chOff x="2699280" y="1965600"/>
                        <a:chExt cx="2520" cy="4680"/>
                      </a:xfrm>
                    </p:grpSpPr>
                    <p:sp>
                      <p:nvSpPr>
                        <p:cNvPr id="7025" name=""/>
                        <p:cNvSpPr/>
                        <p:nvPr/>
                      </p:nvSpPr>
                      <p:spPr>
                        <a:xfrm>
                          <a:off x="26992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6" name=""/>
                        <p:cNvSpPr/>
                        <p:nvPr/>
                      </p:nvSpPr>
                      <p:spPr>
                        <a:xfrm>
                          <a:off x="27003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027" name=""/>
                  <p:cNvGrpSpPr/>
                  <p:nvPr/>
                </p:nvGrpSpPr>
                <p:grpSpPr>
                  <a:xfrm>
                    <a:off x="2702880" y="1965600"/>
                    <a:ext cx="9360" cy="4680"/>
                    <a:chOff x="2702880" y="1965600"/>
                    <a:chExt cx="9360" cy="4680"/>
                  </a:xfrm>
                </p:grpSpPr>
                <p:grpSp>
                  <p:nvGrpSpPr>
                    <p:cNvPr id="7028" name=""/>
                    <p:cNvGrpSpPr/>
                    <p:nvPr/>
                  </p:nvGrpSpPr>
                  <p:grpSpPr>
                    <a:xfrm>
                      <a:off x="2702880" y="1965600"/>
                      <a:ext cx="5040" cy="4680"/>
                      <a:chOff x="2702880" y="1965600"/>
                      <a:chExt cx="5040" cy="4680"/>
                    </a:xfrm>
                  </p:grpSpPr>
                  <p:grpSp>
                    <p:nvGrpSpPr>
                      <p:cNvPr id="7029" name=""/>
                      <p:cNvGrpSpPr/>
                      <p:nvPr/>
                    </p:nvGrpSpPr>
                    <p:grpSpPr>
                      <a:xfrm>
                        <a:off x="2702880" y="1965600"/>
                        <a:ext cx="2160" cy="4680"/>
                        <a:chOff x="2702880" y="1965600"/>
                        <a:chExt cx="2160" cy="4680"/>
                      </a:xfrm>
                    </p:grpSpPr>
                    <p:sp>
                      <p:nvSpPr>
                        <p:cNvPr id="7030" name=""/>
                        <p:cNvSpPr/>
                        <p:nvPr/>
                      </p:nvSpPr>
                      <p:spPr>
                        <a:xfrm>
                          <a:off x="27028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1" name=""/>
                        <p:cNvSpPr/>
                        <p:nvPr/>
                      </p:nvSpPr>
                      <p:spPr>
                        <a:xfrm>
                          <a:off x="27039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2" name=""/>
                      <p:cNvGrpSpPr/>
                      <p:nvPr/>
                    </p:nvGrpSpPr>
                    <p:grpSpPr>
                      <a:xfrm>
                        <a:off x="2705400" y="1965600"/>
                        <a:ext cx="2520" cy="4680"/>
                        <a:chOff x="2705400" y="1965600"/>
                        <a:chExt cx="2520" cy="4680"/>
                      </a:xfrm>
                    </p:grpSpPr>
                    <p:sp>
                      <p:nvSpPr>
                        <p:cNvPr id="7033" name=""/>
                        <p:cNvSpPr/>
                        <p:nvPr/>
                      </p:nvSpPr>
                      <p:spPr>
                        <a:xfrm>
                          <a:off x="270540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4" name=""/>
                        <p:cNvSpPr/>
                        <p:nvPr/>
                      </p:nvSpPr>
                      <p:spPr>
                        <a:xfrm>
                          <a:off x="270684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35" name=""/>
                    <p:cNvGrpSpPr/>
                    <p:nvPr/>
                  </p:nvGrpSpPr>
                  <p:grpSpPr>
                    <a:xfrm>
                      <a:off x="2708640" y="1965600"/>
                      <a:ext cx="3600" cy="4680"/>
                      <a:chOff x="2708640" y="1965600"/>
                      <a:chExt cx="3600" cy="4680"/>
                    </a:xfrm>
                  </p:grpSpPr>
                  <p:grpSp>
                    <p:nvGrpSpPr>
                      <p:cNvPr id="7036" name=""/>
                      <p:cNvGrpSpPr/>
                      <p:nvPr/>
                    </p:nvGrpSpPr>
                    <p:grpSpPr>
                      <a:xfrm>
                        <a:off x="2708640" y="1965600"/>
                        <a:ext cx="1440" cy="4680"/>
                        <a:chOff x="2708640" y="1965600"/>
                        <a:chExt cx="1440" cy="4680"/>
                      </a:xfrm>
                    </p:grpSpPr>
                    <p:sp>
                      <p:nvSpPr>
                        <p:cNvPr id="7037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8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9" name=""/>
                      <p:cNvGrpSpPr/>
                      <p:nvPr/>
                    </p:nvGrpSpPr>
                    <p:grpSpPr>
                      <a:xfrm>
                        <a:off x="2710080" y="1965600"/>
                        <a:ext cx="2160" cy="4680"/>
                        <a:chOff x="2710080" y="1965600"/>
                        <a:chExt cx="2160" cy="4680"/>
                      </a:xfrm>
                    </p:grpSpPr>
                    <p:sp>
                      <p:nvSpPr>
                        <p:cNvPr id="7040" name=""/>
                        <p:cNvSpPr/>
                        <p:nvPr/>
                      </p:nvSpPr>
                      <p:spPr>
                        <a:xfrm>
                          <a:off x="27100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1" name=""/>
                        <p:cNvSpPr/>
                        <p:nvPr/>
                      </p:nvSpPr>
                      <p:spPr>
                        <a:xfrm>
                          <a:off x="27111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042" name=""/>
                <p:cNvSpPr/>
                <p:nvPr/>
              </p:nvSpPr>
              <p:spPr>
                <a:xfrm>
                  <a:off x="2688840" y="1962360"/>
                  <a:ext cx="126720" cy="3240"/>
                </a:xfrm>
                <a:custGeom>
                  <a:avLst/>
                  <a:gdLst/>
                  <a:ahLst/>
                  <a:rect l="l" t="t" r="r" b="b"/>
                  <a:pathLst>
                    <a:path w="561" h="14">
                      <a:moveTo>
                        <a:pt x="0" y="11"/>
                      </a:moveTo>
                      <a:lnTo>
                        <a:pt x="246" y="11"/>
                      </a:lnTo>
                      <a:lnTo>
                        <a:pt x="246" y="0"/>
                      </a:lnTo>
                      <a:lnTo>
                        <a:pt x="286" y="0"/>
                      </a:lnTo>
                      <a:lnTo>
                        <a:pt x="286" y="14"/>
                      </a:lnTo>
                      <a:lnTo>
                        <a:pt x="56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3" name=""/>
              <p:cNvGrpSpPr/>
              <p:nvPr/>
            </p:nvGrpSpPr>
            <p:grpSpPr>
              <a:xfrm>
                <a:off x="2644920" y="1984680"/>
                <a:ext cx="210960" cy="29880"/>
                <a:chOff x="2644920" y="1984680"/>
                <a:chExt cx="210960" cy="29880"/>
              </a:xfrm>
            </p:grpSpPr>
            <p:grpSp>
              <p:nvGrpSpPr>
                <p:cNvPr id="7044" name=""/>
                <p:cNvGrpSpPr/>
                <p:nvPr/>
              </p:nvGrpSpPr>
              <p:grpSpPr>
                <a:xfrm>
                  <a:off x="2644920" y="1984680"/>
                  <a:ext cx="210960" cy="29880"/>
                  <a:chOff x="2644920" y="1984680"/>
                  <a:chExt cx="210960" cy="29880"/>
                </a:xfrm>
              </p:grpSpPr>
              <p:sp>
                <p:nvSpPr>
                  <p:cNvPr id="7045" name=""/>
                  <p:cNvSpPr/>
                  <p:nvPr/>
                </p:nvSpPr>
                <p:spPr>
                  <a:xfrm>
                    <a:off x="2644920" y="2008440"/>
                    <a:ext cx="210960" cy="6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6" name=""/>
                  <p:cNvSpPr/>
                  <p:nvPr/>
                </p:nvSpPr>
                <p:spPr>
                  <a:xfrm>
                    <a:off x="2644920" y="1984680"/>
                    <a:ext cx="210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05">
                        <a:moveTo>
                          <a:pt x="0" y="105"/>
                        </a:moveTo>
                        <a:lnTo>
                          <a:pt x="931" y="105"/>
                        </a:lnTo>
                        <a:lnTo>
                          <a:pt x="877" y="1"/>
                        </a:lnTo>
                        <a:lnTo>
                          <a:pt x="67" y="0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7" name=""/>
                  <p:cNvSpPr/>
                  <p:nvPr/>
                </p:nvSpPr>
                <p:spPr>
                  <a:xfrm>
                    <a:off x="2651040" y="1987560"/>
                    <a:ext cx="196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80">
                        <a:moveTo>
                          <a:pt x="51" y="0"/>
                        </a:moveTo>
                        <a:lnTo>
                          <a:pt x="0" y="80"/>
                        </a:lnTo>
                        <a:lnTo>
                          <a:pt x="873" y="80"/>
                        </a:lnTo>
                        <a:lnTo>
                          <a:pt x="8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8" name=""/>
                <p:cNvGrpSpPr/>
                <p:nvPr/>
              </p:nvGrpSpPr>
              <p:grpSpPr>
                <a:xfrm>
                  <a:off x="2666880" y="1987560"/>
                  <a:ext cx="165960" cy="5040"/>
                  <a:chOff x="2666880" y="1987560"/>
                  <a:chExt cx="165960" cy="5040"/>
                </a:xfrm>
              </p:grpSpPr>
              <p:sp>
                <p:nvSpPr>
                  <p:cNvPr id="7049" name=""/>
                  <p:cNvSpPr/>
                  <p:nvPr/>
                </p:nvSpPr>
                <p:spPr>
                  <a:xfrm>
                    <a:off x="2666880" y="198756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">
                        <a:moveTo>
                          <a:pt x="8" y="0"/>
                        </a:moveTo>
                        <a:lnTo>
                          <a:pt x="29" y="0"/>
                        </a:lnTo>
                        <a:lnTo>
                          <a:pt x="22" y="15"/>
                        </a:lnTo>
                        <a:lnTo>
                          <a:pt x="0" y="15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0" name=""/>
                  <p:cNvSpPr/>
                  <p:nvPr/>
                </p:nvSpPr>
                <p:spPr>
                  <a:xfrm>
                    <a:off x="2684160" y="1987560"/>
                    <a:ext cx="24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4">
                        <a:moveTo>
                          <a:pt x="5" y="0"/>
                        </a:moveTo>
                        <a:lnTo>
                          <a:pt x="116" y="0"/>
                        </a:lnTo>
                        <a:lnTo>
                          <a:pt x="112" y="14"/>
                        </a:lnTo>
                        <a:lnTo>
                          <a:pt x="0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1" name=""/>
                  <p:cNvSpPr/>
                  <p:nvPr/>
                </p:nvSpPr>
                <p:spPr>
                  <a:xfrm>
                    <a:off x="271728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5">
                        <a:moveTo>
                          <a:pt x="4" y="0"/>
                        </a:moveTo>
                        <a:lnTo>
                          <a:pt x="110" y="0"/>
                        </a:lnTo>
                        <a:lnTo>
                          <a:pt x="109" y="15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2" name=""/>
                  <p:cNvSpPr/>
                  <p:nvPr/>
                </p:nvSpPr>
                <p:spPr>
                  <a:xfrm>
                    <a:off x="274752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">
                        <a:moveTo>
                          <a:pt x="1" y="0"/>
                        </a:moveTo>
                        <a:lnTo>
                          <a:pt x="113" y="0"/>
                        </a:lnTo>
                        <a:lnTo>
                          <a:pt x="113" y="15"/>
                        </a:lnTo>
                        <a:lnTo>
                          <a:pt x="0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3" name=""/>
                  <p:cNvSpPr/>
                  <p:nvPr/>
                </p:nvSpPr>
                <p:spPr>
                  <a:xfrm>
                    <a:off x="2777760" y="1987560"/>
                    <a:ext cx="21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6">
                        <a:moveTo>
                          <a:pt x="0" y="0"/>
                        </a:moveTo>
                        <a:lnTo>
                          <a:pt x="97" y="0"/>
                        </a:lnTo>
                        <a:lnTo>
                          <a:pt x="10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4" name=""/>
                  <p:cNvSpPr/>
                  <p:nvPr/>
                </p:nvSpPr>
                <p:spPr>
                  <a:xfrm>
                    <a:off x="2806200" y="1989360"/>
                    <a:ext cx="26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">
                        <a:moveTo>
                          <a:pt x="0" y="0"/>
                        </a:moveTo>
                        <a:lnTo>
                          <a:pt x="110" y="0"/>
                        </a:lnTo>
                        <a:lnTo>
                          <a:pt x="122" y="13"/>
                        </a:lnTo>
                        <a:lnTo>
                          <a:pt x="5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5" name=""/>
                <p:cNvGrpSpPr/>
                <p:nvPr/>
              </p:nvGrpSpPr>
              <p:grpSpPr>
                <a:xfrm>
                  <a:off x="2660760" y="1994040"/>
                  <a:ext cx="174960" cy="11160"/>
                  <a:chOff x="2660760" y="1994040"/>
                  <a:chExt cx="174960" cy="11160"/>
                </a:xfrm>
              </p:grpSpPr>
              <p:grpSp>
                <p:nvGrpSpPr>
                  <p:cNvPr id="7056" name=""/>
                  <p:cNvGrpSpPr/>
                  <p:nvPr/>
                </p:nvGrpSpPr>
                <p:grpSpPr>
                  <a:xfrm>
                    <a:off x="2676240" y="1994040"/>
                    <a:ext cx="84960" cy="9360"/>
                    <a:chOff x="2676240" y="1994040"/>
                    <a:chExt cx="84960" cy="9360"/>
                  </a:xfrm>
                </p:grpSpPr>
                <p:sp>
                  <p:nvSpPr>
                    <p:cNvPr id="7057" name=""/>
                    <p:cNvSpPr/>
                    <p:nvPr/>
                  </p:nvSpPr>
                  <p:spPr>
                    <a:xfrm>
                      <a:off x="2676240" y="1994040"/>
                      <a:ext cx="806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8" name=""/>
                    <p:cNvSpPr/>
                    <p:nvPr/>
                  </p:nvSpPr>
                  <p:spPr>
                    <a:xfrm>
                      <a:off x="2678760" y="1997280"/>
                      <a:ext cx="82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9" name=""/>
                    <p:cNvSpPr/>
                    <p:nvPr/>
                  </p:nvSpPr>
                  <p:spPr>
                    <a:xfrm>
                      <a:off x="2680560" y="1998720"/>
                      <a:ext cx="709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0" name=""/>
                    <p:cNvSpPr/>
                    <p:nvPr/>
                  </p:nvSpPr>
                  <p:spPr>
                    <a:xfrm>
                      <a:off x="2682000" y="2001960"/>
                      <a:ext cx="93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1" name=""/>
                  <p:cNvGrpSpPr/>
                  <p:nvPr/>
                </p:nvGrpSpPr>
                <p:grpSpPr>
                  <a:xfrm>
                    <a:off x="2660760" y="1995480"/>
                    <a:ext cx="15480" cy="6480"/>
                    <a:chOff x="2660760" y="1995480"/>
                    <a:chExt cx="15480" cy="6480"/>
                  </a:xfrm>
                </p:grpSpPr>
                <p:sp>
                  <p:nvSpPr>
                    <p:cNvPr id="7062" name=""/>
                    <p:cNvSpPr/>
                    <p:nvPr/>
                  </p:nvSpPr>
                  <p:spPr>
                    <a:xfrm>
                      <a:off x="2665080" y="1995480"/>
                      <a:ext cx="75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3" name=""/>
                    <p:cNvSpPr/>
                    <p:nvPr/>
                  </p:nvSpPr>
                  <p:spPr>
                    <a:xfrm>
                      <a:off x="2663280" y="199728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4" name=""/>
                    <p:cNvSpPr/>
                    <p:nvPr/>
                  </p:nvSpPr>
                  <p:spPr>
                    <a:xfrm>
                      <a:off x="266076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5" name=""/>
                  <p:cNvGrpSpPr/>
                  <p:nvPr/>
                </p:nvGrpSpPr>
                <p:grpSpPr>
                  <a:xfrm>
                    <a:off x="2695320" y="1994040"/>
                    <a:ext cx="78480" cy="9360"/>
                    <a:chOff x="2695320" y="1994040"/>
                    <a:chExt cx="78480" cy="9360"/>
                  </a:xfrm>
                </p:grpSpPr>
                <p:sp>
                  <p:nvSpPr>
                    <p:cNvPr id="7066" name=""/>
                    <p:cNvSpPr/>
                    <p:nvPr/>
                  </p:nvSpPr>
                  <p:spPr>
                    <a:xfrm>
                      <a:off x="2695320" y="2001960"/>
                      <a:ext cx="48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7" name=""/>
                    <p:cNvSpPr/>
                    <p:nvPr/>
                  </p:nvSpPr>
                  <p:spPr>
                    <a:xfrm>
                      <a:off x="2761560" y="1994040"/>
                      <a:ext cx="108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8" name=""/>
                    <p:cNvSpPr/>
                    <p:nvPr/>
                  </p:nvSpPr>
                  <p:spPr>
                    <a:xfrm>
                      <a:off x="2764800" y="1997280"/>
                      <a:ext cx="90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9" name=""/>
                    <p:cNvSpPr/>
                    <p:nvPr/>
                  </p:nvSpPr>
                  <p:spPr>
                    <a:xfrm>
                      <a:off x="2758320" y="1998720"/>
                      <a:ext cx="154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0" name=""/>
                    <p:cNvSpPr/>
                    <p:nvPr/>
                  </p:nvSpPr>
                  <p:spPr>
                    <a:xfrm>
                      <a:off x="2745720" y="200196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1" name=""/>
                    <p:cNvSpPr/>
                    <p:nvPr/>
                  </p:nvSpPr>
                  <p:spPr>
                    <a:xfrm>
                      <a:off x="2755080" y="2001960"/>
                      <a:ext cx="172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2" name=""/>
                  <p:cNvGrpSpPr/>
                  <p:nvPr/>
                </p:nvGrpSpPr>
                <p:grpSpPr>
                  <a:xfrm>
                    <a:off x="2777760" y="1995480"/>
                    <a:ext cx="24480" cy="7920"/>
                    <a:chOff x="2777760" y="1995480"/>
                    <a:chExt cx="24480" cy="7920"/>
                  </a:xfrm>
                </p:grpSpPr>
                <p:sp>
                  <p:nvSpPr>
                    <p:cNvPr id="7073" name=""/>
                    <p:cNvSpPr/>
                    <p:nvPr/>
                  </p:nvSpPr>
                  <p:spPr>
                    <a:xfrm>
                      <a:off x="2777760" y="1995480"/>
                      <a:ext cx="2340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4" name=""/>
                    <p:cNvSpPr/>
                    <p:nvPr/>
                  </p:nvSpPr>
                  <p:spPr>
                    <a:xfrm>
                      <a:off x="2780640" y="199872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5" name=""/>
                    <p:cNvSpPr/>
                    <p:nvPr/>
                  </p:nvSpPr>
                  <p:spPr>
                    <a:xfrm>
                      <a:off x="2780640" y="2001960"/>
                      <a:ext cx="21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6" name=""/>
                  <p:cNvGrpSpPr/>
                  <p:nvPr/>
                </p:nvGrpSpPr>
                <p:grpSpPr>
                  <a:xfrm>
                    <a:off x="2806200" y="1995480"/>
                    <a:ext cx="29520" cy="9720"/>
                    <a:chOff x="2806200" y="1995480"/>
                    <a:chExt cx="29520" cy="9720"/>
                  </a:xfrm>
                </p:grpSpPr>
                <p:sp>
                  <p:nvSpPr>
                    <p:cNvPr id="7077" name=""/>
                    <p:cNvSpPr/>
                    <p:nvPr/>
                  </p:nvSpPr>
                  <p:spPr>
                    <a:xfrm>
                      <a:off x="2809080" y="199548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8" name=""/>
                    <p:cNvSpPr/>
                    <p:nvPr/>
                  </p:nvSpPr>
                  <p:spPr>
                    <a:xfrm>
                      <a:off x="2806200" y="1998720"/>
                      <a:ext cx="172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9" name=""/>
                    <p:cNvSpPr/>
                    <p:nvPr/>
                  </p:nvSpPr>
                  <p:spPr>
                    <a:xfrm>
                      <a:off x="280908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0" name=""/>
                    <p:cNvSpPr/>
                    <p:nvPr/>
                  </p:nvSpPr>
                  <p:spPr>
                    <a:xfrm>
                      <a:off x="2807640" y="200340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1" name=""/>
                    <p:cNvSpPr/>
                    <p:nvPr/>
                  </p:nvSpPr>
                  <p:spPr>
                    <a:xfrm>
                      <a:off x="2828160" y="1998720"/>
                      <a:ext cx="61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2" name=""/>
                    <p:cNvSpPr/>
                    <p:nvPr/>
                  </p:nvSpPr>
                  <p:spPr>
                    <a:xfrm>
                      <a:off x="2829600" y="2001960"/>
                      <a:ext cx="612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083" name=""/>
              <p:cNvGrpSpPr/>
              <p:nvPr/>
            </p:nvGrpSpPr>
            <p:grpSpPr>
              <a:xfrm>
                <a:off x="2706480" y="1925640"/>
                <a:ext cx="91800" cy="19080"/>
                <a:chOff x="2706480" y="1925640"/>
                <a:chExt cx="91800" cy="19080"/>
              </a:xfrm>
            </p:grpSpPr>
            <p:grpSp>
              <p:nvGrpSpPr>
                <p:cNvPr id="7084" name=""/>
                <p:cNvGrpSpPr/>
                <p:nvPr/>
              </p:nvGrpSpPr>
              <p:grpSpPr>
                <a:xfrm>
                  <a:off x="2706480" y="1930680"/>
                  <a:ext cx="91800" cy="14040"/>
                  <a:chOff x="2706480" y="1930680"/>
                  <a:chExt cx="91800" cy="1404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>
                    <a:off x="2706480" y="1930680"/>
                    <a:ext cx="9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31">
                        <a:moveTo>
                          <a:pt x="0" y="31"/>
                        </a:moveTo>
                        <a:lnTo>
                          <a:pt x="404" y="31"/>
                        </a:lnTo>
                        <a:lnTo>
                          <a:pt x="381" y="0"/>
                        </a:lnTo>
                        <a:lnTo>
                          <a:pt x="24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>
                    <a:off x="2706480" y="1936800"/>
                    <a:ext cx="9180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87" name=""/>
                <p:cNvSpPr/>
                <p:nvPr/>
              </p:nvSpPr>
              <p:spPr>
                <a:xfrm>
                  <a:off x="2727000" y="1925640"/>
                  <a:ext cx="48600" cy="11160"/>
                </a:xfrm>
                <a:custGeom>
                  <a:avLst/>
                  <a:gdLst/>
                  <a:ahLst/>
                  <a:rect l="l" t="t" r="r" b="b"/>
                  <a:pathLst>
                    <a:path w="215" h="54">
                      <a:moveTo>
                        <a:pt x="0" y="31"/>
                      </a:moveTo>
                      <a:lnTo>
                        <a:pt x="0" y="0"/>
                      </a:lnTo>
                      <a:lnTo>
                        <a:pt x="215" y="0"/>
                      </a:lnTo>
                      <a:lnTo>
                        <a:pt x="215" y="32"/>
                      </a:lnTo>
                      <a:lnTo>
                        <a:pt x="214" y="35"/>
                      </a:lnTo>
                      <a:lnTo>
                        <a:pt x="213" y="37"/>
                      </a:lnTo>
                      <a:lnTo>
                        <a:pt x="209" y="40"/>
                      </a:lnTo>
                      <a:lnTo>
                        <a:pt x="204" y="42"/>
                      </a:lnTo>
                      <a:lnTo>
                        <a:pt x="197" y="44"/>
                      </a:lnTo>
                      <a:lnTo>
                        <a:pt x="192" y="46"/>
                      </a:lnTo>
                      <a:lnTo>
                        <a:pt x="185" y="47"/>
                      </a:lnTo>
                      <a:lnTo>
                        <a:pt x="177" y="49"/>
                      </a:lnTo>
                      <a:lnTo>
                        <a:pt x="170" y="50"/>
                      </a:lnTo>
                      <a:lnTo>
                        <a:pt x="158" y="52"/>
                      </a:lnTo>
                      <a:lnTo>
                        <a:pt x="149" y="52"/>
                      </a:lnTo>
                      <a:lnTo>
                        <a:pt x="139" y="53"/>
                      </a:lnTo>
                      <a:lnTo>
                        <a:pt x="129" y="54"/>
                      </a:lnTo>
                      <a:lnTo>
                        <a:pt x="118" y="54"/>
                      </a:lnTo>
                      <a:lnTo>
                        <a:pt x="102" y="54"/>
                      </a:lnTo>
                      <a:lnTo>
                        <a:pt x="89" y="54"/>
                      </a:lnTo>
                      <a:lnTo>
                        <a:pt x="75" y="53"/>
                      </a:lnTo>
                      <a:lnTo>
                        <a:pt x="63" y="52"/>
                      </a:lnTo>
                      <a:lnTo>
                        <a:pt x="54" y="51"/>
                      </a:lnTo>
                      <a:lnTo>
                        <a:pt x="45" y="50"/>
                      </a:lnTo>
                      <a:lnTo>
                        <a:pt x="36" y="48"/>
                      </a:lnTo>
                      <a:lnTo>
                        <a:pt x="28" y="47"/>
                      </a:lnTo>
                      <a:lnTo>
                        <a:pt x="20" y="45"/>
                      </a:lnTo>
                      <a:lnTo>
                        <a:pt x="13" y="42"/>
                      </a:lnTo>
                      <a:lnTo>
                        <a:pt x="9" y="40"/>
                      </a:lnTo>
                      <a:lnTo>
                        <a:pt x="6" y="39"/>
                      </a:lnTo>
                      <a:lnTo>
                        <a:pt x="3" y="36"/>
                      </a:lnTo>
                      <a:lnTo>
                        <a:pt x="2" y="3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8" name=""/>
              <p:cNvSpPr/>
              <p:nvPr/>
            </p:nvSpPr>
            <p:spPr>
              <a:xfrm>
                <a:off x="2695680" y="1844640"/>
                <a:ext cx="113760" cy="82800"/>
              </a:xfrm>
              <a:prstGeom prst="roundRect">
                <a:avLst>
                  <a:gd name="adj" fmla="val 12287"/>
                </a:avLst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2708280" y="1852560"/>
                <a:ext cx="88560" cy="66960"/>
              </a:xfrm>
              <a:prstGeom prst="roundRect">
                <a:avLst>
                  <a:gd name="adj" fmla="val 12273"/>
                </a:avLst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712960" y="1857600"/>
                <a:ext cx="79200" cy="56880"/>
              </a:xfrm>
              <a:prstGeom prst="roundRect">
                <a:avLst>
                  <a:gd name="adj" fmla="val 12144"/>
                </a:avLst>
              </a:prstGeom>
              <a:solidFill>
                <a:srgbClr val="fefed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790720" y="1922760"/>
                <a:ext cx="2880" cy="1440"/>
              </a:xfrm>
              <a:prstGeom prst="rect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7092" name="" descr=""/>
            <p:cNvPicPr/>
            <p:nvPr/>
          </p:nvPicPr>
          <p:blipFill>
            <a:blip r:embed="rId5"/>
            <a:stretch/>
          </p:blipFill>
          <p:spPr>
            <a:xfrm>
              <a:off x="3254400" y="17082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3" name=""/>
            <p:cNvSpPr/>
            <p:nvPr/>
          </p:nvSpPr>
          <p:spPr>
            <a:xfrm>
              <a:off x="133200" y="248904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18108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7 Sn M. Texmeluca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63504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6844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097" name="pbx" descr=""/>
            <p:cNvPicPr/>
            <p:nvPr/>
          </p:nvPicPr>
          <p:blipFill>
            <a:blip r:embed="rId6"/>
            <a:srcRect l="37594" t="74298" r="28339" b="4834"/>
            <a:stretch/>
          </p:blipFill>
          <p:spPr>
            <a:xfrm>
              <a:off x="51120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8" name="" descr=""/>
            <p:cNvPicPr/>
            <p:nvPr/>
          </p:nvPicPr>
          <p:blipFill>
            <a:blip r:embed="rId7"/>
            <a:stretch/>
          </p:blipFill>
          <p:spPr>
            <a:xfrm>
              <a:off x="53820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9" name=""/>
            <p:cNvSpPr/>
            <p:nvPr/>
          </p:nvSpPr>
          <p:spPr>
            <a:xfrm>
              <a:off x="25909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63844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9 Atlixc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9240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0258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3" name="pbx" descr=""/>
            <p:cNvPicPr/>
            <p:nvPr/>
          </p:nvPicPr>
          <p:blipFill>
            <a:blip r:embed="rId8"/>
            <a:srcRect l="37594" t="74298" r="28339" b="4834"/>
            <a:stretch/>
          </p:blipFill>
          <p:spPr>
            <a:xfrm>
              <a:off x="2968560" y="268272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4" name="" descr=""/>
            <p:cNvPicPr/>
            <p:nvPr/>
          </p:nvPicPr>
          <p:blipFill>
            <a:blip r:embed="rId9"/>
            <a:stretch/>
          </p:blipFill>
          <p:spPr>
            <a:xfrm>
              <a:off x="299556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5" name=""/>
            <p:cNvSpPr/>
            <p:nvPr/>
          </p:nvSpPr>
          <p:spPr>
            <a:xfrm>
              <a:off x="13525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1400040" y="307980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8 Sn Pedro Cholu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185436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17874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9" name="pbx" descr=""/>
            <p:cNvPicPr/>
            <p:nvPr/>
          </p:nvPicPr>
          <p:blipFill>
            <a:blip r:embed="rId10"/>
            <a:srcRect l="37594" t="74298" r="28339" b="4834"/>
            <a:stretch/>
          </p:blipFill>
          <p:spPr>
            <a:xfrm>
              <a:off x="173052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0" name="" descr=""/>
            <p:cNvPicPr/>
            <p:nvPr/>
          </p:nvPicPr>
          <p:blipFill>
            <a:blip r:embed="rId11"/>
            <a:stretch/>
          </p:blipFill>
          <p:spPr>
            <a:xfrm>
              <a:off x="1757520" y="2862360"/>
              <a:ext cx="21240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1" name=""/>
            <p:cNvSpPr/>
            <p:nvPr/>
          </p:nvSpPr>
          <p:spPr>
            <a:xfrm>
              <a:off x="7632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123840" y="391788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0 I de Matamoros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57780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51120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15" name="pbx" descr=""/>
            <p:cNvPicPr/>
            <p:nvPr/>
          </p:nvPicPr>
          <p:blipFill>
            <a:blip r:embed="rId12"/>
            <a:srcRect l="37594" t="74298" r="28339" b="4834"/>
            <a:stretch/>
          </p:blipFill>
          <p:spPr>
            <a:xfrm>
              <a:off x="453960" y="352116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6" name="" descr=""/>
            <p:cNvPicPr/>
            <p:nvPr/>
          </p:nvPicPr>
          <p:blipFill>
            <a:blip r:embed="rId13"/>
            <a:stretch/>
          </p:blipFill>
          <p:spPr>
            <a:xfrm>
              <a:off x="48096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7" name=""/>
            <p:cNvSpPr/>
            <p:nvPr/>
          </p:nvSpPr>
          <p:spPr>
            <a:xfrm>
              <a:off x="6686640" y="50292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673416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5 Huauchinang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718812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712152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1" name="pbx" descr=""/>
            <p:cNvPicPr/>
            <p:nvPr/>
          </p:nvPicPr>
          <p:blipFill>
            <a:blip r:embed="rId14"/>
            <a:srcRect l="37594" t="74298" r="28339" b="4834"/>
            <a:stretch/>
          </p:blipFill>
          <p:spPr>
            <a:xfrm>
              <a:off x="7064280" y="52228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2" name="" descr=""/>
            <p:cNvPicPr/>
            <p:nvPr/>
          </p:nvPicPr>
          <p:blipFill>
            <a:blip r:embed="rId15"/>
            <a:stretch/>
          </p:blipFill>
          <p:spPr>
            <a:xfrm>
              <a:off x="709128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3" name=""/>
            <p:cNvSpPr/>
            <p:nvPr/>
          </p:nvSpPr>
          <p:spPr>
            <a:xfrm>
              <a:off x="6686640" y="419112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673416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3 Tetela de Ocamp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718812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712152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7" name="pbx" descr=""/>
            <p:cNvPicPr/>
            <p:nvPr/>
          </p:nvPicPr>
          <p:blipFill>
            <a:blip r:embed="rId16"/>
            <a:srcRect l="37594" t="74298" r="28339" b="4834"/>
            <a:stretch/>
          </p:blipFill>
          <p:spPr>
            <a:xfrm>
              <a:off x="7064280" y="438480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8" name="" descr=""/>
            <p:cNvPicPr/>
            <p:nvPr/>
          </p:nvPicPr>
          <p:blipFill>
            <a:blip r:embed="rId17"/>
            <a:stretch/>
          </p:blipFill>
          <p:spPr>
            <a:xfrm>
              <a:off x="709128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9" name=""/>
            <p:cNvSpPr/>
            <p:nvPr/>
          </p:nvSpPr>
          <p:spPr>
            <a:xfrm>
              <a:off x="6686640" y="335268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673416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1 Teziu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718812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712152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3" name="pbx" descr=""/>
            <p:cNvPicPr/>
            <p:nvPr/>
          </p:nvPicPr>
          <p:blipFill>
            <a:blip r:embed="rId18"/>
            <a:srcRect l="37594" t="74298" r="28339" b="4834"/>
            <a:stretch/>
          </p:blipFill>
          <p:spPr>
            <a:xfrm>
              <a:off x="7064280" y="354636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4" name="" descr=""/>
            <p:cNvPicPr/>
            <p:nvPr/>
          </p:nvPicPr>
          <p:blipFill>
            <a:blip r:embed="rId19"/>
            <a:stretch/>
          </p:blipFill>
          <p:spPr>
            <a:xfrm>
              <a:off x="709128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5" name=""/>
            <p:cNvSpPr/>
            <p:nvPr/>
          </p:nvSpPr>
          <p:spPr>
            <a:xfrm>
              <a:off x="6686640" y="25146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673416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9 Ciudad Serd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718812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712152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9" name="pbx" descr=""/>
            <p:cNvPicPr/>
            <p:nvPr/>
          </p:nvPicPr>
          <p:blipFill>
            <a:blip r:embed="rId20"/>
            <a:srcRect l="37594" t="74298" r="28339" b="4834"/>
            <a:stretch/>
          </p:blipFill>
          <p:spPr>
            <a:xfrm>
              <a:off x="7064280" y="27082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0" name="" descr=""/>
            <p:cNvPicPr/>
            <p:nvPr/>
          </p:nvPicPr>
          <p:blipFill>
            <a:blip r:embed="rId21"/>
            <a:stretch/>
          </p:blipFill>
          <p:spPr>
            <a:xfrm>
              <a:off x="709128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1" name=""/>
            <p:cNvSpPr/>
            <p:nvPr/>
          </p:nvSpPr>
          <p:spPr>
            <a:xfrm>
              <a:off x="7905600" y="50292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795348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6 Xico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840744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834084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45" name="pbx" descr=""/>
            <p:cNvPicPr/>
            <p:nvPr/>
          </p:nvPicPr>
          <p:blipFill>
            <a:blip r:embed="rId22"/>
            <a:srcRect l="37594" t="74298" r="28339" b="4834"/>
            <a:stretch/>
          </p:blipFill>
          <p:spPr>
            <a:xfrm>
              <a:off x="8283600" y="52228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6" name="" descr=""/>
            <p:cNvPicPr/>
            <p:nvPr/>
          </p:nvPicPr>
          <p:blipFill>
            <a:blip r:embed="rId23"/>
            <a:stretch/>
          </p:blipFill>
          <p:spPr>
            <a:xfrm>
              <a:off x="831060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7" name=""/>
            <p:cNvSpPr/>
            <p:nvPr/>
          </p:nvSpPr>
          <p:spPr>
            <a:xfrm>
              <a:off x="7905600" y="419112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795348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4 Zaca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840744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834084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1" name="pbx" descr=""/>
            <p:cNvPicPr/>
            <p:nvPr/>
          </p:nvPicPr>
          <p:blipFill>
            <a:blip r:embed="rId24"/>
            <a:srcRect l="37594" t="74298" r="28339" b="4834"/>
            <a:stretch/>
          </p:blipFill>
          <p:spPr>
            <a:xfrm>
              <a:off x="8283600" y="438480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2" name="" descr=""/>
            <p:cNvPicPr/>
            <p:nvPr/>
          </p:nvPicPr>
          <p:blipFill>
            <a:blip r:embed="rId25"/>
            <a:stretch/>
          </p:blipFill>
          <p:spPr>
            <a:xfrm>
              <a:off x="831060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3" name=""/>
            <p:cNvSpPr/>
            <p:nvPr/>
          </p:nvSpPr>
          <p:spPr>
            <a:xfrm>
              <a:off x="7905600" y="335268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795348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2 Zacapoax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840744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834084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7" name="pbx" descr=""/>
            <p:cNvPicPr/>
            <p:nvPr/>
          </p:nvPicPr>
          <p:blipFill>
            <a:blip r:embed="rId26"/>
            <a:srcRect l="37594" t="74298" r="28339" b="4834"/>
            <a:stretch/>
          </p:blipFill>
          <p:spPr>
            <a:xfrm>
              <a:off x="8283600" y="35463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8" name="" descr=""/>
            <p:cNvPicPr/>
            <p:nvPr/>
          </p:nvPicPr>
          <p:blipFill>
            <a:blip r:embed="rId27"/>
            <a:stretch/>
          </p:blipFill>
          <p:spPr>
            <a:xfrm>
              <a:off x="831060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9" name=""/>
            <p:cNvSpPr/>
            <p:nvPr/>
          </p:nvSpPr>
          <p:spPr>
            <a:xfrm>
              <a:off x="7905600" y="25146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95348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0 Tlatlauqui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840744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834084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3" name="pbx" descr=""/>
            <p:cNvPicPr/>
            <p:nvPr/>
          </p:nvPicPr>
          <p:blipFill>
            <a:blip r:embed="rId28"/>
            <a:srcRect l="37594" t="74298" r="28339" b="4834"/>
            <a:stretch/>
          </p:blipFill>
          <p:spPr>
            <a:xfrm>
              <a:off x="8283600" y="27082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4" name="" descr=""/>
            <p:cNvPicPr/>
            <p:nvPr/>
          </p:nvPicPr>
          <p:blipFill>
            <a:blip r:embed="rId29"/>
            <a:stretch/>
          </p:blipFill>
          <p:spPr>
            <a:xfrm>
              <a:off x="831060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5" name=""/>
            <p:cNvSpPr/>
            <p:nvPr/>
          </p:nvSpPr>
          <p:spPr>
            <a:xfrm>
              <a:off x="1826640" y="594360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 * 1 Pcs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18464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LAN modem = 20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7" name="ringing1" descr=""/>
            <p:cNvPicPr/>
            <p:nvPr/>
          </p:nvPicPr>
          <p:blipFill>
            <a:blip r:embed="rId30"/>
            <a:stretch/>
          </p:blipFill>
          <p:spPr>
            <a:xfrm>
              <a:off x="25909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8" name="ringing1" descr=""/>
            <p:cNvPicPr/>
            <p:nvPr/>
          </p:nvPicPr>
          <p:blipFill>
            <a:blip r:embed="rId31"/>
            <a:stretch/>
          </p:blipFill>
          <p:spPr>
            <a:xfrm>
              <a:off x="35053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9" name="ringing1" descr=""/>
            <p:cNvPicPr/>
            <p:nvPr/>
          </p:nvPicPr>
          <p:blipFill>
            <a:blip r:embed="rId32"/>
            <a:stretch/>
          </p:blipFill>
          <p:spPr>
            <a:xfrm>
              <a:off x="1066680" y="248904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0" name="ringing1" descr=""/>
            <p:cNvPicPr/>
            <p:nvPr/>
          </p:nvPicPr>
          <p:blipFill>
            <a:blip r:embed="rId33"/>
            <a:stretch/>
          </p:blipFill>
          <p:spPr>
            <a:xfrm>
              <a:off x="350532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1" name="ringing1" descr=""/>
            <p:cNvPicPr/>
            <p:nvPr/>
          </p:nvPicPr>
          <p:blipFill>
            <a:blip r:embed="rId34"/>
            <a:stretch/>
          </p:blipFill>
          <p:spPr>
            <a:xfrm>
              <a:off x="99072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2" name="ringing1" descr=""/>
            <p:cNvPicPr/>
            <p:nvPr/>
          </p:nvPicPr>
          <p:blipFill>
            <a:blip r:embed="rId35"/>
            <a:stretch/>
          </p:blipFill>
          <p:spPr>
            <a:xfrm>
              <a:off x="228600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3" name=""/>
            <p:cNvSpPr/>
            <p:nvPr/>
          </p:nvSpPr>
          <p:spPr>
            <a:xfrm>
              <a:off x="137160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1419120" y="391788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1 Chiau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187308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180648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77" name="pbx" descr=""/>
            <p:cNvPicPr/>
            <p:nvPr/>
          </p:nvPicPr>
          <p:blipFill>
            <a:blip r:embed="rId36"/>
            <a:srcRect l="37594" t="74298" r="28339" b="4834"/>
            <a:stretch/>
          </p:blipFill>
          <p:spPr>
            <a:xfrm>
              <a:off x="1749600" y="352116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8" name="" descr=""/>
            <p:cNvPicPr/>
            <p:nvPr/>
          </p:nvPicPr>
          <p:blipFill>
            <a:blip r:embed="rId37"/>
            <a:stretch/>
          </p:blipFill>
          <p:spPr>
            <a:xfrm>
              <a:off x="177624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9" name="ringing1" descr=""/>
            <p:cNvPicPr/>
            <p:nvPr/>
          </p:nvPicPr>
          <p:blipFill>
            <a:blip r:embed="rId38"/>
            <a:stretch/>
          </p:blipFill>
          <p:spPr>
            <a:xfrm>
              <a:off x="230508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0" name="ringing1" descr=""/>
            <p:cNvPicPr/>
            <p:nvPr/>
          </p:nvPicPr>
          <p:blipFill>
            <a:blip r:embed="rId39"/>
            <a:stretch/>
          </p:blipFill>
          <p:spPr>
            <a:xfrm>
              <a:off x="8839080" y="25146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1" name="ringing1" descr=""/>
            <p:cNvPicPr/>
            <p:nvPr/>
          </p:nvPicPr>
          <p:blipFill>
            <a:blip r:embed="rId40"/>
            <a:stretch/>
          </p:blipFill>
          <p:spPr>
            <a:xfrm>
              <a:off x="8839080" y="33526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2" name="ringing1" descr=""/>
            <p:cNvPicPr/>
            <p:nvPr/>
          </p:nvPicPr>
          <p:blipFill>
            <a:blip r:embed="rId41"/>
            <a:stretch/>
          </p:blipFill>
          <p:spPr>
            <a:xfrm>
              <a:off x="8839080" y="4191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3" name="ringing1" descr=""/>
            <p:cNvPicPr/>
            <p:nvPr/>
          </p:nvPicPr>
          <p:blipFill>
            <a:blip r:embed="rId42"/>
            <a:stretch/>
          </p:blipFill>
          <p:spPr>
            <a:xfrm>
              <a:off x="8839080" y="50292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4" name=""/>
            <p:cNvGrpSpPr/>
            <p:nvPr/>
          </p:nvGrpSpPr>
          <p:grpSpPr>
            <a:xfrm>
              <a:off x="152280" y="5105520"/>
              <a:ext cx="2228760" cy="752400"/>
              <a:chOff x="152280" y="5105520"/>
              <a:chExt cx="2228760" cy="752400"/>
            </a:xfrm>
          </p:grpSpPr>
          <p:sp>
            <p:nvSpPr>
              <p:cNvPr id="7185" name=""/>
              <p:cNvSpPr/>
              <p:nvPr/>
            </p:nvSpPr>
            <p:spPr>
              <a:xfrm>
                <a:off x="152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99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653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87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89" name="pbx" descr=""/>
              <p:cNvPicPr/>
              <p:nvPr/>
            </p:nvPicPr>
            <p:blipFill>
              <a:blip r:embed="rId43"/>
              <a:srcRect l="37594" t="74298" r="28339" b="4834"/>
              <a:stretch/>
            </p:blipFill>
            <p:spPr>
              <a:xfrm>
                <a:off x="529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6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1" name=""/>
              <p:cNvSpPr/>
              <p:nvPr/>
            </p:nvSpPr>
            <p:spPr>
              <a:xfrm>
                <a:off x="1295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342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96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730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95" name="pbx" descr=""/>
              <p:cNvPicPr/>
              <p:nvPr/>
            </p:nvPicPr>
            <p:blipFill>
              <a:blip r:embed="rId45"/>
              <a:srcRect l="37594" t="74298" r="28339" b="4834"/>
              <a:stretch/>
            </p:blipFill>
            <p:spPr>
              <a:xfrm>
                <a:off x="1672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699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7" name="ringing1" descr=""/>
              <p:cNvPicPr/>
              <p:nvPr/>
            </p:nvPicPr>
            <p:blipFill>
              <a:blip r:embed="rId47"/>
              <a:stretch/>
            </p:blipFill>
            <p:spPr>
              <a:xfrm>
                <a:off x="2228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8" name="ringing1" descr=""/>
              <p:cNvPicPr/>
              <p:nvPr/>
            </p:nvPicPr>
            <p:blipFill>
              <a:blip r:embed="rId48"/>
              <a:stretch/>
            </p:blipFill>
            <p:spPr>
              <a:xfrm>
                <a:off x="1085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99" name=""/>
            <p:cNvGrpSpPr/>
            <p:nvPr/>
          </p:nvGrpSpPr>
          <p:grpSpPr>
            <a:xfrm>
              <a:off x="6686640" y="1685880"/>
              <a:ext cx="1085760" cy="752400"/>
              <a:chOff x="6686640" y="1685880"/>
              <a:chExt cx="1085760" cy="752400"/>
            </a:xfrm>
          </p:grpSpPr>
          <p:sp>
            <p:nvSpPr>
              <p:cNvPr id="7200" name=""/>
              <p:cNvSpPr/>
              <p:nvPr/>
            </p:nvSpPr>
            <p:spPr>
              <a:xfrm>
                <a:off x="6686640" y="16858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6734160" y="22762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7188120" y="174132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7121520" y="175104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04" name="pbx" descr=""/>
              <p:cNvPicPr/>
              <p:nvPr/>
            </p:nvPicPr>
            <p:blipFill>
              <a:blip r:embed="rId49"/>
              <a:srcRect l="37594" t="74298" r="28339" b="4834"/>
              <a:stretch/>
            </p:blipFill>
            <p:spPr>
              <a:xfrm>
                <a:off x="7064280" y="1879560"/>
                <a:ext cx="25416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091280" y="2058840"/>
                <a:ext cx="2127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6" name="ringing1" descr=""/>
              <p:cNvPicPr/>
              <p:nvPr/>
            </p:nvPicPr>
            <p:blipFill>
              <a:blip r:embed="rId51"/>
              <a:stretch/>
            </p:blipFill>
            <p:spPr>
              <a:xfrm>
                <a:off x="7601040" y="168588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07" name=""/>
            <p:cNvGrpSpPr/>
            <p:nvPr/>
          </p:nvGrpSpPr>
          <p:grpSpPr>
            <a:xfrm>
              <a:off x="5562720" y="2514600"/>
              <a:ext cx="1085760" cy="752400"/>
              <a:chOff x="5562720" y="2514600"/>
              <a:chExt cx="1085760" cy="752400"/>
            </a:xfrm>
          </p:grpSpPr>
          <p:sp>
            <p:nvSpPr>
              <p:cNvPr id="7208" name=""/>
              <p:cNvSpPr/>
              <p:nvPr/>
            </p:nvSpPr>
            <p:spPr>
              <a:xfrm>
                <a:off x="5562720" y="2514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610240" y="3105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6064200" y="257004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997600" y="2579760"/>
                <a:ext cx="14220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12" name="pbx" descr=""/>
              <p:cNvPicPr/>
              <p:nvPr/>
            </p:nvPicPr>
            <p:blipFill>
              <a:blip r:embed="rId52"/>
              <a:srcRect l="37594" t="74298" r="28339" b="4834"/>
              <a:stretch/>
            </p:blipFill>
            <p:spPr>
              <a:xfrm>
                <a:off x="5940360" y="2708280"/>
                <a:ext cx="25344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3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967360" y="2887560"/>
                <a:ext cx="21240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4" name="ringing1" descr=""/>
              <p:cNvPicPr/>
              <p:nvPr/>
            </p:nvPicPr>
            <p:blipFill>
              <a:blip r:embed="rId54"/>
              <a:stretch/>
            </p:blipFill>
            <p:spPr>
              <a:xfrm>
                <a:off x="6476760" y="251460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15" name="ringing1" descr=""/>
            <p:cNvPicPr/>
            <p:nvPr/>
          </p:nvPicPr>
          <p:blipFill>
            <a:blip r:embed="rId55"/>
            <a:stretch/>
          </p:blipFill>
          <p:spPr>
            <a:xfrm>
              <a:off x="7620120" y="25146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6" name="ringing1" descr=""/>
            <p:cNvPicPr/>
            <p:nvPr/>
          </p:nvPicPr>
          <p:blipFill>
            <a:blip r:embed="rId56"/>
            <a:stretch/>
          </p:blipFill>
          <p:spPr>
            <a:xfrm>
              <a:off x="7620120" y="33526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7" name="ringing1" descr=""/>
            <p:cNvPicPr/>
            <p:nvPr/>
          </p:nvPicPr>
          <p:blipFill>
            <a:blip r:embed="rId57"/>
            <a:stretch/>
          </p:blipFill>
          <p:spPr>
            <a:xfrm>
              <a:off x="7620120" y="4191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8" name="ringing1" descr=""/>
            <p:cNvPicPr/>
            <p:nvPr/>
          </p:nvPicPr>
          <p:blipFill>
            <a:blip r:embed="rId58"/>
            <a:stretch/>
          </p:blipFill>
          <p:spPr>
            <a:xfrm>
              <a:off x="7620120" y="50292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9" name=""/>
            <p:cNvSpPr/>
            <p:nvPr/>
          </p:nvSpPr>
          <p:spPr>
            <a:xfrm>
              <a:off x="1826640" y="643104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Tel. 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0" name="ringing1" descr=""/>
            <p:cNvPicPr/>
            <p:nvPr/>
          </p:nvPicPr>
          <p:blipFill>
            <a:blip r:embed="rId59"/>
            <a:stretch/>
          </p:blipFill>
          <p:spPr>
            <a:xfrm>
              <a:off x="4511520" y="6477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1" name="" descr=""/>
            <p:cNvPicPr/>
            <p:nvPr/>
          </p:nvPicPr>
          <p:blipFill>
            <a:blip r:embed="rId60"/>
            <a:stretch/>
          </p:blipFill>
          <p:spPr>
            <a:xfrm>
              <a:off x="451152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2" name="" descr=""/>
            <p:cNvPicPr/>
            <p:nvPr/>
          </p:nvPicPr>
          <p:blipFill>
            <a:blip r:embed="rId61"/>
            <a:stretch/>
          </p:blipFill>
          <p:spPr>
            <a:xfrm>
              <a:off x="3292560" y="19558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3" name=""/>
            <p:cNvSpPr/>
            <p:nvPr/>
          </p:nvSpPr>
          <p:spPr>
            <a:xfrm>
              <a:off x="133200" y="420048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181080" y="479124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2 Acatlán de Osori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63504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68440" y="4265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7" name="pbx" descr=""/>
            <p:cNvPicPr/>
            <p:nvPr/>
          </p:nvPicPr>
          <p:blipFill>
            <a:blip r:embed="rId62"/>
            <a:srcRect l="37594" t="74298" r="28339" b="4834"/>
            <a:stretch/>
          </p:blipFill>
          <p:spPr>
            <a:xfrm>
              <a:off x="51120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8" name="" descr=""/>
            <p:cNvPicPr/>
            <p:nvPr/>
          </p:nvPicPr>
          <p:blipFill>
            <a:blip r:embed="rId63"/>
            <a:stretch/>
          </p:blipFill>
          <p:spPr>
            <a:xfrm>
              <a:off x="538200" y="457344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9" name=""/>
            <p:cNvSpPr/>
            <p:nvPr/>
          </p:nvSpPr>
          <p:spPr>
            <a:xfrm>
              <a:off x="1352520" y="4200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1400040" y="4791240"/>
              <a:ext cx="96228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3 Tepexi de Rodríguez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185436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2" name="pbx" descr=""/>
            <p:cNvPicPr/>
            <p:nvPr/>
          </p:nvPicPr>
          <p:blipFill>
            <a:blip r:embed="rId64"/>
            <a:srcRect l="37594" t="74298" r="28339" b="4834"/>
            <a:stretch/>
          </p:blipFill>
          <p:spPr>
            <a:xfrm>
              <a:off x="173052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3" name="" descr=""/>
            <p:cNvPicPr/>
            <p:nvPr/>
          </p:nvPicPr>
          <p:blipFill>
            <a:blip r:embed="rId65"/>
            <a:stretch/>
          </p:blipFill>
          <p:spPr>
            <a:xfrm>
              <a:off x="1757520" y="4573440"/>
              <a:ext cx="21240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4" name=""/>
            <p:cNvSpPr/>
            <p:nvPr/>
          </p:nvSpPr>
          <p:spPr>
            <a:xfrm>
              <a:off x="1762200" y="42768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5" name="ringing1" descr=""/>
            <p:cNvPicPr/>
            <p:nvPr/>
          </p:nvPicPr>
          <p:blipFill>
            <a:blip r:embed="rId66"/>
            <a:stretch/>
          </p:blipFill>
          <p:spPr>
            <a:xfrm>
              <a:off x="2286000" y="4200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6" name="ringing1" descr=""/>
            <p:cNvPicPr/>
            <p:nvPr/>
          </p:nvPicPr>
          <p:blipFill>
            <a:blip r:embed="rId67"/>
            <a:stretch/>
          </p:blipFill>
          <p:spPr>
            <a:xfrm>
              <a:off x="1066680" y="42004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37" name=""/>
            <p:cNvGrpSpPr/>
            <p:nvPr/>
          </p:nvGrpSpPr>
          <p:grpSpPr>
            <a:xfrm>
              <a:off x="5543640" y="1676520"/>
              <a:ext cx="1085760" cy="752400"/>
              <a:chOff x="5543640" y="1676520"/>
              <a:chExt cx="1085760" cy="752400"/>
            </a:xfrm>
          </p:grpSpPr>
          <p:sp>
            <p:nvSpPr>
              <p:cNvPr id="7238" name=""/>
              <p:cNvSpPr/>
              <p:nvPr/>
            </p:nvSpPr>
            <p:spPr>
              <a:xfrm>
                <a:off x="5543640" y="1676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591160" y="2266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6045120" y="1731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978520" y="1741320"/>
                <a:ext cx="14256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42" name="pbx" descr=""/>
              <p:cNvPicPr/>
              <p:nvPr/>
            </p:nvPicPr>
            <p:blipFill>
              <a:blip r:embed="rId68"/>
              <a:srcRect l="37594" t="74298" r="28339" b="4834"/>
              <a:stretch/>
            </p:blipFill>
            <p:spPr>
              <a:xfrm>
                <a:off x="5921280" y="1870200"/>
                <a:ext cx="25344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3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948280" y="2049480"/>
                <a:ext cx="2124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4" name="ringing1" descr=""/>
              <p:cNvPicPr/>
              <p:nvPr/>
            </p:nvPicPr>
            <p:blipFill>
              <a:blip r:embed="rId70"/>
              <a:stretch/>
            </p:blipFill>
            <p:spPr>
              <a:xfrm>
                <a:off x="6476760" y="1676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45" name=""/>
            <p:cNvSpPr/>
            <p:nvPr/>
          </p:nvSpPr>
          <p:spPr>
            <a:xfrm>
              <a:off x="5208120" y="5943600"/>
              <a:ext cx="25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4 Pcs               = 4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220720" y="6172200"/>
              <a:ext cx="25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1 LAN modem = 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208120" y="6431040"/>
              <a:ext cx="261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2 Tels.              = 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48" name="ringing1" descr=""/>
            <p:cNvPicPr/>
            <p:nvPr/>
          </p:nvPicPr>
          <p:blipFill>
            <a:blip r:embed="rId71"/>
            <a:stretch/>
          </p:blipFill>
          <p:spPr>
            <a:xfrm>
              <a:off x="778824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9" name="" descr=""/>
            <p:cNvPicPr/>
            <p:nvPr/>
          </p:nvPicPr>
          <p:blipFill>
            <a:blip r:embed="rId72"/>
            <a:stretch/>
          </p:blipFill>
          <p:spPr>
            <a:xfrm>
              <a:off x="778824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0" name=""/>
            <p:cNvSpPr/>
            <p:nvPr/>
          </p:nvSpPr>
          <p:spPr>
            <a:xfrm>
              <a:off x="4746960" y="6019920"/>
              <a:ext cx="43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400" spc="-1" strike="noStrike">
                  <a:solidFill>
                    <a:srgbClr val="8383ad"/>
                  </a:solidFill>
                  <a:latin typeface="Arial"/>
                </a:rPr>
                <a:t>+</a:t>
              </a:r>
              <a:endParaRPr b="0" lang="en-US" sz="3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51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2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7253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7257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7258" name=""/>
          <p:cNvSpPr/>
          <p:nvPr/>
        </p:nvSpPr>
        <p:spPr>
          <a:xfrm>
            <a:off x="2886480" y="1066680"/>
            <a:ext cx="35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iagrama Conceptual del Flujo de Informació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152280" y="19144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3049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533520" y="1873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152280" y="28288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30492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533520" y="2787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ux Electoral de Cap ó Aux Electoral de Org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52280" y="3743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30492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533520" y="3701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3581280" y="29052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373392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 del Proceso de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4038480" y="28432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1676520" y="18907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182880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057400" y="1843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1676520" y="28051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828800" y="3024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057400" y="27576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1676520" y="37195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1828800" y="3938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2057400" y="3672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8380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2860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82" name=""/>
          <p:cNvGrpSpPr/>
          <p:nvPr/>
        </p:nvGrpSpPr>
        <p:grpSpPr>
          <a:xfrm>
            <a:off x="1143000" y="4572000"/>
            <a:ext cx="837720" cy="609120"/>
            <a:chOff x="1143000" y="4572000"/>
            <a:chExt cx="837720" cy="609120"/>
          </a:xfrm>
        </p:grpSpPr>
        <p:sp>
          <p:nvSpPr>
            <p:cNvPr id="7283" name=""/>
            <p:cNvSpPr/>
            <p:nvPr/>
          </p:nvSpPr>
          <p:spPr>
            <a:xfrm>
              <a:off x="1143000" y="4572000"/>
              <a:ext cx="837720" cy="60912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284" name=""/>
            <p:cNvGrpSpPr/>
            <p:nvPr/>
          </p:nvGrpSpPr>
          <p:grpSpPr>
            <a:xfrm>
              <a:off x="1510920" y="4810680"/>
              <a:ext cx="364320" cy="311400"/>
              <a:chOff x="1510920" y="4810680"/>
              <a:chExt cx="364320" cy="311400"/>
            </a:xfrm>
          </p:grpSpPr>
          <p:sp>
            <p:nvSpPr>
              <p:cNvPr id="7285" name=""/>
              <p:cNvSpPr/>
              <p:nvPr/>
            </p:nvSpPr>
            <p:spPr>
              <a:xfrm rot="5400000">
                <a:off x="1545120" y="48157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rot="5400000">
                <a:off x="1568880" y="47761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1257480" y="4807080"/>
              <a:ext cx="155160" cy="304200"/>
              <a:chOff x="1257480" y="4807080"/>
              <a:chExt cx="155160" cy="304200"/>
            </a:xfrm>
          </p:grpSpPr>
          <p:sp>
            <p:nvSpPr>
              <p:cNvPr id="7288" name=""/>
              <p:cNvSpPr/>
              <p:nvPr/>
            </p:nvSpPr>
            <p:spPr>
              <a:xfrm>
                <a:off x="1257480" y="480708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1257480" y="48866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257480" y="49647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257480" y="50511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292" name=""/>
            <p:cNvSpPr/>
            <p:nvPr/>
          </p:nvSpPr>
          <p:spPr>
            <a:xfrm rot="5080200">
              <a:off x="1656360" y="455364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 rot="15510000">
              <a:off x="1394640" y="461088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rot="6007800">
              <a:off x="1411200" y="4543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 rot="17286600">
              <a:off x="1629720" y="461592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96" name=""/>
          <p:cNvSpPr/>
          <p:nvPr/>
        </p:nvSpPr>
        <p:spPr>
          <a:xfrm>
            <a:off x="914400" y="4876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 DE DATOS DE TRABAJ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3657600" y="4557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3809880" y="47768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, Seguimiento y Admon de la Red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4038480" y="4495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 flipH="1">
            <a:off x="198072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152280" y="549576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304920" y="571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533520" y="54338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D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676520" y="5472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1828800" y="5691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ic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2057400" y="54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83808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22860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6320" y="2643120"/>
            <a:ext cx="3047760" cy="18525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8380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2286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2143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3657600" y="6105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3809880" y="6324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o. Bo. del document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4038480" y="6043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838080" y="6477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7391520" y="4886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754380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ulta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7772400" y="48243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21" name=""/>
          <p:cNvGrpSpPr/>
          <p:nvPr/>
        </p:nvGrpSpPr>
        <p:grpSpPr>
          <a:xfrm>
            <a:off x="5715000" y="5638680"/>
            <a:ext cx="837720" cy="609480"/>
            <a:chOff x="5715000" y="5638680"/>
            <a:chExt cx="837720" cy="609480"/>
          </a:xfrm>
        </p:grpSpPr>
        <p:sp>
          <p:nvSpPr>
            <p:cNvPr id="7322" name=""/>
            <p:cNvSpPr/>
            <p:nvPr/>
          </p:nvSpPr>
          <p:spPr>
            <a:xfrm>
              <a:off x="5715000" y="5638680"/>
              <a:ext cx="837720" cy="60948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323" name=""/>
            <p:cNvGrpSpPr/>
            <p:nvPr/>
          </p:nvGrpSpPr>
          <p:grpSpPr>
            <a:xfrm>
              <a:off x="6082920" y="5877360"/>
              <a:ext cx="364320" cy="311400"/>
              <a:chOff x="6082920" y="5877360"/>
              <a:chExt cx="364320" cy="311400"/>
            </a:xfrm>
          </p:grpSpPr>
          <p:sp>
            <p:nvSpPr>
              <p:cNvPr id="7324" name=""/>
              <p:cNvSpPr/>
              <p:nvPr/>
            </p:nvSpPr>
            <p:spPr>
              <a:xfrm rot="5400000">
                <a:off x="6117120" y="58824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rot="5400000">
                <a:off x="6140880" y="58428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5829480" y="5873760"/>
              <a:ext cx="155160" cy="304200"/>
              <a:chOff x="5829480" y="5873760"/>
              <a:chExt cx="155160" cy="304200"/>
            </a:xfrm>
          </p:grpSpPr>
          <p:sp>
            <p:nvSpPr>
              <p:cNvPr id="7327" name=""/>
              <p:cNvSpPr/>
              <p:nvPr/>
            </p:nvSpPr>
            <p:spPr>
              <a:xfrm>
                <a:off x="5829480" y="587376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5829480" y="595332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5829480" y="60314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829480" y="61178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331" name=""/>
            <p:cNvSpPr/>
            <p:nvPr/>
          </p:nvSpPr>
          <p:spPr>
            <a:xfrm rot="5080200">
              <a:off x="6228360" y="562032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5510000">
              <a:off x="5966640" y="5677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6007800">
              <a:off x="5983200" y="561024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rot="17286600">
              <a:off x="6201720" y="568260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35" name=""/>
          <p:cNvSpPr/>
          <p:nvPr/>
        </p:nvSpPr>
        <p:spPr>
          <a:xfrm>
            <a:off x="5715000" y="6216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S DE DATOS DEFINITIVA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5257800" y="44956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5410080" y="4768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tualizaciòn de Servidor de datos y 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5638680" y="44877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7391520" y="5877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7543800" y="6095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7696080" y="5815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EXTERNO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H="1">
            <a:off x="655272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9907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 flipH="1">
            <a:off x="1904760" y="465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1905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5029200" y="48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 flipH="1">
            <a:off x="3124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4343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594360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 flipH="1">
            <a:off x="65530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 flipV="1">
            <a:off x="701028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7010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50292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 flipV="1">
            <a:off x="53341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53341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184320" y="19432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190440" y="28638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165240" y="3784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184320" y="55371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695600" y="1930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701720" y="285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1676520" y="37720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689120" y="55245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1447920" y="46674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3695760" y="61531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3657600" y="45720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5257800" y="4495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6019920" y="5791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>
            <a:off x="7404120" y="492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7397640" y="5899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>
            <a:off x="3594240" y="293364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6:17:25Z</dcterms:created>
  <dc:creator>IEEP</dc:creator>
  <dc:description/>
  <dc:language>en-US</dc:language>
  <cp:lastModifiedBy>Instituto Electoral del Edo</cp:lastModifiedBy>
  <dcterms:modified xsi:type="dcterms:W3CDTF">2004-05-06T16:49:15Z</dcterms:modified>
  <cp:revision>60</cp:revision>
  <dc:subject/>
  <dc:title>Presentación de PowerPoint</dc:title>
</cp:coreProperties>
</file>